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0419-6283-4708-93EC-9CE69DAAAC7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A467-4F29-40A5-8DA3-91B2DD02CC1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CA3F-B519-46CB-864A-F65F6C4DCA2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94D4-573B-4DBB-9ACC-195391861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295E-DA44-4D31-B090-DED623B6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A6A8-5699-402D-847C-24C7A4965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93D2-EBBB-4F1F-B391-FDEA58912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4846F-5456-4F69-9506-29329338D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D3C7-6954-4F67-B33F-57D2D26C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C0CBA-1C6F-4603-AE4C-AAC3C77C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40FA-8A43-4E45-9D91-B5E4AC13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81F92-C4AE-4CFD-87C9-49C4067F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AC46-A924-48B1-9955-D96061F2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5268-989D-4C0D-AE9B-786D1B0B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6969-23CD-4DFB-8F05-06C26E05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FF90-DD05-4B3E-AD28-A1AE9722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701F-450C-4F3D-BA06-F13B2303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4B10-10D2-4C07-B518-9A808796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D0E2-E6BA-4726-83AF-4D8CCFF4F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25BF-3AEE-4F93-8A78-3B75C2CAF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2709-0BB8-4785-BC14-64C55470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9C3A-A9D8-4F8D-9E5B-F7E3D3B5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77A0-5360-41C5-A89F-D182D17C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1CAC-60C2-46AA-A388-7957BB9F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4076-7510-4416-96D8-1D4D2118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E4A0-D2A0-4026-A325-CD3A4DD3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3973-6848-4669-BA64-B2EB74AE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1F85-BC92-46B4-B7EA-A0572809F86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3224-6349-4363-BB9B-44652425BADA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.pe/imgres?imgurl=http://imstars.aufeminin.com/stars/fan/D20060930/919_553626655_monica01_H125612_L.jpg&amp;imgrefurl=http://foros.conexioncubana.net/modules.php%3Fname%3DForums%26file%3Dposting%26mode%3Dquote%26p%3D205594&amp;h=500&amp;w=343&amp;sz=40&amp;hl=es&amp;start=42&amp;um=1&amp;tbnid=gh5ESoDX_He59M:&amp;tbnh=130&amp;tbnw=89&amp;prev=/images%3Fq%3DCUERPO%2BDE%2BL%2BMUJER%26start%3D40%26ndsp%3D20%26svnum%3D10%26um%3D1%26hl%3Des%26sa%3DN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.pe/imgres?imgurl=http://www.uv.es/jjsanton/mioma.1.gif&amp;imgrefurl=http://www.uv.es/jjsanton/mioma.htm&amp;h=393&amp;w=330&amp;sz=77&amp;hl=es&amp;start=13&amp;um=1&amp;tbnid=iShHg_ediM6y-M:&amp;tbnh=124&amp;tbnw=104&amp;prev=/images%3Fq%3DMIOMAS%26svnum%3D10%26um%3D1%26hl%3Des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.pe/imgres?imgurl=http://imstars.aufeminin.com/stars/fan/D20060930/919_553626655_monica01_H125612_L.jpg&amp;imgrefurl=http://foros.conexioncubana.net/modules.php%3Fname%3DForums%26file%3Dposting%26mode%3Dquote%26p%3D205594&amp;h=500&amp;w=343&amp;sz=40&amp;hl=es&amp;start=42&amp;um=1&amp;tbnid=gh5ESoDX_He59M:&amp;tbnh=130&amp;tbnw=89&amp;prev=/images%3Fq%3DCUERPO%2BDE%2BL%2BMUJER%26start%3D40%26ndsp%3D20%26svnum%3D10%26um%3D1%26hl%3Des%26sa%3DN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.pe/imgres?imgurl=http://www.medicosecuador.com/images/articulos/149/miomas.jpg&amp;imgrefurl=http://www.medicosecuador.com/espanol/articulos/149.htm&amp;h=283&amp;w=250&amp;sz=31&amp;hl=es&amp;start=14&amp;um=1&amp;tbnid=FqcZ6Fpp8mWkQM:&amp;tbnh=114&amp;tbnw=101&amp;prev=/images%3Fq%3DMIOMAS%26svnum%3D10%26um%3D1%26hl%3Des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.pe/imgres?imgurl=http://imstars.aufeminin.com/stars/fan/D20060930/919_553626655_monica01_H125612_L.jpg&amp;imgrefurl=http://foros.conexioncubana.net/modules.php%3Fname%3DForums%26file%3Dposting%26mode%3Dquote%26p%3D205594&amp;h=500&amp;w=343&amp;sz=40&amp;hl=es&amp;start=42&amp;um=1&amp;tbnid=gh5ESoDX_He59M:&amp;tbnh=130&amp;tbnw=89&amp;prev=/images%3Fq%3DCUERPO%2BDE%2BL%2BMUJER%26start%3D40%26ndsp%3D20%26svnum%3D10%26um%3D1%26hl%3Des%26sa%3DN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.pe/imgres?imgurl=http://content.jeffersonhospital.org/images/ss_2482.gif&amp;imgrefurl=http://content.jeffersonhospital.org/content.asp%3Fpageid%3DP03653&amp;h=200&amp;w=200&amp;sz=11&amp;hl=es&amp;start=70&amp;um=1&amp;tbnid=1C8Jc-hARphwhM:&amp;tbnh=104&amp;tbnw=104&amp;prev=/images%3Fq%3DMIOMAS%2B%2BUTERINOS%2B%26start%3D60%26ndsp%3D20%26svnum%3D10%26um%3D1%26hl%3Des%26sa%3DN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.pe/imgres?imgurl=http://imstars.aufeminin.com/stars/fan/D20060930/919_553626655_monica01_H125612_L.jpg&amp;imgrefurl=http://foros.conexioncubana.net/modules.php%3Fname%3DForums%26file%3Dposting%26mode%3Dquote%26p%3D205594&amp;h=500&amp;w=343&amp;sz=40&amp;hl=es&amp;start=42&amp;um=1&amp;tbnid=gh5ESoDX_He59M:&amp;tbnh=130&amp;tbnw=89&amp;prev=/images%3Fq%3DCUERPO%2BDE%2BL%2BMUJER%26start%3D40%26ndsp%3D20%26svnum%3D10%26um%3D1%26hl%3Des%26sa%3DN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.pe/imgres?imgurl=http://www.inforadiologia.org/imagenes/miomas1.jpg&amp;imgrefurl=http://www.inforadiologia.org/paginas/miomas.htm&amp;h=298&amp;w=506&amp;sz=35&amp;hl=es&amp;start=3&amp;um=1&amp;tbnid=lE5YuQHbetS0-M:&amp;tbnh=77&amp;tbnw=131&amp;prev=/images%3Fq%3DMIOMAS%2B%2BUTERINOS%2B%26svnum%3D10%26um%3D1%26hl%3Des%26sa%3DG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.pe/imgres?imgurl=http://imstars.aufeminin.com/stars/fan/D20060930/919_553626655_monica01_H125612_L.jpg&amp;imgrefurl=http://foros.conexioncubana.net/modules.php%3Fname%3DForums%26file%3Dposting%26mode%3Dquote%26p%3D205594&amp;h=500&amp;w=343&amp;sz=40&amp;hl=es&amp;start=42&amp;um=1&amp;tbnid=gh5ESoDX_He59M:&amp;tbnh=130&amp;tbnw=89&amp;prev=/images%3Fq%3DCUERPO%2BDE%2BL%2BMUJER%26start%3D40%26ndsp%3D20%26svnum%3D10%26um%3D1%26hl%3Des%26sa%3DN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.pe/imgres?imgurl=http://imstars.aufeminin.com/stars/fan/D20060930/919_553626655_monica01_H125612_L.jpg&amp;imgrefurl=http://foros.conexioncubana.net/modules.php%3Fname%3DForums%26file%3Dposting%26mode%3Dquote%26p%3D205594&amp;h=500&amp;w=343&amp;sz=40&amp;hl=es&amp;start=42&amp;um=1&amp;tbnid=gh5ESoDX_He59M:&amp;tbnh=130&amp;tbnw=89&amp;prev=/images%3Fq%3DCUERPO%2BDE%2BL%2BMUJER%26start%3D40%26ndsp%3D20%26svnum%3D10%26um%3D1%26hl%3Des%26sa%3DN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.pe/imgres?imgurl=http://ymghealthinfo.org/images/ss_0351.gif&amp;imgrefurl=http://ymghealthinfo.org/content.asp%3Fpageid%3DP03651&amp;h=142&amp;w=200&amp;sz=10&amp;hl=es&amp;start=14&amp;um=1&amp;tbnid=-Vv1_zFskmesrM:&amp;tbnh=74&amp;tbnw=104&amp;prev=/images%3Fq%3Dorganos%2Breproductivos%26svnum%3D10%26um%3D1%26hl%3Des%26sa%3D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.pe/imgres?imgurl=http://www.tusplantas.com/jardin/flores/flor/042/plantas-01.jpg&amp;imgrefurl=http://riie.com.uy/%3Fa%3D49605&amp;h=160&amp;w=145&amp;sz=7&amp;hl=es&amp;start=0&amp;um=1&amp;tbnid=G494kpWur4ZaNM:&amp;tbnh=98&amp;tbnw=89&amp;prev=/images%3Fq%3Dflores%2Bmargaritas%26svnum%3D10%26um%3D1%26hl%3Des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.pe/imgres?imgurl=http://ymghealthinfo.org/images/ss_0351.gif&amp;imgrefurl=http://ymghealthinfo.org/content.asp%3Fpageid%3DP03651&amp;h=142&amp;w=200&amp;sz=10&amp;hl=es&amp;start=14&amp;um=1&amp;tbnid=-Vv1_zFskmesrM:&amp;tbnh=74&amp;tbnw=104&amp;prev=/images%3Fq%3Dorganos%2Breproductivos%26svnum%3D10%26um%3D1%26hl%3Des%26sa%3D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.pe/imgres?imgurl=http://ymghealthinfo.org/images/ss_0351.gif&amp;imgrefurl=http://ymghealthinfo.org/content.asp%3Fpageid%3DP03651&amp;h=142&amp;w=200&amp;sz=10&amp;hl=es&amp;start=14&amp;um=1&amp;tbnid=-Vv1_zFskmesrM:&amp;tbnh=74&amp;tbnw=104&amp;prev=/images%3Fq%3Dorganos%2Breproductivos%26svnum%3D10%26um%3D1%26hl%3Des%26sa%3DN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.pe/imgres?imgurl=http://www.unifertes.com/portal/uploads/tx_mininews/rte/RTEmagicC_14becb0b7a.jpg.jpg&amp;imgrefurl=http://www.unifertes.com/portal/index.php%3Fid%3D5%26no_cache%3D1%26tx_onqnews_pi1%255BshowUid%255D%3D16&amp;h=517&amp;w=383&amp;sz=54&amp;hl=es&amp;start=8&amp;um=1&amp;tbnid=tuQituefDwp_xM:&amp;tbnh=131&amp;tbnw=97&amp;prev=/images%3Fq%3DMIOMAS%2B%2BUTERINOS%2B%26svnum%3D10%26um%3D1%26hl%3Des%26sa%3D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.pe/imgres?imgurl=http://ymghealthinfo.org/images/ss_0351.gif&amp;imgrefurl=http://ymghealthinfo.org/content.asp%3Fpageid%3DP03651&amp;h=142&amp;w=200&amp;sz=10&amp;hl=es&amp;start=14&amp;um=1&amp;tbnid=-Vv1_zFskmesrM:&amp;tbnh=74&amp;tbnw=104&amp;prev=/images%3Fq%3Dorganos%2Breproductivos%26svnum%3D10%26um%3D1%26hl%3Des%26sa%3DN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.pe/imgres?imgurl=http://www.astrazeneca.com.br/azws006/upload/paciente/compreende_doenca/utero.jpg&amp;imgrefurl=http://www.astrazeneca.com.br/azws006/site/paciente/compreende_doenca/gineco/mioma.asp%3Fnick_area%3Dgineco%26area%3DGinecologia%2520%26id_area%2520%3D6&amp;h=207&amp;w=320&amp;sz=27&amp;hl=es&amp;start=10&amp;um=1&amp;tbnid=YSGIP3Ewp0I8bM:&amp;tbnh=76&amp;tbnw=118&amp;prev=/images%3Fq%3DMIOMAS%2B%2BUTERINOS%2B%26svnum%3D10%26um%3D1%26hl%3Des%26sa%3D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.pe/imgres?imgurl=http://ymghealthinfo.org/images/ss_0351.gif&amp;imgrefurl=http://ymghealthinfo.org/content.asp%3Fpageid%3DP03651&amp;h=142&amp;w=200&amp;sz=10&amp;hl=es&amp;start=14&amp;um=1&amp;tbnid=-Vv1_zFskmesrM:&amp;tbnh=74&amp;tbnw=104&amp;prev=/images%3Fq%3Dorganos%2Breproductivos%26svnum%3D10%26um%3D1%26hl%3Des%26sa%3DN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.pe/imgres?imgurl=http://www.granhermano.telecinco.es/imgsed/mariacarmen05097470.jpg&amp;imgrefurl=http://www.forocoches.com/foro/showthread.php%3Ft%3D473473&amp;h=353&amp;w=470&amp;sz=15&amp;hl=es&amp;start=110&amp;um=1&amp;tbnid=xEZUcgxs8JNvyM:&amp;tbnh=97&amp;tbnw=129&amp;prev=/images%3Fq%3Dmujeres%2Bmayores%2Bde%2B35%2Ba%25C3%25B1os%26start%3D100%26ndsp%3D20%26svnum%3D10%26um%3D1%26hl%3Des%26lr%3Dlang_es%26sa%3DN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com.pe/imgres?imgurl=http://www.dion.es/Imagenes/2005_RevistaMujeresDirectivas2.jpg&amp;imgrefurl=http://www.dion.es/Nuestrosconsultores11.htm&amp;h=288&amp;w=400&amp;sz=92&amp;hl=es&amp;start=33&amp;um=1&amp;tbnid=EldHS1wXV6ldoM:&amp;tbnh=103&amp;tbnw=143&amp;prev=/images%3Fq%3Dmujeres%2B%26start%3D20%26ndsp%3D20%26svnum%3D10%26um%3D1%26hl%3Des%26lr%3Dlang_es%26sa%3DN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.pe/imgres?imgurl=http://ymghealthinfo.org/images/ss_0351.gif&amp;imgrefurl=http://ymghealthinfo.org/content.asp%3Fpageid%3DP03651&amp;h=142&amp;w=200&amp;sz=10&amp;hl=es&amp;start=14&amp;um=1&amp;tbnid=-Vv1_zFskmesrM:&amp;tbnh=74&amp;tbnw=104&amp;prev=/images%3Fq%3Dorganos%2Breproductivos%26svnum%3D10%26um%3D1%26hl%3Des%26sa%3DN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.pe/imgres?imgurl=http://content.jeffersonhospital.org/images/ss_2482.gif&amp;imgrefurl=http://content.jeffersonhospital.org/content.asp%3Fpageid%3DP03653&amp;h=200&amp;w=200&amp;sz=11&amp;hl=es&amp;start=70&amp;um=1&amp;tbnid=1C8Jc-hARphwhM:&amp;tbnh=104&amp;tbnw=104&amp;prev=/images%3Fq%3DMIOMAS%2B%2BUTERINOS%2B%26start%3D60%26ndsp%3D20%26svnum%3D10%26um%3D1%26hl%3Des%26sa%3DN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.pe/imgres?imgurl=http://ymghealthinfo.org/images/ss_0351.gif&amp;imgrefurl=http://ymghealthinfo.org/content.asp%3Fpageid%3DP03651&amp;h=142&amp;w=200&amp;sz=10&amp;hl=es&amp;start=14&amp;um=1&amp;tbnid=-Vv1_zFskmesrM:&amp;tbnh=74&amp;tbnw=104&amp;prev=/images%3Fq%3Dorganos%2Breproductivos%26svnum%3D10%26um%3D1%26hl%3Des%26sa%3DN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.pe/imgres?imgurl=http://www.uterine-fibroids.org/images/uterus.jpg&amp;imgrefurl=http://www.bolasdesabao.info/node/28&amp;h=282&amp;w=400&amp;sz=34&amp;hl=es&amp;start=73&amp;um=1&amp;tbnid=hNN-N0u9xsd0nM:&amp;tbnh=87&amp;tbnw=124&amp;prev=/images%3Fq%3DMIOMAS%2B%2BUTERINOS%2B%26start%3D60%26ndsp%3D20%26svnum%3D10%26um%3D1%26hl%3Des%26sa%3DN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4240" y="2357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Patología benigna del cuerpo uterin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00120" y="4429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Au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Sara Juliani Mendoza Palomi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sajume15@hotmail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3714840" y="714240"/>
            <a:ext cx="16477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919_553626655_monica01_H125612_L">
            <a:hlinkClick r:id="rId1"/>
          </p:cNvPr>
          <p:cNvPicPr/>
          <p:nvPr/>
        </p:nvPicPr>
        <p:blipFill>
          <a:blip r:embed="rId2">
            <a:lum bright="6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000000"/>
                </a:solidFill>
                <a:latin typeface="Comic Sans MS"/>
              </a:rPr>
              <a:t>SINTOMATOLOGIA Y TRATAMIENTO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cc0099"/>
                </a:solidFill>
                <a:uFillTx/>
                <a:latin typeface="Arial"/>
              </a:rPr>
              <a:t>MIOMA  SUBMUC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ANG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FERTILIDAD PRIMARIA Y SECUNDA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UEDE DEFORMAR EL ÚT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UMOR PUEDE PEDICULA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4" descr="miom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8000" y="2060640"/>
            <a:ext cx="3384360" cy="3744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919_553626655_monica01_H125612_L">
            <a:hlinkClick r:id="rId1"/>
          </p:cNvPr>
          <p:cNvPicPr/>
          <p:nvPr/>
        </p:nvPicPr>
        <p:blipFill>
          <a:blip r:embed="rId2">
            <a:lum bright="6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 u="sng">
                <a:solidFill>
                  <a:srgbClr val="cc0099"/>
                </a:solidFill>
                <a:uFillTx/>
                <a:latin typeface="Arial"/>
              </a:rPr>
              <a:t>MIOMA  INTRAMURAL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ISMENOR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ALPA TUMO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UMOR NO SE PEDIC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cc0099"/>
                </a:solidFill>
                <a:uFillTx/>
                <a:latin typeface="Arial"/>
              </a:rPr>
              <a:t>TRATAMIEN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IMITADO A LAS MOLESTIAS DE LA PACIEN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UEDE IR O NO A LA  HISTERECTO-M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9" descr="mioma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1773360"/>
            <a:ext cx="3745080" cy="3743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919_553626655_monica01_H125612_L">
            <a:hlinkClick r:id="rId1"/>
          </p:cNvPr>
          <p:cNvPicPr/>
          <p:nvPr/>
        </p:nvPicPr>
        <p:blipFill>
          <a:blip r:embed="rId2">
            <a:lum bright="6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 u="sng">
                <a:solidFill>
                  <a:srgbClr val="cc0099"/>
                </a:solidFill>
                <a:uFillTx/>
                <a:latin typeface="Arial"/>
              </a:rPr>
              <a:t>MIOMA SUB SEROS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ALPACIÒN  DEL TUMOR A NIVEL DEL ABDOM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ISU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OLAQUIU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ORSALG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RANSFORMARSE EN INTRALIGAMEN- TA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EDICULA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ss_2482">
            <a:hlinkClick r:id="rId3"/>
          </p:cNvPr>
          <p:cNvPicPr/>
          <p:nvPr/>
        </p:nvPicPr>
        <p:blipFill>
          <a:blip r:embed="rId4">
            <a:lum bright="-14000"/>
          </a:blip>
          <a:stretch/>
        </p:blipFill>
        <p:spPr>
          <a:xfrm>
            <a:off x="4500720" y="1773360"/>
            <a:ext cx="4174920" cy="41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919_553626655_monica01_H125612_L">
            <a:hlinkClick r:id="rId1"/>
          </p:cNvPr>
          <p:cNvPicPr/>
          <p:nvPr/>
        </p:nvPicPr>
        <p:blipFill>
          <a:blip r:embed="rId2">
            <a:lum bright="6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s-ES" sz="4000" spc="-1" strike="noStrike">
                <a:solidFill>
                  <a:srgbClr val="000000"/>
                </a:solidFill>
                <a:latin typeface="Comic Sans MS"/>
              </a:rPr>
              <a:t>CAMBIOS SECUNDARIOS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ON LAS DEGENE- RA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EG. HIA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EGE. QUIS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EGE. CALC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NFEC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EGE. GRA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EGE. MALIG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EGE. CARNO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miomas1">
            <a:hlinkClick r:id="rId3"/>
          </p:cNvPr>
          <p:cNvPicPr/>
          <p:nvPr/>
        </p:nvPicPr>
        <p:blipFill>
          <a:blip r:embed="rId4">
            <a:lum bright="2000"/>
          </a:blip>
          <a:stretch/>
        </p:blipFill>
        <p:spPr>
          <a:xfrm>
            <a:off x="826920" y="2276640"/>
            <a:ext cx="2880000" cy="3109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0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919_553626655_monica01_H125612_L">
            <a:hlinkClick r:id="rId1"/>
          </p:cNvPr>
          <p:cNvPicPr/>
          <p:nvPr/>
        </p:nvPicPr>
        <p:blipFill>
          <a:blip r:embed="rId2">
            <a:lum bright="6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000000"/>
                </a:solidFill>
                <a:latin typeface="Comic Sans MS"/>
              </a:rPr>
              <a:t>CUADRO CLINICO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SINTOMÀTIC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TUMOR EN EL  BAJO VIENT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OL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HEMORRAGI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ISMENORRE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XUDAD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BDOMEN AGU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919_553626655_monica01_H125612_L">
            <a:hlinkClick r:id="rId1"/>
          </p:cNvPr>
          <p:cNvPicPr/>
          <p:nvPr/>
        </p:nvPicPr>
        <p:blipFill>
          <a:blip r:embed="rId2">
            <a:lum bright="6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000000"/>
                </a:solidFill>
                <a:latin typeface="Comic Sans MS"/>
              </a:rPr>
              <a:t>TRATAMIENTO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0099"/>
                </a:solidFill>
                <a:uFillTx/>
                <a:latin typeface="Arial"/>
              </a:rPr>
              <a:t>SI ES ASINTOMATI –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BSERV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0099"/>
                </a:solidFill>
                <a:uFillTx/>
                <a:latin typeface="Arial"/>
              </a:rPr>
              <a:t>SI ES SINTOMAT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IOMECTOMÌ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ISTERECTOMÌA TO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0099"/>
                </a:solidFill>
                <a:uFillTx/>
                <a:latin typeface="Arial"/>
              </a:rPr>
              <a:t>DURANTE EL EMBARA 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ERCA DEL CUELLO  IMPIDE  EL PARTO VAGINAL TERMI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 CESA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mioma"/>
          <p:cNvPicPr/>
          <p:nvPr/>
        </p:nvPicPr>
        <p:blipFill>
          <a:blip r:embed="rId3"/>
          <a:stretch/>
        </p:blipFill>
        <p:spPr>
          <a:xfrm>
            <a:off x="4788000" y="2060640"/>
            <a:ext cx="3384360" cy="3744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2" descr="mujeres"/>
          <p:cNvPicPr/>
          <p:nvPr/>
        </p:nvPicPr>
        <p:blipFill>
          <a:blip r:embed="rId1">
            <a:lum bright="6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ESP301706RO"/>
          <p:cNvPicPr/>
          <p:nvPr/>
        </p:nvPicPr>
        <p:blipFill>
          <a:blip r:embed="rId2">
            <a:lum bright="2000"/>
          </a:blip>
          <a:stretch/>
        </p:blipFill>
        <p:spPr>
          <a:xfrm>
            <a:off x="1979640" y="1773360"/>
            <a:ext cx="4753080" cy="4465440"/>
          </a:xfrm>
          <a:prstGeom prst="rect">
            <a:avLst/>
          </a:prstGeom>
          <a:ln w="0">
            <a:noFill/>
          </a:ln>
        </p:spPr>
      </p:pic>
      <p:sp>
        <p:nvSpPr>
          <p:cNvPr id="149" name="WordArt 14"/>
          <p:cNvSpPr txBox="1"/>
          <p:nvPr/>
        </p:nvSpPr>
        <p:spPr>
          <a:xfrm>
            <a:off x="684360" y="907920"/>
            <a:ext cx="7391160" cy="244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RACIAS POR SU ATENCION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4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3429000" y="1214280"/>
            <a:ext cx="2471760" cy="1143000"/>
          </a:xfrm>
          <a:prstGeom prst="rect">
            <a:avLst/>
          </a:prstGeom>
          <a:ln w="0">
            <a:noFill/>
          </a:ln>
        </p:spPr>
      </p:pic>
      <p:sp>
        <p:nvSpPr>
          <p:cNvPr id="151" name="6 CuadroTexto"/>
          <p:cNvSpPr/>
          <p:nvPr/>
        </p:nvSpPr>
        <p:spPr>
          <a:xfrm>
            <a:off x="2071800" y="4786200"/>
            <a:ext cx="55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in de la pres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ss_0351">
            <a:hlinkClick r:id="rId1"/>
          </p:cNvPr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0" y="176040"/>
            <a:ext cx="9144000" cy="66819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8920" y="1125000"/>
            <a:ext cx="719928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0066"/>
                </a:solidFill>
                <a:latin typeface="Comic Sans MS"/>
              </a:rPr>
              <a:t>PATOLGIA BENIGNA  DEL CUERPO UTERINO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581360"/>
            <a:ext cx="64008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333300"/>
                </a:solidFill>
                <a:latin typeface="Arial"/>
              </a:rPr>
              <a:t>LEIOMIOMAS</a:t>
            </a:r>
            <a:r>
              <a:rPr b="0" lang="es-ES" sz="2000" spc="-1" strike="noStrike">
                <a:solidFill>
                  <a:srgbClr val="33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plantas-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660066"/>
                </a:solidFill>
                <a:latin typeface="Bodoni MT Black"/>
              </a:rPr>
              <a:t>UNIVERSIDAD NACINAL DE SAN CRISTOBAL DE HUAMAN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Monotype Corsiva"/>
              </a:rPr>
              <a:t>ESCUELA DE FORMACION PROFESIONAL DE OBSTETRI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Facultad De Obstetri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MENDOZA PALOMINO ,Sara Julia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ss_0351">
            <a:hlinkClick r:id="rId1"/>
          </p:cNvPr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0" y="176040"/>
            <a:ext cx="9144000" cy="66819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000000"/>
                </a:solidFill>
                <a:latin typeface="Comic Sans MS"/>
              </a:rPr>
              <a:t>INTRODUCCIO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9280" y="1413000"/>
            <a:ext cx="8147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UMORES MÁS COMUNES DE TODO EL APARATO GENITAL, PROBABLE_ MENTE EL TUMOR BENIGNO MÁS FRECUENTE EN LA MUJER; RESPON-SABLE DE UN TERCIO DE LOS INGRESOS GINECOLÓGI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ÁS FRECUENTES EN LA TERCERA Y CUARTA DÉCADA DE LA VIDA (EL 90% DE LOS CASO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2290680" y="1460520"/>
            <a:ext cx="4562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ss_0351">
            <a:hlinkClick r:id="rId1"/>
          </p:cNvPr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0" y="176040"/>
            <a:ext cx="9144000" cy="66819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400" spc="-1" strike="noStrike">
                <a:solidFill>
                  <a:srgbClr val="000000"/>
                </a:solidFill>
                <a:latin typeface="Comic Sans MS"/>
              </a:rPr>
              <a:t>DEFINICI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UMORES DEL MÚSCULO UTERINO  FORMADO POR CÉLULAS  INMADURAS  QUE ENVUELVEN LOS VASOS  DE  LOS MÚSCUL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1" descr="RTEmagicC_14becb0b7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5280" y="1484280"/>
            <a:ext cx="38894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ss_0351">
            <a:hlinkClick r:id="rId1"/>
          </p:cNvPr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0" y="176040"/>
            <a:ext cx="9144000" cy="66819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DENOMINACIO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2" descr="uter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43280" y="1341360"/>
            <a:ext cx="3024000" cy="244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63640" y="4365720"/>
            <a:ext cx="6624720" cy="176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LEIOMIOMA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FIBROMA, FIBRO -MIOMA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 FIBROI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ss_0351">
            <a:hlinkClick r:id="rId1"/>
          </p:cNvPr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0" y="176040"/>
            <a:ext cx="9144000" cy="66819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000000"/>
                </a:solidFill>
                <a:latin typeface="Arial"/>
              </a:rPr>
              <a:t>FRECUENCIA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211280" y="2133720"/>
            <a:ext cx="44751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 DE CADA 4 MUJERES PUEDEN PADECERL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RECUENTEMENTE SE PRESENTA ENTRE( 30-40 AÑO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2" descr="mariacarmen0509747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4360" y="2276640"/>
            <a:ext cx="3095640" cy="2736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2005_RevistaMujeresDirectivas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411280" y="4437000"/>
            <a:ext cx="18734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ss_0351">
            <a:hlinkClick r:id="rId1"/>
          </p:cNvPr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0" y="176040"/>
            <a:ext cx="9144000" cy="66819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CARACTERISTIC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38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TIENEN DEPENDENCIA HORMONAL 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CRECEN DURANTE EL CICLO MENSTRUAL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CRECEN CON HORMONAS DEL EMBARAZ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DISMINUYEN DE TAMAÑO EN LA MENOPAUSIA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CRECIMIENTO DEPENDE DEL ESTROGENO, ESTRADIOL</a:t>
            </a:r>
            <a:r>
              <a:rPr b="1" lang="es-ES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ss_248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2198520"/>
            <a:ext cx="3095640" cy="33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ss_0351">
            <a:hlinkClick r:id="rId1"/>
          </p:cNvPr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0" y="176040"/>
            <a:ext cx="9144000" cy="66819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Comic Sans MS"/>
              </a:rPr>
              <a:t>LOCALIZAC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8320" y="1989000"/>
            <a:ext cx="40384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IOMA SUB MUC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OIOMA INTRAMU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IOMA SUB SERO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9" descr="uteru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1484280"/>
            <a:ext cx="41036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01:10:41Z</dcterms:created>
  <dc:creator>marco antonio</dc:creator>
  <dc:description/>
  <dc:language>en-US</dc:language>
  <cp:lastModifiedBy>fernandap</cp:lastModifiedBy>
  <dcterms:modified xsi:type="dcterms:W3CDTF">2009-08-27T18:31:48Z</dcterms:modified>
  <cp:revision>10</cp:revision>
  <dc:subject/>
  <dc:title>PATOLGIA BENIGNA  DEL CUERPO UTERINO </dc:title>
</cp:coreProperties>
</file>