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AC58-CB71-4E24-8F7F-A32D03BB25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B582-84E2-460E-949B-0A9B41289CE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610F-661E-4ADC-8454-E12FA42C4F0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8E5-F435-4CEA-8B52-9646CED3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0BB-BFCA-4316-8CA5-0B38B0CE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819-BEFD-4106-A1EF-41824E2F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455-5247-41BF-853B-6A557A44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6DF0-235B-40D7-B6BB-F0ED793A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2EF7-8C94-4C6A-839B-F82628C0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47BA-6EE5-4B7A-9555-C16240F8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CAEF-181A-4A2C-B6F4-1982F11F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91E0-8D63-47F8-8146-61D9D844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2F34-6AE6-416B-9075-0F9A3103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9B94-B0D9-47F6-A932-2ACC4508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6B3-ED8C-4F75-BD73-E047B567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F770-D660-45FB-94B0-51E45860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C4DC-0BAB-48B7-87C6-50D48FC3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EE49-41EA-4BE9-A34B-E00CBFC7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D224-BC66-45D4-B7BE-0B0B39B1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398B-4BEA-4665-8D1D-C0B8151C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BCF82-49B8-46F3-A318-78DC404D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AAD87-7E3F-43B2-A84A-30E0D920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A11C5-C00C-4624-B960-58806B07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28A6A-4075-43B4-8A69-47403250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36D8-5608-4C70-86C4-A4715A87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C44-4061-4D1A-A89A-8A2E049F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5491E-8EE9-4851-BC59-825BC730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9083B-AFE5-4979-AA96-C62FE0B4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76B69-BA36-473F-A2F5-14AA967A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B0A44-0F4A-4DC3-A3B2-E2B8F703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ACF32-20E4-4767-B195-EC897213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EECE-CCAC-4080-9DBB-7E60DBC8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7FBDC-02FE-40A2-9FF6-ABFC85A7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D3B-ABAB-45E6-9661-DD6E12EF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CB2-A105-4687-92D0-9F742545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6D5-1AF7-4A02-BB03-75D9F386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F799-7612-4F09-A736-23FFDBE3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464-EB5A-4F3F-A92B-FDE75119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DAE-B8BC-46B0-8BB3-A7796E41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69A1-E398-4EF5-B30C-7C010C28209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E762-475A-45C3-B489-E32A79D2363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FEF9-0314-4CF9-8B69-338E5E17DFE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424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Patologías de la evalu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0012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u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.PH.D Eddy Justo Cusicanqui Fl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usicanquieddy@yahoo.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3714840" y="714240"/>
            <a:ext cx="16477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e Evalúa Distemporalmen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 significa, dificultad o anomal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mporal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guen siendo anecdóticas, memorísticas y superfi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 mayor importancia al ¿cómo?, que el ¿cuándo?, mas importancia da al fondo que en la forma como lo da a cono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tanto su evaluación es sincrónica  y no diacró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nmarca en roles utóp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evaluacion_educacion_basica"/>
          <p:cNvPicPr/>
          <p:nvPr/>
        </p:nvPicPr>
        <p:blipFill>
          <a:blip r:embed="rId1"/>
          <a:stretch/>
        </p:blipFill>
        <p:spPr>
          <a:xfrm>
            <a:off x="611280" y="1484280"/>
            <a:ext cx="3809880" cy="35434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1480680" y="522936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dith Roxana Espejo S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rusch Cori Col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16360" y="169992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Se Evalúa Unidireccionalmen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e tipo de evaluación solo mide un aspecto, conceptual, social o ideal, sin tomar en cuenta la totalidad de los aspectos que involucra a el proceso de formación hum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CA3AYH3G"/>
          <p:cNvPicPr/>
          <p:nvPr/>
        </p:nvPicPr>
        <p:blipFill>
          <a:blip r:embed="rId1"/>
          <a:stretch/>
        </p:blipFill>
        <p:spPr>
          <a:xfrm>
            <a:off x="6300720" y="620640"/>
            <a:ext cx="2303640" cy="3095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lenin"/>
          <p:cNvPicPr/>
          <p:nvPr/>
        </p:nvPicPr>
        <p:blipFill>
          <a:blip r:embed="rId2"/>
          <a:stretch/>
        </p:blipFill>
        <p:spPr>
          <a:xfrm>
            <a:off x="468360" y="765000"/>
            <a:ext cx="2298600" cy="302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2"/>
          <p:cNvSpPr/>
          <p:nvPr/>
        </p:nvSpPr>
        <p:spPr>
          <a:xfrm>
            <a:off x="5148360" y="5877000"/>
            <a:ext cx="35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ddy Barrionuevo Guach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galy Corina Choque Tor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Se Evalúa De Forma Incoherente Con El Proceso De E-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280" y="4579920"/>
            <a:ext cx="8207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prueba es rígida, repetitiva, no reflex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es integral y lo aprendido es a memoria de corto plazo, y sólo se valora los resultados cuantit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aprendizaje3"/>
          <p:cNvPicPr/>
          <p:nvPr/>
        </p:nvPicPr>
        <p:blipFill>
          <a:blip r:embed="rId1"/>
          <a:stretch/>
        </p:blipFill>
        <p:spPr>
          <a:xfrm>
            <a:off x="2843280" y="1413000"/>
            <a:ext cx="3876480" cy="2695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5435640" y="414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anelle Aspi Cor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5003640" y="6093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ben Carlos Blanco Velasq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e Evalúa Competitivamen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necesita analizar los elementos que lo integran: conocimientos, experiencias, capacidades, necesidades, intereses, del proceso E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1"/>
          <p:cNvPicPr/>
          <p:nvPr/>
        </p:nvPicPr>
        <p:blipFill>
          <a:blip r:embed="rId1"/>
          <a:stretch/>
        </p:blipFill>
        <p:spPr>
          <a:xfrm>
            <a:off x="1428840" y="1197000"/>
            <a:ext cx="628632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5003640" y="5877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anelle Aspi Cor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859280" y="6165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ben Carlos Blanco Velásq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e Evalúa Solamente Resultad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toma en cuenta el proceso de la E-A, ni estrategias, ni condiciones, ni presupuestos ni ritmos de aprendiz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ude el proceso, el resultado es imprecisión y de tergivers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adulto"/>
          <p:cNvPicPr/>
          <p:nvPr/>
        </p:nvPicPr>
        <p:blipFill>
          <a:blip r:embed="rId1"/>
          <a:stretch/>
        </p:blipFill>
        <p:spPr>
          <a:xfrm>
            <a:off x="684360" y="1197000"/>
            <a:ext cx="2800080" cy="38876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684360" y="5661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dro Mamani Cha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84360" y="5300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fraín R. Choque Yuc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688320" y="595008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col Limachi Hua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e Solamente Conocimiento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rece en su proceso de evaluar actitudes, destrezas, hábitos y 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valúa el grado de memoria, no existe segu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cab_1"/>
          <p:cNvPicPr/>
          <p:nvPr/>
        </p:nvPicPr>
        <p:blipFill>
          <a:blip r:embed="rId1"/>
          <a:stretch/>
        </p:blipFill>
        <p:spPr>
          <a:xfrm>
            <a:off x="4427640" y="1628640"/>
            <a:ext cx="4032000" cy="3978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4572000" y="5661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dro Mamani Cha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col Limachi Hua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valuación Cuantitativamen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sa la calificación con escalas nominales, ordinales y de razón lógica; es aparente y objetiva, oculta problemas del como aprende, de lo aprendido, de la utilidad de lo aprendido y de sus intere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educacion400"/>
          <p:cNvPicPr/>
          <p:nvPr/>
        </p:nvPicPr>
        <p:blipFill>
          <a:blip r:embed="rId1"/>
          <a:stretch/>
        </p:blipFill>
        <p:spPr>
          <a:xfrm>
            <a:off x="5076720" y="1557360"/>
            <a:ext cx="3409920" cy="38098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0" y="595008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ís Kemmel Vila Col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ert G. Mollinedo Qu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Se Utilizan instrumentos Inadecuad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terías de evaluación inadecu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estáticas, no permite al alumno desarrollar e interpretar se limita a lo memorís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ecdótica, valora anécdotas no signific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éptica, logra que el alumno no guste de los exám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ntificadora, su calificación es nomoté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ontextualizadora, no toma contexto del alumno, ni su percepción, no relaciona lo aprendido con la vida cotidiana del alum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belli"/>
          <p:cNvPicPr/>
          <p:nvPr/>
        </p:nvPicPr>
        <p:blipFill>
          <a:blip r:embed="rId1"/>
          <a:stretch/>
        </p:blipFill>
        <p:spPr>
          <a:xfrm>
            <a:off x="4932360" y="1700280"/>
            <a:ext cx="3745080" cy="3744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4932360" y="558972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ís Kemmel Vila Col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ert G. Mollinedo Qu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e Evalúa para Controla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cumple la función de análisis de resultados, solo controla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tuffebeam “ la evaluación es el proceso de diseñar, obtener, proporcionar información útil para juzgar alternativas, de dec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j0233018"/>
          <p:cNvPicPr/>
          <p:nvPr/>
        </p:nvPicPr>
        <p:blipFill>
          <a:blip r:embed="rId1"/>
          <a:stretch/>
        </p:blipFill>
        <p:spPr>
          <a:xfrm>
            <a:off x="1189080" y="2557440"/>
            <a:ext cx="2574720" cy="2614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0"/>
          <p:cNvSpPr/>
          <p:nvPr/>
        </p:nvSpPr>
        <p:spPr>
          <a:xfrm>
            <a:off x="3995640" y="5805360"/>
            <a:ext cx="32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né Villca Aqu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eida K. Land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19280" y="98064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Sólo se Evalúa al Estudian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4920" y="3284280"/>
            <a:ext cx="8280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amina, y el resultado es inape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igna un valor numér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comparado al resto de los estudi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m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ecuencias son arbitrarias, injusticia y falta de cual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studiante es el único responsable de su no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 desigualdad radical, y no se aplica a la curríc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995640" y="5805360"/>
            <a:ext cx="32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fraín R. Choque Yuc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yber Aruquipa Alvar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rrr"/>
          <p:cNvPicPr/>
          <p:nvPr/>
        </p:nvPicPr>
        <p:blipFill>
          <a:blip r:embed="rId1"/>
          <a:stretch/>
        </p:blipFill>
        <p:spPr>
          <a:xfrm>
            <a:off x="611280" y="260280"/>
            <a:ext cx="36734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TOLOGIAS DE LA 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86920" y="3505320"/>
            <a:ext cx="7270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.PH.D Prof. Eddy J. Cusicanqui F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OCENTE INSSB -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Solo se evalúan los efectos observabl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458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alúan el currículum estricto y observable y no así el currículum ocul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es riguroso, ni exigente ni ambici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1238050870125_f"/>
          <p:cNvPicPr/>
          <p:nvPr/>
        </p:nvPicPr>
        <p:blipFill>
          <a:blip r:embed="rId1"/>
          <a:stretch/>
        </p:blipFill>
        <p:spPr>
          <a:xfrm>
            <a:off x="2195640" y="1413000"/>
            <a:ext cx="4762440" cy="2781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4643280" y="638172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ejandro Yana Cha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050920" y="6381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vid Quispe Mam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Se Evalúa principalmente la vertiente negativ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lo marca las correcciones, las partes negativas, sin tomar encuenta lo posi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evaluación debe ser holístico, para mejorar dificultades y obstáculos en la edu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470560" y="59500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ejandro Yana Cha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acosado"/>
          <p:cNvPicPr/>
          <p:nvPr/>
        </p:nvPicPr>
        <p:blipFill>
          <a:blip r:embed="rId1"/>
          <a:stretch/>
        </p:blipFill>
        <p:spPr>
          <a:xfrm>
            <a:off x="755640" y="1557360"/>
            <a:ext cx="3240000" cy="219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malcriado"/>
          <p:cNvPicPr/>
          <p:nvPr/>
        </p:nvPicPr>
        <p:blipFill>
          <a:blip r:embed="rId2"/>
          <a:stretch/>
        </p:blipFill>
        <p:spPr>
          <a:xfrm>
            <a:off x="5148360" y="1176480"/>
            <a:ext cx="26128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e evalúa estereotipadamen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existe esquemas de evaluación para cada cu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iten su forma de evaluación para todos los cur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promueve una terrible rutina inutil para el sistema educa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20080327-lapiz"/>
          <p:cNvPicPr/>
          <p:nvPr/>
        </p:nvPicPr>
        <p:blipFill>
          <a:blip r:embed="rId1"/>
          <a:stretch/>
        </p:blipFill>
        <p:spPr>
          <a:xfrm>
            <a:off x="5164200" y="1600200"/>
            <a:ext cx="3006720" cy="45306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979640" y="6021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cy Merlo Ap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No se evalúa éticamen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e en un punto de manipulación, amenaza, control 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man a los estudiantes como indisciplinados sin repu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poder del docente que el dec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x1pcjqddvowrmaw3d6rqugltr7"/>
          <p:cNvPicPr/>
          <p:nvPr/>
        </p:nvPicPr>
        <p:blipFill>
          <a:blip r:embed="rId1"/>
          <a:stretch/>
        </p:blipFill>
        <p:spPr>
          <a:xfrm>
            <a:off x="1027080" y="1600200"/>
            <a:ext cx="2898720" cy="45306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6156360" y="6093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cy Merlo Ap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3429000" y="1214280"/>
            <a:ext cx="2471760" cy="1143000"/>
          </a:xfrm>
          <a:prstGeom prst="rect">
            <a:avLst/>
          </a:prstGeom>
          <a:ln w="0">
            <a:noFill/>
          </a:ln>
        </p:spPr>
      </p:pic>
      <p:sp>
        <p:nvSpPr>
          <p:cNvPr id="240" name="6 CuadroTexto"/>
          <p:cNvSpPr/>
          <p:nvPr/>
        </p:nvSpPr>
        <p:spPr>
          <a:xfrm>
            <a:off x="2071800" y="478620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n de la pres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5128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oncepto de Patologí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ología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De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ato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-log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. f. Parte de la medicina que estudia las enfermedades. ||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2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junto de síntomas de una enfermedad. U. t. en sent. fig.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atología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11280" y="407664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la naturaleza de la evaluación (diagnóstica, procesual y Terminal) patológica afecta al sistema, al meso curricular y micro curricular, es superficial, afectan la salud edu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a patología social se involucra en la relación grupo e individual, y esta puede ser estudiada en sus síntomas, en si fisiología y mecanismos que producen enferm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859280" y="6078600"/>
            <a:ext cx="38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nsord Colque Cor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yber Aruquipa Alva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GEN2101x"/>
          <p:cNvPicPr/>
          <p:nvPr/>
        </p:nvPicPr>
        <p:blipFill>
          <a:blip r:embed="rId1"/>
          <a:stretch/>
        </p:blipFill>
        <p:spPr>
          <a:xfrm>
            <a:off x="324000" y="260280"/>
            <a:ext cx="35272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aquellas que hipertrofian un aspecto o dimensión acorde a una valo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El valorar se convierte en una patología solo cuando se valora exclusivamente c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Obsesión, sin tener en cuen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naturale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importanc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interé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adecu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coordinación con otros conocimi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su inter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desórdenes afectan al proce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Macro curricular = Sistema educativ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Meso curricular = Centro educativ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Micro curricular = Au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patología Social, se trat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esórdenes de procesos  que afectan a grup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Relaciones de individu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evaluación puede ser una patología cu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No Se Hace Meta Evalu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08000" y="1196640"/>
            <a:ext cx="497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arrollar criterios que evalúen la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Permite formar y tomar desiciones efic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atología, es que el no desarrollar meta evaluación, proyecta un evaluador sin una reconsideración meta, ello trae consigo una actitud pasiva, y conformista d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responde a cuestionamientos básicos: ¿para quién?, ¿por qué?, ¿Cuándo?, ¿Cómo?, ¿Dónde?, ¿Con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image_21"/>
          <p:cNvPicPr/>
          <p:nvPr/>
        </p:nvPicPr>
        <p:blipFill>
          <a:blip r:embed="rId1"/>
          <a:stretch/>
        </p:blipFill>
        <p:spPr>
          <a:xfrm>
            <a:off x="539640" y="2422440"/>
            <a:ext cx="2933640" cy="2554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826920" y="5229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fi Perales Carvaj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684360" y="479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né Villca Aqu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No Se Evalúa desde Afu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valuación mira y busca para luego ser interpretada bajo códigos estructurados de una teoría pedag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o trae consigo la distancia afectiva entre la dinámica y el resul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 de inter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ntos de referencia amplios y comple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yor disponibilidad en tiempo y ded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entrevistas"/>
          <p:cNvPicPr/>
          <p:nvPr/>
        </p:nvPicPr>
        <p:blipFill>
          <a:blip r:embed="rId1"/>
          <a:stretch/>
        </p:blipFill>
        <p:spPr>
          <a:xfrm>
            <a:off x="4572000" y="148428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8"/>
          <p:cNvSpPr/>
          <p:nvPr/>
        </p:nvSpPr>
        <p:spPr>
          <a:xfrm>
            <a:off x="4572000" y="580536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mber choquehuanca la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galy Corina Choque Tor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24360" y="98064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No se hace Auto Evalu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36446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alta un proceso de auto crítica para reflexio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be realizarse en el marco de la investigación en la acción (Eli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lexionar en los errores y no en las virtudes (Pop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Felgaer_pensando"/>
          <p:cNvPicPr/>
          <p:nvPr/>
        </p:nvPicPr>
        <p:blipFill>
          <a:blip r:embed="rId1"/>
          <a:stretch/>
        </p:blipFill>
        <p:spPr>
          <a:xfrm>
            <a:off x="755640" y="62064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4427640" y="2708280"/>
            <a:ext cx="36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mber choquehuanca la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dith Roxana Espejo S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e Evalúa Para Conserva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4220640"/>
            <a:ext cx="83534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valuación en el tiempo no cambia, se conserva en la misma dimensión en un mismo princi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ejor manera es proponer diversos principios y modos de esquemar la evaluación para promover la asimilación y conservación de la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" descr="nino_tecnologia"/>
          <p:cNvPicPr/>
          <p:nvPr/>
        </p:nvPicPr>
        <p:blipFill>
          <a:blip r:embed="rId1"/>
          <a:stretch/>
        </p:blipFill>
        <p:spPr>
          <a:xfrm>
            <a:off x="5435640" y="1125360"/>
            <a:ext cx="2952720" cy="2584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2"/>
          <p:cNvSpPr/>
          <p:nvPr/>
        </p:nvSpPr>
        <p:spPr>
          <a:xfrm>
            <a:off x="5219640" y="3933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ddy Barrionuevo Guach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611280" y="1341360"/>
            <a:ext cx="38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 instrumento conservador y no como ente innovador, lo que justifica la falta de mejoría y avances del desarrollo de formación institucional, promoviendo un statu q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5364000" y="3716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né Villca Aqu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5076720" y="6308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eida K. Landa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22:16:43Z</dcterms:created>
  <dc:creator>MARIA</dc:creator>
  <dc:description/>
  <dc:language>en-US</dc:language>
  <cp:lastModifiedBy>fernandap</cp:lastModifiedBy>
  <dcterms:modified xsi:type="dcterms:W3CDTF">2009-05-27T13:04:26Z</dcterms:modified>
  <cp:revision>28</cp:revision>
  <dc:subject/>
  <dc:title>PATOLOGIAS DE LA EVALUACIÓN</dc:title>
</cp:coreProperties>
</file>