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3116-8EDA-461E-B76F-8790EE1244A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9EDF-21E4-495F-8703-C6E2DF6B6FC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44B6-88D8-4055-89D7-7D279D3BB04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DD3D-1FD5-42F6-AAFD-C17EF742555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16A3-A66E-4268-990B-60E366EC67C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7C97-8D17-4E9B-961C-D2FE9E1F0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F2A9-DBBD-4BDB-93C2-43707585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9760-C519-4B90-8CEF-EAF169E37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E346-292D-4A45-9915-FF2DA1FFF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5C98-871B-4D0F-B83C-00A5A8755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8323-E893-449D-AFC5-EDA21A0A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45CC-C8AF-4514-85F0-1D548EF4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4C1A-1FDE-47A7-9872-1EA6A98B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5EA3-B0A1-40FF-86AC-C6ED0A53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AD02-C495-4B02-BD5E-85478BD0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3137-1A7B-4044-A20C-0843F897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C8B1-32A7-4E49-BE19-448037FE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A67E-273D-4319-9FB0-B52DD3FE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B5C0-5B07-410C-B96A-8D978DB3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DF92-555A-4240-AB3C-E91BF97F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4A9B-1C04-4DA3-8BA3-046F7953E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5EEF-66B2-4A0F-8ABE-BB8E24036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DF75-9AA6-4212-8BC7-A93B2DE6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F5A0-2900-4AB6-9E7F-29C3EBC2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27E3-EE1E-4F58-8AD0-FF39A936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D440-3073-4BF5-ACD5-B028D6E0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77A3-0128-47A4-A968-DF018D56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3031-0173-4533-8B23-56C1B15C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D918-3D1D-4A48-B91F-D3C5570F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1F58-E755-4B1E-BC6B-CE532BC984F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C836-4277-4247-A01A-C6B7CCE5DF8A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4240" y="2357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Fundamentos del derech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00120" y="4429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Au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Jessica del Pilar Collantes Aban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cassaje14_cadija15@hotmail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3714840" y="714240"/>
            <a:ext cx="1647720" cy="762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eorgia"/>
              </a:rPr>
              <a:t>Constitución Política del Perú (1856</a:t>
            </a: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NSTITUCIÓN DE LA REPÚBLICA PERUANA D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 13 DE OCTUBRE DE 1856 Y PROMULGADA El 1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L MISMO 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probada la constitución por la Convención  Nacional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mulgada por el presidente Mariscal Ramón Castilla 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9 de octubre de 1856. En 1860 el congreso ordinar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diante votación aprobó la reforma constitucional. Dej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 regir el 13 de noviembre de 186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3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500"/>
                            </p:stCondLst>
                            <p:childTnLst>
                              <p:par>
                                <p:cTn id="4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1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5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9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500"/>
                            </p:stCondLst>
                            <p:childTnLst>
                              <p:par>
                                <p:cTn id="4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3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7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Georgia"/>
              </a:rPr>
              <a:t>Constitución Política del Perú (1860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eorgia"/>
              </a:rPr>
              <a:t>Aprobada por el Congreso Ordinario el 13 de noviembr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eorgia"/>
              </a:rPr>
              <a:t>1860 promulgada por el Presidente Mariscal Castilla, dur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eorgia"/>
              </a:rPr>
              <a:t>hasta el 18 de agosto de 1867. Fue nuevamente puesta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eorgia"/>
              </a:rPr>
              <a:t>vigencia en enero de 1868. Fue suspendida durante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eorgia"/>
              </a:rPr>
              <a:t>guerra con Chile en diciembre de 1880 hasta enero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eorgia"/>
              </a:rPr>
              <a:t>1881. Dejo de regir definitivamente en 1919. F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eorgia"/>
              </a:rPr>
              <a:t>por lo tanto, la constitución de más vigencia en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eorgia"/>
              </a:rPr>
              <a:t>historia del Per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Georgia"/>
              </a:rPr>
              <a:t>Constitución Política del Perú (1867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Aprobada por el Congreso Constituyente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promulgada por el Presidente General Maria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Ignacio Prado el 19 de agosto de 1867. 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constitución no llegó a ser juramentada en Arequip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pues fue quemada públicamente en dicha ciudad.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movimiento se extendía y crecía ante esta situ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Prado dimitió el 5 de enero de 1868, embarcándo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para el extranjero. La constitución sólo estuv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vigente hasta el 6 de enero de 1868, o sea me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de cinco meses.</a:t>
            </a:r>
            <a:r>
              <a:rPr b="0" lang="es-E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0"/>
                            </p:stCondLst>
                            <p:childTnLst>
                              <p:par>
                                <p:cTn id="52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db4d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Georgia"/>
              </a:rPr>
              <a:t>Constitución Política del Perú (1920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2421000"/>
            <a:ext cx="882000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eorgia"/>
              </a:rPr>
              <a:t>La promulgación de la constitución se efectuó el 18 de enero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eorgia"/>
              </a:rPr>
              <a:t>1920, en el 385avo Aniversario de la Fundación de Lima y des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eorgia"/>
              </a:rPr>
              <a:t>la Casa Municipal por el presidente Leguia. Rigió hasta el 9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eorgia"/>
              </a:rPr>
              <a:t>abril de 1933 aunque había dejado de regir desde agosto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eorgia"/>
              </a:rPr>
              <a:t>193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5e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Arial"/>
              </a:rPr>
              <a:t>Constitución Política de 193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ffffff"/>
                </a:solidFill>
                <a:latin typeface="Georgia"/>
              </a:rPr>
              <a:t>Constitución Política del Perú </a:t>
            </a:r>
            <a:br>
              <a:rPr sz="4000"/>
            </a:br>
            <a:r>
              <a:rPr b="1" lang="es-CO" sz="4000" spc="-1" strike="noStrike">
                <a:solidFill>
                  <a:srgbClr val="ffffff"/>
                </a:solidFill>
                <a:latin typeface="Georgia"/>
              </a:rPr>
              <a:t>197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324000" y="220500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eorgia"/>
              </a:rPr>
              <a:t>FERNANDO BELAUNDE TERRY</a:t>
            </a:r>
            <a:r>
              <a:rPr b="0" lang="es-E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eorgia"/>
              </a:rPr>
              <a:t>Presidente Constitucional de la República</a:t>
            </a:r>
            <a:r>
              <a:rPr b="0" lang="es-E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eorgia"/>
              </a:rPr>
              <a:t>POR CUANTO:</a:t>
            </a:r>
            <a:r>
              <a:rPr b="0" lang="es-ES" sz="2400" spc="-1" strike="noStrike">
                <a:solidFill>
                  <a:srgbClr val="000000"/>
                </a:solidFill>
                <a:latin typeface="Georgia"/>
              </a:rPr>
              <a:t> La Asamblea Constituyente ha dado la siguiente constitución política del Perú el 12 de Julio de 1979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Arial"/>
              </a:rPr>
              <a:t>Constitución Política de 199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Georgia"/>
              </a:rPr>
              <a:t>El Congreso Constituyente Democrático, actuó com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Georgia"/>
              </a:rPr>
              <a:t>asamblea constituyente y poder legislativo, al mism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Georgia"/>
              </a:rPr>
              <a:t>tiempo. El gobierno de Alberto Fujimori luego 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Georgia"/>
              </a:rPr>
              <a:t>autogolpe del 5 de abril de  1992 convoco a elecciones p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Georgia"/>
              </a:rPr>
              <a:t>elegir sus represent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Georgia"/>
              </a:rPr>
              <a:t>El congreso Constituyente Democrático en 1993 invoc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Georgia"/>
              </a:rPr>
              <a:t>a dios todo poderoso obedeciendo el mandato del pueb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Georgia"/>
              </a:rPr>
              <a:t>peruano y recordando el sacrificio de toda las generac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Georgia"/>
              </a:rPr>
              <a:t>que nos han presidido en nuestra pat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4"/>
          <p:cNvSpPr txBox="1"/>
          <p:nvPr/>
        </p:nvSpPr>
        <p:spPr>
          <a:xfrm>
            <a:off x="1908000" y="3213000"/>
            <a:ext cx="46022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I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Bar dir="vert"/>
  </p:transition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3429000" y="1214280"/>
            <a:ext cx="2471760" cy="1143000"/>
          </a:xfrm>
          <a:prstGeom prst="rect">
            <a:avLst/>
          </a:prstGeom>
          <a:ln w="0">
            <a:noFill/>
          </a:ln>
        </p:spPr>
      </p:pic>
      <p:sp>
        <p:nvSpPr>
          <p:cNvPr id="125" name="6 CuadroTexto"/>
          <p:cNvSpPr/>
          <p:nvPr/>
        </p:nvSpPr>
        <p:spPr>
          <a:xfrm>
            <a:off x="2071800" y="4786200"/>
            <a:ext cx="55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in de la pres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4"/>
          <p:cNvSpPr txBox="1"/>
          <p:nvPr/>
        </p:nvSpPr>
        <p:spPr>
          <a:xfrm>
            <a:off x="755640" y="5157720"/>
            <a:ext cx="79916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3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FUNDAMENTOS DEL DERECHO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3" name="Imagen 1" descr=""/>
          <p:cNvPicPr/>
          <p:nvPr/>
        </p:nvPicPr>
        <p:blipFill>
          <a:blip r:embed="rId2"/>
          <a:srcRect l="0" t="24252" r="0" b="4829"/>
          <a:stretch/>
        </p:blipFill>
        <p:spPr>
          <a:xfrm>
            <a:off x="1403280" y="0"/>
            <a:ext cx="2158920" cy="730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7"/>
          <p:cNvSpPr txBox="1"/>
          <p:nvPr/>
        </p:nvSpPr>
        <p:spPr>
          <a:xfrm>
            <a:off x="539640" y="0"/>
            <a:ext cx="3311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ales </a:t>
            </a:r>
            <a:endParaRPr b="0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WordArt 8"/>
          <p:cNvSpPr txBox="1"/>
          <p:nvPr/>
        </p:nvSpPr>
        <p:spPr>
          <a:xfrm>
            <a:off x="4140360" y="189000"/>
            <a:ext cx="475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Constitucionales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755640" y="1584360"/>
            <a:ext cx="7345440" cy="50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eorgia"/>
              </a:rPr>
              <a:t>Constitución política de 1821 promulgada en  182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eorgia"/>
              </a:rPr>
              <a:t>Constitución vitalicia de 182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eorgia"/>
              </a:rPr>
              <a:t>Constitución política de 182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eorgia"/>
              </a:rPr>
              <a:t>Constitución de 183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eorgia"/>
              </a:rPr>
              <a:t>Constitución del Estado Sudperuano de 183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eorgia"/>
              </a:rPr>
              <a:t>Constitución política de 183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eorgia"/>
              </a:rPr>
              <a:t>Constitución política de 185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eorgia"/>
              </a:rPr>
              <a:t>Constitución política de 186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eorgia"/>
              </a:rPr>
              <a:t>Constitución política de 186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eorgia"/>
              </a:rPr>
              <a:t>Estatuto provisorio de 1879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eorgia"/>
              </a:rPr>
              <a:t>Constitución política de 192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eorgia"/>
              </a:rPr>
              <a:t>Constitución política de 193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eorgia"/>
              </a:rPr>
              <a:t>Constitución de 1979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eorgia"/>
              </a:rPr>
              <a:t>Constitución de 1993.</a:t>
            </a:r>
            <a:r>
              <a:rPr b="0" lang="es-E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cd04"/>
            </a:gs>
            <a:gs pos="50000">
              <a:srgbClr val="99cc00"/>
            </a:gs>
            <a:gs pos="100000">
              <a:srgbClr val="9bcd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632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eorgia"/>
              </a:rPr>
              <a:t>Constitución Política del Perú (1821 y promulgada en 1823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11280" y="2060640"/>
            <a:ext cx="79214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eorgia"/>
              </a:rPr>
              <a:t>Fue aprobada por el Primer Congreso Constituyente, la promulgó el Presidente de la República José Bernardo Torre Tagle el 12 de noviembre de l823, no llego a regir ya que días antes se había acordado que quedarían en suspenso los artículos constitucionales incompatibles con el ejercicio de las amplias facultades otorgadas al libertador Simón Bolívar, y hasta que los hechos de la emancipación varíen. Por ley del 17 de febrero de 1824 y considerando que las libertades amenazadas por los reveses que había sufrido la república se le entrego todo el poder a Bolívar quedando en suspenso los artículos constitucionales, leyes y decretos que fueran incompatibles con la autoridad de Bolív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s-ES" sz="4000" spc="-1" strike="noStrike">
                <a:solidFill>
                  <a:srgbClr val="000000"/>
                </a:solidFill>
                <a:latin typeface="Georgia"/>
              </a:rPr>
              <a:t>La Constitución 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Georgia"/>
              </a:rPr>
              <a:t>Vitalicia de 18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11280" y="1628640"/>
            <a:ext cx="7993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eorgia"/>
              </a:rPr>
              <a:t>La Constitución de </a:t>
            </a:r>
            <a:r>
              <a:rPr b="1" lang="es-ES" sz="2400" spc="-1" strike="noStrike">
                <a:solidFill>
                  <a:srgbClr val="000000"/>
                </a:solidFill>
                <a:latin typeface="Georgia"/>
              </a:rPr>
              <a:t>1826</a:t>
            </a:r>
            <a:r>
              <a:rPr b="0" lang="es-ES" sz="2400" spc="-1" strike="noStrike">
                <a:solidFill>
                  <a:srgbClr val="000000"/>
                </a:solidFill>
                <a:latin typeface="Georgia"/>
              </a:rPr>
              <a:t>, denominada Constitución </a:t>
            </a:r>
            <a:r>
              <a:rPr b="1" lang="es-ES" sz="2400" spc="-1" strike="noStrike">
                <a:solidFill>
                  <a:srgbClr val="000000"/>
                </a:solidFill>
                <a:latin typeface="Georgia"/>
              </a:rPr>
              <a:t> Vitalicia</a:t>
            </a:r>
            <a:r>
              <a:rPr b="0" lang="es-ES" sz="2400" spc="-1" strike="noStrike">
                <a:solidFill>
                  <a:srgbClr val="000000"/>
                </a:solidFill>
                <a:latin typeface="Georgia"/>
              </a:rPr>
              <a:t>. Dicha Constitución fue copia de la Constitución del Estado Boliviano, que a la postre fue impuesta por el “libertador” Bolívar, a los colegios electorales, quienes simplemente, obedecieron la consigna. Esta Constitución no logró reconocimiento verdadero, tampoco tuvo real vigencia. Carecía de legitimidad política por razones ideológicas y por falta de sentimiento n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eorgia"/>
              </a:rPr>
              <a:t>Asimismo, no respondía a las necesidades y aspiraciones del Perú. Por ello sus normas fueron efímeras y sus instituciones no se reflejaron en la Constitución histórica del Per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Georgia"/>
              </a:rPr>
              <a:t>Constitución Política de 18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eorgia"/>
              </a:rPr>
              <a:t>Constitución Política de la República Peruana 18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eorgia"/>
              </a:rPr>
              <a:t>(18 de marzo de 1828). Dada por el Congreso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eorgia"/>
              </a:rPr>
              <a:t>Constituyente el día 18 de marzo de 18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eorgia"/>
              </a:rPr>
              <a:t>EL CIUDADANO JOSÉ DE LA MAR</a:t>
            </a:r>
            <a:r>
              <a:rPr b="0" lang="es-ES" sz="24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es-ES" sz="2400" spc="-1" strike="noStrike">
                <a:solidFill>
                  <a:srgbClr val="000000"/>
                </a:solidFill>
                <a:latin typeface="Georgia"/>
              </a:rPr>
              <a:t>Presidente de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eorgia"/>
              </a:rPr>
              <a:t>Repúbl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eorgia"/>
              </a:rPr>
              <a:t>Por cuanto: El Congreso ha dado lo sigui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eorgia"/>
              </a:rPr>
              <a:t>CONSTITUCIÓN POLÍTICA DE LA RE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eorgia"/>
              </a:rPr>
              <a:t>PERUANA</a:t>
            </a:r>
            <a:r>
              <a:rPr b="0" lang="es-ES" sz="2400" spc="-1" strike="noStrike">
                <a:solidFill>
                  <a:srgbClr val="000000"/>
                </a:solidFill>
                <a:latin typeface="Georgi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8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Georgia"/>
              </a:rPr>
              <a:t>Constitución Política del Perú (1834)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eorgia"/>
              </a:rPr>
              <a:t>La convención eligió Presidente Provisional 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eorgia"/>
              </a:rPr>
              <a:t>General Luis José Orbegoso el 20 de diciembr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eorgia"/>
              </a:rPr>
              <a:t>1833 hasta que fuera elegido definitivamente c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eorgia"/>
              </a:rPr>
              <a:t>arreglo a la reforma constitucional. La constitu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eorgia"/>
              </a:rPr>
              <a:t>fue promulgada por Orbegoso el 10 de junio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eorgia"/>
              </a:rPr>
              <a:t>1834. El 11 de agosto la convención clausurab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eorgia"/>
              </a:rPr>
              <a:t>sus sesiones. Estuvo vigente hasta el 22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eorgia"/>
              </a:rPr>
              <a:t>agosto de 1839 fecha en la que fue declar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eorgia"/>
              </a:rPr>
              <a:t>mediante ley insubsistente. En realidad no llego a reg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eorgia"/>
              </a:rPr>
              <a:t>debido a que al año siguiente de su promulg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eorgia"/>
              </a:rPr>
              <a:t>Salaverry implanto la Dictadura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500"/>
                            </p:stCondLst>
                            <p:childTnLst>
                              <p:par>
                                <p:cTn id="17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0"/>
                            </p:stCondLst>
                            <p:childTnLst>
                              <p:par>
                                <p:cTn id="17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500"/>
                            </p:stCondLst>
                            <p:childTnLst>
                              <p:par>
                                <p:cTn id="18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6000"/>
                            </p:stCondLst>
                            <p:childTnLst>
                              <p:par>
                                <p:cTn id="19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7040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Georgia"/>
              </a:rPr>
              <a:t>Constitución del Estado Nor - Peruano  (6 de agosto de 1836)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nstitución del Estado Nor - Peruano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(6 de agosto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1836)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L CIUDADANO LUIS JOSÉ ORBEGOS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r cuanto la Asambl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liberante del Norte ha dado la ley orgánica que sig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Asamblea deliberante del Norte, a nombre de los cua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partamentos de Amazonas, Junín, Libertad y Lim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stalada en la villa de Huaura el día 3 de agosto 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sente a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Georgia"/>
              </a:rPr>
              <a:t>Constitución Política del Perú (1839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STITUCIÓN POLÍTICA DE LA RE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ERU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ada por el Congreso General el día 10 de noviembr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839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 Huancayo el ciudadano AGUSTIN GAMARR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ran Mariscal Restaurador del Perú, Benemérito de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tria en grado heroico y eminente, condecorado con l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dallas del Ejército Libertador, de Junín, de Ayacucho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cash, con la de Restaurador por el Congreso Genera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eneralísimo de las fuerzas de mar y tierra y Presid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visorio de la Repúbl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3000"/>
                            </p:stCondLst>
                            <p:childTnLst>
                              <p:par>
                                <p:cTn id="3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500"/>
                            </p:stCondLst>
                            <p:childTnLst>
                              <p:par>
                                <p:cTn id="3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4000"/>
                            </p:stCondLst>
                            <p:childTnLst>
                              <p:par>
                                <p:cTn id="4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4500"/>
                            </p:stCondLst>
                            <p:childTnLst>
                              <p:par>
                                <p:cTn id="4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0"/>
                            </p:stCondLst>
                            <p:childTnLst>
                              <p:par>
                                <p:cTn id="4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6:49:49Z</dcterms:created>
  <dc:creator>user</dc:creator>
  <dc:description/>
  <dc:language>en-US</dc:language>
  <cp:lastModifiedBy>Maria Fernanda Pezzutti</cp:lastModifiedBy>
  <dcterms:modified xsi:type="dcterms:W3CDTF">2010-10-04T20:51:30Z</dcterms:modified>
  <cp:revision>11</cp:revision>
  <dc:subject/>
  <dc:title>Constitución Política del Perú (1823) </dc:title>
</cp:coreProperties>
</file>