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as del instru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El costo de oportunidad es igual a la mangitud de la pendiente de la frontera de posibilidades de produc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El triángulo rojo nos indica que en el pun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deben ceder 18 millones de toneladas de grano para obtener 2 millones de automóv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Es decir, en el pun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 millones de automóviles cuestan 18 millones de toneladas de gra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De manera equivalente, un automóvil cuesta 9 toneladas de grano o 9 toneladas de grano cuestan 1 automó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as del intru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El costo de oportunidad es igual a la magnitud de la pendiente de la frontera de posibilidades de produc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El triángulo rojo indica que en el pun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’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deben ceder 6 millones de toneladas de grano para obtener 6 millones de automóv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Es decir, en el pun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l costo de oportunidad de 6 millones de autos es 6 millones de toneladas de gra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De manera equivalente, un automóvil cuesta 1 tonelada de grano o 1 tonelada de grano cuesta 1 automó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as del instru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in comercio internacional, el precio de un automóvil es 9 toneladas de grano en Agrolandia (pun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y 1 tonelada de grano en Mobilia (pun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Con libre comercio internacional, el precio de un automóvil se determina en donde la curva de oferta de exportación interseca la curva de demanda de importación: un precio de 3 toneladas de gra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A ese precio, Agrolandia importa y Mobilia exporta 4 millones de automóv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El valor del grano exportado por Agrolandia e importado por Mobilia es 12 millones de toneladas anuales, la cantidad requerida para pagar por los automóviles importa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as del instru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Exporta grano e importa automóviles y consume en el punto 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Los agrícolas tienen más automóviles y grano de lo que tendrían si produjeran todos sus bienes de consumo en el pun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as del instru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Mobilia exporta automóviles e importa grano y consume en el pun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Los mobilianos tienen más automóviles y grano de lo que tendrían si produjeran todos sus bienes de consumo en el pun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as del instru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La Ley  Smoot-Hawley, aprobada en 1930, llevó los aranceles de Estados Unidos a una tasa media que llegó a un máximo de 20% en 1933. (Una tercera parte de las importaciones estaba sujeta a una tasa arancelaria de 60%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Desde la creación del GATT en 1947, los aranceles han disminuido persistentemente en una serie de rondas de negociación, la más importante de las cuales se indican en esta figu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Los aranceles actuales son los más bajos de la hi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as del instru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plaza la curva de oferta de automóviles a la izquierda en Agroland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La distancia vertical entre la curva de oferta inicial y la nueva es el monto del arancel, $4,000  por automó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El precio de los automóviles en Agrolandia aumenta y la cantidad de automóviles importados disminu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El gobierno de Agrolandia obtiene una recaudación por el arancel de $4,000 por automóvil; un total de $8 mil millones por los 2 millones de automóviles import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Las exportaciones de grano de Agrolandia disminuyen porque Mobilia tiene ahora un ingreso más bajo por sus exportaciones de automóv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as del instru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Esa cantidad aparece como la línea vertical rotulada como “Cuota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Debido a que la cantidad de automóviles ofrecida por Mobilia está restringida a 2 millones, el precio al que se comerciarán esos automóviles aumenta a $6,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La importación de automóviles es rentable porque Mobilia está dispuesta a ofrecer automóviles a $2,000 cada u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Hay una competencia por las cuotas de impor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1120" y="204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7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"/>
          <p:cNvPicPr/>
          <p:nvPr/>
        </p:nvPicPr>
        <p:blipFill>
          <a:blip r:embed="rId2"/>
          <a:stretch/>
        </p:blipFill>
        <p:spPr>
          <a:xfrm>
            <a:off x="6997680" y="237960"/>
            <a:ext cx="1905120" cy="19623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 flipH="1">
            <a:off x="147240" y="228600"/>
            <a:ext cx="873612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5"/>
          <p:cNvSpPr/>
          <p:nvPr/>
        </p:nvSpPr>
        <p:spPr>
          <a:xfrm flipH="1">
            <a:off x="124920" y="6593040"/>
            <a:ext cx="886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06440" y="6595920"/>
            <a:ext cx="1685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positiva 19-</a:t>
            </a:r>
            <a:fld id="{5D52C503-E494-472E-8404-B2E3178BCE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30240" y="6618240"/>
            <a:ext cx="1890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1998 Pearson Educación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2713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2713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2713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7840" indent="-166680">
              <a:spcBef>
                <a:spcPts val="2713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1560" indent="-166680">
              <a:spcBef>
                <a:spcPts val="2713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01560" indent="-166680">
              <a:spcBef>
                <a:spcPts val="2713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01560" indent="-166680">
              <a:spcBef>
                <a:spcPts val="2713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419040" y="1752480"/>
            <a:ext cx="8128080" cy="343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El comercio en el mundo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1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trones y tendencias del comerci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3720" y="1709280"/>
            <a:ext cx="77724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ndencias del volumen de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1960 Estados Unidos exportó menos del 5% de su producción total e importó 4.5% de los bienes y servicios consumidos intern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de 1960 la composición de las importaciones ha cambiado drástic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n bajado las importaciones de alimentos y materias pr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quinaría comprende cerca del 50% de las importaciones to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1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trones y tendencias del comerci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0324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lanza comercial y endeudamient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s-ES_tradnl" sz="2800" spc="-1" strike="noStrike">
                <a:solidFill>
                  <a:srgbClr val="fc0128"/>
                </a:solidFill>
                <a:latin typeface="Times New Roman"/>
              </a:rPr>
              <a:t>balanza comercia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el valor de las exportaciones menos el valor de las im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1998 Estados Unidos tuvo un déficit de $170 mil millones de dó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que pedir prestado al exterior o vender algunos de sus 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 de aprendiz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254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19191"/>
                </a:solidFill>
                <a:latin typeface="Times New Roman"/>
              </a:rPr>
              <a:t>Describir los patrones del comerci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la ventaja comparativa y explicar por qué todos los países pueden ganar con el comerci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19191"/>
                </a:solidFill>
                <a:latin typeface="Times New Roman"/>
              </a:rPr>
              <a:t>Explicar cómo las economías de escala y diversidad de gustos conducen a ganancias de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1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sto de oportunidad y ventaja compa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país tiene una </a:t>
            </a: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ventaja comparativ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producción de un bien si puede producir ese bien a un costo de oportunidad más bajo que cualquier otro paí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uerde el ejemplo de Tomás y Tina en el  capítulo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1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sto de oportunidad y ventaja compa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países pueden aumentar el consumo de todos los bienes si orientan sus recursos escasos hacia la producción de los bienes y servicios en los que tienen ventaja compar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Veamos  el caso de Agrolandia y Mob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9"/>
          <p:cNvSpPr/>
          <p:nvPr/>
        </p:nvSpPr>
        <p:spPr>
          <a:xfrm>
            <a:off x="2521080" y="1897200"/>
            <a:ext cx="2901960" cy="3894120"/>
          </a:xfrm>
          <a:prstGeom prst="pie">
            <a:avLst/>
          </a:pr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4"/>
          <p:cNvSpPr/>
          <p:nvPr/>
        </p:nvSpPr>
        <p:spPr>
          <a:xfrm>
            <a:off x="5340240" y="579132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"/>
          <p:cNvSpPr/>
          <p:nvPr/>
        </p:nvSpPr>
        <p:spPr>
          <a:xfrm>
            <a:off x="2536920" y="5110200"/>
            <a:ext cx="28670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578480" y="5338800"/>
            <a:ext cx="838080" cy="380880"/>
          </a:xfrm>
          <a:prstGeom prst="rightArrow">
            <a:avLst>
              <a:gd name="adj1" fmla="val 50000"/>
              <a:gd name="adj2" fmla="val 5505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>
            <a:off x="4197240" y="3205080"/>
            <a:ext cx="459000" cy="190656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112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sto de oportunidad en Agrola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435480" y="6012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2521080" y="1508040"/>
            <a:ext cx="0" cy="426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5403960" y="6246720"/>
            <a:ext cx="3115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óviles (millones por añ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5"/>
          <p:cNvSpPr/>
          <p:nvPr/>
        </p:nvSpPr>
        <p:spPr>
          <a:xfrm rot="16200000">
            <a:off x="-118080" y="3005640"/>
            <a:ext cx="370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no (millones de toneladas por añ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2209680" y="4951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2057040" y="298440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3557520" y="575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2287440" y="575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4802040" y="575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6097320" y="575640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2057040" y="23288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2057040" y="16747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2057040" y="39607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4421160" y="575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5259240" y="575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7"/>
          <p:cNvSpPr/>
          <p:nvPr/>
        </p:nvSpPr>
        <p:spPr>
          <a:xfrm>
            <a:off x="2536920" y="4195800"/>
            <a:ext cx="233352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8"/>
          <p:cNvSpPr/>
          <p:nvPr/>
        </p:nvSpPr>
        <p:spPr>
          <a:xfrm flipV="1">
            <a:off x="4959360" y="4120920"/>
            <a:ext cx="0" cy="167004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29"/>
          <p:cNvSpPr/>
          <p:nvPr/>
        </p:nvSpPr>
        <p:spPr>
          <a:xfrm>
            <a:off x="4883040" y="4119480"/>
            <a:ext cx="152640" cy="152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2536920" y="3205080"/>
            <a:ext cx="20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1"/>
          <p:cNvSpPr/>
          <p:nvPr/>
        </p:nvSpPr>
        <p:spPr>
          <a:xfrm flipV="1">
            <a:off x="4578480" y="3206520"/>
            <a:ext cx="0" cy="2587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2"/>
          <p:cNvSpPr/>
          <p:nvPr/>
        </p:nvSpPr>
        <p:spPr>
          <a:xfrm flipV="1">
            <a:off x="5416560" y="5111640"/>
            <a:ext cx="0" cy="68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45"/>
          <p:cNvGrpSpPr/>
          <p:nvPr/>
        </p:nvGrpSpPr>
        <p:grpSpPr>
          <a:xfrm>
            <a:off x="2756520" y="3232080"/>
            <a:ext cx="1678680" cy="947520"/>
            <a:chOff x="2756520" y="3232080"/>
            <a:chExt cx="1678680" cy="947520"/>
          </a:xfrm>
        </p:grpSpPr>
        <p:sp>
          <p:nvSpPr>
            <p:cNvPr id="117" name="Line 6"/>
            <p:cNvSpPr/>
            <p:nvPr/>
          </p:nvSpPr>
          <p:spPr>
            <a:xfrm flipH="1" flipV="1">
              <a:off x="4038120" y="3681000"/>
              <a:ext cx="397080" cy="49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>
              <a:off x="2756520" y="3232080"/>
              <a:ext cx="1373040" cy="911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  millones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 tonelada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 gran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Rectangle 34"/>
          <p:cNvSpPr/>
          <p:nvPr/>
        </p:nvSpPr>
        <p:spPr>
          <a:xfrm>
            <a:off x="5091120" y="3927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5"/>
          <p:cNvSpPr/>
          <p:nvPr/>
        </p:nvSpPr>
        <p:spPr>
          <a:xfrm>
            <a:off x="5543280" y="5222880"/>
            <a:ext cx="212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P de Agrolandi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9"/>
          <p:cNvGrpSpPr/>
          <p:nvPr/>
        </p:nvGrpSpPr>
        <p:grpSpPr>
          <a:xfrm>
            <a:off x="5038200" y="2597040"/>
            <a:ext cx="2940120" cy="1592280"/>
            <a:chOff x="5038200" y="2597040"/>
            <a:chExt cx="2940120" cy="1592280"/>
          </a:xfrm>
        </p:grpSpPr>
        <p:sp>
          <p:nvSpPr>
            <p:cNvPr id="122" name="Line 4"/>
            <p:cNvSpPr/>
            <p:nvPr/>
          </p:nvSpPr>
          <p:spPr>
            <a:xfrm flipH="1">
              <a:off x="5038200" y="3519360"/>
              <a:ext cx="91116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5495760" y="2597040"/>
              <a:ext cx="2482560" cy="911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 costo de oportunida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 1 automóvil es igual 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 toneladas de gran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AutoShape 37"/>
          <p:cNvSpPr/>
          <p:nvPr/>
        </p:nvSpPr>
        <p:spPr>
          <a:xfrm>
            <a:off x="4576680" y="3203640"/>
            <a:ext cx="841320" cy="1908000"/>
          </a:xfrm>
          <a:prstGeom prst="rtTriangl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43"/>
          <p:cNvGrpSpPr/>
          <p:nvPr/>
        </p:nvGrpSpPr>
        <p:grpSpPr>
          <a:xfrm>
            <a:off x="2597040" y="5029200"/>
            <a:ext cx="2209680" cy="637560"/>
            <a:chOff x="2597040" y="5029200"/>
            <a:chExt cx="2209680" cy="637560"/>
          </a:xfrm>
        </p:grpSpPr>
        <p:sp>
          <p:nvSpPr>
            <p:cNvPr id="126" name="Line 5"/>
            <p:cNvSpPr/>
            <p:nvPr/>
          </p:nvSpPr>
          <p:spPr>
            <a:xfrm>
              <a:off x="3942000" y="5254560"/>
              <a:ext cx="86472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"/>
            <p:cNvSpPr/>
            <p:nvPr/>
          </p:nvSpPr>
          <p:spPr>
            <a:xfrm>
              <a:off x="2597040" y="5029200"/>
              <a:ext cx="1441080" cy="63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 millones de automóvile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Line 13"/>
          <p:cNvSpPr/>
          <p:nvPr/>
        </p:nvSpPr>
        <p:spPr>
          <a:xfrm>
            <a:off x="2521080" y="5783400"/>
            <a:ext cx="42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3"/>
          <p:cNvSpPr/>
          <p:nvPr/>
        </p:nvSpPr>
        <p:spPr>
          <a:xfrm flipH="1" rot="16200000">
            <a:off x="2190960" y="2823840"/>
            <a:ext cx="990720" cy="381240"/>
          </a:xfrm>
          <a:prstGeom prst="rightArrow">
            <a:avLst>
              <a:gd name="adj1" fmla="val 50000"/>
              <a:gd name="adj2" fmla="val 65015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030480" y="3586320"/>
            <a:ext cx="1828800" cy="380880"/>
          </a:xfrm>
          <a:prstGeom prst="rightArrow">
            <a:avLst>
              <a:gd name="adj1" fmla="val 50000"/>
              <a:gd name="adj2" fmla="val 10012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1120" y="246240"/>
            <a:ext cx="7772400" cy="97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sto de oportunidad en Mobi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335400" y="6012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2421000" y="1527120"/>
            <a:ext cx="0" cy="426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4492440" y="6172200"/>
            <a:ext cx="3115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óviles (millones por añ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 rot="16200000">
            <a:off x="-236880" y="3539160"/>
            <a:ext cx="370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no (millones de toneladas por añ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109960" y="4724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1957320" y="26654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457440" y="575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187720" y="575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4727520" y="575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5997240" y="575640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1957320" y="369396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2873520" y="575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1957320" y="327492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1957320" y="228456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1"/>
          <p:cNvSpPr/>
          <p:nvPr/>
        </p:nvSpPr>
        <p:spPr>
          <a:xfrm flipV="1">
            <a:off x="3030480" y="2521080"/>
            <a:ext cx="0" cy="327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2"/>
          <p:cNvSpPr/>
          <p:nvPr/>
        </p:nvSpPr>
        <p:spPr>
          <a:xfrm>
            <a:off x="2436840" y="2519280"/>
            <a:ext cx="5810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3"/>
          <p:cNvSpPr/>
          <p:nvPr/>
        </p:nvSpPr>
        <p:spPr>
          <a:xfrm>
            <a:off x="2436840" y="2900520"/>
            <a:ext cx="111456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4"/>
          <p:cNvSpPr/>
          <p:nvPr/>
        </p:nvSpPr>
        <p:spPr>
          <a:xfrm flipV="1">
            <a:off x="3639960" y="2901960"/>
            <a:ext cx="0" cy="289224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2436840" y="3510000"/>
            <a:ext cx="24098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6"/>
          <p:cNvSpPr/>
          <p:nvPr/>
        </p:nvSpPr>
        <p:spPr>
          <a:xfrm flipV="1">
            <a:off x="4859280" y="3511080"/>
            <a:ext cx="0" cy="2282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7"/>
          <p:cNvSpPr/>
          <p:nvPr/>
        </p:nvSpPr>
        <p:spPr>
          <a:xfrm>
            <a:off x="3029040" y="2517840"/>
            <a:ext cx="1832040" cy="993600"/>
          </a:xfrm>
          <a:prstGeom prst="rtTriangl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28"/>
          <p:cNvSpPr/>
          <p:nvPr/>
        </p:nvSpPr>
        <p:spPr>
          <a:xfrm>
            <a:off x="2422440" y="2660760"/>
            <a:ext cx="3125880" cy="3130560"/>
          </a:xfrm>
          <a:prstGeom prst="pie">
            <a:avLst/>
          </a:pr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29"/>
          <p:cNvSpPr/>
          <p:nvPr/>
        </p:nvSpPr>
        <p:spPr>
          <a:xfrm>
            <a:off x="3564000" y="2824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5236920" y="4191120"/>
            <a:ext cx="1780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P de Mobili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3782160" y="3809520"/>
            <a:ext cx="1417320" cy="983880"/>
            <a:chOff x="3782160" y="3809520"/>
            <a:chExt cx="1417320" cy="983880"/>
          </a:xfrm>
        </p:grpSpPr>
        <p:sp>
          <p:nvSpPr>
            <p:cNvPr id="158" name="Line 2"/>
            <p:cNvSpPr/>
            <p:nvPr/>
          </p:nvSpPr>
          <p:spPr>
            <a:xfrm flipH="1" flipV="1">
              <a:off x="4022640" y="3809520"/>
              <a:ext cx="225360" cy="37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1"/>
            <p:cNvSpPr/>
            <p:nvPr/>
          </p:nvSpPr>
          <p:spPr>
            <a:xfrm>
              <a:off x="3782160" y="4155840"/>
              <a:ext cx="1417320" cy="63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 millones d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utomóvile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34"/>
          <p:cNvSpPr/>
          <p:nvPr/>
        </p:nvSpPr>
        <p:spPr>
          <a:xfrm>
            <a:off x="3710880" y="236232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'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3642840" y="2063880"/>
            <a:ext cx="4088520" cy="911880"/>
            <a:chOff x="3642840" y="2063880"/>
            <a:chExt cx="4088520" cy="911880"/>
          </a:xfrm>
        </p:grpSpPr>
        <p:sp>
          <p:nvSpPr>
            <p:cNvPr id="162" name="Rectangle 35"/>
            <p:cNvSpPr/>
            <p:nvPr/>
          </p:nvSpPr>
          <p:spPr>
            <a:xfrm>
              <a:off x="5091840" y="2063880"/>
              <a:ext cx="2639520" cy="911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l costo de oportunidad d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automóvil es igual a un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nelada de gran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 flipH="1">
              <a:off x="3642840" y="2376360"/>
              <a:ext cx="144468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41"/>
          <p:cNvGrpSpPr/>
          <p:nvPr/>
        </p:nvGrpSpPr>
        <p:grpSpPr>
          <a:xfrm>
            <a:off x="2728440" y="1444680"/>
            <a:ext cx="1382040" cy="1372680"/>
            <a:chOff x="2728440" y="1444680"/>
            <a:chExt cx="1382040" cy="1372680"/>
          </a:xfrm>
        </p:grpSpPr>
        <p:sp>
          <p:nvSpPr>
            <p:cNvPr id="165" name="Line 33"/>
            <p:cNvSpPr/>
            <p:nvPr/>
          </p:nvSpPr>
          <p:spPr>
            <a:xfrm flipH="1">
              <a:off x="2728440" y="2144520"/>
              <a:ext cx="30132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2731320" y="1444680"/>
              <a:ext cx="1379160" cy="8287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 millon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 toneladas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 gran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Line 8"/>
          <p:cNvSpPr/>
          <p:nvPr/>
        </p:nvSpPr>
        <p:spPr>
          <a:xfrm>
            <a:off x="2421000" y="5791320"/>
            <a:ext cx="42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1120" y="3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sto de oportunidad y ventaja compa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bilia tiene ventaja comparativa en la producción de automóv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grolandia tiene ventaja comparativa en la producción de gr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anancias del comer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amos cómo los dos grupos hacen negocios entre s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37"/>
          <p:cNvGrpSpPr/>
          <p:nvPr/>
        </p:nvGrpSpPr>
        <p:grpSpPr>
          <a:xfrm>
            <a:off x="2562120" y="2149560"/>
            <a:ext cx="6016320" cy="3690000"/>
            <a:chOff x="2562120" y="2149560"/>
            <a:chExt cx="6016320" cy="3690000"/>
          </a:xfrm>
        </p:grpSpPr>
        <p:sp>
          <p:nvSpPr>
            <p:cNvPr id="176" name="Line 17"/>
            <p:cNvSpPr/>
            <p:nvPr/>
          </p:nvSpPr>
          <p:spPr>
            <a:xfrm>
              <a:off x="2562120" y="2149560"/>
              <a:ext cx="2765160" cy="35272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5556240" y="5202000"/>
              <a:ext cx="3022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manda de importaciones de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utomóviles de Agrolandi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38"/>
          <p:cNvGrpSpPr/>
          <p:nvPr/>
        </p:nvGrpSpPr>
        <p:grpSpPr>
          <a:xfrm>
            <a:off x="2560680" y="3816360"/>
            <a:ext cx="6103080" cy="1655640"/>
            <a:chOff x="2560680" y="3816360"/>
            <a:chExt cx="6103080" cy="1655640"/>
          </a:xfrm>
        </p:grpSpPr>
        <p:sp>
          <p:nvSpPr>
            <p:cNvPr id="179" name="Line 2"/>
            <p:cNvSpPr/>
            <p:nvPr/>
          </p:nvSpPr>
          <p:spPr>
            <a:xfrm flipV="1">
              <a:off x="2560680" y="4332240"/>
              <a:ext cx="3375000" cy="11397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1"/>
            <p:cNvSpPr/>
            <p:nvPr/>
          </p:nvSpPr>
          <p:spPr>
            <a:xfrm>
              <a:off x="6030360" y="3816360"/>
              <a:ext cx="2633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ferta de exportacione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 automóviles de Mobili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1120" y="21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ercio internacional de automóv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44808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2533680" y="1666800"/>
            <a:ext cx="0" cy="426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2152800" y="3270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152800" y="1962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224080" y="5891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367080" y="590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5500800" y="5905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2152800" y="5315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433760" y="5934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4591080" y="4789440"/>
            <a:ext cx="0" cy="113976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152800" y="4483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42"/>
          <p:cNvGrpSpPr/>
          <p:nvPr/>
        </p:nvGrpSpPr>
        <p:grpSpPr>
          <a:xfrm>
            <a:off x="2549520" y="4711680"/>
            <a:ext cx="2117880" cy="152280"/>
            <a:chOff x="2549520" y="4711680"/>
            <a:chExt cx="2117880" cy="152280"/>
          </a:xfrm>
        </p:grpSpPr>
        <p:sp>
          <p:nvSpPr>
            <p:cNvPr id="194" name="Line 15"/>
            <p:cNvSpPr/>
            <p:nvPr/>
          </p:nvSpPr>
          <p:spPr>
            <a:xfrm>
              <a:off x="2549520" y="4787640"/>
              <a:ext cx="202896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4515120" y="47116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39"/>
          <p:cNvGrpSpPr/>
          <p:nvPr/>
        </p:nvGrpSpPr>
        <p:grpSpPr>
          <a:xfrm>
            <a:off x="2457360" y="1360440"/>
            <a:ext cx="2642040" cy="836640"/>
            <a:chOff x="2457360" y="1360440"/>
            <a:chExt cx="2642040" cy="836640"/>
          </a:xfrm>
        </p:grpSpPr>
        <p:grpSp>
          <p:nvGrpSpPr>
            <p:cNvPr id="197" name="Group 32"/>
            <p:cNvGrpSpPr/>
            <p:nvPr/>
          </p:nvGrpSpPr>
          <p:grpSpPr>
            <a:xfrm>
              <a:off x="2612520" y="1360440"/>
              <a:ext cx="2486880" cy="753840"/>
              <a:chOff x="2612520" y="1360440"/>
              <a:chExt cx="2486880" cy="753840"/>
            </a:xfrm>
          </p:grpSpPr>
          <p:sp>
            <p:nvSpPr>
              <p:cNvPr id="198" name="Rectangle 22"/>
              <p:cNvSpPr/>
              <p:nvPr/>
            </p:nvSpPr>
            <p:spPr>
              <a:xfrm>
                <a:off x="3148560" y="1360440"/>
                <a:ext cx="1950840" cy="637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unto sin comercio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 Agrolandia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23"/>
              <p:cNvSpPr/>
              <p:nvPr/>
            </p:nvSpPr>
            <p:spPr>
              <a:xfrm flipH="1">
                <a:off x="2612520" y="1825560"/>
                <a:ext cx="53028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31"/>
            <p:cNvGrpSpPr/>
            <p:nvPr/>
          </p:nvGrpSpPr>
          <p:grpSpPr>
            <a:xfrm>
              <a:off x="2457360" y="1623960"/>
              <a:ext cx="389160" cy="573120"/>
              <a:chOff x="2457360" y="1623960"/>
              <a:chExt cx="389160" cy="573120"/>
            </a:xfrm>
          </p:grpSpPr>
          <p:sp>
            <p:nvSpPr>
              <p:cNvPr id="201" name="Oval 19"/>
              <p:cNvSpPr/>
              <p:nvPr/>
            </p:nvSpPr>
            <p:spPr>
              <a:xfrm>
                <a:off x="2457360" y="204444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2512800" y="16239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Rectangle 26"/>
          <p:cNvSpPr/>
          <p:nvPr/>
        </p:nvSpPr>
        <p:spPr>
          <a:xfrm>
            <a:off x="3418560" y="6199200"/>
            <a:ext cx="421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tidad (millones de automóviles por añ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7"/>
          <p:cNvSpPr/>
          <p:nvPr/>
        </p:nvSpPr>
        <p:spPr>
          <a:xfrm rot="16200000">
            <a:off x="178560" y="3734640"/>
            <a:ext cx="339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o (toneladas de gran por aut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40"/>
          <p:cNvGrpSpPr/>
          <p:nvPr/>
        </p:nvGrpSpPr>
        <p:grpSpPr>
          <a:xfrm>
            <a:off x="2457360" y="4102200"/>
            <a:ext cx="2108520" cy="1719360"/>
            <a:chOff x="2457360" y="4102200"/>
            <a:chExt cx="2108520" cy="1719360"/>
          </a:xfrm>
        </p:grpSpPr>
        <p:grpSp>
          <p:nvGrpSpPr>
            <p:cNvPr id="206" name="Group 34"/>
            <p:cNvGrpSpPr/>
            <p:nvPr/>
          </p:nvGrpSpPr>
          <p:grpSpPr>
            <a:xfrm>
              <a:off x="2536200" y="4102200"/>
              <a:ext cx="2029680" cy="1339200"/>
              <a:chOff x="2536200" y="4102200"/>
              <a:chExt cx="2029680" cy="1339200"/>
            </a:xfrm>
          </p:grpSpPr>
          <p:sp>
            <p:nvSpPr>
              <p:cNvPr id="207" name="Rectangle 28"/>
              <p:cNvSpPr/>
              <p:nvPr/>
            </p:nvSpPr>
            <p:spPr>
              <a:xfrm>
                <a:off x="2615040" y="4102200"/>
                <a:ext cx="1950840" cy="637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unto sin comercio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 Mobilia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9"/>
              <p:cNvSpPr/>
              <p:nvPr/>
            </p:nvSpPr>
            <p:spPr>
              <a:xfrm flipH="1">
                <a:off x="2536200" y="4695480"/>
                <a:ext cx="606600" cy="74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3"/>
            <p:cNvGrpSpPr/>
            <p:nvPr/>
          </p:nvGrpSpPr>
          <p:grpSpPr>
            <a:xfrm>
              <a:off x="2457360" y="5366880"/>
              <a:ext cx="489600" cy="454680"/>
              <a:chOff x="2457360" y="5366880"/>
              <a:chExt cx="489600" cy="454680"/>
            </a:xfrm>
          </p:grpSpPr>
          <p:sp>
            <p:nvSpPr>
              <p:cNvPr id="210" name="Rectangle 25"/>
              <p:cNvSpPr/>
              <p:nvPr/>
            </p:nvSpPr>
            <p:spPr>
              <a:xfrm>
                <a:off x="2527920" y="5366880"/>
                <a:ext cx="41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'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Oval 30"/>
              <p:cNvSpPr/>
              <p:nvPr/>
            </p:nvSpPr>
            <p:spPr>
              <a:xfrm>
                <a:off x="2457360" y="53715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Line 6"/>
          <p:cNvSpPr/>
          <p:nvPr/>
        </p:nvSpPr>
        <p:spPr>
          <a:xfrm>
            <a:off x="2533680" y="5931000"/>
            <a:ext cx="42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3517"/>
          <p:cNvPicPr/>
          <p:nvPr/>
        </p:nvPicPr>
        <p:blipFill>
          <a:blip r:embed="rId1"/>
          <a:stretch/>
        </p:blipFill>
        <p:spPr>
          <a:xfrm>
            <a:off x="380880" y="457200"/>
            <a:ext cx="2590920" cy="2273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2005"/>
          <p:cNvPicPr/>
          <p:nvPr/>
        </p:nvPicPr>
        <p:blipFill>
          <a:blip r:embed="rId2"/>
          <a:stretch/>
        </p:blipFill>
        <p:spPr>
          <a:xfrm>
            <a:off x="3124080" y="838080"/>
            <a:ext cx="2819520" cy="365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0" y="4578120"/>
            <a:ext cx="92962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"/>
                <a:ea typeface="Calibri"/>
              </a:rPr>
              <a:t>Ing. +LIC. Yunior Andrés Castillo 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yuniorandrescastillo.galeon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yuniorcastillo@yahoo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elular: 1-829-725-857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113517"/>
          <p:cNvPicPr/>
          <p:nvPr/>
        </p:nvPicPr>
        <p:blipFill>
          <a:blip r:embed="rId3"/>
          <a:stretch/>
        </p:blipFill>
        <p:spPr>
          <a:xfrm>
            <a:off x="6095880" y="457200"/>
            <a:ext cx="2590920" cy="227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anancias del comer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ercio equilib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rolandia paga por sus automóviles exportando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exportar 12 millones de toneladas de grano por 4 millones de automóv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bilia exporta 4 millones de automóviles por 12 millones de toneladas de g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omercio está equilib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anancias del comer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s en la producción y el 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es posible que todo el mundo ga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comercio internacional una economía tiene la posibilidad de consumir bienes diferentes a los que produ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2225520" y="2130480"/>
            <a:ext cx="3476880" cy="3857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"/>
          <p:cNvSpPr/>
          <p:nvPr/>
        </p:nvSpPr>
        <p:spPr>
          <a:xfrm flipV="1">
            <a:off x="4343400" y="4478400"/>
            <a:ext cx="0" cy="152064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4"/>
          <p:cNvSpPr/>
          <p:nvPr/>
        </p:nvSpPr>
        <p:spPr>
          <a:xfrm>
            <a:off x="2211480" y="2881440"/>
            <a:ext cx="2135160" cy="3122640"/>
          </a:xfrm>
          <a:prstGeom prst="pie">
            <a:avLst/>
          </a:prstGeom>
          <a:noFill/>
          <a:ln cap="rnd"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1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xpansión de las posibilidades de con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124080" y="6216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7"/>
          <p:cNvSpPr/>
          <p:nvPr/>
        </p:nvSpPr>
        <p:spPr>
          <a:xfrm flipH="1">
            <a:off x="2209320" y="1598760"/>
            <a:ext cx="9720" cy="440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483080" y="6257880"/>
            <a:ext cx="3115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óviles (millones por añ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0"/>
          <p:cNvSpPr/>
          <p:nvPr/>
        </p:nvSpPr>
        <p:spPr>
          <a:xfrm rot="16200000">
            <a:off x="-446760" y="3061440"/>
            <a:ext cx="370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no (millones de toneladas por añ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1897200" y="541008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2938680" y="601020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895760" y="601020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4505400" y="6014880"/>
            <a:ext cx="2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5785200" y="601020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1745280" y="323856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1745280" y="267012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1745280" y="431496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3880080" y="601020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4717080" y="601020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1"/>
          <p:cNvSpPr/>
          <p:nvPr/>
        </p:nvSpPr>
        <p:spPr>
          <a:xfrm>
            <a:off x="2225520" y="3409920"/>
            <a:ext cx="111456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1745280" y="486252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1745280" y="376704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4"/>
          <p:cNvSpPr/>
          <p:nvPr/>
        </p:nvSpPr>
        <p:spPr>
          <a:xfrm>
            <a:off x="1745280" y="157464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4184640" y="601020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6"/>
          <p:cNvSpPr/>
          <p:nvPr/>
        </p:nvSpPr>
        <p:spPr>
          <a:xfrm flipV="1">
            <a:off x="3352680" y="3411360"/>
            <a:ext cx="0" cy="258768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3194280" y="601020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8"/>
          <p:cNvSpPr/>
          <p:nvPr/>
        </p:nvSpPr>
        <p:spPr>
          <a:xfrm>
            <a:off x="5480640" y="601020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9"/>
          <p:cNvSpPr/>
          <p:nvPr/>
        </p:nvSpPr>
        <p:spPr>
          <a:xfrm>
            <a:off x="2225520" y="4476600"/>
            <a:ext cx="21052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1745280" y="187956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31"/>
          <p:cNvGrpSpPr/>
          <p:nvPr/>
        </p:nvGrpSpPr>
        <p:grpSpPr>
          <a:xfrm>
            <a:off x="4267080" y="4014720"/>
            <a:ext cx="2419920" cy="1253520"/>
            <a:chOff x="4267080" y="4014720"/>
            <a:chExt cx="2419920" cy="1253520"/>
          </a:xfrm>
        </p:grpSpPr>
        <p:sp>
          <p:nvSpPr>
            <p:cNvPr id="249" name="Line 32"/>
            <p:cNvSpPr/>
            <p:nvPr/>
          </p:nvSpPr>
          <p:spPr>
            <a:xfrm flipH="1" flipV="1">
              <a:off x="4420800" y="4478040"/>
              <a:ext cx="91116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33"/>
            <p:cNvSpPr/>
            <p:nvPr/>
          </p:nvSpPr>
          <p:spPr>
            <a:xfrm>
              <a:off x="4267080" y="44002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34"/>
            <p:cNvSpPr/>
            <p:nvPr/>
          </p:nvSpPr>
          <p:spPr>
            <a:xfrm>
              <a:off x="4338000" y="4014720"/>
              <a:ext cx="31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35"/>
            <p:cNvSpPr/>
            <p:nvPr/>
          </p:nvSpPr>
          <p:spPr>
            <a:xfrm>
              <a:off x="5263560" y="4630680"/>
              <a:ext cx="1423440" cy="63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um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 comerci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53"/>
          <p:cNvGrpSpPr/>
          <p:nvPr/>
        </p:nvGrpSpPr>
        <p:grpSpPr>
          <a:xfrm>
            <a:off x="1910160" y="4248000"/>
            <a:ext cx="2207880" cy="911880"/>
            <a:chOff x="1910160" y="4248000"/>
            <a:chExt cx="2207880" cy="911880"/>
          </a:xfrm>
        </p:grpSpPr>
        <p:sp>
          <p:nvSpPr>
            <p:cNvPr id="254" name="Line 37"/>
            <p:cNvSpPr/>
            <p:nvPr/>
          </p:nvSpPr>
          <p:spPr>
            <a:xfrm flipV="1">
              <a:off x="3124080" y="4775040"/>
              <a:ext cx="99396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43"/>
            <p:cNvSpPr/>
            <p:nvPr/>
          </p:nvSpPr>
          <p:spPr>
            <a:xfrm>
              <a:off x="1910160" y="4248000"/>
              <a:ext cx="1396080" cy="911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ción 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umo s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erci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44"/>
          <p:cNvGrpSpPr/>
          <p:nvPr/>
        </p:nvGrpSpPr>
        <p:grpSpPr>
          <a:xfrm>
            <a:off x="2901960" y="1887480"/>
            <a:ext cx="1612440" cy="2048400"/>
            <a:chOff x="2901960" y="1887480"/>
            <a:chExt cx="1612440" cy="2048400"/>
          </a:xfrm>
        </p:grpSpPr>
        <p:sp>
          <p:nvSpPr>
            <p:cNvPr id="257" name="Line 45"/>
            <p:cNvSpPr/>
            <p:nvPr/>
          </p:nvSpPr>
          <p:spPr>
            <a:xfrm flipH="1">
              <a:off x="3355920" y="2504880"/>
              <a:ext cx="301680" cy="89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46"/>
            <p:cNvSpPr/>
            <p:nvPr/>
          </p:nvSpPr>
          <p:spPr>
            <a:xfrm>
              <a:off x="3276720" y="33336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47"/>
            <p:cNvSpPr/>
            <p:nvPr/>
          </p:nvSpPr>
          <p:spPr>
            <a:xfrm>
              <a:off x="3043080" y="34812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48"/>
            <p:cNvSpPr/>
            <p:nvPr/>
          </p:nvSpPr>
          <p:spPr>
            <a:xfrm>
              <a:off x="2901960" y="1887480"/>
              <a:ext cx="1612440" cy="63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ción co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erci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49"/>
          <p:cNvSpPr/>
          <p:nvPr/>
        </p:nvSpPr>
        <p:spPr>
          <a:xfrm>
            <a:off x="5864040" y="2019240"/>
            <a:ext cx="1554480" cy="454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oland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50"/>
          <p:cNvGrpSpPr/>
          <p:nvPr/>
        </p:nvGrpSpPr>
        <p:grpSpPr>
          <a:xfrm>
            <a:off x="3597120" y="3273480"/>
            <a:ext cx="885960" cy="2562120"/>
            <a:chOff x="3597120" y="3273480"/>
            <a:chExt cx="885960" cy="2562120"/>
          </a:xfrm>
        </p:grpSpPr>
        <p:sp>
          <p:nvSpPr>
            <p:cNvPr id="263" name="Rectangle 40"/>
            <p:cNvSpPr/>
            <p:nvPr/>
          </p:nvSpPr>
          <p:spPr>
            <a:xfrm>
              <a:off x="3728880" y="44719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3597120" y="3273480"/>
              <a:ext cx="885960" cy="25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42"/>
            <p:cNvSpPr/>
            <p:nvPr/>
          </p:nvSpPr>
          <p:spPr>
            <a:xfrm>
              <a:off x="4038480" y="4705200"/>
              <a:ext cx="152640" cy="151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Line 8"/>
          <p:cNvSpPr/>
          <p:nvPr/>
        </p:nvSpPr>
        <p:spPr>
          <a:xfrm>
            <a:off x="2209680" y="6000840"/>
            <a:ext cx="427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2"/>
          <p:cNvSpPr/>
          <p:nvPr/>
        </p:nvSpPr>
        <p:spPr>
          <a:xfrm>
            <a:off x="2432160" y="4340160"/>
            <a:ext cx="2365200" cy="1600200"/>
          </a:xfrm>
          <a:prstGeom prst="pie">
            <a:avLst/>
          </a:prstGeom>
          <a:noFill/>
          <a:ln cap="rnd"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"/>
          <p:cNvSpPr/>
          <p:nvPr/>
        </p:nvSpPr>
        <p:spPr>
          <a:xfrm flipV="1">
            <a:off x="4565520" y="5253120"/>
            <a:ext cx="0" cy="68256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112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xpansión de las posibilidades de con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346560" y="6153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432160" y="1670040"/>
            <a:ext cx="0" cy="426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432160" y="5924520"/>
            <a:ext cx="42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4483080" y="6227640"/>
            <a:ext cx="3115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óviles (millones por añ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9"/>
          <p:cNvSpPr/>
          <p:nvPr/>
        </p:nvSpPr>
        <p:spPr>
          <a:xfrm rot="16200000">
            <a:off x="-178200" y="2786760"/>
            <a:ext cx="364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no(millones de toneladas por añ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3160800" y="594684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2117880" y="594684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4727520" y="5951520"/>
            <a:ext cx="2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6007680" y="594684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1967400" y="260676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4102200" y="594684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4939200" y="594684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2448000" y="5251320"/>
            <a:ext cx="210492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1967400" y="370368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4407120" y="594684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0"/>
          <p:cNvSpPr/>
          <p:nvPr/>
        </p:nvSpPr>
        <p:spPr>
          <a:xfrm flipV="1">
            <a:off x="3575160" y="4109760"/>
            <a:ext cx="0" cy="182556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3416400" y="594684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22"/>
          <p:cNvSpPr/>
          <p:nvPr/>
        </p:nvSpPr>
        <p:spPr>
          <a:xfrm>
            <a:off x="2448000" y="2752560"/>
            <a:ext cx="2714400" cy="31719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23"/>
          <p:cNvSpPr/>
          <p:nvPr/>
        </p:nvSpPr>
        <p:spPr>
          <a:xfrm>
            <a:off x="2448000" y="4108320"/>
            <a:ext cx="11142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2119320" y="50925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1967400" y="3949560"/>
            <a:ext cx="43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8"/>
          <p:cNvSpPr/>
          <p:nvPr/>
        </p:nvSpPr>
        <p:spPr>
          <a:xfrm>
            <a:off x="3040920" y="448956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'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29"/>
          <p:cNvSpPr/>
          <p:nvPr/>
        </p:nvSpPr>
        <p:spPr>
          <a:xfrm>
            <a:off x="3193920" y="433692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44"/>
          <p:cNvGrpSpPr/>
          <p:nvPr/>
        </p:nvGrpSpPr>
        <p:grpSpPr>
          <a:xfrm>
            <a:off x="2284560" y="4409640"/>
            <a:ext cx="1396080" cy="1369440"/>
            <a:chOff x="2284560" y="4409640"/>
            <a:chExt cx="1396080" cy="1369440"/>
          </a:xfrm>
        </p:grpSpPr>
        <p:sp>
          <p:nvSpPr>
            <p:cNvPr id="295" name="Line 27"/>
            <p:cNvSpPr/>
            <p:nvPr/>
          </p:nvSpPr>
          <p:spPr>
            <a:xfrm flipV="1">
              <a:off x="2743200" y="4409640"/>
              <a:ext cx="44136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30"/>
            <p:cNvSpPr/>
            <p:nvPr/>
          </p:nvSpPr>
          <p:spPr>
            <a:xfrm>
              <a:off x="2284560" y="4867200"/>
              <a:ext cx="1396080" cy="911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ción 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umo s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erci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Line 31"/>
          <p:cNvSpPr/>
          <p:nvPr/>
        </p:nvSpPr>
        <p:spPr>
          <a:xfrm>
            <a:off x="2600280" y="4200480"/>
            <a:ext cx="2943360" cy="1038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33"/>
          <p:cNvGrpSpPr/>
          <p:nvPr/>
        </p:nvGrpSpPr>
        <p:grpSpPr>
          <a:xfrm>
            <a:off x="4184640" y="5175360"/>
            <a:ext cx="457200" cy="609120"/>
            <a:chOff x="4184640" y="5175360"/>
            <a:chExt cx="457200" cy="609120"/>
          </a:xfrm>
        </p:grpSpPr>
        <p:sp>
          <p:nvSpPr>
            <p:cNvPr id="299" name="Oval 34"/>
            <p:cNvSpPr/>
            <p:nvPr/>
          </p:nvSpPr>
          <p:spPr>
            <a:xfrm>
              <a:off x="4489200" y="517536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4184640" y="5327640"/>
              <a:ext cx="420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b'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45"/>
          <p:cNvGrpSpPr/>
          <p:nvPr/>
        </p:nvGrpSpPr>
        <p:grpSpPr>
          <a:xfrm>
            <a:off x="4643280" y="5252760"/>
            <a:ext cx="2303280" cy="713880"/>
            <a:chOff x="4643280" y="5252760"/>
            <a:chExt cx="2303280" cy="713880"/>
          </a:xfrm>
        </p:grpSpPr>
        <p:sp>
          <p:nvSpPr>
            <p:cNvPr id="302" name="Rectangle 36"/>
            <p:cNvSpPr/>
            <p:nvPr/>
          </p:nvSpPr>
          <p:spPr>
            <a:xfrm>
              <a:off x="5334120" y="5329080"/>
              <a:ext cx="1612440" cy="63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ción co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erci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7"/>
            <p:cNvSpPr/>
            <p:nvPr/>
          </p:nvSpPr>
          <p:spPr>
            <a:xfrm flipH="1" flipV="1">
              <a:off x="4643280" y="5252760"/>
              <a:ext cx="68256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Rectangle 39"/>
          <p:cNvSpPr/>
          <p:nvPr/>
        </p:nvSpPr>
        <p:spPr>
          <a:xfrm>
            <a:off x="3569040" y="3646440"/>
            <a:ext cx="40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'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41"/>
          <p:cNvSpPr/>
          <p:nvPr/>
        </p:nvSpPr>
        <p:spPr>
          <a:xfrm>
            <a:off x="3498840" y="4032360"/>
            <a:ext cx="15228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46"/>
          <p:cNvGrpSpPr/>
          <p:nvPr/>
        </p:nvGrpSpPr>
        <p:grpSpPr>
          <a:xfrm>
            <a:off x="3654360" y="3576600"/>
            <a:ext cx="2212200" cy="637560"/>
            <a:chOff x="3654360" y="3576600"/>
            <a:chExt cx="2212200" cy="637560"/>
          </a:xfrm>
        </p:grpSpPr>
        <p:sp>
          <p:nvSpPr>
            <p:cNvPr id="307" name="Rectangle 40"/>
            <p:cNvSpPr/>
            <p:nvPr/>
          </p:nvSpPr>
          <p:spPr>
            <a:xfrm>
              <a:off x="4420080" y="3576600"/>
              <a:ext cx="1446480" cy="63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umo co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erci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42"/>
            <p:cNvSpPr/>
            <p:nvPr/>
          </p:nvSpPr>
          <p:spPr>
            <a:xfrm flipH="1">
              <a:off x="3654360" y="3889440"/>
              <a:ext cx="7588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Rectangle 43"/>
          <p:cNvSpPr/>
          <p:nvPr/>
        </p:nvSpPr>
        <p:spPr>
          <a:xfrm>
            <a:off x="6018840" y="2079720"/>
            <a:ext cx="1149120" cy="454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 de aprendiz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5109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19191"/>
                </a:solidFill>
                <a:latin typeface="Times New Roman"/>
              </a:rPr>
              <a:t>Describir los patrones del comerci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19191"/>
                </a:solidFill>
                <a:latin typeface="Times New Roman"/>
              </a:rPr>
              <a:t>Explicar la ventaja comparativa y explicar por qué todos los países pueden ganar con el comerci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cómo las economías de escala y diversidad de gustos conducen a ganancias de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1120" y="29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anancias del comercio en la re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47520"/>
            <a:ext cx="7772400" cy="466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os Unidos compra televisores y videocaseteras a Corea, maquinaría a Europa y productos de la industria de la moda a Hong K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de cereales, madera, petróleo, aviones, computadoras y servicios financie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¿Por qué intercambiamos bienes manufacturad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ersidad de gustos y economías de esc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ido a la gran diversidad de gustos, la gente valora la diversidad y está dispuesta a pagar por 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chos bienes manufacturados experimentan  economías de esca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1120" y="29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anancias del comercio en la re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 de aprendiz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por qué las restricciones al comercio reducen nuestras importaciones, exportaciones y posibilidades de 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19191"/>
                </a:solidFill>
                <a:latin typeface="Times New Roman"/>
              </a:rPr>
              <a:t>Explicar los argumentos usados para justificar las restricciones al comercio y mostrar por qué son defi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19191"/>
                </a:solidFill>
                <a:latin typeface="Times New Roman"/>
              </a:rPr>
              <a:t>Explicar por qué tenemos restricciones a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tricciones al comer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</a:t>
            </a: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arance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on impuestos establecido por un país importador cuando un bien importado cruza sus fronte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barreras no arancelarias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 acciones distintas a los aranceles y que restringen el comercio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ricciones cuantitativas y requisitos de permisos o lice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1120" y="20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ranceles de Estados Unidos: 1930–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6"/>
          <p:cNvGraphicFramePr/>
          <p:nvPr/>
        </p:nvGraphicFramePr>
        <p:xfrm>
          <a:off x="852480" y="2076480"/>
          <a:ext cx="75294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2076480"/>
                    <a:ext cx="7529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9" name="Picture 2" descr=""/>
          <p:cNvPicPr/>
          <p:nvPr/>
        </p:nvPicPr>
        <p:blipFill>
          <a:blip r:embed="rId3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112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 de aprendiz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254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cribir los patrones del comerci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la ventaja comparativa y explicar por qué todos los países pueden ganar con el comerci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cómo las economías de escala y diversidad de gustos conducen a ganancias de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tricciones al comer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Tratado de Libre Comercio de América el Norte (TLCAN o NAFTA, por sus siglas en inglés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orth American Free Trade Agreemen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entró en vigor el 1° de enero de 19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liminarán prácticamente todas las barreras al comercio internacional entre Estados Unidos, México y Canadá durante un periodo escalonado de 15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ón Europ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ó el mercado unificado libre de aranceles más grande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tricciones al comer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ómo funcionan los aranc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é sucede si Agrolandia decide establecer un arancel a la importación de automóv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9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oferta de automóviles en Agrolandia dismin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9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e el precio de un automóvil en Agrolan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9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minuye la cantidad de automóviles importados por Agrolan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tricciones al comer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1120" y="174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ómo funcionan los aranc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é sucede si Agrolandia decide establecer un arancel a la importación de automóv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obierno de Agrolandia recauda el ingreso del aran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uso de los recursos es in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s exportaciones cambia en el mismo monto que 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as importaciones y el comercio se mantiene en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37"/>
          <p:cNvGrpSpPr/>
          <p:nvPr/>
        </p:nvGrpSpPr>
        <p:grpSpPr>
          <a:xfrm>
            <a:off x="2521080" y="3352680"/>
            <a:ext cx="990360" cy="1773000"/>
            <a:chOff x="2521080" y="3352680"/>
            <a:chExt cx="990360" cy="1773000"/>
          </a:xfrm>
        </p:grpSpPr>
        <p:sp>
          <p:nvSpPr>
            <p:cNvPr id="340" name="Rectangle 2"/>
            <p:cNvSpPr/>
            <p:nvPr/>
          </p:nvSpPr>
          <p:spPr>
            <a:xfrm>
              <a:off x="2521080" y="3352680"/>
              <a:ext cx="990360" cy="1773000"/>
            </a:xfrm>
            <a:prstGeom prst="rect">
              <a:avLst/>
            </a:pr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32"/>
            <p:cNvSpPr/>
            <p:nvPr/>
          </p:nvSpPr>
          <p:spPr>
            <a:xfrm>
              <a:off x="2592360" y="3964320"/>
              <a:ext cx="917640" cy="787680"/>
            </a:xfrm>
            <a:prstGeom prst="rect">
              <a:avLst/>
            </a:pr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gres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r e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rance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3"/>
          <p:cNvSpPr/>
          <p:nvPr/>
        </p:nvSpPr>
        <p:spPr>
          <a:xfrm flipV="1">
            <a:off x="3511440" y="3362400"/>
            <a:ext cx="0" cy="251136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s efectos de un aran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5"/>
          <p:cNvSpPr/>
          <p:nvPr/>
        </p:nvSpPr>
        <p:spPr>
          <a:xfrm flipV="1">
            <a:off x="2548080" y="4276800"/>
            <a:ext cx="3375000" cy="1139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3435480" y="6091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2521080" y="1603440"/>
            <a:ext cx="0" cy="426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8"/>
          <p:cNvSpPr/>
          <p:nvPr/>
        </p:nvSpPr>
        <p:spPr>
          <a:xfrm>
            <a:off x="2521080" y="5862600"/>
            <a:ext cx="42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2073240" y="4524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2073240" y="1906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2211480" y="5835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3354480" y="5835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4421160" y="5835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5487840" y="5835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2073240" y="5259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7"/>
          <p:cNvSpPr/>
          <p:nvPr/>
        </p:nvSpPr>
        <p:spPr>
          <a:xfrm>
            <a:off x="2549520" y="2093760"/>
            <a:ext cx="2765520" cy="3527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8"/>
          <p:cNvSpPr/>
          <p:nvPr/>
        </p:nvSpPr>
        <p:spPr>
          <a:xfrm>
            <a:off x="4502160" y="46562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19"/>
          <p:cNvSpPr/>
          <p:nvPr/>
        </p:nvSpPr>
        <p:spPr>
          <a:xfrm>
            <a:off x="2444760" y="198900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5308920" y="5337000"/>
            <a:ext cx="27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manda de importacion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automóviles de Agroland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6024960" y="3760920"/>
            <a:ext cx="20847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erta de exportació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automóviles d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bil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3729600" y="6232680"/>
            <a:ext cx="421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tidad (millones de automóviles por añ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3"/>
          <p:cNvSpPr/>
          <p:nvPr/>
        </p:nvSpPr>
        <p:spPr>
          <a:xfrm rot="16200000">
            <a:off x="421920" y="2564640"/>
            <a:ext cx="273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o (miles de $ por aut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5"/>
          <p:cNvSpPr/>
          <p:nvPr/>
        </p:nvSpPr>
        <p:spPr>
          <a:xfrm flipH="1">
            <a:off x="2523600" y="4732200"/>
            <a:ext cx="19782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6"/>
          <p:cNvSpPr/>
          <p:nvPr/>
        </p:nvSpPr>
        <p:spPr>
          <a:xfrm>
            <a:off x="4578480" y="4824360"/>
            <a:ext cx="0" cy="1038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2073240" y="4878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38"/>
          <p:cNvGrpSpPr/>
          <p:nvPr/>
        </p:nvGrpSpPr>
        <p:grpSpPr>
          <a:xfrm>
            <a:off x="2536920" y="5037120"/>
            <a:ext cx="1050480" cy="152280"/>
            <a:chOff x="2536920" y="5037120"/>
            <a:chExt cx="1050480" cy="152280"/>
          </a:xfrm>
        </p:grpSpPr>
        <p:sp>
          <p:nvSpPr>
            <p:cNvPr id="366" name="Oval 24"/>
            <p:cNvSpPr/>
            <p:nvPr/>
          </p:nvSpPr>
          <p:spPr>
            <a:xfrm>
              <a:off x="3435120" y="5037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536920" y="5113440"/>
              <a:ext cx="885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4"/>
          <p:cNvGrpSpPr/>
          <p:nvPr/>
        </p:nvGrpSpPr>
        <p:grpSpPr>
          <a:xfrm>
            <a:off x="2548080" y="1984320"/>
            <a:ext cx="5866200" cy="1679400"/>
            <a:chOff x="2548080" y="1984320"/>
            <a:chExt cx="5866200" cy="1679400"/>
          </a:xfrm>
        </p:grpSpPr>
        <p:sp>
          <p:nvSpPr>
            <p:cNvPr id="369" name="Line 29"/>
            <p:cNvSpPr/>
            <p:nvPr/>
          </p:nvSpPr>
          <p:spPr>
            <a:xfrm flipV="1">
              <a:off x="2548080" y="2523600"/>
              <a:ext cx="3375000" cy="11401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33"/>
            <p:cNvSpPr/>
            <p:nvPr/>
          </p:nvSpPr>
          <p:spPr>
            <a:xfrm>
              <a:off x="6026040" y="1984320"/>
              <a:ext cx="238824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ferta de exportación de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utomóviles de Mobilia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 el arance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Rectangle 10"/>
          <p:cNvSpPr/>
          <p:nvPr/>
        </p:nvSpPr>
        <p:spPr>
          <a:xfrm>
            <a:off x="2073240" y="3124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39"/>
          <p:cNvGrpSpPr/>
          <p:nvPr/>
        </p:nvGrpSpPr>
        <p:grpSpPr>
          <a:xfrm>
            <a:off x="2521080" y="3276720"/>
            <a:ext cx="1050840" cy="152280"/>
            <a:chOff x="2521080" y="3276720"/>
            <a:chExt cx="1050840" cy="152280"/>
          </a:xfrm>
        </p:grpSpPr>
        <p:sp>
          <p:nvSpPr>
            <p:cNvPr id="373" name="Oval 30"/>
            <p:cNvSpPr/>
            <p:nvPr/>
          </p:nvSpPr>
          <p:spPr>
            <a:xfrm>
              <a:off x="3419640" y="3276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1"/>
            <p:cNvSpPr/>
            <p:nvPr/>
          </p:nvSpPr>
          <p:spPr>
            <a:xfrm>
              <a:off x="2521080" y="3352680"/>
              <a:ext cx="88596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AutoShape 41"/>
          <p:cNvSpPr/>
          <p:nvPr/>
        </p:nvSpPr>
        <p:spPr>
          <a:xfrm>
            <a:off x="5067360" y="2832120"/>
            <a:ext cx="304920" cy="1600200"/>
          </a:xfrm>
          <a:prstGeom prst="upDownArrow">
            <a:avLst>
              <a:gd name="adj1" fmla="val 50000"/>
              <a:gd name="adj2" fmla="val 104472"/>
            </a:avLst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4"/>
          <p:cNvGrpSpPr/>
          <p:nvPr/>
        </p:nvGrpSpPr>
        <p:grpSpPr>
          <a:xfrm>
            <a:off x="5206680" y="3124080"/>
            <a:ext cx="1537200" cy="533520"/>
            <a:chOff x="5206680" y="3124080"/>
            <a:chExt cx="1537200" cy="533520"/>
          </a:xfrm>
        </p:grpSpPr>
        <p:sp>
          <p:nvSpPr>
            <p:cNvPr id="377" name="Text Box 42"/>
            <p:cNvSpPr/>
            <p:nvPr/>
          </p:nvSpPr>
          <p:spPr>
            <a:xfrm>
              <a:off x="5778360" y="3124080"/>
              <a:ext cx="965520" cy="3373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Arance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43"/>
            <p:cNvSpPr/>
            <p:nvPr/>
          </p:nvSpPr>
          <p:spPr>
            <a:xfrm flipH="1">
              <a:off x="5206680" y="330192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tricciones al comer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rreras no arancel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0" lang="es-ES_tradnl" sz="2800" spc="-1" strike="noStrike">
                <a:solidFill>
                  <a:srgbClr val="fc0128"/>
                </a:solidFill>
                <a:latin typeface="Times New Roman"/>
              </a:rPr>
              <a:t>cuo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s una restricción cuantitativa a la importación de un bien en parti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ES_tradnl" sz="2800" spc="-1" strike="noStrike">
                <a:solidFill>
                  <a:srgbClr val="fc0128"/>
                </a:solidFill>
                <a:latin typeface="Times New Roman"/>
              </a:rPr>
              <a:t>restricciones voluntarias a la exportación (RVE)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acuerdos entre dos gobiernos en el que el gobierno del país exportador acepta restringir el volumen de sus propias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1"/>
          <p:cNvGrpSpPr/>
          <p:nvPr/>
        </p:nvGrpSpPr>
        <p:grpSpPr>
          <a:xfrm>
            <a:off x="2521080" y="3276720"/>
            <a:ext cx="1085400" cy="1855800"/>
            <a:chOff x="2521080" y="3276720"/>
            <a:chExt cx="1085400" cy="1855800"/>
          </a:xfrm>
        </p:grpSpPr>
        <p:sp>
          <p:nvSpPr>
            <p:cNvPr id="384" name="Rectangle 2"/>
            <p:cNvSpPr/>
            <p:nvPr/>
          </p:nvSpPr>
          <p:spPr>
            <a:xfrm>
              <a:off x="2521080" y="3276720"/>
              <a:ext cx="990360" cy="1855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32"/>
            <p:cNvSpPr/>
            <p:nvPr/>
          </p:nvSpPr>
          <p:spPr>
            <a:xfrm>
              <a:off x="2541240" y="3809880"/>
              <a:ext cx="106524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enefici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l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ortador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34"/>
          <p:cNvGrpSpPr/>
          <p:nvPr/>
        </p:nvGrpSpPr>
        <p:grpSpPr>
          <a:xfrm>
            <a:off x="3413880" y="1409760"/>
            <a:ext cx="728640" cy="4456800"/>
            <a:chOff x="3413880" y="1409760"/>
            <a:chExt cx="728640" cy="4456800"/>
          </a:xfrm>
        </p:grpSpPr>
        <p:sp>
          <p:nvSpPr>
            <p:cNvPr id="387" name="Line 3"/>
            <p:cNvSpPr/>
            <p:nvPr/>
          </p:nvSpPr>
          <p:spPr>
            <a:xfrm flipV="1">
              <a:off x="3511440" y="1907640"/>
              <a:ext cx="0" cy="39589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413880" y="1409760"/>
              <a:ext cx="72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ot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1120" y="21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fectos de una cuo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5"/>
          <p:cNvSpPr/>
          <p:nvPr/>
        </p:nvSpPr>
        <p:spPr>
          <a:xfrm flipV="1">
            <a:off x="2548080" y="4276800"/>
            <a:ext cx="3375000" cy="1139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3435480" y="6091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7"/>
          <p:cNvSpPr/>
          <p:nvPr/>
        </p:nvSpPr>
        <p:spPr>
          <a:xfrm>
            <a:off x="2521080" y="1603440"/>
            <a:ext cx="0" cy="426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8"/>
          <p:cNvSpPr/>
          <p:nvPr/>
        </p:nvSpPr>
        <p:spPr>
          <a:xfrm>
            <a:off x="2521080" y="5862600"/>
            <a:ext cx="42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2073240" y="4497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2073240" y="18288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2211480" y="5835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3354480" y="5835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4421160" y="5835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5"/>
          <p:cNvSpPr/>
          <p:nvPr/>
        </p:nvSpPr>
        <p:spPr>
          <a:xfrm>
            <a:off x="5487840" y="5835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6"/>
          <p:cNvSpPr/>
          <p:nvPr/>
        </p:nvSpPr>
        <p:spPr>
          <a:xfrm>
            <a:off x="2073240" y="5259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2549520" y="2093760"/>
            <a:ext cx="2765520" cy="3527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4502160" y="46562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9"/>
          <p:cNvSpPr/>
          <p:nvPr/>
        </p:nvSpPr>
        <p:spPr>
          <a:xfrm>
            <a:off x="2444760" y="198900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5550120" y="5146560"/>
            <a:ext cx="2760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manda de importacion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automóviles de Agroland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1"/>
          <p:cNvSpPr/>
          <p:nvPr/>
        </p:nvSpPr>
        <p:spPr>
          <a:xfrm>
            <a:off x="6023880" y="3760920"/>
            <a:ext cx="2455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erta de exportacion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automóviles de Mobili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2"/>
          <p:cNvSpPr/>
          <p:nvPr/>
        </p:nvSpPr>
        <p:spPr>
          <a:xfrm>
            <a:off x="3556440" y="6232680"/>
            <a:ext cx="421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tidad (millones de automóviles por añ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3"/>
          <p:cNvSpPr/>
          <p:nvPr/>
        </p:nvSpPr>
        <p:spPr>
          <a:xfrm rot="16200000">
            <a:off x="393480" y="2664720"/>
            <a:ext cx="273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o (miles de $ por auto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2523600" y="4732200"/>
            <a:ext cx="19782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6"/>
          <p:cNvSpPr/>
          <p:nvPr/>
        </p:nvSpPr>
        <p:spPr>
          <a:xfrm>
            <a:off x="4578480" y="4824360"/>
            <a:ext cx="0" cy="1038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27"/>
          <p:cNvSpPr/>
          <p:nvPr/>
        </p:nvSpPr>
        <p:spPr>
          <a:xfrm>
            <a:off x="2073240" y="48769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42"/>
          <p:cNvGrpSpPr/>
          <p:nvPr/>
        </p:nvGrpSpPr>
        <p:grpSpPr>
          <a:xfrm>
            <a:off x="2543040" y="5035680"/>
            <a:ext cx="1050840" cy="152280"/>
            <a:chOff x="2543040" y="5035680"/>
            <a:chExt cx="1050840" cy="152280"/>
          </a:xfrm>
        </p:grpSpPr>
        <p:sp>
          <p:nvSpPr>
            <p:cNvPr id="412" name="Oval 24"/>
            <p:cNvSpPr/>
            <p:nvPr/>
          </p:nvSpPr>
          <p:spPr>
            <a:xfrm>
              <a:off x="3441600" y="5035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28"/>
            <p:cNvSpPr/>
            <p:nvPr/>
          </p:nvSpPr>
          <p:spPr>
            <a:xfrm>
              <a:off x="2543040" y="5111640"/>
              <a:ext cx="8859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Rectangle 10"/>
          <p:cNvSpPr/>
          <p:nvPr/>
        </p:nvSpPr>
        <p:spPr>
          <a:xfrm>
            <a:off x="2073240" y="3048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8"/>
          <p:cNvGrpSpPr/>
          <p:nvPr/>
        </p:nvGrpSpPr>
        <p:grpSpPr>
          <a:xfrm>
            <a:off x="2533320" y="3208320"/>
            <a:ext cx="1063800" cy="152280"/>
            <a:chOff x="2533320" y="3208320"/>
            <a:chExt cx="1063800" cy="152280"/>
          </a:xfrm>
        </p:grpSpPr>
        <p:sp>
          <p:nvSpPr>
            <p:cNvPr id="416" name="Oval 29"/>
            <p:cNvSpPr/>
            <p:nvPr/>
          </p:nvSpPr>
          <p:spPr>
            <a:xfrm>
              <a:off x="3444840" y="32083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30"/>
            <p:cNvSpPr/>
            <p:nvPr/>
          </p:nvSpPr>
          <p:spPr>
            <a:xfrm flipH="1">
              <a:off x="2533320" y="3284640"/>
              <a:ext cx="91116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 de aprendiz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19191"/>
                </a:solidFill>
                <a:latin typeface="Times New Roman"/>
              </a:rPr>
              <a:t>Explicar por qué las restricciones al comercio reducen nuestras importaciones, exportaciones y posibilidades de 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los argumentos usados para justificar las restricciones al comercio y mostrar por qué son defi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19191"/>
                </a:solidFill>
                <a:latin typeface="Times New Roman"/>
              </a:rPr>
              <a:t>Explicar por qué tenemos restricciones a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aso contra la prot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rgumento de la seguridad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aís debe proteger las industrias que producen equipo de defensa y armamentos, así como aquellas industrias que proveen materias primas y otros insumos intermedios a la industria milit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aso contra la prot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rgumento de la seguridad na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argumento es falso por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104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iempos de guerra, todas las industrias contribuyen a la defensa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104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se alega impulsar la producción de una industria estratégica, es más eficiente subsidiar a las empresas de la indust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aso contra la prot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rgumento de la industria n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necesario proteger a una industria nueva para permitirle desarrollarse como una industria madura que pueda competir en los mercados mundiale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 de aprendizaj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por qué las restricciones al comercio reducen nuestras importaciones, exportaciones y posibilidades de 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los argumentos usados para justificar las restricciones al comercio y mostrar por qué son defi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r por qué tenemos restricciones a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aso contra la prot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22360" y="1320840"/>
            <a:ext cx="81518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gumento de la industria n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argumento es falso p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104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ólo es válido si los beneficios d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rendizaje mediante la práctic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no sólo vayan a los propietarios y los trabajadores de las empresas en la industria naciente, sino que también se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rrame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a otras industrias y partes de la econom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104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más eficiente proteger una industria naciente mediante un subsidio financiado con impue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aso contra la prot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rgumento de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u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c0128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_tradnl" sz="2800" spc="-1" strike="noStrike">
                <a:solidFill>
                  <a:srgbClr val="fc0128"/>
                </a:solidFill>
                <a:latin typeface="Times New Roman"/>
              </a:rPr>
              <a:t>dumpin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curre cuando una empresa extranjera vende sus exportaciones a un precio por debajo de su costo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aso contra la prot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8724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rgumento de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u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argumento d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umpin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be resistirse por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umpin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s prácticamente imposible de detec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poco probable un monopolio natural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regulación sería la mejor manera de manejar un monopolio natural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112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tros argumentos para el proteccion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112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alva empl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Permite competir con mano de obra extranjera ba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Produce diversidad y est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) Penalizas las normas ambientales lax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) Protege la cultura 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) Impide a los países ricos explotar a los países en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 de aprendiz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44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plicar por qué las restricciones al comercio reducen nuestras importaciones, exportaciones y posibilidades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244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plicar los argumentos usados para justificar las restricciones al comercio y mostrar por qué son defi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2449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plicar por qué tenemos restriccione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112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Por qué se restringe el comercio internacion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audación arance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mayor parte de las transacciones económicas las hacen empresas que deben mantener registros financieros debidamente audi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úsqueda de r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mercio libre acarrea beneficios para algunos pero impone costos a otros, y los beneficios totales exceden a los costo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112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Por qué se restringe el comercio internacion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ensación a perd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a realidad se compensa a los perdedores en cierta medi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LC y adiestramient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nsación por desemp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152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Por qué se restringe el comercio internacion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7840" y="250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icult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sto de identificación de los perdedores y de estimación de las pérdidas sería en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dedores de hoy pueden ser ganadores mañ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927000" y="1219320"/>
            <a:ext cx="6782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CIAS POR SU ATENCIO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3" descr="D:\Datos Importantes\Generalidad De Fotos\Detalles\AMIDEA.WMF"/>
          <p:cNvPicPr/>
          <p:nvPr/>
        </p:nvPicPr>
        <p:blipFill>
          <a:blip r:embed="rId1"/>
          <a:stretch/>
        </p:blipFill>
        <p:spPr>
          <a:xfrm>
            <a:off x="406440" y="168912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"/>
          <p:cNvSpPr/>
          <p:nvPr/>
        </p:nvSpPr>
        <p:spPr>
          <a:xfrm>
            <a:off x="2286000" y="374112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Times New Roman"/>
              </a:rPr>
              <a:t>Ing.+Lic. Yunior Andrés Castillo 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Times New Roman"/>
              </a:rPr>
              <a:t>Página Web: yuniorandrescastillo.galeon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Times New Roman"/>
              </a:rPr>
              <a:t>Correo: yuniorcastillo@yahoo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Times New Roman"/>
              </a:rPr>
              <a:t>Celular:1-829-725-857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antiago de los Caballeros, República Dominican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Times New Roman"/>
              </a:rPr>
              <a:t>2014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112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 de aprendiz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cribir los patrones del comerci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19191"/>
                </a:solidFill>
                <a:latin typeface="Times New Roman"/>
              </a:rPr>
              <a:t>Explicar la ventaja comparativa y explicar por qué todos los países pueden ganar con el comerci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19191"/>
                </a:solidFill>
                <a:latin typeface="Times New Roman"/>
              </a:rPr>
              <a:t>Explicar cómo las economías de escala y diversidad de gustos conducen a ganancias de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1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trones y tendencias del comerci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importacion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on los bienes y servicios que compramos a la gente de otros paí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ES_tradnl" sz="3200" spc="-1" strike="noStrike">
                <a:solidFill>
                  <a:srgbClr val="fc0128"/>
                </a:solidFill>
                <a:latin typeface="Times New Roman"/>
              </a:rPr>
              <a:t>exportacion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on los bienes y servicios que vendemos a la gente de otros paí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1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trones y tendencias del comerci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ercio de mercanc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% de las exportaciones de Estados Unidos y 60% de sus importaciones son bienes manufactu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bienes de capital y los automóviles son los artículos estadounidenses individuales de mayor exportación e impor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servicios representan el 26% de las exportaciones y 17% de las importaciones de Estados Uni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1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trones y tendencias del comerci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ercio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gasto que hace un extranjero (estudiante, turista, etc.) en este país constituye una exportación de servi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transporte marítimo y los seguros pagados a empresas extranjeras por bienes importados son un ejemplo de importación de servi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1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trones y tendencias del comerci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trones geo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adá y México son los principales socios comerciales de Estados Unidos, tanto en importaciones como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5% de las importaciones de Estados Unidos vienen de países asiá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6676920"/>
            <a:ext cx="9144000" cy="1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4:30:00Z</dcterms:created>
  <dc:creator>Ing.+ Lic. Yunior Andres Castillo S.</dc:creator>
  <dc:description>Ingeniero Industrial+Licenciado en Derecho: Ingeniero en Derecho
Celular: 1-829-725-8571</dc:description>
  <cp:keywords>yuniorcastillo@yahoo.com</cp:keywords>
  <dc:language>en-US</dc:language>
  <cp:lastModifiedBy>Illusion V2</cp:lastModifiedBy>
  <cp:lastPrinted>1999-06-28T18:58:36Z</cp:lastPrinted>
  <dcterms:modified xsi:type="dcterms:W3CDTF">2014-07-16T20:46:06Z</dcterms:modified>
  <cp:revision>137</cp:revision>
  <dc:subject>Derecho de Saber para Pensar</dc:subject>
  <dc:title>El comercio en el mundo</dc:title>
</cp:coreProperties>
</file>