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A0CA-96A7-4B23-840A-E6720ECEB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1C3F-CB41-41B5-8943-92994038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C82D-958A-4004-8BD0-B806414B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5C98-B4FC-4C7B-A7A1-B0157C7B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534B-E275-48E0-8836-F1246357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5F78-3D97-45A9-9D89-D3D20DF5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763D-CD99-4256-92C6-E6A8B2C3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CD69-6D77-4E85-87E0-08C9CD1B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25EA-30DF-4669-BA11-4F2D9D90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A165-8FEE-46E3-8099-9C4699CC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D3C0-1575-4ABC-B647-F133418E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D234-E913-4C74-967D-48CB3195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7D45-0EC9-43A9-B877-894C43B8D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000000"/>
                </a:solidFill>
                <a:latin typeface="Arial"/>
              </a:rPr>
              <a:t>LA E-ORGAN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rtín Taype Mo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áster en Administración de Negocios – 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宋体"/>
              </a:rPr>
              <a:t>Especialización en Dirección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ARROLLAR  EL SABER EN LA ECONOMÍA DIGITAL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la aparición de la economía digital, el mercado de recursos humanos está modificando sus reglas de jue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arecen nuevas modalidades de contratación  e innovadoras maneras de dar premios y casti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país difiere en relación con las habilidades y conocimientos que posee su fuerza de trabajo y coste de emplear individuos para determinadas competenc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empresas se ven obligadas a crear puestos y estructuras que atraigan a aquellas personas con las competencias requeri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economía digital deja de ser una declaración y pasa a ser un principio del nego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gran ironía es que en la era digital la gente hace la difer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PERFIL DE LA GENERACIÓN @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hablaba de una generación X, ahora lo más probable es que sea una generación @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e-worker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onstituyen una de las principales fuerzas de trabajo del futuro. Estos rasgos son recientes y combinan dinero, riesgo y futu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ocimiento profundo del mercado de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ntalidad de “trabajador nómade”, buscando mejores oportun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pectativa de un entorno ágil y no jerárqu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tensión de buenas recompensas, por buen desempeño y ser parte del nego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El vertiginoso avance tecnológico en un mundo global, hace que en esta segunda década del siglo XXI, se entienda a las organizaciones como permanentemente dinámicas, donde el concepto de e-organización se viene incorporando como práctica común en las organizaciones para adaptarse a los cambios y sobreviv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Actualmente en la segunda década del siglo XXI con el vertiginoso avance tecnológico, surgen nuevas herramientas para administrar las organizaciones y con ella nuevos conceptos, uno de ellos es el de la e-organiz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DERAZGO FLEXIBLE DENTRO DE UNA ESTRUCTURA AGIL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Liderazgo es un factor crítico de éxito para la e-organización. La e-organización es estar dispuesto a experimentar y adaptarse oportunamente a las condiciones cambi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formular constantemente una visión y crear una cultura de posibilidades, innovación y disposición al camb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s un proceso estático de diseño de productos o servicios, el esquema de trabajo es interactivo para modernizar un producto a la velocidad de la red y en forma contin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conocimiento es una herramienta clave para crear demanda, transformando estos hábitos en necesidades. La anticipación deja de ser importante para ser indispens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gar primero significa obtener mayor penetración en el mercado, mayor conocimiento, mayor lealtad de clientes y mejor posicionamiento de mar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la planificación se identifica una partida y una llegada, hoy es difícil visualizar el punto de llegada como 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490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ROLES Y LAS POSIBILIDADES CAMBIAN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redefinen los papeles de jefe y emplead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velocidad de las transformaciones exige nuevos líderes capaces de tomar decisiones con menor información y mayor intuición en menos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omueve los valores de autonomía, crecimiento y cohesión colec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trabaja de manera fluida dentro y fuera de las líneas tradicionales de mando, creando su propio valor para la organización y su mi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estimula la generación de ideas estableciendo objetivos para crear va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líderes deben contar con conocimientos tecnológicos,  aunque no sea su form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crea la e-organización para obtener las ganancias del futuro, y mantener la competitividad en el mer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EVOS COMPORTAMIENTOS Y NUEVOS CONOCIMIENTOS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habilidades, conocimientos y valores que deberán estar presentes en las nuevas organiz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lexibilida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adaptación a cambios continuos sin caída en el rendimiento (performan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lerta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ntes “estar informado”, hoy “ser parte de la informa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elocidad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habilidad para trabajar en red con alto nivel de ambigüedad e incertidum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rendizaje continu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apacidad para construir sobre la base del día anterior, entiendo lo que hacen 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reativida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apacidad para soñar el futuro, viendo lo que otros no 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versidad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isposición a trabajar con desconocidos en forma vir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organizaciones juegan para ganar o desaparecen instantáneamente. Los plazos son más cortos. Los cambios continuos están asociados con la innovación y la compe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organización se mueve a la velocidad del más importante de sus componentes: Sus recursos hum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2T00:00:21Z</dcterms:created>
  <dc:creator>MARTIN</dc:creator>
  <dc:description/>
  <dc:language>en-US</dc:language>
  <cp:lastModifiedBy>MARTIN</cp:lastModifiedBy>
  <dcterms:modified xsi:type="dcterms:W3CDTF">2014-06-02T02:43:26Z</dcterms:modified>
  <cp:revision>4</cp:revision>
  <dc:subject/>
  <dc:title>LA E-ORGANIZACIÓN</dc:title>
</cp:coreProperties>
</file>