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2195640" y="7452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Eurostile"/>
              </a:rPr>
              <a:t>    </a:t>
            </a:r>
            <a:r>
              <a:rPr b="1" lang="es-MX" sz="1400" spc="-1" strike="noStrike">
                <a:solidFill>
                  <a:srgbClr val="990000"/>
                </a:solidFill>
                <a:latin typeface="Eurostile"/>
              </a:rPr>
              <a:t>UNIDAD I: FUNDAMENTOS DE LA 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6" descr=""/>
          <p:cNvPicPr/>
          <p:nvPr/>
        </p:nvPicPr>
        <p:blipFill>
          <a:blip r:embed="rId3"/>
          <a:srcRect l="-9986" t="0" r="1798" b="-2587"/>
          <a:stretch/>
        </p:blipFill>
        <p:spPr>
          <a:xfrm>
            <a:off x="3240" y="52560"/>
            <a:ext cx="787320" cy="109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1819440" y="2809800"/>
            <a:ext cx="56304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Fundamentos de Electr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(Conceptos de Electrónica, Sistema Electrónic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Semiconduct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30114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450720" rIns="90000" tIns="18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4"/>
          <p:cNvSpPr/>
          <p:nvPr/>
        </p:nvSpPr>
        <p:spPr>
          <a:xfrm>
            <a:off x="2480760" y="620640"/>
            <a:ext cx="439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POLARIZACIÓN INVERSA DE LA UNION 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848360" cy="4554360"/>
          </a:xfrm>
          <a:prstGeom prst="rect">
            <a:avLst/>
          </a:prstGeom>
          <a:ln w="0">
            <a:noFill/>
          </a:ln>
        </p:spPr>
      </p:pic>
      <p:sp>
        <p:nvSpPr>
          <p:cNvPr id="529" name="13 Rectángulo"/>
          <p:cNvSpPr/>
          <p:nvPr/>
        </p:nvSpPr>
        <p:spPr>
          <a:xfrm>
            <a:off x="968400" y="5742000"/>
            <a:ext cx="791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Zona de agotamiento se agran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66"/>
                </a:solidFill>
                <a:latin typeface="Arial"/>
              </a:rPr>
              <a:t>Tensión de ruptura</a:t>
            </a: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, es el voltaje máximo permitido sin que se destruya la un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No hay circulación de corriente ID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4"/>
          <p:cNvSpPr/>
          <p:nvPr/>
        </p:nvSpPr>
        <p:spPr>
          <a:xfrm>
            <a:off x="3059280" y="549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CONCEPTO DE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900000" y="892440"/>
            <a:ext cx="774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ónica es la rama de la Ciencia y la Tecnología que se ocupa del estudio de las leyes que rigen el flujo de electrones a través del vacío, de gases o de semiconductores, así como del estudio y desarrollo de los dispositivos (Circuitos Electrónicos) en los que se produce este movimiento controlado y de las aplicaciones que de ello se deriven. Las áreas de aplicación de la electrónica s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1" descr="video"/>
          <p:cNvPicPr/>
          <p:nvPr/>
        </p:nvPicPr>
        <p:blipFill>
          <a:blip r:embed="rId1"/>
          <a:stretch/>
        </p:blipFill>
        <p:spPr>
          <a:xfrm>
            <a:off x="6068880" y="2786040"/>
            <a:ext cx="1435320" cy="1170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3" descr="computador-full"/>
          <p:cNvPicPr/>
          <p:nvPr/>
        </p:nvPicPr>
        <p:blipFill>
          <a:blip r:embed="rId2"/>
          <a:stretch/>
        </p:blipFill>
        <p:spPr>
          <a:xfrm>
            <a:off x="7375680" y="2954160"/>
            <a:ext cx="1044360" cy="862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telecomunicacion01"/>
          <p:cNvPicPr/>
          <p:nvPr/>
        </p:nvPicPr>
        <p:blipFill>
          <a:blip r:embed="rId3"/>
          <a:stretch/>
        </p:blipFill>
        <p:spPr>
          <a:xfrm>
            <a:off x="888840" y="30002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7" descr="Ferrari_Formula_1"/>
          <p:cNvPicPr/>
          <p:nvPr/>
        </p:nvPicPr>
        <p:blipFill>
          <a:blip r:embed="rId4"/>
          <a:stretch/>
        </p:blipFill>
        <p:spPr>
          <a:xfrm>
            <a:off x="2433600" y="5052960"/>
            <a:ext cx="1444680" cy="10857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9" descr="11524628181"/>
          <p:cNvPicPr/>
          <p:nvPr/>
        </p:nvPicPr>
        <p:blipFill>
          <a:blip r:embed="rId5"/>
          <a:stretch/>
        </p:blipFill>
        <p:spPr>
          <a:xfrm>
            <a:off x="625320" y="3956040"/>
            <a:ext cx="1395720" cy="10098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1" descr="celular"/>
          <p:cNvPicPr/>
          <p:nvPr/>
        </p:nvPicPr>
        <p:blipFill>
          <a:blip r:embed="rId6"/>
          <a:stretch/>
        </p:blipFill>
        <p:spPr>
          <a:xfrm>
            <a:off x="1830240" y="2960640"/>
            <a:ext cx="779760" cy="1316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3" descr="uni-potencia"/>
          <p:cNvPicPr/>
          <p:nvPr/>
        </p:nvPicPr>
        <p:blipFill>
          <a:blip r:embed="rId7"/>
          <a:stretch/>
        </p:blipFill>
        <p:spPr>
          <a:xfrm>
            <a:off x="3683160" y="5315040"/>
            <a:ext cx="1296720" cy="988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5" descr="228628415_7ff9354e8d_b"/>
          <p:cNvPicPr/>
          <p:nvPr/>
        </p:nvPicPr>
        <p:blipFill>
          <a:blip r:embed="rId8"/>
          <a:stretch/>
        </p:blipFill>
        <p:spPr>
          <a:xfrm>
            <a:off x="3276720" y="4486320"/>
            <a:ext cx="1054080" cy="7905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9" descr="atomo"/>
          <p:cNvPicPr/>
          <p:nvPr/>
        </p:nvPicPr>
        <p:blipFill>
          <a:blip r:embed="rId9"/>
          <a:stretch/>
        </p:blipFill>
        <p:spPr>
          <a:xfrm>
            <a:off x="3965400" y="2824200"/>
            <a:ext cx="1362240" cy="1258920"/>
          </a:xfrm>
          <a:prstGeom prst="rect">
            <a:avLst/>
          </a:prstGeom>
          <a:ln w="0">
            <a:noFill/>
          </a:ln>
        </p:spPr>
      </p:pic>
      <p:sp>
        <p:nvSpPr>
          <p:cNvPr id="449" name="13 Rectángulo"/>
          <p:cNvSpPr/>
          <p:nvPr/>
        </p:nvSpPr>
        <p:spPr>
          <a:xfrm>
            <a:off x="4036320" y="23716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14 Rectángulo"/>
          <p:cNvSpPr/>
          <p:nvPr/>
        </p:nvSpPr>
        <p:spPr>
          <a:xfrm>
            <a:off x="203400" y="2370240"/>
            <a:ext cx="32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lectrónica de Comu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(Telecomunicaci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15 Rectángulo"/>
          <p:cNvSpPr/>
          <p:nvPr/>
        </p:nvSpPr>
        <p:spPr>
          <a:xfrm>
            <a:off x="6076080" y="3790800"/>
            <a:ext cx="291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lectrónica Dig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(Ingeniería de Computac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16 Rectángulo"/>
          <p:cNvSpPr/>
          <p:nvPr/>
        </p:nvSpPr>
        <p:spPr>
          <a:xfrm>
            <a:off x="1638000" y="6257880"/>
            <a:ext cx="23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lectrónica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(Ingeniería de Contr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8" descr="http://www.compuson.com/imagenes/fuente%20poder%20500w.jpg"/>
          <p:cNvPicPr/>
          <p:nvPr/>
        </p:nvPicPr>
        <p:blipFill>
          <a:blip r:embed="rId10"/>
          <a:stretch/>
        </p:blipFill>
        <p:spPr>
          <a:xfrm>
            <a:off x="6132600" y="4761000"/>
            <a:ext cx="1071360" cy="780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0" descr="http://www.tecnopinball.org/wpc/wpcbrig1.jpg"/>
          <p:cNvPicPr/>
          <p:nvPr/>
        </p:nvPicPr>
        <p:blipFill>
          <a:blip r:embed="rId11"/>
          <a:stretch/>
        </p:blipFill>
        <p:spPr>
          <a:xfrm>
            <a:off x="7199280" y="5151600"/>
            <a:ext cx="966960" cy="749160"/>
          </a:xfrm>
          <a:prstGeom prst="rect">
            <a:avLst/>
          </a:prstGeom>
          <a:ln w="0">
            <a:noFill/>
          </a:ln>
        </p:spPr>
      </p:pic>
      <p:sp>
        <p:nvSpPr>
          <p:cNvPr id="455" name="18 Rectángulo"/>
          <p:cNvSpPr/>
          <p:nvPr/>
        </p:nvSpPr>
        <p:spPr>
          <a:xfrm>
            <a:off x="5690160" y="6012000"/>
            <a:ext cx="302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Electrónica de Po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(Control de Energía Eléct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4"/>
          <p:cNvSpPr/>
          <p:nvPr/>
        </p:nvSpPr>
        <p:spPr>
          <a:xfrm>
            <a:off x="3059280" y="54936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SISTEMA ELECTRÓ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576360" y="981000"/>
            <a:ext cx="769608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positivo basado en circuitos electrónicos capaz de extraer, almacenar, transportar, procesar, controlar la información de una señal. Consta de tres bloq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Bloque de entrada (sensor  o transductor)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argado de transformar las señales de mundo físico (presión,  temperatura,  sonido, voz, imágenes, etc..) en señales de corriente o volt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Bloque de proce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junto de circuitos electrónicos cuya función es la de transformar, almacenar y procesar las señales de voltaje y corriente provenientes de los transdu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Bloque se salida</a:t>
            </a:r>
            <a:r>
              <a:rPr b="0" lang="es-E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c00000"/>
                </a:solidFill>
                <a:latin typeface="Arial"/>
              </a:rPr>
              <a:t>(actua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ierte las señales de corriente o voltaje en señales físicamente úti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2556000" y="54936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JEMPLO DE UN SISTEMA ELECTRÓ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5" descr="AAAZYNN0.EPS                                                   0004302BHard Drive-Seat One            B36702C6:"/>
          <p:cNvPicPr/>
          <p:nvPr/>
        </p:nvPicPr>
        <p:blipFill>
          <a:blip r:embed="rId1"/>
          <a:stretch/>
        </p:blipFill>
        <p:spPr>
          <a:xfrm>
            <a:off x="703440" y="2809800"/>
            <a:ext cx="736740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6"/>
          <p:cNvSpPr/>
          <p:nvPr/>
        </p:nvSpPr>
        <p:spPr>
          <a:xfrm>
            <a:off x="474840" y="2657520"/>
            <a:ext cx="152388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5046840" y="4867200"/>
            <a:ext cx="1218960" cy="60984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7332840" y="3191040"/>
            <a:ext cx="838080" cy="13716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627120" y="3419640"/>
            <a:ext cx="6705720" cy="1371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4056120" y="4867200"/>
            <a:ext cx="99072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995560" y="1874880"/>
            <a:ext cx="30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</a:rPr>
              <a:t>Esquema de una ra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550800" y="22766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d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3522600" y="55530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d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7256520" y="2809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u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351400" y="547704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tu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3141720" y="30384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loque de proces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30 Rectángulo"/>
          <p:cNvSpPr/>
          <p:nvPr/>
        </p:nvSpPr>
        <p:spPr>
          <a:xfrm>
            <a:off x="2933280" y="400536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Circuitos Electró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0920" y="1001880"/>
            <a:ext cx="44654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Señal analógic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Puede tomar cualquier valor de amplitu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 amplitud varia continuamente en el 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 señal obtenida por un transductor es analó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as sensibles al ruido (perturbaci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as difíciles de implementar en circuitos integ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4716360" y="900000"/>
            <a:ext cx="43023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Señal digit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Solo toma un numero finito de amplit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Su amplitud es en lógica binaria 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 amplitud cambia en instantes espaciados uniforme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enos sensibles al ruido (perturbaci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as fáciles de implementar en circuitos integ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2556000" y="54936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SEÑALES DE UN SISTEMA ELECTRÓN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AAAZYNR0.EPS                                                   0004302BHard Drive-Seat One            B36702C6:"/>
          <p:cNvPicPr/>
          <p:nvPr/>
        </p:nvPicPr>
        <p:blipFill>
          <a:blip r:embed="rId1"/>
          <a:stretch/>
        </p:blipFill>
        <p:spPr>
          <a:xfrm>
            <a:off x="488880" y="2708280"/>
            <a:ext cx="8193240" cy="3693960"/>
          </a:xfrm>
          <a:prstGeom prst="rect">
            <a:avLst/>
          </a:prstGeom>
          <a:ln w="0">
            <a:noFill/>
          </a:ln>
        </p:spPr>
      </p:pic>
      <p:grpSp>
        <p:nvGrpSpPr>
          <p:cNvPr id="476" name="3 Grupo"/>
          <p:cNvGrpSpPr/>
          <p:nvPr/>
        </p:nvGrpSpPr>
        <p:grpSpPr>
          <a:xfrm>
            <a:off x="1692360" y="3976560"/>
            <a:ext cx="1871640" cy="372960"/>
            <a:chOff x="1692360" y="3976560"/>
            <a:chExt cx="1871640" cy="372960"/>
          </a:xfrm>
        </p:grpSpPr>
        <p:sp>
          <p:nvSpPr>
            <p:cNvPr id="477" name="2 Rectángulo"/>
            <p:cNvSpPr/>
            <p:nvPr/>
          </p:nvSpPr>
          <p:spPr>
            <a:xfrm>
              <a:off x="1692360" y="3976560"/>
              <a:ext cx="1871640" cy="360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1 Rectángulo"/>
            <p:cNvSpPr/>
            <p:nvPr/>
          </p:nvSpPr>
          <p:spPr>
            <a:xfrm>
              <a:off x="1710000" y="4012200"/>
              <a:ext cx="183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</a:rPr>
                <a:t>Señal analógica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8 Grupo"/>
          <p:cNvGrpSpPr/>
          <p:nvPr/>
        </p:nvGrpSpPr>
        <p:grpSpPr>
          <a:xfrm>
            <a:off x="5931000" y="3956040"/>
            <a:ext cx="1873080" cy="372960"/>
            <a:chOff x="5931000" y="3956040"/>
            <a:chExt cx="1873080" cy="372960"/>
          </a:xfrm>
        </p:grpSpPr>
        <p:sp>
          <p:nvSpPr>
            <p:cNvPr id="480" name="9 Rectángulo"/>
            <p:cNvSpPr/>
            <p:nvPr/>
          </p:nvSpPr>
          <p:spPr>
            <a:xfrm>
              <a:off x="5931000" y="3956040"/>
              <a:ext cx="1873080" cy="358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10 Rectángulo"/>
            <p:cNvSpPr/>
            <p:nvPr/>
          </p:nvSpPr>
          <p:spPr>
            <a:xfrm>
              <a:off x="6107400" y="3991680"/>
              <a:ext cx="152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</a:rPr>
                <a:t>Señal Digital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11 Grupo"/>
          <p:cNvGrpSpPr/>
          <p:nvPr/>
        </p:nvGrpSpPr>
        <p:grpSpPr>
          <a:xfrm>
            <a:off x="1273320" y="6157800"/>
            <a:ext cx="2879640" cy="372960"/>
            <a:chOff x="1273320" y="6157800"/>
            <a:chExt cx="2879640" cy="372960"/>
          </a:xfrm>
        </p:grpSpPr>
        <p:sp>
          <p:nvSpPr>
            <p:cNvPr id="483" name="12 Rectángulo"/>
            <p:cNvSpPr/>
            <p:nvPr/>
          </p:nvSpPr>
          <p:spPr>
            <a:xfrm>
              <a:off x="1273320" y="6157800"/>
              <a:ext cx="2879640" cy="359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13 Rectángulo"/>
            <p:cNvSpPr/>
            <p:nvPr/>
          </p:nvSpPr>
          <p:spPr>
            <a:xfrm>
              <a:off x="1306080" y="619344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</a:rPr>
                <a:t>Señal analógica con ruido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14 Grupo"/>
          <p:cNvGrpSpPr/>
          <p:nvPr/>
        </p:nvGrpSpPr>
        <p:grpSpPr>
          <a:xfrm>
            <a:off x="5427720" y="6138720"/>
            <a:ext cx="2879640" cy="372960"/>
            <a:chOff x="5427720" y="6138720"/>
            <a:chExt cx="2879640" cy="372960"/>
          </a:xfrm>
        </p:grpSpPr>
        <p:sp>
          <p:nvSpPr>
            <p:cNvPr id="486" name="15 Rectángulo"/>
            <p:cNvSpPr/>
            <p:nvPr/>
          </p:nvSpPr>
          <p:spPr>
            <a:xfrm>
              <a:off x="5427720" y="6138720"/>
              <a:ext cx="2879640" cy="3607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16 Rectángulo"/>
            <p:cNvSpPr/>
            <p:nvPr/>
          </p:nvSpPr>
          <p:spPr>
            <a:xfrm>
              <a:off x="5629320" y="6174360"/>
              <a:ext cx="247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c00000"/>
                  </a:solidFill>
                  <a:latin typeface="Arial"/>
                </a:rPr>
                <a:t>Señal digital con ruido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10 Rectángulo redondeado"/>
          <p:cNvSpPr/>
          <p:nvPr/>
        </p:nvSpPr>
        <p:spPr>
          <a:xfrm>
            <a:off x="571680" y="2571840"/>
            <a:ext cx="7858080" cy="11430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25560">
            <a:solidFill>
              <a:srgbClr val="a3a3e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9 Rectángulo redondeado"/>
          <p:cNvSpPr/>
          <p:nvPr/>
        </p:nvSpPr>
        <p:spPr>
          <a:xfrm>
            <a:off x="5286240" y="1071720"/>
            <a:ext cx="3214800" cy="13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25560">
            <a:solidFill>
              <a:srgbClr val="a3a3e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8 Rectángulo redondeado"/>
          <p:cNvSpPr/>
          <p:nvPr/>
        </p:nvSpPr>
        <p:spPr>
          <a:xfrm>
            <a:off x="500040" y="1071720"/>
            <a:ext cx="4286160" cy="135720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25560">
            <a:solidFill>
              <a:srgbClr val="a3a3e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571680" y="2644200"/>
            <a:ext cx="792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semiconductor</a:t>
            </a: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, es un material que tiene las propiedades eléctricas de un conductor y de un aislante, como por ejemplo el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Germanio</a:t>
            </a: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ilicio</a:t>
            </a: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(metaloides)</a:t>
            </a: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, este ultimo el más utilizado en la actualidad para la fabricación de componentes electrón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3203640" y="549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LOS SEMICONDU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428760" y="1180800"/>
            <a:ext cx="446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Un material </a:t>
            </a: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conductor</a:t>
            </a: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, tiene gran cantidad de electrones libres, permitiendo el flujo de electrones entre sus átomos (electricida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je: el cob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5257800" y="1238760"/>
            <a:ext cx="317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i="1" lang="es-ES_tradnl" sz="1600" spc="-1" strike="noStrike">
                <a:solidFill>
                  <a:srgbClr val="c00000"/>
                </a:solidFill>
                <a:latin typeface="Arial"/>
              </a:rPr>
              <a:t>aislante</a:t>
            </a: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 es todo lo contrario por lo cual se dice que no conduce electric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je: Plás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9"/>
          <p:cNvSpPr/>
          <p:nvPr/>
        </p:nvSpPr>
        <p:spPr>
          <a:xfrm>
            <a:off x="214200" y="5647320"/>
            <a:ext cx="414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Después del </a:t>
            </a:r>
            <a:r>
              <a:rPr b="1" i="1" lang="es-ES_tradnl" sz="1400" spc="-1" strike="noStrike">
                <a:solidFill>
                  <a:srgbClr val="333399"/>
                </a:solidFill>
                <a:latin typeface="Arial"/>
              </a:rPr>
              <a:t>oxigeno</a:t>
            </a: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, el </a:t>
            </a:r>
            <a:r>
              <a:rPr b="1" i="1" lang="es-ES_tradnl" sz="1400" spc="-1" strike="noStrike">
                <a:solidFill>
                  <a:srgbClr val="c00000"/>
                </a:solidFill>
                <a:latin typeface="Arial"/>
              </a:rPr>
              <a:t>silicio</a:t>
            </a: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 es el elemento mas abundante en la corteza terrestre 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Arena, cuarzo, granito, arcilla,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1" descr="_tierra"/>
          <p:cNvPicPr/>
          <p:nvPr/>
        </p:nvPicPr>
        <p:blipFill>
          <a:blip r:embed="rId1"/>
          <a:stretch/>
        </p:blipFill>
        <p:spPr>
          <a:xfrm>
            <a:off x="857160" y="4071960"/>
            <a:ext cx="1714680" cy="14079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"/>
          <p:cNvPicPr/>
          <p:nvPr/>
        </p:nvPicPr>
        <p:blipFill>
          <a:blip r:embed="rId2"/>
          <a:stretch/>
        </p:blipFill>
        <p:spPr>
          <a:xfrm>
            <a:off x="6072120" y="4000680"/>
            <a:ext cx="1401840" cy="1143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"/>
          <p:cNvPicPr/>
          <p:nvPr/>
        </p:nvPicPr>
        <p:blipFill>
          <a:blip r:embed="rId3"/>
          <a:stretch/>
        </p:blipFill>
        <p:spPr>
          <a:xfrm>
            <a:off x="4643280" y="4000680"/>
            <a:ext cx="1285920" cy="1191960"/>
          </a:xfrm>
          <a:prstGeom prst="rect">
            <a:avLst/>
          </a:prstGeom>
          <a:ln w="0">
            <a:noFill/>
          </a:ln>
        </p:spPr>
      </p:pic>
      <p:sp>
        <p:nvSpPr>
          <p:cNvPr id="499" name="12 Rectángulo"/>
          <p:cNvSpPr/>
          <p:nvPr/>
        </p:nvSpPr>
        <p:spPr>
          <a:xfrm>
            <a:off x="5649840" y="5286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Sil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13 Rectángulo"/>
          <p:cNvSpPr/>
          <p:nvPr/>
        </p:nvSpPr>
        <p:spPr>
          <a:xfrm>
            <a:off x="4576320" y="5572080"/>
            <a:ext cx="35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- Fabricación de componentes electrón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14 Rectángulo"/>
          <p:cNvSpPr/>
          <p:nvPr/>
        </p:nvSpPr>
        <p:spPr>
          <a:xfrm>
            <a:off x="4576320" y="5786280"/>
            <a:ext cx="43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- Construcción de ladrillos, vidrios y otros mater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15 Rectángulo"/>
          <p:cNvSpPr/>
          <p:nvPr/>
        </p:nvSpPr>
        <p:spPr>
          <a:xfrm>
            <a:off x="4590360" y="600084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- Silicona para implantes méd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16 Rectángulo"/>
          <p:cNvSpPr/>
          <p:nvPr/>
        </p:nvSpPr>
        <p:spPr>
          <a:xfrm>
            <a:off x="4574520" y="619596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Arial"/>
              </a:rPr>
              <a:t>- Fertilízate en la agricul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6"/>
          <p:cNvSpPr/>
          <p:nvPr/>
        </p:nvSpPr>
        <p:spPr>
          <a:xfrm>
            <a:off x="3348000" y="6922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TIPOS DE SEMICONDUC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971640" y="4565520"/>
            <a:ext cx="3286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PO P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tadores mayoritarios huecos 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381960" y="1816200"/>
            <a:ext cx="842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2d2d8a"/>
                </a:solidFill>
                <a:latin typeface="Arial"/>
              </a:rPr>
              <a:t>Semiconductores Extrínsecos: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le agregan impurezas, es decir átom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otros materiales (aleaciones). Proceso conocido como dopaje del cristal de sili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3" descr=""/>
          <p:cNvPicPr/>
          <p:nvPr/>
        </p:nvPicPr>
        <p:blipFill>
          <a:blip r:embed="rId1"/>
          <a:stretch/>
        </p:blipFill>
        <p:spPr>
          <a:xfrm>
            <a:off x="1562040" y="2562120"/>
            <a:ext cx="2438640" cy="18766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4" descr=""/>
          <p:cNvPicPr/>
          <p:nvPr/>
        </p:nvPicPr>
        <p:blipFill>
          <a:blip r:embed="rId2"/>
          <a:stretch/>
        </p:blipFill>
        <p:spPr>
          <a:xfrm>
            <a:off x="5286240" y="2600280"/>
            <a:ext cx="2770200" cy="178596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8"/>
          <p:cNvSpPr/>
          <p:nvPr/>
        </p:nvSpPr>
        <p:spPr>
          <a:xfrm>
            <a:off x="4714920" y="4518000"/>
            <a:ext cx="3286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PO 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tadores mayoritarios electrones (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5" descr=""/>
          <p:cNvPicPr/>
          <p:nvPr/>
        </p:nvPicPr>
        <p:blipFill>
          <a:blip r:embed="rId3"/>
          <a:stretch/>
        </p:blipFill>
        <p:spPr>
          <a:xfrm>
            <a:off x="1204920" y="5472000"/>
            <a:ext cx="2600280" cy="12193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"/>
          <p:cNvPicPr/>
          <p:nvPr/>
        </p:nvPicPr>
        <p:blipFill>
          <a:blip r:embed="rId4"/>
          <a:stretch/>
        </p:blipFill>
        <p:spPr>
          <a:xfrm>
            <a:off x="5086440" y="5519880"/>
            <a:ext cx="2543040" cy="112392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14"/>
          <p:cNvSpPr/>
          <p:nvPr/>
        </p:nvSpPr>
        <p:spPr>
          <a:xfrm>
            <a:off x="179280" y="102312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2d2d8a"/>
                </a:solidFill>
                <a:latin typeface="Arial"/>
              </a:rPr>
              <a:t>Semiconductores Intrínsecos: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ristales en estado puro, todos los áto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on iguales con la misma cantidad de cargas positivas y negativa (4). El silicio se comporta como un aisl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3927240" y="40464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LA UNION 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"/>
          <p:cNvSpPr/>
          <p:nvPr/>
        </p:nvSpPr>
        <p:spPr>
          <a:xfrm>
            <a:off x="3059280" y="4437000"/>
            <a:ext cx="792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8172360" y="4992840"/>
            <a:ext cx="79236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0"/>
          <p:cNvSpPr/>
          <p:nvPr/>
        </p:nvSpPr>
        <p:spPr>
          <a:xfrm>
            <a:off x="250920" y="2133720"/>
            <a:ext cx="792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1"/>
          <p:cNvSpPr/>
          <p:nvPr/>
        </p:nvSpPr>
        <p:spPr>
          <a:xfrm>
            <a:off x="4859280" y="2133720"/>
            <a:ext cx="792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4"/>
          <p:cNvSpPr/>
          <p:nvPr/>
        </p:nvSpPr>
        <p:spPr>
          <a:xfrm>
            <a:off x="5435640" y="3213000"/>
            <a:ext cx="165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3714840" y="485784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rrera de pote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1071720" y="4857840"/>
            <a:ext cx="1942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Arial"/>
              </a:rPr>
              <a:t>ZONA 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tadores Mayoritarios Hue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6215040" y="4857840"/>
            <a:ext cx="2071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2d2d8a"/>
                </a:solidFill>
                <a:latin typeface="Arial"/>
              </a:rPr>
              <a:t>ZONA 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tadores Mayoritarios electr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2000160" y="1214280"/>
            <a:ext cx="5143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d2d8a"/>
                </a:solidFill>
                <a:latin typeface="Arial"/>
              </a:rPr>
              <a:t>UNION DE DOS ELECTRODOS (DIO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2d2d8a"/>
                </a:solidFill>
                <a:latin typeface="Arial"/>
              </a:rPr>
              <a:t>(SEMICONDUCTORES P Y 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8" descr=""/>
          <p:cNvPicPr/>
          <p:nvPr/>
        </p:nvPicPr>
        <p:blipFill>
          <a:blip r:embed="rId1"/>
          <a:stretch/>
        </p:blipFill>
        <p:spPr>
          <a:xfrm>
            <a:off x="2000160" y="2214720"/>
            <a:ext cx="5243760" cy="263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2624760" y="565200"/>
            <a:ext cx="438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POLARIZACIÓN DIRECTA DE LA UNION 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12" descr=""/>
          <p:cNvPicPr/>
          <p:nvPr/>
        </p:nvPicPr>
        <p:blipFill>
          <a:blip r:embed="rId1"/>
          <a:stretch/>
        </p:blipFill>
        <p:spPr>
          <a:xfrm>
            <a:off x="900000" y="1000080"/>
            <a:ext cx="7632720" cy="4516560"/>
          </a:xfrm>
          <a:prstGeom prst="rect">
            <a:avLst/>
          </a:prstGeom>
          <a:ln w="0">
            <a:noFill/>
          </a:ln>
        </p:spPr>
      </p:pic>
      <p:sp>
        <p:nvSpPr>
          <p:cNvPr id="526" name="12 Rectángulo"/>
          <p:cNvSpPr/>
          <p:nvPr/>
        </p:nvSpPr>
        <p:spPr>
          <a:xfrm>
            <a:off x="2032200" y="5643720"/>
            <a:ext cx="585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Zona de agotamiento se re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Si la unión es de Silicio, el VD debe se superior a 0,7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Si la unión es de Germanio, el VD debe ser superior a 0,3 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Hay circulación de corriente desde ID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08:18Z</dcterms:created>
  <dc:creator>Pablo Turmero</dc:creator>
  <dc:description/>
  <dc:language>en-US</dc:language>
  <cp:lastModifiedBy>Pablo Turmero</cp:lastModifiedBy>
  <dcterms:modified xsi:type="dcterms:W3CDTF">2014-08-03T15:29:36Z</dcterms:modified>
  <cp:revision>317</cp:revision>
  <dc:subject/>
  <dc:title>Diapositiva 1</dc:title>
</cp:coreProperties>
</file>