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24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3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689-B860-43DC-9CE6-650E836BBB1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E1C-413B-43E4-BB32-51D44DFFA9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146F-B061-4493-AD56-9907E382669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3A7-09FB-41DC-BB0B-201B0D475F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02B-47C8-4BFA-9042-EE673E0091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9608-6F89-4DB7-B3A6-2CBE741CB2F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8F-9A51-4437-890D-7270F4C9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5D3-8291-4D4A-8CA8-84544FA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9203-AE22-4061-BB79-547826E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63EE4-5AAD-4B03-83BF-D75C98B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22390-1ECB-4830-9C79-C2C79ED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6A35F-EDC2-40AB-9498-B4E0FDF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56449-AC7E-4455-AC07-962D993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9F84-E88A-49D7-A085-301A691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CA46C-C846-4E5B-87BE-4921831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C0C93-BE30-4A20-879B-A5AF79D8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A9E8F-186F-4581-AED1-CE8EC918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5975-8760-41FD-8CFB-5F2D651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17D-482C-4369-A713-F2824902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74497-94A8-4CB6-98D0-21AD9592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1257-9EF6-47F7-89F0-979E493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38EE4-CAAF-41A6-9B2B-0AFBBFDF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B01E7-7B04-4A95-919C-002F051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831BD-B777-4AB6-8E54-15450E8F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9FC7-DBF9-4354-8E1B-C7E6D9D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1B7B-A082-4826-8AC6-64DCD4B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69C12-2086-47C2-8615-6CC05E69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A0163-4459-4326-9205-91ACFF5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DA0E-1E4E-4D48-A838-EF7FC5CA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3FE-E5E8-41DD-B3AC-2129433A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32CDA-B4E1-49F0-98F4-AA7C0DF9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E56D-A83A-42EC-A793-B4F8CEA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8C15-A232-41B4-87EE-EDB37C2E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B8B79-C540-43B8-A3BA-5A4E6D0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2B033-1C2C-4094-AD1F-8BECC59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C981-913C-4035-8209-3C75E6E5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0A30-6775-4ED4-9119-7BA62381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FD8D8-1C53-490D-A5A1-E611D58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C3344-AECB-480A-A4C1-67E985E2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9FC8-DAF3-4AE7-B3CE-9BDC7DE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AA50-94F6-4A3D-937F-DDBEFD28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2437-2055-41DD-A027-2CF59D4E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C2968-9D77-42EA-973B-ECFCD27F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78660-7A59-4B88-9EFF-162608D7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2060C-056B-443D-A038-0E9B9D48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9F2D2-B2ED-4BF1-BBCA-F6798BF7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C3443-046E-4D9F-A9A5-91D50B0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8A0F2-9993-4D72-A241-9A19D16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64250-E85D-46CB-A0EF-F304800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A27CB-BCF6-406F-B08B-56E4E0B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E3F3-D44C-43E2-AE09-03BE97B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50B1-6028-4B37-A9D6-4BB3BAF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32FF5-95F4-45E5-A4BD-0856A8C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B4D82-7693-4340-A68B-4984C1D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63789-E944-4267-AE10-7D8A0D1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1C15D-73AD-46CF-B8F7-3869F43E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531C7-4ED6-4AEC-BA0E-FEA32A37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5467-B7ED-43E6-9992-EC093C4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286-0DCA-4B84-B7E7-FCBFC48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02DD-BEA8-4EDB-8D8A-6519F78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BEDA-E540-4354-8B2A-3594C81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BA3-F17F-4738-A6E6-867B7CF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67E-8381-4EFB-9D2F-C6CE23A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4E5C-3475-4AE0-86C6-D266BDC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85F4-EA01-44B9-BFFD-38DBB4B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70FC-4F6C-44C3-A8F8-BE9D976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55B3-AA30-48A1-B3AB-4F246A75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C26-6CBE-4622-8797-6DADD6DC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F727-9C89-4377-B66B-949EF94E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FFD9-737E-4602-9E8F-35FC123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5EBB-7707-4EA0-8409-CED6CCB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8623-F16A-43B2-A1C7-B9D5775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A983-037C-49F9-BE7C-FE3FD47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574-A4A7-4720-9836-9929346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64D1-9D3A-4FD0-9CF9-65573CB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1068-3F2D-47D7-A10C-0F1897B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0AFB-B3DA-4EC0-8757-61C8DF9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DD1E-E8FB-4CEF-B682-A775C7C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A5BD-5FD3-409B-933A-B1271D3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6C6E-87C7-4A2D-A73F-251D422E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A81B-D0FE-4F1E-8DF8-26678FA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9A23-6E89-4519-8584-A4C3FF3F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C845-7DAD-42AF-9C79-08690AA5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7569-7DCF-4992-87FC-8C989F8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CE2-70FC-4FAA-AFC2-CD6F2DB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4CE9-3967-4794-888B-CA1A70C5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C832-E50B-463C-B3B4-58AC884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0820-BC7C-4708-BDFD-1992482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E31F-1DF9-4629-ADE1-58E7F4D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20DEE-FA66-4CFB-A7FD-6683B7E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F933-9B1E-4913-B9B1-A4C7B75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F96D-38DE-499A-8E98-D9D9EE1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815A-0099-4F03-8339-62AD4A3D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1619-F8B3-49A9-9581-2CA920A5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14C8-B940-499F-A7FA-2E42655D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718-320F-40F7-B428-A96B977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8139-D706-4DD2-9DD4-5089C88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8266-14A9-47C2-BA66-D65731B5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4440-93B4-41B4-8E5B-4369C5C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D18D-5F0C-4833-ABCC-45A7F6EF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4D70-07AB-45C4-93C5-A20BED0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7910-7BEA-405E-A30C-F9FE742E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0FEB-2D76-4C83-A1AA-C328824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A637-1DD3-4F46-B197-60D43DBC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8B5D-9BE1-4C57-A390-715FACE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40C2-AE15-4298-B5BC-7D762D51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7FD-1BD4-4B37-94B6-982E4EE5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C96D-C507-46BB-817B-13A11114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3803-9CE4-4EB2-A15C-6D2539DE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0A8E3-1CD0-490B-AF0B-AC45A8CD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20B4-E416-4EAE-808C-94FE8CD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850E-E058-4AD6-9CD1-4586A24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43C00-7C17-4CD8-B4B7-C5E66768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70169-7E42-436D-9514-8E8B820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C48B-2FA5-463F-B9CD-B8E88DE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9C36B-481D-4BC0-AC10-0840FA3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1D97-9F00-4587-B892-8849AC9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70B-586A-4FFE-8FD9-5FB8C3A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BBC3-3161-484A-A7EB-A19E9E3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8CE2-E3B2-4CDD-89D4-5FC2391D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9B16-36DA-4AD8-BD7F-D7105B9F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ED61-2833-438C-8EA4-30655D58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C4B4-7FAB-415A-9265-3C2EB58F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E36EF-C9A2-40F8-BE45-91DF0848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2320-EEBF-4E96-9FFD-9E2A3B3B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1427-2D24-4F12-A725-0E0501F6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C7BD-F207-4A94-B2A4-2987D915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EDCF-3E08-46D8-BE21-7FE91E1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81A-FA22-454A-9C10-72ED6D0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309F-2A7C-4081-B49B-C4143D3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2B69A-6463-4739-9997-A8B155D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BA77E-0ADA-4FF4-8A66-5326E319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0F65D-1E2B-4B70-81DA-6F0C968D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557B9-908B-4217-8608-165EAD22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578C-9D77-4615-AF99-5DD0D1F5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32A5F-7E7B-4109-8C67-18B62247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6DB1-5787-45F7-84B6-EB6747C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2BFF-6C4D-4789-B0E6-D017434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5391-C935-43E0-85F3-39BE9D7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DA4-D44F-433F-8A4B-43815D8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9A61-C6F9-42C3-BD84-583EB17A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65C8-BC74-450E-BC1F-A54C54F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D403-3F54-4217-949F-EA7370B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0206-B942-4600-99BF-F42B82F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0243A-8DF9-4803-A40F-F83B1E6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BC6F-6EC5-43B1-B249-910DADE4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30CE-C084-4714-88A5-27637748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93849-E711-4869-9845-97BD82FE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79D0F-38CD-4737-B73F-E9BC2A2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DCF6F-551C-47BA-8D93-4958827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8A3-F7A1-49DD-8C3F-60F2E5B8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A23-DA10-4FF6-97C5-2DDCCA4E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2A53-FCF1-4609-8328-1FF1A0494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470-0583-4A7C-9707-91560FFF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0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0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AAE-C941-4E58-B052-934423F616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B246-E16B-4F7A-AA07-ACF3A99C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E8F-0514-40B8-A505-E20E40A81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B51-31E5-4BE3-8516-FF7ED075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668-2049-44FF-92B2-50307019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53F7-C04B-4C40-A0CF-BD6AAFA2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891-F433-4452-A0D2-9F920D105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C08-6215-4C25-974C-11322A36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5.wmf"/><Relationship Id="rId10" Type="http://schemas.openxmlformats.org/officeDocument/2006/relationships/image" Target="../media/image21.wmf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2.png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0000"/>
                </a:solidFill>
                <a:latin typeface="Times New Roman"/>
              </a:rPr>
              <a:t>Ingeniería Electrónica</a:t>
            </a:r>
            <a:br>
              <a:rPr sz="4400"/>
            </a:br>
            <a:r>
              <a:rPr b="1" i="1" lang="es-CL" sz="4400" spc="-1" strike="noStrike">
                <a:solidFill>
                  <a:srgbClr val="ff0000"/>
                </a:solidFill>
                <a:latin typeface="Times New Roman"/>
              </a:rPr>
              <a:t>Aplicaciones e Investigación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Object 2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1692360" cy="164772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647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336699"/>
                </a:solidFill>
                <a:latin typeface="Times New Roman"/>
              </a:rPr>
              <a:t>Telecomunicaciones</a:t>
            </a:r>
            <a:endParaRPr b="0" i="1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886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ecnologías de ac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lefonía , TV, Internet, 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Object 5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1258920" cy="1309680"/>
          </a:xfrm>
          <a:prstGeom prst="rect">
            <a:avLst/>
          </a:prstGeom>
          <a:ln w="0">
            <a:noFill/>
          </a:ln>
        </p:spPr>
      </p:pic>
      <p:pic>
        <p:nvPicPr>
          <p:cNvPr id="623" name="Object 6" descr=""/>
          <p:cNvPicPr/>
          <p:nvPr/>
        </p:nvPicPr>
        <p:blipFill>
          <a:blip r:embed="rId3"/>
          <a:stretch/>
        </p:blipFill>
        <p:spPr>
          <a:xfrm>
            <a:off x="0" y="2209680"/>
            <a:ext cx="1638360" cy="2416320"/>
          </a:xfrm>
          <a:prstGeom prst="rect">
            <a:avLst/>
          </a:prstGeom>
          <a:ln w="0">
            <a:noFill/>
          </a:ln>
        </p:spPr>
      </p:pic>
      <p:pic>
        <p:nvPicPr>
          <p:cNvPr id="624" name="Object 7" descr=""/>
          <p:cNvPicPr/>
          <p:nvPr/>
        </p:nvPicPr>
        <p:blipFill>
          <a:blip r:embed="rId4"/>
          <a:stretch/>
        </p:blipFill>
        <p:spPr>
          <a:xfrm>
            <a:off x="1905120" y="1676520"/>
            <a:ext cx="2800080" cy="179532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8" descr=""/>
          <p:cNvPicPr/>
          <p:nvPr/>
        </p:nvPicPr>
        <p:blipFill>
          <a:blip r:embed="rId5"/>
          <a:stretch/>
        </p:blipFill>
        <p:spPr>
          <a:xfrm>
            <a:off x="7010280" y="4191120"/>
            <a:ext cx="1258920" cy="1309680"/>
          </a:xfrm>
          <a:prstGeom prst="rect">
            <a:avLst/>
          </a:prstGeom>
          <a:ln w="0">
            <a:noFill/>
          </a:ln>
        </p:spPr>
      </p:pic>
      <p:sp>
        <p:nvSpPr>
          <p:cNvPr id="626" name="Line 10"/>
          <p:cNvSpPr/>
          <p:nvPr/>
        </p:nvSpPr>
        <p:spPr>
          <a:xfrm>
            <a:off x="2438280" y="3276720"/>
            <a:ext cx="22860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1"/>
          <p:cNvGrpSpPr/>
          <p:nvPr/>
        </p:nvGrpSpPr>
        <p:grpSpPr>
          <a:xfrm>
            <a:off x="3352680" y="3429000"/>
            <a:ext cx="1368720" cy="1295280"/>
            <a:chOff x="3352680" y="3429000"/>
            <a:chExt cx="1368720" cy="1295280"/>
          </a:xfrm>
        </p:grpSpPr>
        <p:pic>
          <p:nvPicPr>
            <p:cNvPr id="628" name="Object 12" descr=""/>
            <p:cNvPicPr/>
            <p:nvPr/>
          </p:nvPicPr>
          <p:blipFill>
            <a:blip r:embed="rId6"/>
            <a:stretch/>
          </p:blipFill>
          <p:spPr>
            <a:xfrm>
              <a:off x="3809880" y="3429000"/>
              <a:ext cx="9115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Line 13"/>
            <p:cNvSpPr/>
            <p:nvPr/>
          </p:nvSpPr>
          <p:spPr>
            <a:xfrm>
              <a:off x="3352680" y="4571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Line 14"/>
          <p:cNvSpPr/>
          <p:nvPr/>
        </p:nvSpPr>
        <p:spPr>
          <a:xfrm>
            <a:off x="3276720" y="4724280"/>
            <a:ext cx="38098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Object 18" descr=""/>
          <p:cNvPicPr/>
          <p:nvPr/>
        </p:nvPicPr>
        <p:blipFill>
          <a:blip r:embed="rId7"/>
          <a:stretch/>
        </p:blipFill>
        <p:spPr>
          <a:xfrm>
            <a:off x="4724280" y="1371600"/>
            <a:ext cx="1006560" cy="110952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19" descr=""/>
          <p:cNvPicPr/>
          <p:nvPr/>
        </p:nvPicPr>
        <p:blipFill>
          <a:blip r:embed="rId8"/>
          <a:stretch/>
        </p:blipFill>
        <p:spPr>
          <a:xfrm>
            <a:off x="7772400" y="380880"/>
            <a:ext cx="990720" cy="93024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20" descr=""/>
          <p:cNvPicPr/>
          <p:nvPr/>
        </p:nvPicPr>
        <p:blipFill>
          <a:blip r:embed="rId9"/>
          <a:stretch/>
        </p:blipFill>
        <p:spPr>
          <a:xfrm>
            <a:off x="7620120" y="1752480"/>
            <a:ext cx="1258920" cy="1309680"/>
          </a:xfrm>
          <a:prstGeom prst="rect">
            <a:avLst/>
          </a:prstGeom>
          <a:ln w="0">
            <a:noFill/>
          </a:ln>
        </p:spPr>
      </p:pic>
      <p:sp>
        <p:nvSpPr>
          <p:cNvPr id="634" name="Line 21"/>
          <p:cNvSpPr/>
          <p:nvPr/>
        </p:nvSpPr>
        <p:spPr>
          <a:xfrm flipV="1">
            <a:off x="830592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5410080" y="548640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laces de Fibra Opt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cnologías de transport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4876920" y="3124080"/>
            <a:ext cx="198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laces Inalámb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tenas, Propa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0"/>
          <p:cNvSpPr/>
          <p:nvPr/>
        </p:nvSpPr>
        <p:spPr>
          <a:xfrm>
            <a:off x="21337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entrales, Nodos de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Group 35"/>
          <p:cNvGrpSpPr/>
          <p:nvPr/>
        </p:nvGrpSpPr>
        <p:grpSpPr>
          <a:xfrm>
            <a:off x="0" y="3123720"/>
            <a:ext cx="1523880" cy="3224520"/>
            <a:chOff x="0" y="3123720"/>
            <a:chExt cx="1523880" cy="3224520"/>
          </a:xfrm>
        </p:grpSpPr>
        <p:pic>
          <p:nvPicPr>
            <p:cNvPr id="639" name="Object 9" descr=""/>
            <p:cNvPicPr/>
            <p:nvPr/>
          </p:nvPicPr>
          <p:blipFill>
            <a:blip r:embed="rId10"/>
            <a:stretch/>
          </p:blipFill>
          <p:spPr>
            <a:xfrm>
              <a:off x="0" y="5105520"/>
              <a:ext cx="1349280" cy="12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Line 17"/>
            <p:cNvSpPr/>
            <p:nvPr/>
          </p:nvSpPr>
          <p:spPr>
            <a:xfrm flipV="1">
              <a:off x="990720" y="3123720"/>
              <a:ext cx="53316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Object 31" descr=""/>
            <p:cNvPicPr/>
            <p:nvPr/>
          </p:nvPicPr>
          <p:blipFill>
            <a:blip r:embed="rId11"/>
            <a:stretch/>
          </p:blipFill>
          <p:spPr>
            <a:xfrm>
              <a:off x="304920" y="3200400"/>
              <a:ext cx="990360" cy="930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42" name="Object 32"/>
          <p:cNvGraphicFramePr/>
          <p:nvPr/>
        </p:nvGraphicFramePr>
        <p:xfrm>
          <a:off x="6324480" y="1676520"/>
          <a:ext cx="1467000" cy="1371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3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1676520"/>
                    <a:ext cx="1467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Line 33"/>
          <p:cNvSpPr/>
          <p:nvPr/>
        </p:nvSpPr>
        <p:spPr>
          <a:xfrm flipV="1">
            <a:off x="3429000" y="2895120"/>
            <a:ext cx="4343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4"/>
          <p:cNvSpPr/>
          <p:nvPr/>
        </p:nvSpPr>
        <p:spPr>
          <a:xfrm flipH="1">
            <a:off x="7315200" y="2971800"/>
            <a:ext cx="4572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6"/>
          <p:cNvSpPr/>
          <p:nvPr/>
        </p:nvSpPr>
        <p:spPr>
          <a:xfrm>
            <a:off x="8153280" y="3429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Object 37" descr=""/>
          <p:cNvPicPr/>
          <p:nvPr/>
        </p:nvPicPr>
        <p:blipFill>
          <a:blip r:embed="rId14"/>
          <a:stretch/>
        </p:blipFill>
        <p:spPr>
          <a:xfrm flipH="1">
            <a:off x="-360" y="1752480"/>
            <a:ext cx="14209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 de Ejecución Electrón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rrera de Ingeniería de 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fesional que egresa de esta carrera tiene los conocimientos científicos, tecnológicos, de gestión y humanísticos para 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ejecutar proyectos, y operar y mantene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sistemas de telecomunicaciones, de redes computacionales y de procesos indust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ha detectado que la empresa requiere un elevado grado de especialización de este profesional, por lo que existen 4 me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219320" y="4336920"/>
            <a:ext cx="7619760" cy="231876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menciones del Ingeniero de Ejecución Electrónico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rol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trón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 Civil Electrón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rrera de Ingeniería de 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fesional que egresa de esta carrera tiene los conocimientos científicos, tecnológicos, de gestión y humanísticos para 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proyectar, diseñar, planificar, instalar y administr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sistemas de telecomunicaciones, de redes computacionales y de procesos indust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ha detectado que la empresa requiere un grado de especialización más amplio de este profesional, por lo que existen 4 menciones apoyadas con conocimientos comple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219320" y="3809880"/>
            <a:ext cx="7619760" cy="281952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menciones principal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del Ingeniero Civil Electrónico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rol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trón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334120" y="4267080"/>
            <a:ext cx="3504960" cy="23623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 se complementan con las </a:t>
            </a:r>
            <a:r>
              <a:rPr b="1" lang="es-CL" sz="2400" spc="-1" strike="noStrike">
                <a:solidFill>
                  <a:srgbClr val="cc0000"/>
                </a:solidFill>
                <a:latin typeface="Times New Roman"/>
              </a:rPr>
              <a:t>menciones secundari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e Instr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ectrónic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ón Administ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Magíster y Doctorado en Ingeniería Electrón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169200" indent="-16920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Magíste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los egresados de este programa adquie-ren un 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conocimiento más profun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que en la carrera de Ingeniería, 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del estado del arte de la investigación y del desarrol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las área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169560">
              <a:lnSpc>
                <a:spcPct val="90000"/>
              </a:lnSpc>
              <a:spcBef>
                <a:spcPts val="337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</a:rPr>
              <a:t>Control Automát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169560">
              <a:lnSpc>
                <a:spcPct val="90000"/>
              </a:lnSpc>
              <a:spcBef>
                <a:spcPts val="337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</a:rPr>
              <a:t>Electrónica Industri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169560">
              <a:lnSpc>
                <a:spcPct val="90000"/>
              </a:lnSpc>
              <a:spcBef>
                <a:spcPts val="3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</a:rPr>
              <a:t>Sistemas Computacionales y Telecomunic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200" indent="-1692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Doctora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los egresados de este programa están capacitados para 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hacer un aporte al conocimiento, a la investigación y al desarrol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de nuevas tecnologías en el áre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680" indent="-169560">
              <a:lnSpc>
                <a:spcPct val="90000"/>
              </a:lnSpc>
              <a:spcBef>
                <a:spcPts val="675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</a:rPr>
              <a:t>Sistemas Computacionales y Telecomunic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8380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malla curricular para el estudiante de ingeniería se divide en un plan común y luego los ramos propios de su carrera y me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WordArt 3"/>
          <p:cNvSpPr txBox="1"/>
          <p:nvPr/>
        </p:nvSpPr>
        <p:spPr>
          <a:xfrm>
            <a:off x="914400" y="457200"/>
            <a:ext cx="6629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n de Estudios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380880" y="4876920"/>
            <a:ext cx="198144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an Común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4114800" y="4876920"/>
            <a:ext cx="190512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an Común Ingeniería Civil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6705720" y="4800600"/>
            <a:ext cx="2057400" cy="1752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Menciones) Ingeniería Civil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7"/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106920 w 685800"/>
              <a:gd name="textAreaRight" fmla="*/ 600120 w 685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4191120" y="3048120"/>
            <a:ext cx="1904760" cy="152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eniería Ejecución Electrónica (Men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20"/>
          <p:cNvSpPr/>
          <p:nvPr/>
        </p:nvSpPr>
        <p:spPr>
          <a:xfrm>
            <a:off x="3124080" y="3581280"/>
            <a:ext cx="838440" cy="1067040"/>
          </a:xfrm>
          <a:custGeom>
            <a:avLst/>
            <a:gdLst>
              <a:gd name="textAreaLeft" fmla="*/ 482400 w 838440"/>
              <a:gd name="textAreaRight" fmla="*/ 707760 w 838440"/>
              <a:gd name="textAreaTop" fmla="*/ 143640 h 1067040"/>
              <a:gd name="textAreaBottom" fmla="*/ 4568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1"/>
          <p:cNvSpPr/>
          <p:nvPr/>
        </p:nvSpPr>
        <p:spPr>
          <a:xfrm rot="5400000">
            <a:off x="6171840" y="3809880"/>
            <a:ext cx="838080" cy="685800"/>
          </a:xfrm>
          <a:custGeom>
            <a:avLst/>
            <a:gdLst>
              <a:gd name="textAreaLeft" fmla="*/ 482040 w 838080"/>
              <a:gd name="textAreaRight" fmla="*/ 707400 w 838080"/>
              <a:gd name="textAreaTop" fmla="*/ 92160 h 685800"/>
              <a:gd name="textAreaBottom" fmla="*/ 2934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2"/>
          <p:cNvSpPr/>
          <p:nvPr/>
        </p:nvSpPr>
        <p:spPr>
          <a:xfrm>
            <a:off x="2819520" y="5334120"/>
            <a:ext cx="1295280" cy="609480"/>
          </a:xfrm>
          <a:prstGeom prst="rightArrow">
            <a:avLst>
              <a:gd name="adj1" fmla="val 50000"/>
              <a:gd name="adj2" fmla="val 53131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3"/>
          <p:cNvSpPr/>
          <p:nvPr/>
        </p:nvSpPr>
        <p:spPr>
          <a:xfrm>
            <a:off x="2971800" y="4876920"/>
            <a:ext cx="6094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Resumen de la exposición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es Ingenierí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es </a:t>
            </a:r>
            <a:r>
              <a:rPr b="0" lang="es-CL" sz="2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Ingeniería Electrónic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reas de aplicación de la Ing.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Computadoras y Sistemas 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ectrónic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ternativas Académ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de Ejecución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Civil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gíster y Doct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an de Car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rientación acadé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presas vinculadas al sector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licación del 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ingeni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la resolución de problemas tecn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complejidad de los problemas a ser resueltos ha resultado en la creación de especia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Civi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Mecán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Eléctr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eniería Electrón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ormátic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ualmente se están concibiendo carreras que conjugan especialidades tradicion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ectromedici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catrón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lemática, etc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 Electrón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preocupa del desarrollo de dispositivos, circuitos, sistemas y programas que permiten hacer más eficientes los procesos productivos, la prestación de servicios  y el manejo de la in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aplicaciones en la minería, la manufactura de bienes, en empresas de servicios (bancos, AFP, correo, hospitales, centros de investigación, universidades, etc.) robótica, agri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mite desarrollar nuevos inventos y disposi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316160" y="4365720"/>
            <a:ext cx="7696080" cy="202248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riqueza de posibilidades que ofrece la Electrónica sólo está limitada por la imag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de las ramas de la Ingeniería de mayor aplicación en el mundo que nos ro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 </a:t>
            </a:r>
            <a:br>
              <a:rPr sz="4400"/>
            </a:b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Electrónica o Informát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ilit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bas trabajan con comput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bos planifican, desarrollan y administran sistemas multime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bas trabajan con diseño de algoritmos y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143000" y="3886200"/>
            <a:ext cx="3886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21600" tIns="46080" bIns="46080" anchor="t">
            <a:normAutofit/>
          </a:bodyPr>
          <a:p>
            <a:pPr marL="190440" indent="-19044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ción, procesamiento y actu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s compu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4876920" y="38862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21600" tIns="46080" bIns="46080" anchor="t">
            <a:normAutofit fontScale="85000"/>
          </a:bodyPr>
          <a:p>
            <a:pPr marL="161640" indent="-16164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1620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, texto, imá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1620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ucturación y manejo de sistemas de información (bases de dat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1620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s infor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Ingeniería </a:t>
            </a:r>
            <a:br>
              <a:rPr sz="4400"/>
            </a:b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Eléctrica o Electrónica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ilit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bas trabajan con voltajes y cor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bas trabajan con Campos Electromag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143000" y="350532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ción, procesamiento y actu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, V 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5257800" y="350532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ción,  distribución y co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, V o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0" y="533520"/>
            <a:ext cx="487692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533520" y="4648320"/>
            <a:ext cx="822960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4876920" y="457200"/>
            <a:ext cx="4114800" cy="373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5" descr="router"/>
          <p:cNvPicPr/>
          <p:nvPr/>
        </p:nvPicPr>
        <p:blipFill>
          <a:blip r:embed="rId1"/>
          <a:stretch/>
        </p:blipFill>
        <p:spPr>
          <a:xfrm>
            <a:off x="1066680" y="5181480"/>
            <a:ext cx="1667160" cy="709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voip"/>
          <p:cNvPicPr/>
          <p:nvPr/>
        </p:nvPicPr>
        <p:blipFill>
          <a:blip r:embed="rId2"/>
          <a:stretch/>
        </p:blipFill>
        <p:spPr>
          <a:xfrm>
            <a:off x="7391520" y="1066680"/>
            <a:ext cx="1447560" cy="11908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7"/>
          <p:cNvSpPr/>
          <p:nvPr/>
        </p:nvSpPr>
        <p:spPr>
          <a:xfrm>
            <a:off x="762120" y="0"/>
            <a:ext cx="39621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eño digital Asistido por 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9" descr="hacker3"/>
          <p:cNvPicPr/>
          <p:nvPr/>
        </p:nvPicPr>
        <p:blipFill>
          <a:blip r:embed="rId3"/>
          <a:stretch/>
        </p:blipFill>
        <p:spPr>
          <a:xfrm>
            <a:off x="5486400" y="114300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0"/>
          <p:cNvSpPr/>
          <p:nvPr/>
        </p:nvSpPr>
        <p:spPr>
          <a:xfrm>
            <a:off x="5791320" y="6094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arrollo de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5105520" y="21337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eño de nuevos sist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7451640" y="2286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oz sobre Redes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52388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de computadores y servicios aso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137160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2895480" y="6019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5791320" y="6095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des de computadores  Inalámb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17" descr="figure_1"/>
          <p:cNvPicPr/>
          <p:nvPr/>
        </p:nvPicPr>
        <p:blipFill>
          <a:blip r:embed="rId4"/>
          <a:stretch/>
        </p:blipFill>
        <p:spPr>
          <a:xfrm>
            <a:off x="2895480" y="3352680"/>
            <a:ext cx="3733920" cy="217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18"/>
          <p:cNvSpPr/>
          <p:nvPr/>
        </p:nvSpPr>
        <p:spPr>
          <a:xfrm>
            <a:off x="41148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6248520" y="39625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timedia en redes de Compu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20" descr="accessPoint"/>
          <p:cNvPicPr/>
          <p:nvPr/>
        </p:nvPicPr>
        <p:blipFill>
          <a:blip r:embed="rId5"/>
          <a:stretch/>
        </p:blipFill>
        <p:spPr>
          <a:xfrm>
            <a:off x="6324480" y="5181480"/>
            <a:ext cx="1371600" cy="935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1" descr="switch"/>
          <p:cNvPicPr/>
          <p:nvPr/>
        </p:nvPicPr>
        <p:blipFill>
          <a:blip r:embed="rId6"/>
          <a:stretch/>
        </p:blipFill>
        <p:spPr>
          <a:xfrm>
            <a:off x="2895480" y="5410080"/>
            <a:ext cx="1143000" cy="671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2" descr="XSV-1_0-LABELEDSmall"/>
          <p:cNvPicPr/>
          <p:nvPr/>
        </p:nvPicPr>
        <p:blipFill>
          <a:blip r:embed="rId7"/>
          <a:stretch/>
        </p:blipFill>
        <p:spPr>
          <a:xfrm>
            <a:off x="2209680" y="1295280"/>
            <a:ext cx="2667240" cy="1847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3" descr="videoOnDemandSmall"/>
          <p:cNvPicPr/>
          <p:nvPr/>
        </p:nvPicPr>
        <p:blipFill>
          <a:blip r:embed="rId8"/>
          <a:stretch/>
        </p:blipFill>
        <p:spPr>
          <a:xfrm>
            <a:off x="6324480" y="2590920"/>
            <a:ext cx="2428920" cy="1352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4" descr="softwareSmall"/>
          <p:cNvPicPr/>
          <p:nvPr/>
        </p:nvPicPr>
        <p:blipFill>
          <a:blip r:embed="rId9"/>
          <a:stretch/>
        </p:blipFill>
        <p:spPr>
          <a:xfrm>
            <a:off x="304920" y="3200400"/>
            <a:ext cx="2359080" cy="16034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599" name="Picture 25" descr="XS95-1_3-LABELEDSmall"/>
          <p:cNvPicPr/>
          <p:nvPr/>
        </p:nvPicPr>
        <p:blipFill>
          <a:blip r:embed="rId10"/>
          <a:stretch/>
        </p:blipFill>
        <p:spPr>
          <a:xfrm>
            <a:off x="152280" y="1219320"/>
            <a:ext cx="2362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491976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336699"/>
                </a:solidFill>
                <a:latin typeface="Times New Roman"/>
              </a:rPr>
              <a:t>Control Automático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601" name="Group 8"/>
          <p:cNvGrpSpPr/>
          <p:nvPr/>
        </p:nvGrpSpPr>
        <p:grpSpPr>
          <a:xfrm>
            <a:off x="1143000" y="2590920"/>
            <a:ext cx="7772400" cy="3949560"/>
            <a:chOff x="1143000" y="2590920"/>
            <a:chExt cx="7772400" cy="3949560"/>
          </a:xfrm>
        </p:grpSpPr>
        <p:graphicFrame>
          <p:nvGraphicFramePr>
            <p:cNvPr id="602" name="Object 9"/>
            <p:cNvGraphicFramePr/>
            <p:nvPr/>
          </p:nvGraphicFramePr>
          <p:xfrm>
            <a:off x="1143000" y="2590920"/>
            <a:ext cx="7772400" cy="394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590920"/>
                      <a:ext cx="7772400" cy="39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4" name="Text Box 10"/>
            <p:cNvSpPr/>
            <p:nvPr/>
          </p:nvSpPr>
          <p:spPr>
            <a:xfrm>
              <a:off x="5105520" y="51818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1"/>
            <p:cNvSpPr/>
            <p:nvPr/>
          </p:nvSpPr>
          <p:spPr>
            <a:xfrm>
              <a:off x="1295280" y="5486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Venti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2057400" y="5943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3"/>
            <p:cNvSpPr/>
            <p:nvPr/>
          </p:nvSpPr>
          <p:spPr>
            <a:xfrm>
              <a:off x="3352680" y="381024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Filt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4"/>
            <p:cNvSpPr/>
            <p:nvPr/>
          </p:nvSpPr>
          <p:spPr>
            <a:xfrm>
              <a:off x="3886200" y="26672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15"/>
            <p:cNvSpPr/>
            <p:nvPr/>
          </p:nvSpPr>
          <p:spPr>
            <a:xfrm>
              <a:off x="5029200" y="32004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Rosca de rech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16"/>
            <p:cNvSpPr/>
            <p:nvPr/>
          </p:nvSpPr>
          <p:spPr>
            <a:xfrm>
              <a:off x="7162920" y="48006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Transport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7"/>
            <p:cNvSpPr/>
            <p:nvPr/>
          </p:nvSpPr>
          <p:spPr>
            <a:xfrm>
              <a:off x="6934320" y="27432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Tolvas de Carb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18"/>
            <p:cNvSpPr/>
            <p:nvPr/>
          </p:nvSpPr>
          <p:spPr>
            <a:xfrm>
              <a:off x="7162920" y="52578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álv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19"/>
            <p:cNvSpPr/>
            <p:nvPr/>
          </p:nvSpPr>
          <p:spPr>
            <a:xfrm>
              <a:off x="5715000" y="601992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Generador de ca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Text Box 5"/>
          <p:cNvSpPr/>
          <p:nvPr/>
        </p:nvSpPr>
        <p:spPr>
          <a:xfrm>
            <a:off x="1143000" y="1371600"/>
            <a:ext cx="7696080" cy="111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99"/>
                </a:solidFill>
                <a:latin typeface="Arial"/>
              </a:rPr>
              <a:t>Sensores y Actu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Modelado y Estrategi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ótica, Lógica Dif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55292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ff"/>
                </a:solidFill>
                <a:latin typeface="Times New Roman"/>
              </a:rPr>
              <a:t>Electrónica Industrial (ó de Potencia)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371600" y="1752480"/>
            <a:ext cx="2666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r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C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rol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7" descr="pala"/>
          <p:cNvPicPr/>
          <p:nvPr/>
        </p:nvPicPr>
        <p:blipFill>
          <a:blip r:embed="rId1"/>
          <a:stretch/>
        </p:blipFill>
        <p:spPr>
          <a:xfrm>
            <a:off x="4419720" y="3124080"/>
            <a:ext cx="4343400" cy="29498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8"/>
          <p:cNvSpPr/>
          <p:nvPr/>
        </p:nvSpPr>
        <p:spPr>
          <a:xfrm>
            <a:off x="4343400" y="1752480"/>
            <a:ext cx="452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ción, automatización y control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9:09:38Z</dcterms:created>
  <dc:creator>Pablo Turmero</dc:creator>
  <dc:description/>
  <dc:language>en-US</dc:language>
  <cp:lastModifiedBy>Pablo Turmero</cp:lastModifiedBy>
  <dcterms:modified xsi:type="dcterms:W3CDTF">2014-10-08T22:46:45Z</dcterms:modified>
  <cp:revision>31</cp:revision>
  <dc:subject/>
  <dc:title/>
</cp:coreProperties>
</file>