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36.png" ContentType="image/png"/>
  <Override PartName="/ppt/media/image6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B2C-6EFD-445D-A202-42C72782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3D23-9102-4E1C-91F5-CA2981C6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86C58-D247-4133-8A70-4E6AADBC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4DC77-6008-42BE-9555-EBA20443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D55AE-030C-4005-8B43-79AFC04A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AD43D-0510-451E-A1CD-371769E0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44FD8-B836-43D7-B267-C0101570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6CDE4-E0FA-49BD-AF24-3EB8E993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2EFB4-18D3-49B3-972C-CD6E24AD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7354F-17D5-4DEC-93B7-CCF39889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0515D-92BD-41DC-B0F7-54088B1E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DE632-3B17-4EF2-AFEF-C37EF101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9EA-F80D-4E4B-9440-76DBDCC7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35C9A-5FC7-4BEC-AD2E-DA8462B3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07F50-F088-4C4E-8237-5437999F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2D550-7C35-48A8-8B86-97EFB1B2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F3110-57E4-4A14-9BFE-A3BBBD28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21973-F5B2-4604-BEA7-42C087D8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690FE-2712-4F80-AD5D-04A15FE7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775BB-52E9-45E0-BC41-8D523F17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5B2E0-8E6C-4ED5-8FB9-1EB48439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E9D80-9E93-4C45-88BF-197AFD79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A777D-2A49-4FA2-9AE4-03D434C9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8F30-0105-4C7C-81E9-7FD13979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B5F3A-3C87-481F-8D2F-6DAC6564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4664F-4F88-4600-AD24-F36CD322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735FB-D088-4157-BBF6-A35ACF99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84519-CAC7-4D57-981B-7F78771F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1AC14-70C6-4223-B953-142C3632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02363-F2B8-44E5-B2CD-CEC9E9A7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96645-ADCC-4000-B3D0-7664B483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47055-94D3-48D9-A077-A7ADC76F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D2CFF-DFA2-4700-A3B3-66180CED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48C8A-801D-48E9-9B35-FBA00445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EDCC-28AE-4E0E-9C8B-DD2EDD13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74D4A-FEAA-427B-8ABC-A4DBB09A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A2687-8654-40FB-94BB-B7D5881C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67659-696A-4236-8A83-226EB85A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67AD4-DDE5-46FE-9481-2D089C60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1B49D-D896-4860-95F7-45974995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EE133-85E5-44C1-B46D-FB3F7830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28DEF-8BCF-493B-936D-6F5B9C0A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D735B-6788-4D8D-AE2D-127EEC48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B54BD-B7B6-4FA4-9E28-65CDBE17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C4686-7AF7-445A-AFE1-6F15914B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99CD-A8FE-49A3-9686-F8AC620B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87C62-8B59-42A0-A7F3-FCDDD550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818EE-D3F9-4A6A-9EAD-F3306593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CAB0B-8D50-4738-B0DF-1FB1081D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877CB-25DE-4E31-A1E9-50195C9D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4F667-0594-48D2-9A59-D277929F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81DB-E735-4318-B889-06D35806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BB1B-29DB-4118-9F1E-F2A7C3D0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EE85-0D81-440D-8D1B-D22B4D54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2065-1C1D-4074-B2EF-08236765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579A-DA09-4B44-8287-C8C73AA5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2045-C58F-4E04-B898-6D590FB1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CD90-B845-485D-9E74-9A79213C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6052-40D4-46D0-A86A-18B6FFE9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D908-2530-41F8-A2C6-36E551D4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4593-7FD7-4FB8-84B9-5CD961A7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AE01-5FF2-4E58-B9EB-02F7DBE3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916B3-F2E6-460D-9422-6ED6878F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A4553-5498-4095-9888-70B93822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14BBA-9F1C-4C56-B46F-5DA76328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8B614-FA1E-4E4A-ADA5-C64C5BC6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C67E5-ACC7-44CA-A468-72F9EF1A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F2C-8275-41D7-AAC0-636BD2C3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26CA4-B60A-4364-98EE-CD673079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5C9CB-4893-40D9-8221-444FB984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E9CB2-70B9-4CFC-9A05-0A6ED664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3A20D-215A-4F67-AD33-327D67DB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5961E-9F3C-4558-87DF-60A28826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9C361-57A7-4782-AC2A-3D2F4193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72A3E-40FC-4A77-B94F-CCCBECE9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542FA-4483-4D40-89B2-76BF148E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6D5EC-7BDA-41B3-AC34-9DFB2CAB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597D6-DDFF-4A6C-9E88-A746074E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9FAC-98B1-41CD-8F29-FDB13CBD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794FC-EE94-4DC6-9C11-DA479BCB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BE5D4-BD51-4DC9-A334-684D377D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6750F-A6DD-4AB4-8A85-2C488B01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CD290-FF49-413D-9133-04BB3D36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DD5D6-88FA-46DB-A86B-430D6466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3BAFB-B6EE-400F-A99B-1948F5F9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FDCCB-1FC6-47B8-9E5A-AA0C7222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9E8D9-E7AF-4193-88E9-AFEF85BD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D229C-1CB5-4C6E-95D7-9B5B9806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63488-6B0C-4950-A4C1-8415388E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2A6C-C5D0-4416-8E9A-F052C1E5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2BD50-F5F5-4B90-B1AD-4AC07AD9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68E67-D4F1-4D88-AF07-1C5301AB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33A3C-EA7F-40B4-89B9-DF5F3119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681C8-D190-4AF5-8A70-7720E7EA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28383-C832-492F-AC7C-FB1ECD5B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2284C-CD4E-410E-9FA2-9BF540A7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DF375-540E-441F-A41B-FA3CB76E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F7FC2-3C90-4129-B719-6625F4BB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8C6C0-7FE3-4D7F-AA7A-64079BA5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95723-8F3C-4910-B49D-51482F0A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590-FFBF-4B7A-981F-54D10D8A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57299-12A3-46C5-A662-6EE91B0B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7B05C-1671-4DBB-96EB-3847C518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22899-97A7-4315-BD73-02FF3AFF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E7415-554C-44B7-8F65-6ED74667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7F125-6F7E-4801-93EF-3FE4B34F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A92E0-DCAB-4EEA-AB87-7A6F6FF0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B8FE1-64D2-444B-8F6F-D23E10F4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93B90-1EDD-4D15-8ED9-6AA7916D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1A7F0-C4ED-48CA-8D04-CFD25017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CD40A-7671-484D-97ED-572190A8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6639-A04B-4CB4-B9BB-86052836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9C9A9-E6EB-4A0E-A06A-E5DEB713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37008-6F96-499A-96D8-6BEC3081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E59B1-515C-4A7F-874C-7C7B4700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CA09B-3CA8-41C5-958D-35B900DF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22C4E-9CE3-40B9-A8E7-28C7EA9D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D0F8E-7388-4E9A-A3A5-335693F5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3A420-E86D-45F9-B44A-B1F04ECA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BB826-CCC3-4E7A-B100-0CDD2466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8C7F8-1543-4258-B2B6-B29D3762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2F1EF-F1A6-4D35-9847-247759F1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AC2-62B9-49BD-B29E-8044CFB0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843EC-F1B2-4536-B5E3-BF5F320B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D31C2-482C-49C4-8C21-BB489D4B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D20F1-0021-4D7D-AEA5-2CCCFA81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F110A-B6DB-415D-882B-D821B717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E35FA-C6C6-49E0-985A-087CC1CA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B541D-6890-417F-BC8C-D4783504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CFF19-304B-4A15-AE28-F5D46DED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7BEBE-A61D-444E-B51B-FC8D4BBB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D74B4-37D9-46B0-A2A3-6C202A7C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56817-24C9-43BA-A540-7E38B993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CFF-6D98-421B-8DC1-68698644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A1DDE-BC59-4CBC-AF8C-A538C419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027FF-1F24-4BF6-8A81-B944BD93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8212F-3AA3-4129-A273-FC55C156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A609B-3ACE-47A3-B15C-07A96079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A3E30-70EC-48A8-8080-9C142FB7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12B53-4DE6-4326-B109-0036E4DC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E79A2-1D19-40D0-8D89-5A0B43E3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DFB03-472C-4331-B614-583F111C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BD701-56D7-4721-9FC6-98DF3BEA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F401B-1E4E-4DEB-BD86-3CE08034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3617-5DDE-4F62-87F3-439D5A60CC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ED84-14E5-488C-B220-0869530424E9}" type="slidenum"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DE54-5E3F-47AA-B491-2C9CE17B7C5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6C96-F9F0-4053-8C5E-08FC5057D48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978B-8010-4508-A141-4F656BF4B70F}" type="slidenum">
              <a:rPr b="0" lang="es-E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681E-2EAE-4EB9-AA34-E4105644F44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8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7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10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9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97FD-DFF2-4DA8-9F9E-6EF875B43F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A90B-73D8-41C4-B95E-111AE35C84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B681-9152-4A99-A2FC-88CD85ADC48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E05C-1FE7-47D0-BD00-70D30D96B1E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2475-F1DA-4E99-94A0-C9E611B3604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D01C-2C3F-43D0-838E-BA5B3C1EDB6F}" type="slidenum"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308 Imagen" descr="g1.jpg"/>
          <p:cNvPicPr/>
          <p:nvPr/>
        </p:nvPicPr>
        <p:blipFill>
          <a:blip r:embed="rId1"/>
          <a:stretch/>
        </p:blipFill>
        <p:spPr>
          <a:xfrm>
            <a:off x="314280" y="3645000"/>
            <a:ext cx="4100400" cy="2952720"/>
          </a:xfrm>
          <a:prstGeom prst="rect">
            <a:avLst/>
          </a:prstGeom>
          <a:ln w="0">
            <a:noFill/>
          </a:ln>
        </p:spPr>
      </p:pic>
      <p:pic>
        <p:nvPicPr>
          <p:cNvPr id="501" name="7 Rectángulo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882720"/>
          </a:xfrm>
          <a:prstGeom prst="rect">
            <a:avLst/>
          </a:prstGeom>
          <a:ln w="0">
            <a:noFill/>
          </a:ln>
        </p:spPr>
      </p:pic>
      <p:sp>
        <p:nvSpPr>
          <p:cNvPr id="502" name="9 Rectángulo"/>
          <p:cNvSpPr/>
          <p:nvPr/>
        </p:nvSpPr>
        <p:spPr>
          <a:xfrm>
            <a:off x="144360" y="831960"/>
            <a:ext cx="41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desarrollo de la moderna computación comienza hacia mediados del siglo XX, cuando se crean las primeras computadoras, y luego, con su uso industrial, comercial y administrativo en las empres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10 Rectángulo"/>
          <p:cNvSpPr/>
          <p:nvPr/>
        </p:nvSpPr>
        <p:spPr>
          <a:xfrm>
            <a:off x="4729320" y="836640"/>
            <a:ext cx="432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descubrimiento de los nuevos dispositivos electrónicos y los grandes avances de la programación, marcaron fechas que permiten identificar y clasificar a las computadoras de acuerdo con sus componentes, en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generaciones de computadora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4" name="12 Imagen" descr="diesquet.jpg"/>
          <p:cNvPicPr/>
          <p:nvPr/>
        </p:nvPicPr>
        <p:blipFill>
          <a:blip r:embed="rId3"/>
          <a:stretch/>
        </p:blipFill>
        <p:spPr>
          <a:xfrm>
            <a:off x="6005520" y="4005360"/>
            <a:ext cx="2646360" cy="2519280"/>
          </a:xfrm>
          <a:prstGeom prst="rect">
            <a:avLst/>
          </a:prstGeom>
          <a:ln w="0">
            <a:noFill/>
          </a:ln>
        </p:spPr>
      </p:pic>
      <p:sp>
        <p:nvSpPr>
          <p:cNvPr id="505" name="13 Flecha izquierda y derecha"/>
          <p:cNvSpPr/>
          <p:nvPr/>
        </p:nvSpPr>
        <p:spPr>
          <a:xfrm>
            <a:off x="4578480" y="4581360"/>
            <a:ext cx="1296720" cy="1295640"/>
          </a:xfrm>
          <a:prstGeom prst="leftRightArrow">
            <a:avLst>
              <a:gd name="adj1" fmla="val 38713"/>
              <a:gd name="adj2" fmla="val 3024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32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Rectangle 5" descr=""/>
          <p:cNvPicPr/>
          <p:nvPr/>
        </p:nvPicPr>
        <p:blipFill>
          <a:blip r:embed="rId1"/>
          <a:stretch/>
        </p:blipFill>
        <p:spPr>
          <a:xfrm>
            <a:off x="262080" y="-12600"/>
            <a:ext cx="8632800" cy="8539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6"/>
          <p:cNvSpPr/>
          <p:nvPr/>
        </p:nvSpPr>
        <p:spPr>
          <a:xfrm>
            <a:off x="1474920" y="907920"/>
            <a:ext cx="712944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t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Es la parte de la filosofía que trata sobre la moral y las obligaciones del hombre. Es un conjunto de principios y reglas morales que regulan el comportamiento personal y las relaciones humanas. La palabra proviene del griego </a:t>
            </a: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Ethikós</a:t>
            </a: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, que significa carác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pull dir="l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1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" presetSubtype="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1" descr="Bulbo"/>
          <p:cNvPicPr/>
          <p:nvPr/>
        </p:nvPicPr>
        <p:blipFill>
          <a:blip r:embed="rId1"/>
          <a:stretch/>
        </p:blipFill>
        <p:spPr>
          <a:xfrm>
            <a:off x="239760" y="765000"/>
            <a:ext cx="4387680" cy="19432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2" descr="4004"/>
          <p:cNvPicPr/>
          <p:nvPr/>
        </p:nvPicPr>
        <p:blipFill>
          <a:blip r:embed="rId2"/>
          <a:stretch/>
        </p:blipFill>
        <p:spPr>
          <a:xfrm>
            <a:off x="6053040" y="3398760"/>
            <a:ext cx="2116080" cy="2826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3" descr="Transistor1"/>
          <p:cNvPicPr/>
          <p:nvPr/>
        </p:nvPicPr>
        <p:blipFill>
          <a:blip r:embed="rId3"/>
          <a:stretch/>
        </p:blipFill>
        <p:spPr>
          <a:xfrm>
            <a:off x="5292720" y="765000"/>
            <a:ext cx="1440000" cy="19195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5" descr="Eniac_2"/>
          <p:cNvPicPr/>
          <p:nvPr/>
        </p:nvPicPr>
        <p:blipFill>
          <a:blip r:embed="rId4"/>
          <a:stretch/>
        </p:blipFill>
        <p:spPr>
          <a:xfrm>
            <a:off x="6916680" y="1052640"/>
            <a:ext cx="1795680" cy="14396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7" descr="Jack Kilby with Integrated Circuit"/>
          <p:cNvPicPr/>
          <p:nvPr/>
        </p:nvPicPr>
        <p:blipFill>
          <a:blip r:embed="rId5"/>
          <a:stretch/>
        </p:blipFill>
        <p:spPr>
          <a:xfrm>
            <a:off x="960480" y="3409920"/>
            <a:ext cx="3305160" cy="2251080"/>
          </a:xfrm>
          <a:prstGeom prst="rect">
            <a:avLst/>
          </a:prstGeom>
          <a:ln w="0">
            <a:noFill/>
          </a:ln>
        </p:spPr>
      </p:pic>
      <p:pic>
        <p:nvPicPr>
          <p:cNvPr id="511" name="9 Rectángulo" descr=""/>
          <p:cNvPicPr/>
          <p:nvPr/>
        </p:nvPicPr>
        <p:blipFill>
          <a:blip r:embed="rId6"/>
          <a:stretch/>
        </p:blipFill>
        <p:spPr>
          <a:xfrm>
            <a:off x="0" y="1260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12" name="12 Rectángulo"/>
          <p:cNvSpPr/>
          <p:nvPr/>
        </p:nvSpPr>
        <p:spPr>
          <a:xfrm>
            <a:off x="587520" y="2690640"/>
            <a:ext cx="31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ubos de vacío o bulb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13 Rectángulo"/>
          <p:cNvSpPr/>
          <p:nvPr/>
        </p:nvSpPr>
        <p:spPr>
          <a:xfrm>
            <a:off x="4893480" y="269064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ransistores para computado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14 Rectángulo"/>
          <p:cNvSpPr/>
          <p:nvPr/>
        </p:nvSpPr>
        <p:spPr>
          <a:xfrm>
            <a:off x="981720" y="566100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imer circuito integ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15 Rectángulo"/>
          <p:cNvSpPr/>
          <p:nvPr/>
        </p:nvSpPr>
        <p:spPr>
          <a:xfrm>
            <a:off x="5595120" y="620712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imer microproces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25000">
    <p:blinds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3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50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7"/>
          <p:cNvSpPr/>
          <p:nvPr/>
        </p:nvSpPr>
        <p:spPr>
          <a:xfrm>
            <a:off x="4118040" y="2874960"/>
            <a:ext cx="484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ran tan grandes que ocupaban espaciosos salones, por lo que recibieron el nombre de macrocomputador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7" name="6 Rectángulo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17"/>
          <p:cNvSpPr/>
          <p:nvPr/>
        </p:nvSpPr>
        <p:spPr>
          <a:xfrm>
            <a:off x="4908600" y="642960"/>
            <a:ext cx="39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s computadoras están integradas por </a:t>
            </a:r>
            <a:r>
              <a:rPr b="1" i="1" lang="es-MX" sz="2400" spc="-1" strike="noStrike">
                <a:solidFill>
                  <a:srgbClr val="ffff00"/>
                </a:solidFill>
                <a:latin typeface="Times New Roman"/>
              </a:rPr>
              <a:t>relevadores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relés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) electromecánicos como la 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MARK I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, o de </a:t>
            </a: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ubos de vacío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como la 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ENIAC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9" name="Picture 2" descr="Bach3_01_026"/>
          <p:cNvPicPr/>
          <p:nvPr/>
        </p:nvPicPr>
        <p:blipFill>
          <a:blip r:embed="rId2"/>
          <a:stretch/>
        </p:blipFill>
        <p:spPr>
          <a:xfrm>
            <a:off x="179280" y="765000"/>
            <a:ext cx="4581720" cy="19432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5" descr="Eniac_2"/>
          <p:cNvPicPr/>
          <p:nvPr/>
        </p:nvPicPr>
        <p:blipFill>
          <a:blip r:embed="rId3"/>
          <a:stretch/>
        </p:blipFill>
        <p:spPr>
          <a:xfrm>
            <a:off x="179280" y="2994120"/>
            <a:ext cx="3810240" cy="3027240"/>
          </a:xfrm>
          <a:prstGeom prst="rect">
            <a:avLst/>
          </a:prstGeom>
          <a:ln w="0">
            <a:noFill/>
          </a:ln>
        </p:spPr>
      </p:pic>
    </p:spTree>
  </p:cSld>
  <p:transition spd="med" advTm="24000"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3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8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3" descr="Cinta perforada"/>
          <p:cNvPicPr/>
          <p:nvPr/>
        </p:nvPicPr>
        <p:blipFill>
          <a:blip r:embed="rId1"/>
          <a:stretch/>
        </p:blipFill>
        <p:spPr>
          <a:xfrm>
            <a:off x="179280" y="836640"/>
            <a:ext cx="4741920" cy="1871640"/>
          </a:xfrm>
          <a:prstGeom prst="rect">
            <a:avLst/>
          </a:prstGeom>
          <a:ln w="0">
            <a:noFill/>
          </a:ln>
        </p:spPr>
      </p:pic>
      <p:pic>
        <p:nvPicPr>
          <p:cNvPr id="522" name="6 Rectángulo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17"/>
          <p:cNvSpPr/>
          <p:nvPr/>
        </p:nvSpPr>
        <p:spPr>
          <a:xfrm>
            <a:off x="5078520" y="727200"/>
            <a:ext cx="354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No tenían sistema operativo y utilizaban el lenguaje máquina para programarlas, mediante cinta o tarjetas perfor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11 Llamada rectangular redondeada"/>
          <p:cNvSpPr/>
          <p:nvPr/>
        </p:nvSpPr>
        <p:spPr>
          <a:xfrm>
            <a:off x="3728880" y="3132000"/>
            <a:ext cx="3816360" cy="2448000"/>
          </a:xfrm>
          <a:prstGeom prst="wedgeRoundRectCallout">
            <a:avLst>
              <a:gd name="adj1" fmla="val -61537"/>
              <a:gd name="adj2" fmla="val -1754"/>
              <a:gd name="adj3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Arial Narrow"/>
              </a:rPr>
              <a:t>La </a:t>
            </a:r>
            <a:r>
              <a:rPr b="0" i="1" lang="es-MX" sz="1600" spc="-1" strike="noStrike">
                <a:solidFill>
                  <a:srgbClr val="ffff00"/>
                </a:solidFill>
                <a:latin typeface="Arial Narrow"/>
              </a:rPr>
              <a:t>Mark I</a:t>
            </a:r>
            <a:r>
              <a:rPr b="0" lang="es-MX" sz="1600" spc="-1" strike="noStrike">
                <a:solidFill>
                  <a:srgbClr val="ffff00"/>
                </a:solidFill>
                <a:latin typeface="Arial Narrow"/>
              </a:rPr>
              <a:t>, basada en la máquina analítica de </a:t>
            </a:r>
            <a:r>
              <a:rPr b="1" lang="es-MX" sz="1600" spc="-1" strike="noStrike">
                <a:solidFill>
                  <a:srgbClr val="ffff00"/>
                </a:solidFill>
                <a:latin typeface="Arial Narrow"/>
              </a:rPr>
              <a:t>Babbage</a:t>
            </a:r>
            <a:r>
              <a:rPr b="0" lang="es-MX" sz="1600" spc="-1" strike="noStrike">
                <a:solidFill>
                  <a:srgbClr val="ffff00"/>
                </a:solidFill>
                <a:latin typeface="Arial Narrow"/>
              </a:rPr>
              <a:t>, pesaba unas cinco toneladas. Tenía 78 máquinas sumadoras conectadas entre sí mediante 800 km de cable y contenía miles de relevadores. Recibía las instrucciones por medio de cinta perforada de papel, y multiplicaba dos números de 10 dígitos en tres segundos aproximadament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5" name="12 Imagen" descr="Chip_008.png"/>
          <p:cNvPicPr/>
          <p:nvPr/>
        </p:nvPicPr>
        <p:blipFill>
          <a:blip r:embed="rId3"/>
          <a:srcRect l="7088" t="14176" r="5493" b="13166"/>
          <a:stretch/>
        </p:blipFill>
        <p:spPr>
          <a:xfrm>
            <a:off x="1639800" y="4140360"/>
            <a:ext cx="1981440" cy="21938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blinds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10" descr="FORTRAN_1"/>
          <p:cNvPicPr/>
          <p:nvPr/>
        </p:nvPicPr>
        <p:blipFill>
          <a:blip r:embed="rId1"/>
          <a:stretch/>
        </p:blipFill>
        <p:spPr>
          <a:xfrm>
            <a:off x="3021120" y="4419720"/>
            <a:ext cx="2736720" cy="17143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Transistor1"/>
          <p:cNvPicPr/>
          <p:nvPr/>
        </p:nvPicPr>
        <p:blipFill>
          <a:blip r:embed="rId2"/>
          <a:stretch/>
        </p:blipFill>
        <p:spPr>
          <a:xfrm>
            <a:off x="622440" y="849240"/>
            <a:ext cx="2582640" cy="308448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6"/>
          <p:cNvSpPr/>
          <p:nvPr/>
        </p:nvSpPr>
        <p:spPr>
          <a:xfrm>
            <a:off x="539640" y="3884760"/>
            <a:ext cx="276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cc0000"/>
                </a:solidFill>
                <a:latin typeface="Times New Roman"/>
              </a:rPr>
              <a:t>El primer transisto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4929120" y="3921120"/>
            <a:ext cx="4132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0000"/>
                </a:solidFill>
                <a:latin typeface="Times New Roman"/>
              </a:rPr>
              <a:t>Grace Murray Hopper creadora del lenguaje CO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9"/>
          <p:cNvSpPr/>
          <p:nvPr/>
        </p:nvSpPr>
        <p:spPr>
          <a:xfrm>
            <a:off x="539640" y="6035760"/>
            <a:ext cx="8064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Times New Roman"/>
              </a:rPr>
              <a:t>En 1957 John Backus crea el primer lenguaje de alto nivel: FORmula TRANslator, conocido como FORTRAN</a:t>
            </a:r>
            <a:r>
              <a:rPr b="1" lang="es-MX" sz="2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3340080" y="758880"/>
            <a:ext cx="2236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Times New Roman"/>
              </a:rPr>
              <a:t>Los primeros sistemas operativos trabajan mediante procesamiento por lo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3"/>
          <a:stretch/>
        </p:blipFill>
        <p:spPr>
          <a:xfrm>
            <a:off x="5867280" y="981000"/>
            <a:ext cx="2089440" cy="2952720"/>
          </a:xfrm>
          <a:prstGeom prst="rect">
            <a:avLst/>
          </a:prstGeom>
          <a:ln w="0">
            <a:noFill/>
          </a:ln>
        </p:spPr>
      </p:pic>
      <p:pic>
        <p:nvPicPr>
          <p:cNvPr id="533" name="11 Rectángulo" descr=""/>
          <p:cNvPicPr/>
          <p:nvPr/>
        </p:nvPicPr>
        <p:blipFill>
          <a:blip r:embed="rId4"/>
          <a:stretch/>
        </p:blipFill>
        <p:spPr>
          <a:xfrm>
            <a:off x="219240" y="-109440"/>
            <a:ext cx="8705520" cy="8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8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5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13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18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5">
                                  <p:stCondLst>
                                    <p:cond delay="20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4" descr="Jack Kilby with Integrated Circuit"/>
          <p:cNvPicPr/>
          <p:nvPr/>
        </p:nvPicPr>
        <p:blipFill>
          <a:blip r:embed="rId1"/>
          <a:stretch/>
        </p:blipFill>
        <p:spPr>
          <a:xfrm>
            <a:off x="165240" y="811080"/>
            <a:ext cx="4767120" cy="32464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5"/>
          <p:cNvSpPr/>
          <p:nvPr/>
        </p:nvSpPr>
        <p:spPr>
          <a:xfrm>
            <a:off x="69840" y="4133880"/>
            <a:ext cx="5086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Times New Roman"/>
              </a:rPr>
              <a:t>El circuito integrado de Jack S. Kil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Text Box 9" descr=""/>
          <p:cNvPicPr/>
          <p:nvPr/>
        </p:nvPicPr>
        <p:blipFill>
          <a:blip r:embed="rId2"/>
          <a:stretch/>
        </p:blipFill>
        <p:spPr>
          <a:xfrm>
            <a:off x="249120" y="42840"/>
            <a:ext cx="8620200" cy="7383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0" descr="Circuito integrado"/>
          <p:cNvPicPr/>
          <p:nvPr/>
        </p:nvPicPr>
        <p:blipFill>
          <a:blip r:embed="rId3"/>
          <a:stretch/>
        </p:blipFill>
        <p:spPr>
          <a:xfrm>
            <a:off x="5580000" y="1052640"/>
            <a:ext cx="2679840" cy="17780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1" descr="Univac"/>
          <p:cNvPicPr/>
          <p:nvPr/>
        </p:nvPicPr>
        <p:blipFill>
          <a:blip r:embed="rId4"/>
          <a:stretch/>
        </p:blipFill>
        <p:spPr>
          <a:xfrm>
            <a:off x="5452920" y="3421080"/>
            <a:ext cx="3529080" cy="32814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12"/>
          <p:cNvSpPr/>
          <p:nvPr/>
        </p:nvSpPr>
        <p:spPr>
          <a:xfrm>
            <a:off x="5554800" y="2997360"/>
            <a:ext cx="331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Times New Roman"/>
              </a:rPr>
              <a:t>Computadora UNIV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0" y="4653000"/>
            <a:ext cx="48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Los sistemas operativos realizan multiprogramación y ponen en colas de espera los procesos de salida mediante la técnica de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spooling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S/2, MULTICS, UNIX, MINIX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5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8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300"/>
                            </p:stCondLst>
                            <p:childTnLst>
                              <p:par>
                                <p:cTn id="2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7800"/>
                            </p:stCondLst>
                            <p:childTnLst>
                              <p:par>
                                <p:cTn id="22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6"/>
          <p:cNvSpPr/>
          <p:nvPr/>
        </p:nvSpPr>
        <p:spPr>
          <a:xfrm>
            <a:off x="4140360" y="614376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cc0000"/>
                </a:solidFill>
                <a:latin typeface="Times New Roman"/>
              </a:rPr>
              <a:t>La primera PC de IB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2" name="Text Box 9" descr=""/>
          <p:cNvPicPr/>
          <p:nvPr/>
        </p:nvPicPr>
        <p:blipFill>
          <a:blip r:embed="rId1"/>
          <a:stretch/>
        </p:blipFill>
        <p:spPr>
          <a:xfrm>
            <a:off x="249120" y="201600"/>
            <a:ext cx="8693280" cy="731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IBM_PC"/>
          <p:cNvPicPr/>
          <p:nvPr/>
        </p:nvPicPr>
        <p:blipFill>
          <a:blip r:embed="rId2"/>
          <a:stretch/>
        </p:blipFill>
        <p:spPr>
          <a:xfrm>
            <a:off x="4284720" y="2595600"/>
            <a:ext cx="4537080" cy="35701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4004"/>
          <p:cNvPicPr/>
          <p:nvPr/>
        </p:nvPicPr>
        <p:blipFill>
          <a:blip r:embed="rId3"/>
          <a:stretch/>
        </p:blipFill>
        <p:spPr>
          <a:xfrm>
            <a:off x="423720" y="879480"/>
            <a:ext cx="3251520" cy="434988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12"/>
          <p:cNvSpPr/>
          <p:nvPr/>
        </p:nvSpPr>
        <p:spPr>
          <a:xfrm>
            <a:off x="3708360" y="1052640"/>
            <a:ext cx="468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cc0000"/>
                </a:solidFill>
                <a:latin typeface="Times New Roman"/>
              </a:rPr>
              <a:t>El primer microprocesador de 4 bits: el 400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324000" y="537372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stemas operativos en modo texto. Se inventa la interfaz gráf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5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00"/>
                            </p:stCondLst>
                            <p:childTnLst>
                              <p:par>
                                <p:cTn id="248" nodeType="afterEffect" fill="hold" presetClass="entr" presetID="17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3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31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91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Text Box 6" descr=""/>
          <p:cNvPicPr/>
          <p:nvPr/>
        </p:nvPicPr>
        <p:blipFill>
          <a:blip r:embed="rId1"/>
          <a:stretch/>
        </p:blipFill>
        <p:spPr>
          <a:xfrm>
            <a:off x="249120" y="42840"/>
            <a:ext cx="8650440" cy="7383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" descr="Supercomputadora"/>
          <p:cNvPicPr/>
          <p:nvPr/>
        </p:nvPicPr>
        <p:blipFill>
          <a:blip r:embed="rId2"/>
          <a:stretch/>
        </p:blipFill>
        <p:spPr>
          <a:xfrm>
            <a:off x="250920" y="692280"/>
            <a:ext cx="2270160" cy="35287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8" descr="Fibras ópticas 03"/>
          <p:cNvPicPr/>
          <p:nvPr/>
        </p:nvPicPr>
        <p:blipFill>
          <a:blip r:embed="rId3"/>
          <a:stretch/>
        </p:blipFill>
        <p:spPr>
          <a:xfrm>
            <a:off x="5435640" y="836640"/>
            <a:ext cx="3476520" cy="22924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fractal"/>
          <p:cNvPicPr/>
          <p:nvPr/>
        </p:nvPicPr>
        <p:blipFill>
          <a:blip r:embed="rId4"/>
          <a:stretch/>
        </p:blipFill>
        <p:spPr>
          <a:xfrm>
            <a:off x="5435640" y="4064040"/>
            <a:ext cx="3462120" cy="26049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0" descr="robot_completo"/>
          <p:cNvPicPr/>
          <p:nvPr/>
        </p:nvPicPr>
        <p:blipFill>
          <a:blip r:embed="rId5"/>
          <a:stretch/>
        </p:blipFill>
        <p:spPr>
          <a:xfrm>
            <a:off x="2436840" y="2565360"/>
            <a:ext cx="2801880" cy="414972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11"/>
          <p:cNvSpPr/>
          <p:nvPr/>
        </p:nvSpPr>
        <p:spPr>
          <a:xfrm>
            <a:off x="3203640" y="21337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obó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 Box 12"/>
          <p:cNvSpPr/>
          <p:nvPr/>
        </p:nvSpPr>
        <p:spPr>
          <a:xfrm>
            <a:off x="3780000" y="119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Fibras ópt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6084720" y="3645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urvas fract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14"/>
          <p:cNvSpPr/>
          <p:nvPr/>
        </p:nvSpPr>
        <p:spPr>
          <a:xfrm>
            <a:off x="2340000" y="1628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úpercomputad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7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70" fill="hold"/>
                                        <p:tgtEl>
                                          <p:spTgt spid="5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0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700"/>
                            </p:stCondLst>
                            <p:childTnLst>
                              <p:par>
                                <p:cTn id="28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200"/>
                            </p:stCondLst>
                            <p:childTnLst>
                              <p:par>
                                <p:cTn id="28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200"/>
                            </p:stCondLst>
                            <p:childTnLst>
                              <p:par>
                                <p:cTn id="294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70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2200"/>
                            </p:stCondLst>
                            <p:childTnLst>
                              <p:par>
                                <p:cTn id="30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4200"/>
                            </p:stCondLst>
                            <p:childTnLst>
                              <p:par>
                                <p:cTn id="309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77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6" descr="Cray SV2"/>
          <p:cNvPicPr/>
          <p:nvPr/>
        </p:nvPicPr>
        <p:blipFill>
          <a:blip r:embed="rId1"/>
          <a:stretch/>
        </p:blipFill>
        <p:spPr>
          <a:xfrm>
            <a:off x="222120" y="841320"/>
            <a:ext cx="3351240" cy="25876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7" descr="Cray SV1"/>
          <p:cNvPicPr/>
          <p:nvPr/>
        </p:nvPicPr>
        <p:blipFill>
          <a:blip r:embed="rId2"/>
          <a:stretch/>
        </p:blipFill>
        <p:spPr>
          <a:xfrm>
            <a:off x="6499080" y="942840"/>
            <a:ext cx="2390760" cy="24861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8" descr="holografia"/>
          <p:cNvPicPr/>
          <p:nvPr/>
        </p:nvPicPr>
        <p:blipFill>
          <a:blip r:embed="rId3"/>
          <a:stretch/>
        </p:blipFill>
        <p:spPr>
          <a:xfrm>
            <a:off x="5796000" y="3519360"/>
            <a:ext cx="3063960" cy="2799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9" descr="Nanotech"/>
          <p:cNvPicPr/>
          <p:nvPr/>
        </p:nvPicPr>
        <p:blipFill>
          <a:blip r:embed="rId4"/>
          <a:stretch/>
        </p:blipFill>
        <p:spPr>
          <a:xfrm>
            <a:off x="250920" y="4508640"/>
            <a:ext cx="5410080" cy="203184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1"/>
          <p:cNvSpPr/>
          <p:nvPr/>
        </p:nvSpPr>
        <p:spPr>
          <a:xfrm>
            <a:off x="3749760" y="1557360"/>
            <a:ext cx="252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úpercomputadoras con múltiples microprocesad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12"/>
          <p:cNvSpPr/>
          <p:nvPr/>
        </p:nvSpPr>
        <p:spPr>
          <a:xfrm>
            <a:off x="971640" y="407664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anotecnologí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Text Box 13"/>
          <p:cNvSpPr/>
          <p:nvPr/>
        </p:nvSpPr>
        <p:spPr>
          <a:xfrm>
            <a:off x="4427640" y="37893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Holograf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3" name="Text Box 6" descr=""/>
          <p:cNvPicPr/>
          <p:nvPr/>
        </p:nvPicPr>
        <p:blipFill>
          <a:blip r:embed="rId5"/>
          <a:stretch/>
        </p:blipFill>
        <p:spPr>
          <a:xfrm>
            <a:off x="249120" y="42840"/>
            <a:ext cx="8650440" cy="7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77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770" fill="hold"/>
                                        <p:tgtEl>
                                          <p:spTgt spid="5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5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7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32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8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4" presetSubtype="5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2T21:29:52Z</dcterms:created>
  <dc:creator>Pablo Turmero</dc:creator>
  <dc:description/>
  <dc:language>en-US</dc:language>
  <cp:lastModifiedBy>Pablo Turmero</cp:lastModifiedBy>
  <dcterms:modified xsi:type="dcterms:W3CDTF">2014-11-30T14:47:18Z</dcterms:modified>
  <cp:revision>94</cp:revision>
  <dc:subject/>
  <dc:title>Presentación de PowerPoint</dc:title>
</cp:coreProperties>
</file>