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F537F-C0F0-4450-AA09-D90AFD66A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8EEB-AE44-4144-A85B-1414C66AC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58DB7-4B8F-4EE4-9B06-B3E58792E7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02815-0407-4F35-AC8C-2BE3E7191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DE619-0E6F-4DB0-9AD5-B52BA8728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5E3CD-25BE-43E1-98CF-B95A4195A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4627B-1581-40CD-A51A-178A98417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35FC6-7F30-4DF7-96BD-9C0C13DA1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0532EF-BBAA-4068-906B-F9B845C04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7EA62F-FBAB-4B92-9E30-49C0AB18F9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261DBB-F40D-4DCC-B671-2B54A74C7C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FE5BC7-74AC-465D-A0A4-86410A3EBB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702E3-B00A-4408-B667-85D62A480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908953-4EF5-4C97-922C-AAA69E5182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56A91D-A79E-4F77-92B9-94009EA2B8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A6A6B2-CD3C-482A-A73A-1DB80A7B12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E63931-9303-4083-BBC5-A04A932AAE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959B31-BA74-45A1-9BF6-3B4782C897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B0D63A-45EA-4868-A35A-F63AD22175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783865-25C8-4E12-9B78-95E59FE8CA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D50E8E-5479-4ADA-BAE4-EE607018E7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386225-90F0-4B9F-A010-221BE31F99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E22E12-3E03-43B6-A6E1-A367157AF9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435AB-6106-4BC6-BB05-E96107ED4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6A3CAC-F409-4771-8DCF-DA7EC4A2A0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BC6BA1-76C1-42F5-9721-E0EF4CE520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14D8C6-7827-460F-80B1-5E9C6D8D8F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31330A-8EA4-468D-951A-B8A6302154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840F52-5A9A-4962-BA5D-986FE1E06B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33DCB2-FBD4-427E-BD3C-25E24E6779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34A757-3E8A-4DFE-8D1B-5A7CE13E23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2BBE7F-B9A4-4BF4-AD04-473DE85673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39E197-E372-4D17-B552-FF4674D007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9467B6-E9F9-40F0-A8D8-415742EBE1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0C1A8-FAE9-4A93-AF54-D3F32906B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3FF826-CF00-4C0F-8EEE-77C687D13D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6F22CA-F999-41A4-959A-27E10C2FE0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6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4E15B2-4C0D-429E-BB3B-00C4219E13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2C750F-7F0B-40B7-8E5A-D75C13A975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C34B2C-983E-4B4E-875D-4547B94A55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B39A0F-BFF0-4CF2-BD08-2EAB283AC0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106817-31C4-4474-A6B0-032F7E73BC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0E708A-06A3-4A25-9DAA-0895263DB2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90F55E-B7FC-4AC6-99BF-E280035F1F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7CD51D-F2F6-4A77-8EC0-9AA2FEAB61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69641-0DCE-421B-B12D-7879103D5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416E10-D95A-40B3-B4F4-B662617E92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F5A9F0-19BF-4670-A9BD-74370EBF36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B70467-5D6A-4BD4-82C3-F46803E8E2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1D6E7B-7CB6-458B-AF6D-77FADF6201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77CFD5-E96D-483C-9BC8-39AC59CFAE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59C202E-BE22-4116-85B1-7A63DED14E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47FE96-6CF8-49D3-AD6D-C049526E6F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225590-6858-4DEF-A534-B3640D0592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1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ADCA48-2589-49AE-9496-07A8440AE3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25C904-DA8F-424B-8DF5-CB1ED8FDAE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BCFAD-A649-45B9-8EA2-0E0A81488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1491AC-AB7B-445B-BA0F-1CD2C8E51C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2D97B5-A485-4502-9B4A-A5DC7DF169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230ECE-3DDF-4969-9825-005D07C2D3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B66CD9-E534-41D7-B3EC-D1BB3E44D0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521092-36AE-44A9-A409-E631FCBF5C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89E151-C471-41ED-9822-124FA40A29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31ED44-B239-4DA8-A295-3101EB0533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9A7A7A-8C74-48E9-9FCB-35A3FE9735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9BC800-44D0-434B-9B23-3476DA6AA8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5EBB19-593A-442E-A8DA-964E4FCA58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6268E-0F4D-4D7E-BC66-D50B04C01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AE30FB-3B67-4273-A824-777272D889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273535-92DD-4FCB-B117-282D4093EC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5D7094-D574-49B1-912C-DBB13A8848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EE86F2-FBCA-4B62-B651-2C99C29D2D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015FE6-43B7-4300-A1AF-1B3FD3667F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C2CCA5-FD3A-465B-BB87-FAECE7A208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127F70-5855-47B1-9DE8-A513FC1985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9757BD-5E1A-43CE-A190-3CD403D439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E299A1-C537-4CAD-AAC2-02F138FB386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A05A3-A82F-45B9-B480-1757CA1DE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40B59-EDFF-4DF5-BC38-54EBF13AD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F7371-600B-431E-AD06-C1CB34A0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5C72B-EB2A-4168-964F-D84268F4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8D78D-B7BC-4A3E-BD81-6C5ACB733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3E826-DAB8-4224-8FA0-FA98B10D4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65E43-CD21-4DEF-BDE4-ABC5C2A4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C483A-3DBD-448D-B798-F20D0C509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D864B-4DB9-4647-AA80-7AE029C24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9ED03-37F3-44C0-BE60-F1252E6A4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7C549-C99D-417D-9959-7C8E36E14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9D3E3-42CC-4038-8541-EDD9B7446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262B8-8263-4E78-959B-EDDAECAE2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35A5D-F019-4F5C-95D8-CFF18E1B8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70D3-45C6-4579-BEF8-755A57FCE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D555A-71DE-43B1-BBC4-9A14213F6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2BC06-F0C1-4899-9A9B-336A4202E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FFABF-0DDE-4A64-AEF2-94E803C2C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4A7CC-C468-47AE-B2D4-F52C8BD36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438D6-FBD1-442C-B94D-BD1AD3D60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3DB09-E062-4186-B7E6-28D2946CC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A25AB-0507-4A00-A9E3-417B9E858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684BE7-4450-4A48-A195-F63228A12B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7F352-42B5-45ED-94DF-E0EC6B431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393FB8-A043-4A8B-8D3A-276273DD4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10FF-CACD-4B31-A9F9-80723B1CB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39513-3870-42C3-9FE5-9836B9339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8E98C-3FFC-4901-9DA2-AAE3D3DA5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6D44F-6331-452A-8D35-D42F98EBA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5425E-A1FE-4DF6-BA9A-399681179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49445-FCC5-4BC4-ABFE-E87915ED9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319D7-650D-4D49-B3DD-6CB90694E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CAB7FB-CD02-4225-8173-6EACBADC9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D0B2FA-F08C-492F-94AC-4DC59B101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CDA90-C8E4-4AA7-AF00-C7D21FAB97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44A55-0F37-4FA8-9C01-11C08D28A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0E99-F1B0-4085-8F02-B3DE92AA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E620B3-BFB0-4DCB-ABBF-831EA0ABF5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0F32B4-2937-4DF4-977C-9A598EF37B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E0BDFC-239A-4216-B01D-56A562412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6F49E-2AC7-451D-A0D5-DB126D859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D72D50-0D8E-41B7-9997-5F313DD7B2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0BB00-43CF-4CE9-9DBA-11BE0A9A3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0D73B-8F82-4020-94C9-471343814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1CF56-3495-4164-9980-6A633C3BD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13302C-CCFC-45DA-9209-CAED4CD1C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9AA0F5-449E-4C8E-8EB9-1C8B1AA72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9BD8-C50A-4539-B113-8B23EC27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CFAC30-9E0A-42CD-A02F-192DB9D019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ACFD3D-921C-4B3D-A89F-EBEA5888E5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2B463F-792F-4183-9DF2-A25D237819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6CA01-963E-4DFE-9EA7-4DD502505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33616-94E5-4490-B7B3-8C595B297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C64E29-1F3C-4594-94B7-D31AD7BD3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A5DDE-0D51-486C-BA2C-A5AAEBC37A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ABD42-D85B-49A5-B4DA-E5B23BEF9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54593-2D31-48AD-A5A5-169E6F3F8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BFAA7-7E25-44F1-B933-531E7597C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557F-C4BF-457F-8320-90C25DAFC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FD3A0-1728-4710-A28E-B5CDDFD87E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841CC5-736E-41B9-8393-100CECE1C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720B6-C316-4797-8E60-E8BAE512D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A2FCB7-3C8F-4F64-956A-6EDA1B18A4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9911C1-AFC5-422D-897D-CE506098F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8E71A-9F0D-4789-A02E-6B34935C9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47193-21DC-4867-9103-8038241D3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A9939F-BB76-404F-BC36-9BF12D29E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79A69E-7CD9-4160-B2F6-913AE711D0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7EECF-7AC1-47E2-B7F0-AAC560502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8468-C00D-4CB9-875A-3163B906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6C42A-D2B7-4075-B97D-A8E784A01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DAE10-ED11-4B8B-B539-A5B5E6681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BFA667-FC82-461B-ACB3-9424AF1F6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AB5503-20AB-47EB-AF05-EDFF804DE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156F66-7F02-439B-8DC9-373682189F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3B5A56-219D-4A0C-AD98-A2F16F35B4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D18269-E3FF-462B-AAE3-F4C0EBD782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DC223-7BE4-43B2-AD67-871D509A72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540AD-A674-4FBE-A9B8-D7AA9E4F1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0811AA-57FC-4B34-83B4-6F9D5D448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F451-7689-4BD0-B132-1F4A1D35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6FF1E-F893-4233-B7A0-AA46DF983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2BF0B-C0EE-4232-8FBF-06873AAEB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05884-C01C-41F9-AB75-228F6DB0C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B46E11-A7F2-4819-84D5-1D0AD6D8E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ACCA4-55D0-4690-9DDA-D8D93E9E2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2CC154-11CF-463F-964C-36789C4366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1FAC25-25C3-438A-AA3B-8749F19C26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C2F92B-FF7F-474D-9383-3B9C00525F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BBCF6-DD86-46BC-91F9-75DBF7F9F5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4F8F5-2FCC-485F-9F8A-DCEAE7C6ED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6ED8-9254-4260-98DB-C1DD51DFE19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8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6" name="PlaceHolder 3"/>
          <p:cNvSpPr>
            <a:spLocks noGrp="1"/>
          </p:cNvSpPr>
          <p:nvPr>
            <p:ph type="dt" idx="2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E3E0-AA22-420F-959D-9E419558C00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2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7"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9D52-E604-4F73-A9C0-BEFDA5CF81F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6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8" name="PlaceHolder 3"/>
          <p:cNvSpPr>
            <a:spLocks noGrp="1"/>
          </p:cNvSpPr>
          <p:nvPr>
            <p:ph type="dt" idx="3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4"/>
          <p:cNvSpPr>
            <a:spLocks noGrp="1"/>
          </p:cNvSpPr>
          <p:nvPr>
            <p:ph type="ftr" idx="3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5"/>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7A9B-01B6-427C-8251-AD2E09CA069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0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9" name="PlaceHolder 3"/>
          <p:cNvSpPr>
            <a:spLocks noGrp="1"/>
          </p:cNvSpPr>
          <p:nvPr>
            <p:ph type="dt" idx="3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E51A-2C67-414E-9921-F229F6F33A3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0" name="PlaceHolder 3"/>
          <p:cNvSpPr>
            <a:spLocks noGrp="1"/>
          </p:cNvSpPr>
          <p:nvPr>
            <p:ph type="dt" idx="4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4"/>
          <p:cNvSpPr>
            <a:spLocks noGrp="1"/>
          </p:cNvSpPr>
          <p:nvPr>
            <p:ph type="ftr" idx="4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5"/>
          <p:cNvSpPr>
            <a:spLocks noGrp="1"/>
          </p:cNvSpPr>
          <p:nvPr>
            <p:ph type="sldNum" idx="4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8DA1-9D69-4214-BC66-044430CFD8D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5AE9-7EE7-4706-B6DE-C9117432593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872D-FA5A-4FF0-BD31-BA31549F415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3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0" name="PlaceHolder 3"/>
          <p:cNvSpPr>
            <a:spLocks noGrp="1"/>
          </p:cNvSpPr>
          <p:nvPr>
            <p:ph type="dt" idx="1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2D5D-6F4E-4F04-A7AF-4A7265FB2C6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1"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3B45-7012-4C28-BABA-7698E7D8CC9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2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2" name="PlaceHolder 3"/>
          <p:cNvSpPr>
            <a:spLocks noGrp="1"/>
          </p:cNvSpPr>
          <p:nvPr>
            <p:ph type="dt" idx="1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40C5-BC48-408F-8FE7-80CAFB46723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3"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FE91-B3F0-4D6B-95C5-43921D889C4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0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3"/>
          <p:cNvSpPr>
            <a:spLocks noGrp="1"/>
          </p:cNvSpPr>
          <p:nvPr>
            <p:ph type="dt" idx="2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F43F-A6E8-456A-B836-D8F9158E63C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cfa"/>
            </a:gs>
            <a:gs pos="100000">
              <a:srgbClr val="f0f0e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34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5" name="PlaceHolder 3"/>
          <p:cNvSpPr>
            <a:spLocks noGrp="1"/>
          </p:cNvSpPr>
          <p:nvPr>
            <p:ph type="dt" idx="2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4"/>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5840-A8BF-4D16-9A33-287FA744BD1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99640" y="1142640"/>
            <a:ext cx="7272360" cy="27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0033"/>
                </a:solidFill>
                <a:latin typeface="Times New Roman"/>
              </a:rPr>
              <a:t>Desarrollo Motor en distintos tipos de Parálisis Cerebral</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900000" y="4508640"/>
            <a:ext cx="7772400" cy="169056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tracción del hombro impide la extensión del brazo para tomar el objeto.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bducción y flexión de la pierna derecha provoca aducción y rotación interna de la pierna izquierda. </a:t>
            </a:r>
            <a:endParaRPr b="0" lang="en-US" sz="2000" spc="-1" strike="noStrike">
              <a:solidFill>
                <a:srgbClr val="000000"/>
              </a:solidFill>
              <a:latin typeface="Arial"/>
            </a:endParaRPr>
          </a:p>
        </p:txBody>
      </p:sp>
      <p:pic>
        <p:nvPicPr>
          <p:cNvPr id="608" name="Picture 4" descr=""/>
          <p:cNvPicPr/>
          <p:nvPr/>
        </p:nvPicPr>
        <p:blipFill>
          <a:blip r:embed="rId1"/>
          <a:stretch/>
        </p:blipFill>
        <p:spPr>
          <a:xfrm>
            <a:off x="1187280" y="549360"/>
            <a:ext cx="4464360" cy="370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Decúbito prono</a:t>
            </a:r>
            <a:endParaRPr b="0" lang="en-US" sz="4200" spc="-1" strike="noStrike">
              <a:solidFill>
                <a:srgbClr val="330033"/>
              </a:solidFill>
              <a:latin typeface="Times New Roman"/>
            </a:endParaRPr>
          </a:p>
        </p:txBody>
      </p:sp>
      <p:sp>
        <p:nvSpPr>
          <p:cNvPr id="61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iernas se extienden con rigidez y se aducen cuando se endereza cabeza y cuando se empuja con antebraz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hay movimientos independientes de tobillos ni rodill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Giro</a:t>
            </a:r>
            <a:endParaRPr b="0" lang="en-US" sz="4200" spc="-1" strike="noStrike">
              <a:solidFill>
                <a:srgbClr val="330033"/>
              </a:solidFill>
              <a:latin typeface="Times New Roman"/>
            </a:endParaRPr>
          </a:p>
        </p:txBody>
      </p:sp>
      <p:sp>
        <p:nvSpPr>
          <p:cNvPr id="6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iro iniciado con la cabeza y ayudado por braz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rotación de cintura pélvica en relación a cintura escapula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ás rigidez de EEII, se producen reacciones asociadas con consiguiente aumento de espasticidad de extensores y aducto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3" name="Picture 4" descr=""/>
          <p:cNvPicPr/>
          <p:nvPr/>
        </p:nvPicPr>
        <p:blipFill>
          <a:blip r:embed="rId1"/>
          <a:stretch/>
        </p:blipFill>
        <p:spPr>
          <a:xfrm>
            <a:off x="1547640" y="1628640"/>
            <a:ext cx="5918400" cy="448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4" name="Picture 3" descr=""/>
          <p:cNvPicPr/>
          <p:nvPr/>
        </p:nvPicPr>
        <p:blipFill>
          <a:blip r:embed="rId1"/>
          <a:stretch/>
        </p:blipFill>
        <p:spPr>
          <a:xfrm>
            <a:off x="1763640" y="1628640"/>
            <a:ext cx="5112000" cy="3368880"/>
          </a:xfrm>
          <a:prstGeom prst="rect">
            <a:avLst/>
          </a:prstGeom>
          <a:ln w="0">
            <a:noFill/>
          </a:ln>
        </p:spPr>
      </p:pic>
      <p:sp>
        <p:nvSpPr>
          <p:cNvPr id="615" name="PlaceHolder 1"/>
          <p:cNvSpPr>
            <a:spLocks noGrp="1"/>
          </p:cNvSpPr>
          <p:nvPr>
            <p:ph/>
          </p:nvPr>
        </p:nvSpPr>
        <p:spPr>
          <a:xfrm>
            <a:off x="826920" y="5382720"/>
            <a:ext cx="7772400" cy="14749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piernas permanecen rígidas en extens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Tracción a sedente</a:t>
            </a:r>
            <a:endParaRPr b="0" lang="en-US" sz="4200" spc="-1" strike="noStrike">
              <a:solidFill>
                <a:srgbClr val="330033"/>
              </a:solidFill>
              <a:latin typeface="Times New Roman"/>
            </a:endParaRPr>
          </a:p>
        </p:txBody>
      </p:sp>
      <p:sp>
        <p:nvSpPr>
          <p:cNvPr id="6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EEII se extienden, aducen y rotan intername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tobillos realizan supinación y plantiflex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ntrol de cabeza suele ser bueno y los niños a veces colaboran para sentar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PlaceHolder 1"/>
          <p:cNvSpPr>
            <a:spLocks noGrp="1"/>
          </p:cNvSpPr>
          <p:nvPr>
            <p:ph/>
          </p:nvPr>
        </p:nvSpPr>
        <p:spPr>
          <a:xfrm>
            <a:off x="900000" y="5084280"/>
            <a:ext cx="7772400" cy="140364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caderas resisten la flexión y hay cifosis compensadora, las piernas están rígidas en aduccion y rotación interna y los pies en plantiflexion</a:t>
            </a:r>
            <a:endParaRPr b="0" lang="en-US" sz="2400" spc="-1" strike="noStrike">
              <a:solidFill>
                <a:srgbClr val="000000"/>
              </a:solidFill>
              <a:latin typeface="Arial"/>
            </a:endParaRPr>
          </a:p>
        </p:txBody>
      </p:sp>
      <p:pic>
        <p:nvPicPr>
          <p:cNvPr id="619" name="Picture 5" descr=""/>
          <p:cNvPicPr/>
          <p:nvPr/>
        </p:nvPicPr>
        <p:blipFill>
          <a:blip r:embed="rId1"/>
          <a:stretch/>
        </p:blipFill>
        <p:spPr>
          <a:xfrm>
            <a:off x="1763640" y="1628640"/>
            <a:ext cx="5327640" cy="346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Sedente </a:t>
            </a:r>
            <a:endParaRPr b="0" lang="en-US" sz="4200" spc="-1" strike="noStrike">
              <a:solidFill>
                <a:srgbClr val="330033"/>
              </a:solidFill>
              <a:latin typeface="Times New Roman"/>
            </a:endParaRPr>
          </a:p>
        </p:txBody>
      </p:sp>
      <p:sp>
        <p:nvSpPr>
          <p:cNvPr id="6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y control de tronc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EII en aducción y RI, tobillos en plantiflex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de sustentación angosta, por lo que aumenta la cifosis para compensar flexión insuficiente de caderas, junto con flexión de cabeza y cuel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sienta sobre sacro y lleva el cuerpo hacia delante flexionando demasiado la colum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dencia a caer hacia atrás cuando miran hacia arrib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rdío uso de manos y brazos para sosteners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2" name="Picture 3" descr=""/>
          <p:cNvPicPr/>
          <p:nvPr/>
        </p:nvPicPr>
        <p:blipFill>
          <a:blip r:embed="rId1"/>
          <a:stretch/>
        </p:blipFill>
        <p:spPr>
          <a:xfrm>
            <a:off x="2050920" y="692280"/>
            <a:ext cx="4537080" cy="3436920"/>
          </a:xfrm>
          <a:prstGeom prst="rect">
            <a:avLst/>
          </a:prstGeom>
          <a:ln w="0">
            <a:noFill/>
          </a:ln>
        </p:spPr>
      </p:pic>
      <p:sp>
        <p:nvSpPr>
          <p:cNvPr id="623" name="PlaceHolder 1"/>
          <p:cNvSpPr>
            <a:spLocks noGrp="1"/>
          </p:cNvSpPr>
          <p:nvPr>
            <p:ph/>
          </p:nvPr>
        </p:nvSpPr>
        <p:spPr>
          <a:xfrm>
            <a:off x="914400" y="4511520"/>
            <a:ext cx="7772400" cy="16192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sentarse, la espalda se pone en cifosis, la flexión de cadera es insuficiente, las piernas están en aduccion y los pies en plantiflex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Text Box 2"/>
          <p:cNvSpPr/>
          <p:nvPr/>
        </p:nvSpPr>
        <p:spPr>
          <a:xfrm>
            <a:off x="539640" y="549360"/>
            <a:ext cx="8064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Segunda etapa: Arrodillarse, gatear y bipedestar</a:t>
            </a:r>
            <a:endParaRPr b="0" lang="en-US" sz="3800" spc="-1" strike="noStrike">
              <a:solidFill>
                <a:srgbClr val="330033"/>
              </a:solidFill>
              <a:latin typeface="Times New Roman"/>
            </a:endParaRPr>
          </a:p>
        </p:txBody>
      </p:sp>
      <p:sp>
        <p:nvSpPr>
          <p:cNvPr id="6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incorpora sobre rodill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EEII permanecen pasivos en aducción y RI. Posición que da seguridad (postura en 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tura de pies asimétrica: dorsiflexion y pronación de un pie y plantiflexion y supinación del otr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roducción </a:t>
            </a:r>
            <a:endParaRPr b="0" lang="en-US" sz="4200" spc="-1" strike="noStrike">
              <a:solidFill>
                <a:srgbClr val="330033"/>
              </a:solidFill>
              <a:latin typeface="Times New Roman"/>
            </a:endParaRPr>
          </a:p>
        </p:txBody>
      </p:sp>
      <p:sp>
        <p:nvSpPr>
          <p:cNvPr id="591" name="PlaceHolder 2"/>
          <p:cNvSpPr>
            <a:spLocks noGrp="1"/>
          </p:cNvSpPr>
          <p:nvPr>
            <p:ph/>
          </p:nvPr>
        </p:nvSpPr>
        <p:spPr>
          <a:xfrm>
            <a:off x="900000" y="1628640"/>
            <a:ext cx="7772400" cy="52293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desarrollo normal, etapa tras etapa, los logros iniciales se modifican, se perfeccionan y se adaptan para integrarse en patrones de movilidad y destreza mas finos y selectiv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iño con PC también se desarrolla, pero con mayor lentitud. Su desarrollo no solo se retarda, sino que sigue cauces anorm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odos los niños con PC cumplen sus etapas más tarde de lo normal, no importa su inteligencia y su grado de desenvolvimient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emás, tarde o temprano, según la severidad del caso, a este retardo de la maduración se suma una desviación con respecto al desarrollo normal, desviación que se manifiesta con actividades motoras anormal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actividades motoras anormales se evidencian cuando el niño aumenta su actividad, cuando intenta sentarse, usar sus brazos y manos,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7" name="Picture 3" descr=""/>
          <p:cNvPicPr/>
          <p:nvPr/>
        </p:nvPicPr>
        <p:blipFill>
          <a:blip r:embed="rId1"/>
          <a:stretch/>
        </p:blipFill>
        <p:spPr>
          <a:xfrm>
            <a:off x="1763640" y="1773360"/>
            <a:ext cx="5400720" cy="41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 Box 2"/>
          <p:cNvSpPr/>
          <p:nvPr/>
        </p:nvSpPr>
        <p:spPr>
          <a:xfrm>
            <a:off x="539640" y="1916280"/>
            <a:ext cx="8282160" cy="47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principio se desplazan por el suelo sentados y saltan sentados.</a:t>
            </a:r>
            <a:endParaRPr b="0" lang="en-US" sz="2400" spc="-1" strike="noStrike">
              <a:solidFill>
                <a:srgbClr val="000000"/>
              </a:solidFill>
              <a:latin typeface="Arial"/>
            </a:endParaRPr>
          </a:p>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s adelante aprenden gateo con breves movimientos recíprocos. Las piernas permanecen en semiflexion, con caderas en rotación interna y rodillas aducidas.</a:t>
            </a:r>
            <a:endParaRPr b="0" lang="en-US" sz="2400" spc="-1" strike="noStrike">
              <a:solidFill>
                <a:srgbClr val="000000"/>
              </a:solidFill>
              <a:latin typeface="Arial"/>
            </a:endParaRPr>
          </a:p>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pueden realizar sedente lateral por falta de rotación de tronco.</a:t>
            </a:r>
            <a:endParaRPr b="0" lang="en-US" sz="2400" spc="-1" strike="noStrike">
              <a:solidFill>
                <a:srgbClr val="000000"/>
              </a:solidFill>
              <a:latin typeface="Arial"/>
            </a:endParaRPr>
          </a:p>
          <a:p>
            <a:pPr algn="just">
              <a:spcBef>
                <a:spcPts val="15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Bipedestación </a:t>
            </a:r>
            <a:endParaRPr b="0" lang="en-US" sz="4200" spc="-1" strike="noStrike">
              <a:solidFill>
                <a:srgbClr val="330033"/>
              </a:solidFill>
              <a:latin typeface="Times New Roman"/>
            </a:endParaRPr>
          </a:p>
        </p:txBody>
      </p:sp>
      <p:sp>
        <p:nvSpPr>
          <p:cNvPr id="63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pueden realizar carga de peso sobre una rodilla para liberar la otra  y así ponerse de p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cciona con los brazos para levantarse directamente en puntill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veces logra apoyar un talón en el suelo con rotación posterior de pelvis y flexión de caderas de ese lado. El otro pie permanece en equino con rotación interna y sin recibir carga de pe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WordArt 4"/>
          <p:cNvSpPr txBox="1"/>
          <p:nvPr/>
        </p:nvSpPr>
        <p:spPr>
          <a:xfrm>
            <a:off x="2556000" y="1700280"/>
            <a:ext cx="4537080" cy="27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Hemipleji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Hemiplejia</a:t>
            </a:r>
            <a:endParaRPr b="0" lang="en-US" sz="4200" spc="-1" strike="noStrike">
              <a:solidFill>
                <a:srgbClr val="330033"/>
              </a:solidFill>
              <a:latin typeface="Times New Roman"/>
            </a:endParaRPr>
          </a:p>
        </p:txBody>
      </p:sp>
      <p:sp>
        <p:nvSpPr>
          <p:cNvPr id="633"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acuerdo a la clasificación topográfica encontramos a la hemiplejia espástica</a:t>
            </a:r>
            <a:r>
              <a:rPr b="1" i="1" lang="es-ES" sz="2400" spc="-1" strike="noStrike">
                <a:solidFill>
                  <a:srgbClr val="000000"/>
                </a:solidFill>
                <a:latin typeface="Arial"/>
              </a:rPr>
              <a:t> </a:t>
            </a:r>
            <a:r>
              <a:rPr b="0" lang="es-ES" sz="2400" spc="-1" strike="noStrike">
                <a:solidFill>
                  <a:srgbClr val="000000"/>
                </a:solidFill>
                <a:latin typeface="Arial"/>
              </a:rPr>
              <a:t>que se caracteriza por una alteración de la movilidad que afecta a un hemicuer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4" name="Picture 5" descr=""/>
          <p:cNvPicPr/>
          <p:nvPr/>
        </p:nvPicPr>
        <p:blipFill>
          <a:blip r:embed="rId1"/>
          <a:stretch/>
        </p:blipFill>
        <p:spPr>
          <a:xfrm>
            <a:off x="5796000" y="1700280"/>
            <a:ext cx="1962000" cy="3324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Text Box 2"/>
          <p:cNvSpPr/>
          <p:nvPr/>
        </p:nvSpPr>
        <p:spPr>
          <a:xfrm>
            <a:off x="395280" y="404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aracterísticas generales </a:t>
            </a:r>
            <a:endParaRPr b="0" lang="en-US" sz="4200" spc="-1" strike="noStrike">
              <a:solidFill>
                <a:srgbClr val="330033"/>
              </a:solidFill>
              <a:latin typeface="Times New Roman"/>
            </a:endParaRPr>
          </a:p>
        </p:txBody>
      </p:sp>
      <p:sp>
        <p:nvSpPr>
          <p:cNvPr id="6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clusión de una arteria cerebral durante el período prenatal produciendo un infarto en el cerebro inmadur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ás común en primogénitos y en niños de madres con historia de infertilida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de riesgo durante el parto son la cesárea de emergencia, ruptura precoz de membran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de riesgo específicos del niño incluyen anormalidades vasculares o cardiacas y anormalidades del cordón umbilic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aracterísticas generales </a:t>
            </a:r>
            <a:endParaRPr b="0" lang="en-US" sz="4200" spc="-1" strike="noStrike">
              <a:solidFill>
                <a:srgbClr val="330033"/>
              </a:solidFill>
              <a:latin typeface="Times New Roman"/>
            </a:endParaRPr>
          </a:p>
        </p:txBody>
      </p:sp>
      <p:sp>
        <p:nvSpPr>
          <p:cNvPr id="6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orienta gradualmente más hacia el lado sano. Asimetría de postur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blecimiento tardío del equilibrio en las distintas posicion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ndencia a caer hacia el lado comprometid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diagnóstico se realiza a los 8-9 meses, cuando no se sientan y usan solo una man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rimera etapa </a:t>
            </a:r>
            <a:endParaRPr b="0" lang="en-US" sz="4200" spc="-1" strike="noStrike">
              <a:solidFill>
                <a:srgbClr val="330033"/>
              </a:solidFill>
              <a:latin typeface="Times New Roman"/>
            </a:endParaRPr>
          </a:p>
        </p:txBody>
      </p:sp>
      <p:sp>
        <p:nvSpPr>
          <p:cNvPr id="641"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Decúbito Supin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icialmente: patrón flexo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stura más simétrica cuando más pequeñ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ESS comprometida: retraída y flexionada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o  empuñada por más tiemp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junta manos en línea media ni se la lleva a la boc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Decúbito pron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es de su agrado, sólo se sostiene con un braz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azo afectado queda flexionado y bajo el pech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ólo mueve el hemicuerpo sano, el lado comprometido es pasivo con la pierna extendida rígida y rotación inter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Sedente </a:t>
            </a:r>
            <a:endParaRPr b="0" lang="en-US" sz="4200" spc="-1" strike="noStrike">
              <a:solidFill>
                <a:srgbClr val="330033"/>
              </a:solidFill>
              <a:latin typeface="Times New Roman"/>
            </a:endParaRPr>
          </a:p>
        </p:txBody>
      </p:sp>
      <p:sp>
        <p:nvSpPr>
          <p:cNvPr id="6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traso en adquirir la posición y problemas de equilibrio. Incorporación desde supino (de prono más difíc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peso en cadera sana. Puede desplaz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ierna comprometida: en  flexión y abducción, la sana con extensión de rodill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hay movimientos independientes en rodilla, tobillo y de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914400" y="4727520"/>
            <a:ext cx="7772400" cy="14032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emiplejia derecha: Pierna derecha flexionada</a:t>
            </a:r>
            <a:endParaRPr b="0" lang="en-US" sz="2800" spc="-1" strike="noStrike">
              <a:solidFill>
                <a:srgbClr val="000000"/>
              </a:solidFill>
              <a:latin typeface="Arial"/>
            </a:endParaRPr>
          </a:p>
        </p:txBody>
      </p:sp>
      <p:pic>
        <p:nvPicPr>
          <p:cNvPr id="646" name="Picture 4" descr=""/>
          <p:cNvPicPr/>
          <p:nvPr/>
        </p:nvPicPr>
        <p:blipFill>
          <a:blip r:embed="rId1"/>
          <a:stretch/>
        </p:blipFill>
        <p:spPr>
          <a:xfrm>
            <a:off x="2700360" y="1125360"/>
            <a:ext cx="3392640" cy="353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roducción </a:t>
            </a:r>
            <a:endParaRPr b="0" lang="en-US" sz="4200" spc="-1" strike="noStrike">
              <a:solidFill>
                <a:srgbClr val="330033"/>
              </a:solidFill>
              <a:latin typeface="Times New Roman"/>
            </a:endParaRPr>
          </a:p>
        </p:txBody>
      </p:sp>
      <p:sp>
        <p:nvSpPr>
          <p:cNvPr id="5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entonces se reconoce la espasticidad, que empeora con el tiempo y la anormalidad de los patrones posturales y de movimient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incremento de patrones anormales atenta contra el desarrollo normal, llegando a imposibilitarl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iño por lo tanto, trata de funcionar con un conjunto inadecuado de patrones, compensando con las partes del cuerpo menos afectada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nsecuencia, el desarrollo del niño no solo se atrasa, sino que se desorganiza y se perturba producto de la lesió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Segunda etapa</a:t>
            </a:r>
            <a:endParaRPr b="0" lang="en-US" sz="4200" spc="-1" strike="noStrike">
              <a:solidFill>
                <a:srgbClr val="330033"/>
              </a:solidFill>
              <a:latin typeface="Times New Roman"/>
            </a:endParaRPr>
          </a:p>
        </p:txBody>
      </p:sp>
      <p:sp>
        <p:nvSpPr>
          <p:cNvPr id="648"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Incorpo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racciona con brazo sano.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e pone de rodillas </a:t>
            </a:r>
            <a:r>
              <a:rPr b="0" lang="es-MX" sz="1800" spc="-1" strike="noStrike">
                <a:solidFill>
                  <a:srgbClr val="000000"/>
                </a:solidFill>
                <a:latin typeface="Wingdings"/>
                <a:ea typeface="Wingdings"/>
              </a:rPr>
              <a:t></a:t>
            </a:r>
            <a:r>
              <a:rPr b="0" lang="es-MX" sz="1800" spc="-1" strike="noStrike">
                <a:solidFill>
                  <a:srgbClr val="000000"/>
                </a:solidFill>
                <a:latin typeface="Arial"/>
              </a:rPr>
              <a:t> semiarrodillamiento (pierna afecta al frente) </a:t>
            </a:r>
            <a:r>
              <a:rPr b="0" lang="es-MX" sz="1800" spc="-1" strike="noStrike">
                <a:solidFill>
                  <a:srgbClr val="000000"/>
                </a:solidFill>
                <a:latin typeface="Wingdings"/>
                <a:ea typeface="Wingdings"/>
              </a:rPr>
              <a:t></a:t>
            </a:r>
            <a:r>
              <a:rPr b="0" lang="es-MX" sz="1800" spc="-1" strike="noStrike">
                <a:solidFill>
                  <a:srgbClr val="000000"/>
                </a:solidFill>
                <a:latin typeface="Arial"/>
              </a:rPr>
              <a:t> rápidamente apoya pie sano. (carga de pes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3"/>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Bipedest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erna sana carga el pes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MII afecto mas atrás (rotación pelvis y cintura escapular) con pie supinado y apoyo de dedos. Brazo en flex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0" name="Picture 4" descr=""/>
          <p:cNvPicPr/>
          <p:nvPr/>
        </p:nvPicPr>
        <p:blipFill>
          <a:blip r:embed="rId1"/>
          <a:stretch/>
        </p:blipFill>
        <p:spPr>
          <a:xfrm>
            <a:off x="2987640" y="1341360"/>
            <a:ext cx="2965320" cy="47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WordArt 4"/>
          <p:cNvSpPr txBox="1"/>
          <p:nvPr/>
        </p:nvSpPr>
        <p:spPr>
          <a:xfrm>
            <a:off x="1476360" y="2205000"/>
            <a:ext cx="6257880" cy="23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uadriplejia Espástic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uadriplejia </a:t>
            </a: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600200"/>
            <a:ext cx="7772400" cy="499752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niños muy afectados, la espasticidad ya es intensa a las pocas semanas o meses de eda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decúbito supino los primeros síntomas son los opistotonos y la absoluta falta de control de cabez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decúbito prono el niño no levanta la cabeza ni extiende la columna y las caderas. Puede que ni siquiera consiga volver la cabeza hacia un lado para librar su vía aérea, de modo que rechazará el decúbito prono por la dificultad respiratoria que le caus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niño no puede permanecer sentado sin sostén y cae de costad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columna vertebral esta en extensión rígida, con hombros retraídos, espasticidad de los aductores y excesiva extensión de MMI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frecuentes las protrusiones de la lengua y las dificultades de succión y deglu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p:nvPr>
        </p:nvSpPr>
        <p:spPr>
          <a:xfrm>
            <a:off x="914400" y="4440240"/>
            <a:ext cx="7772400" cy="16905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imetría de tronco con flexión lateral del cuello, oblicuidad de la pelvis, rotación interna y aduccion de la pierna izquierda. </a:t>
            </a:r>
            <a:endParaRPr b="0" lang="en-US" sz="2800" spc="-1" strike="noStrike">
              <a:solidFill>
                <a:srgbClr val="000000"/>
              </a:solidFill>
              <a:latin typeface="Arial"/>
            </a:endParaRPr>
          </a:p>
        </p:txBody>
      </p:sp>
      <p:pic>
        <p:nvPicPr>
          <p:cNvPr id="655" name="Picture 4" descr=""/>
          <p:cNvPicPr/>
          <p:nvPr/>
        </p:nvPicPr>
        <p:blipFill>
          <a:blip r:embed="rId1"/>
          <a:stretch/>
        </p:blipFill>
        <p:spPr>
          <a:xfrm>
            <a:off x="3203640" y="620640"/>
            <a:ext cx="2452680" cy="381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p:nvPr>
        </p:nvSpPr>
        <p:spPr>
          <a:xfrm>
            <a:off x="395280" y="1757520"/>
            <a:ext cx="8229600" cy="510048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niño menos afectado la espasticidad puede predominar por sobre un lado. Puede ser severa en un lado y moderada en el otro, o moderada en uno y leve en ot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distribución asimétrica de la espasticidad, así como el empleo exclusivo de una sola mano y brazo, favorece la tendencia a la escoli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entras que el niño con gran compromiso no se mueve para nada, se deforma quedando en unas pocas posturas anormales, los niños menos afectados tratan de moverse y funcionar, pero solo pueden hacerlo de unas pocas maneras anormales, o sea en patrones anormales estereotipados y con un esfuerzo excesivo que acentúa la espasti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rimera etapa</a:t>
            </a:r>
            <a:endParaRPr b="0" lang="en-US" sz="4200" spc="-1" strike="noStrike">
              <a:solidFill>
                <a:srgbClr val="330033"/>
              </a:solidFill>
              <a:latin typeface="Times New Roman"/>
            </a:endParaRPr>
          </a:p>
        </p:txBody>
      </p:sp>
      <p:sp>
        <p:nvSpPr>
          <p:cNvPr id="6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ecúbito dorsal, ventral y sentado con apoy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ta control de cabeza al traccionarlo para que se siente, también incapacidad para levantar la cabeza en el decúbito supin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upino las piernas están un tanto abducidas y flexionad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ono hay una intensa retracción de los brazos del niño a nivel del hombro, con flexión de codos y los puños cerra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rimera etapa</a:t>
            </a:r>
            <a:endParaRPr b="0" lang="en-US" sz="4200" spc="-1" strike="noStrike">
              <a:solidFill>
                <a:srgbClr val="330033"/>
              </a:solidFill>
              <a:latin typeface="Times New Roman"/>
            </a:endParaRPr>
          </a:p>
        </p:txBody>
      </p:sp>
      <p:sp>
        <p:nvSpPr>
          <p:cNvPr id="66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retracción de la cintura escapular impide que el niño se lleve las manos a la boca y las junte en la línea medi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decúbito prono su tronco esta flexionado y los hombros en protrusion. Los brazos están en aduccion, muchas veces atrapados debajo del pecho. El niño no levanta la cabez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estar sentado con apoyo, el niño con cuadriplejia encorva su espalda, se sienta sobre el sacro e inclina el tronco hacia delante. Su cabeza cae hacia delante y abaj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la postura del tronco es asimétrica con flexión lateral del cuello, a la cifosis se le agrega la escolios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s piernas del niño están en aducción y semiflexion, con plantiflexión de tobillos y dedos. Aquí el niño solo puede mirar hacia abaj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p:nvPr>
        </p:nvSpPr>
        <p:spPr>
          <a:xfrm>
            <a:off x="914400" y="5087520"/>
            <a:ext cx="7772400" cy="104292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trón flexor total en el decúbito prono</a:t>
            </a:r>
            <a:endParaRPr b="0" lang="en-US" sz="2800" spc="-1" strike="noStrike">
              <a:solidFill>
                <a:srgbClr val="000000"/>
              </a:solidFill>
              <a:latin typeface="Arial"/>
            </a:endParaRPr>
          </a:p>
        </p:txBody>
      </p:sp>
      <p:pic>
        <p:nvPicPr>
          <p:cNvPr id="662" name="Picture 4" descr=""/>
          <p:cNvPicPr/>
          <p:nvPr/>
        </p:nvPicPr>
        <p:blipFill>
          <a:blip r:embed="rId1"/>
          <a:stretch/>
        </p:blipFill>
        <p:spPr>
          <a:xfrm>
            <a:off x="2050920" y="1916280"/>
            <a:ext cx="5284800" cy="2496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Segunda etapa: Sedente y giro</a:t>
            </a:r>
            <a:endParaRPr b="0" lang="en-US" sz="4200" spc="-1" strike="noStrike">
              <a:solidFill>
                <a:srgbClr val="330033"/>
              </a:solidFill>
              <a:latin typeface="Times New Roman"/>
            </a:endParaRPr>
          </a:p>
        </p:txBody>
      </p:sp>
      <p:sp>
        <p:nvSpPr>
          <p:cNvPr id="664"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niendo cierto control de la cabeza en sentado, el niño ahora puede mirar hacia delante, pero si levanta los ojos todavía tiende a caerse hacia atrás si no se los sostiene, pero en caso de que se le sostenga empuja hacia atrá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nque el niño controla en cierta manera la cabeza estando sentado, no puede moverla de manera independiente con respecto al tronco y no adquiere el equilibrio del tronco.</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niño con cuadriplejia pasa la mayor parte del día sentado con apoyo en una silla de ruedas. Mantiene las piernas en aduccion y flexionadas nivel de las caderas y rodillas, de modo que no aprende a hacer equilibrio en las caderas ni a desarrollar su propio control activo de tronco.</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roducción </a:t>
            </a:r>
            <a:endParaRPr b="0" lang="en-US" sz="4200" spc="-1" strike="noStrike">
              <a:solidFill>
                <a:srgbClr val="330033"/>
              </a:solidFill>
              <a:latin typeface="Times New Roman"/>
            </a:endParaRPr>
          </a:p>
        </p:txBody>
      </p:sp>
      <p:sp>
        <p:nvSpPr>
          <p:cNvPr id="5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medida que el niño con PC se torna más activo, van instalándose posturas y movimientos anorma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os cambios operan de acuerdo con líneas previsibles, pero difieren entre los diversos tipos de P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la espasticidad se instala poco a poco a medida que el niño madura y empieza a reaccionar frente a su desarroll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p:nvPr>
        </p:nvSpPr>
        <p:spPr>
          <a:xfrm>
            <a:off x="914400" y="4800240"/>
            <a:ext cx="7772400" cy="13302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iño sentado sobre el sacro, cifosis y cabeza caída hacia adelante</a:t>
            </a:r>
            <a:endParaRPr b="0" lang="en-US" sz="2800" spc="-1" strike="noStrike">
              <a:solidFill>
                <a:srgbClr val="000000"/>
              </a:solidFill>
              <a:latin typeface="Arial"/>
            </a:endParaRPr>
          </a:p>
        </p:txBody>
      </p:sp>
      <p:pic>
        <p:nvPicPr>
          <p:cNvPr id="666" name="Picture 4" descr=""/>
          <p:cNvPicPr/>
          <p:nvPr/>
        </p:nvPicPr>
        <p:blipFill>
          <a:blip r:embed="rId1"/>
          <a:stretch/>
        </p:blipFill>
        <p:spPr>
          <a:xfrm>
            <a:off x="2987640" y="692280"/>
            <a:ext cx="2951280" cy="381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onclusión</a:t>
            </a:r>
            <a:endParaRPr b="0" lang="en-US" sz="4200" spc="-1" strike="noStrike">
              <a:solidFill>
                <a:srgbClr val="330033"/>
              </a:solidFill>
              <a:latin typeface="Times New Roman"/>
            </a:endParaRPr>
          </a:p>
        </p:txBody>
      </p:sp>
      <p:sp>
        <p:nvSpPr>
          <p:cNvPr id="66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esarrollo motor del niño con PC exhibe ciertos rasgos típicos como los que se describier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ono postural y los patrones de movimientos del niño se modifican a medida que crece y se desarroll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importante conocer las secuencias del desarrollo motor anormal para anticipar su ocurrencia en los niños de muy corta edad.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emás de este modo se captan mejor los primeros signos de comportamiento postural anormal y se reconocen sus proyecciones para futuras actividades del niño y la posible instalación de contracturas o deformidad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WordArt 4"/>
          <p:cNvSpPr txBox="1"/>
          <p:nvPr/>
        </p:nvSpPr>
        <p:spPr>
          <a:xfrm>
            <a:off x="1692360" y="1916280"/>
            <a:ext cx="6121440" cy="25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iplejia Espástic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Diplejia espástica</a:t>
            </a:r>
            <a:endParaRPr b="0" lang="en-US" sz="4200" spc="-1" strike="noStrike">
              <a:solidFill>
                <a:srgbClr val="330033"/>
              </a:solidFill>
              <a:latin typeface="Times New Roman"/>
            </a:endParaRPr>
          </a:p>
        </p:txBody>
      </p:sp>
      <p:sp>
        <p:nvSpPr>
          <p:cNvPr id="598"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lnSpc>
                <a:spcPct val="90000"/>
              </a:lnSpc>
              <a:spcBef>
                <a:spcPts val="15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acuerdo a la clasificación topográfica encontramos a la </a:t>
            </a:r>
            <a:r>
              <a:rPr b="1" i="1" lang="es-ES" sz="2400" spc="-1" strike="noStrike">
                <a:solidFill>
                  <a:srgbClr val="000000"/>
                </a:solidFill>
                <a:latin typeface="Arial"/>
              </a:rPr>
              <a:t>DIPLEJIA ESPASTICA, </a:t>
            </a:r>
            <a:r>
              <a:rPr b="0" lang="es-ES" sz="2400" spc="-1" strike="noStrike">
                <a:solidFill>
                  <a:srgbClr val="000000"/>
                </a:solidFill>
                <a:latin typeface="Arial"/>
              </a:rPr>
              <a:t>que se caracteriza por una alteración de la movilidad que afecta a las cuatro extremidades, con mayor compromiso de las extremidades inferi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9" name="Picture 4" descr=""/>
          <p:cNvPicPr/>
          <p:nvPr/>
        </p:nvPicPr>
        <p:blipFill>
          <a:blip r:embed="rId1"/>
          <a:stretch/>
        </p:blipFill>
        <p:spPr>
          <a:xfrm>
            <a:off x="5456160" y="2060640"/>
            <a:ext cx="235908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468360" y="549360"/>
            <a:ext cx="8136000" cy="155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Generalidades </a:t>
            </a:r>
            <a:endParaRPr b="0" lang="en-US" sz="4200" spc="-1" strike="noStrike">
              <a:solidFill>
                <a:srgbClr val="330033"/>
              </a:solidFill>
              <a:latin typeface="Times New Roman"/>
            </a:endParaRPr>
          </a:p>
        </p:txBody>
      </p:sp>
      <p:sp>
        <p:nvSpPr>
          <p:cNvPr id="60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ituye 30% de todas la P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jetos de riesgo: Nacidos de pretérmino con bajo pe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ucomalacia periventricula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ligencia norm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tricidad buco-facial norm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nguaje norm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éficit visual frecu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4038480" cy="59040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an control de cabeza más tardío, llevan manos a línea media y a la bo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principio en MMII existe escasa espasticidad con flexión y abduc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raso de sedestación y de la march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gnos piramidales predominando en ambas extremidades inferio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Piernas “en tije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Pies equin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diagnostico suele realizarse alrededor de los 9 meses, en que el niño no se sienta solo y no conserva equilib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3" descr="DIAP-43"/>
          <p:cNvPicPr/>
          <p:nvPr/>
        </p:nvPicPr>
        <p:blipFill>
          <a:blip r:embed="rId1"/>
          <a:srcRect l="0" t="19658" r="0" b="0"/>
          <a:stretch/>
        </p:blipFill>
        <p:spPr>
          <a:xfrm>
            <a:off x="5076720" y="549360"/>
            <a:ext cx="3527640" cy="5576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Etapas del desarrollo motor anormal: Primera etapa</a:t>
            </a:r>
            <a:endParaRPr b="0" lang="en-US" sz="3800" spc="-1" strike="noStrike">
              <a:solidFill>
                <a:srgbClr val="330033"/>
              </a:solidFill>
              <a:latin typeface="Times New Roman"/>
            </a:endParaRPr>
          </a:p>
        </p:txBody>
      </p:sp>
      <p:sp>
        <p:nvSpPr>
          <p:cNvPr id="606"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Arial"/>
              </a:rPr>
              <a:t>Decúbito Supino</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mientos débiles de piernas en semiflexión, una pierna más abducida y flexionad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co a poco la extensión de EEII se manifiesta con aducción combinada.</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I en caderas ocurre gradualmente como parte del patró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mienzo puede haber dorsiflexión de tobillos, pero al aumentar la espasticidad se produce plantiflexión.</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20:11:54Z</dcterms:created>
  <dc:creator>Pablo Turmero</dc:creator>
  <dc:description/>
  <dc:language>en-US</dc:language>
  <cp:lastModifiedBy>Pablo Turmero</cp:lastModifiedBy>
  <dcterms:modified xsi:type="dcterms:W3CDTF">2015-03-13T17:57:27Z</dcterms:modified>
  <cp:revision>68</cp:revision>
  <dc:subject/>
  <dc:title/>
</cp:coreProperties>
</file>