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1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DAC2-4DF9-46F6-80E3-3E625BE483F4}" type="slidenum">
              <a:rPr b="0" lang="es-D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C381-D646-432A-B6C8-539D5B62B062}" type="slidenum">
              <a:rPr b="0" lang="es-D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7586-472B-4699-87FF-D75C2C0856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DO"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DO"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98FE-D68D-4B04-AF4B-62155D71D10C}" type="slidenum">
              <a:rPr b="0" lang="es-D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E3053-C6EE-4F0D-B17D-F0DE29DB8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3AC3-4DC4-417C-8534-137FDA490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FF568-AD4F-4394-8369-327C3B2FE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1D65A-2077-4CC1-88E9-FB1579BF6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6FA69-F66A-44E1-B2A6-F29058106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F2FA8-4CE3-4D82-9A51-AD0C9E4B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15DE3-FA80-4902-8660-405701A1F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3FDD3-ACD5-4508-80F3-E31333F32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5B4B2-74F1-4F42-9A67-CD911ECBF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A0434-C253-4200-9323-A66756FFB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9540C-2BE2-4588-BC3E-46AE3DEE4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7658-80C9-4D64-B9BE-71EF76B0D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0E5B6-1143-464D-89F9-81101DB90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5634-2D30-4533-A607-FCB6D40B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65D4A-3144-4754-97D5-3B8EFD29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B449F-0C71-4B03-BD78-152A85062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8F2C1-9A37-475C-9110-996FBF512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29AF1-8B8C-450D-9916-74C903B77B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48C76-2608-45F6-9817-E592111EC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09C35-9AF2-49A7-B050-31DC21151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89145-AD59-44F8-829D-3BDF8CD9E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8BF74-E12E-45CF-BAE4-09CBB6B83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F162-1158-4650-AACA-DCA12581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44780-EE17-4E8F-86E1-624667E9F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51158-9D56-4A96-832E-8B4A4482C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8FD51-3FA4-4430-8FDE-39227843F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45CAB-A812-4875-AD56-8316663CB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B02E6-29F7-4342-8B50-87F88DE60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EE6197-46E5-4DD1-81A1-4BA1A6D11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5C75B-CC8A-4325-AD48-4C73F06CE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AE2704-E875-4C44-BB48-61EA25A173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4B648-5A55-4C05-9512-622C77339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30BFF-BA7D-452F-8D5B-7805B654B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0847-81D7-4C8C-A5BD-DCE5EC296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A31A3-A8D4-4975-AAE7-458E49EE2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DABAC-EEEB-4CAA-BB57-46FBE1F17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70CF7-4A94-47B4-8AE4-9257E43C0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16BEC-4086-4EB1-AC31-37B7520AD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36055-9DA9-4641-9F0F-24681FF75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84048-91A5-4785-A2AF-74A80853B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57410-660B-4230-AA62-5BEBD3746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7826A-8CDB-4A98-BF02-B118C8D14D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F395C-D90E-4BE7-9ABC-5E0B03A14B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E27A4-40C2-4EBF-8C3F-CE31A157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3220-D56B-4EA1-B9C7-43AD26C9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8541-2388-4338-9C9C-6E205667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86CA5-A58D-45C6-9175-78293C12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5A994-3A17-4A07-9607-F70CCE877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1FC6-D6C6-4BEB-BBD4-64AB21541590}" type="slidenum">
              <a:rPr b="0" lang="es-ES_tradnl"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FD52-AE00-4127-865D-E80606396D08}" type="slidenum">
              <a:rPr b="0" lang="es-ES_tradnl"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66B1-3BC8-4003-BBC1-44171C493693}" type="slidenum">
              <a:rPr b="0" lang="es-ES_tradnl"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CC67-4CDD-4A9B-BCAA-FBBB019EFE8E}" type="slidenum">
              <a:rPr b="0" lang="es-ES_tradnl"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113517"/>
          <p:cNvPicPr/>
          <p:nvPr/>
        </p:nvPicPr>
        <p:blipFill>
          <a:blip r:embed="rId1"/>
          <a:stretch/>
        </p:blipFill>
        <p:spPr>
          <a:xfrm>
            <a:off x="380880" y="457200"/>
            <a:ext cx="2590920" cy="2273400"/>
          </a:xfrm>
          <a:prstGeom prst="rect">
            <a:avLst/>
          </a:prstGeom>
          <a:ln w="0">
            <a:noFill/>
          </a:ln>
        </p:spPr>
      </p:pic>
      <p:pic>
        <p:nvPicPr>
          <p:cNvPr id="203" name="Picture 5" descr="2005"/>
          <p:cNvPicPr/>
          <p:nvPr/>
        </p:nvPicPr>
        <p:blipFill>
          <a:blip r:embed="rId2"/>
          <a:stretch/>
        </p:blipFill>
        <p:spPr>
          <a:xfrm>
            <a:off x="3124080" y="838080"/>
            <a:ext cx="2819520" cy="3654720"/>
          </a:xfrm>
          <a:prstGeom prst="rect">
            <a:avLst/>
          </a:prstGeom>
          <a:ln w="0">
            <a:noFill/>
          </a:ln>
        </p:spPr>
      </p:pic>
      <p:sp>
        <p:nvSpPr>
          <p:cNvPr id="204" name="Rectangle 1"/>
          <p:cNvSpPr/>
          <p:nvPr/>
        </p:nvSpPr>
        <p:spPr>
          <a:xfrm>
            <a:off x="0" y="4578120"/>
            <a:ext cx="9296280" cy="1557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omic"/>
                <a:ea typeface="Calibri"/>
              </a:rPr>
              <a:t>Ing. +LIC. Yunior Andrés Castillo 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yuniorandrescastillo.galeon.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yuniorcastillo@yahoo.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000000"/>
                </a:solidFill>
                <a:latin typeface="Arial"/>
                <a:ea typeface="Calibri"/>
              </a:rPr>
              <a:t>Celular: 1-829-725-8571</a:t>
            </a:r>
            <a:endParaRPr b="0" lang="en-US" sz="2000" spc="-1" strike="noStrike">
              <a:solidFill>
                <a:srgbClr val="000000"/>
              </a:solidFill>
              <a:latin typeface="Arial"/>
            </a:endParaRPr>
          </a:p>
        </p:txBody>
      </p:sp>
      <p:pic>
        <p:nvPicPr>
          <p:cNvPr id="205" name="Picture 4" descr="113517"/>
          <p:cNvPicPr/>
          <p:nvPr/>
        </p:nvPicPr>
        <p:blipFill>
          <a:blip r:embed="rId3"/>
          <a:stretch/>
        </p:blipFill>
        <p:spPr>
          <a:xfrm>
            <a:off x="6095880" y="457200"/>
            <a:ext cx="2590920" cy="227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125000"/>
            <a:ext cx="8229600" cy="4389480"/>
          </a:xfrm>
          <a:prstGeom prst="rect">
            <a:avLst/>
          </a:prstGeom>
          <a:noFill/>
          <a:ln w="0">
            <a:noFill/>
          </a:ln>
        </p:spPr>
        <p:txBody>
          <a:bodyPr anchor="t">
            <a:normAutofit fontScale="94000"/>
          </a:bodyPr>
          <a:p>
            <a:pPr marL="2563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Este nuevo modelo penitenciario está sustentado en la Ley 224-84 sobre régimen penitenciario de la República Dominicana, principios básicos para el tratamiento de los reclusos adoptados y proclamados por la Asamblea General de las Naciones Unidas en su resolución 45/111, del 14 de diciembre de 1990, Declaración Universal de los Derechos Humanos, entre otros instrumentos nacional e internacional.</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5280" y="1125000"/>
            <a:ext cx="8229600" cy="4389480"/>
          </a:xfrm>
          <a:prstGeom prst="rect">
            <a:avLst/>
          </a:prstGeom>
          <a:noFill/>
          <a:ln w="0">
            <a:noFill/>
          </a:ln>
        </p:spPr>
        <p:txBody>
          <a:bodyPr anchor="t">
            <a:normAutofit fontScale="92000"/>
          </a:bodyPr>
          <a:p>
            <a:pPr marL="250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600" spc="-1" strike="noStrike">
                <a:solidFill>
                  <a:srgbClr val="000000"/>
                </a:solidFill>
                <a:latin typeface="Constantia"/>
              </a:rPr>
              <a:t>	</a:t>
            </a:r>
            <a:r>
              <a:rPr b="1" lang="es-DO" sz="2600" spc="-1" strike="noStrike">
                <a:solidFill>
                  <a:srgbClr val="000000"/>
                </a:solidFill>
                <a:latin typeface="Constantia"/>
              </a:rPr>
              <a:t>La implementación de un nuevo modelo de gestión  penitenciario basado en el marco de respeto a los derechos humanos de las personas privadas de su libertad, con un talento humano formado y capacitado en la Escuela Nacional Penitenciaria en el manejo de la administración penitenciaria, en las áreas jurídica, Psicológica, Trabajadores social, Deporte y cultura, Talleres, Educación, medicina y el cuerpo de Agentes entrenados en Vigilancia y Tratamiento Penitenciario que comprendan la condición del privado de libertad y puedan darle un trato digno a cada persona sin importar quien sea</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4617b"/>
                </a:solidFill>
                <a:latin typeface="Calibri"/>
              </a:rPr>
              <a:t>Actores del Nuevo  Modelo  Penitenciario</a:t>
            </a:r>
            <a:endParaRPr b="0" lang="en-US" sz="3000" spc="-1" strike="noStrike">
              <a:solidFill>
                <a:srgbClr val="04617b"/>
              </a:solidFill>
              <a:latin typeface="Calibri"/>
            </a:endParaRPr>
          </a:p>
        </p:txBody>
      </p:sp>
      <p:sp>
        <p:nvSpPr>
          <p:cNvPr id="219" name="PlaceHolder 2"/>
          <p:cNvSpPr>
            <a:spLocks noGrp="1"/>
          </p:cNvSpPr>
          <p:nvPr>
            <p:ph/>
          </p:nvPr>
        </p:nvSpPr>
        <p:spPr>
          <a:xfrm>
            <a:off x="468360" y="1557000"/>
            <a:ext cx="8229600" cy="4389480"/>
          </a:xfrm>
          <a:prstGeom prst="rect">
            <a:avLst/>
          </a:prstGeom>
          <a:noFill/>
          <a:ln w="0">
            <a:noFill/>
          </a:ln>
        </p:spPr>
        <p:txBody>
          <a:bodyPr anchor="t">
            <a:normAutofit fontScale="98000"/>
          </a:bodyPr>
          <a:p>
            <a:pPr marL="2671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1" lang="es-ES" sz="3000" spc="-1" strike="noStrike">
                <a:solidFill>
                  <a:srgbClr val="000000"/>
                </a:solidFill>
                <a:latin typeface="Constantia"/>
              </a:rPr>
              <a:t>La Procuraduría General de la República</a:t>
            </a:r>
            <a:endParaRPr b="0" lang="en-US" sz="3000" spc="-1" strike="noStrike">
              <a:solidFill>
                <a:srgbClr val="000000"/>
              </a:solidFill>
              <a:latin typeface="Constantia"/>
            </a:endParaRPr>
          </a:p>
          <a:p>
            <a:pPr marL="2671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671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iene como misión, </a:t>
            </a:r>
            <a:r>
              <a:rPr b="0" lang="es-DO" sz="2600" spc="-1" strike="noStrike">
                <a:solidFill>
                  <a:srgbClr val="000000"/>
                </a:solidFill>
                <a:latin typeface="Constantia"/>
              </a:rPr>
              <a:t>ejercer, como institución responsable, la acción penal pública, la investigación de los hechos punibles, la representación y defensa del interés público y social. Así como la vigilancia y cumplimiento de las normas del debido proceso legal; garantizando la protección de las víctimas y los testigos y el respeto de los derechos humano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5280" y="1267920"/>
            <a:ext cx="8229600" cy="4389480"/>
          </a:xfrm>
          <a:prstGeom prst="rect">
            <a:avLst/>
          </a:prstGeom>
          <a:noFill/>
          <a:ln w="0">
            <a:noFill/>
          </a:ln>
        </p:spPr>
        <p:txBody>
          <a:bodyPr anchor="t">
            <a:normAutofit fontScale="90000"/>
          </a:bodyPr>
          <a:p>
            <a:pPr marL="245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2600" spc="-1" strike="noStrike">
                <a:solidFill>
                  <a:srgbClr val="000000"/>
                </a:solidFill>
                <a:latin typeface="Constantia"/>
              </a:rPr>
              <a:t>Visión: institución del sistema de justicia comprometida con el estado de derecho y las garantías constitucionales, funcionalmente independiente, eficaz en la persecución del delito penal, garante de la legalidad y efectiva en la protección de las víctimas y los testigos. </a:t>
            </a:r>
            <a:r>
              <a:rPr b="0" lang="es-ES" sz="2600" spc="-1" strike="noStrike">
                <a:solidFill>
                  <a:srgbClr val="000000"/>
                </a:solidFill>
                <a:latin typeface="Constantia"/>
              </a:rPr>
              <a:t>El  artículo 6 de</a:t>
            </a:r>
            <a:r>
              <a:rPr b="0" lang="es-DO" sz="2600" spc="-1" strike="noStrike">
                <a:solidFill>
                  <a:srgbClr val="000000"/>
                </a:solidFill>
                <a:latin typeface="Constantia"/>
              </a:rPr>
              <a:t> la ley 224 sobre régimen penitenciario, es donde se crea la Dirección General de Prisiones como un organismo central dependiente de la Procuraduría General de la República, y bajo cuya dirección y control estarán todos los establecimientos penales del paí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539640" y="184428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A raíz de todo esto, es que la Procuraduría General de la República y la Dirección General de Prisiones han iniciado un proceso de remodelación de las cárceles existentes, implementando un Nuevo Modelo Penitenciario, moderno y respetuoso de los derechos humanos</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134100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Previendo que no se repitan situaciones lamentables como las que otrora ha experimentado: un sistema penitenciario lleno de vicios, promiscuidad, hacinamiento y violencia; objeto de denuncias por parte de organizaciones nacionales e internacionales como la Comisión Interamericana de Derechos Humanos de la OEA</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88640"/>
            <a:ext cx="8229600" cy="1143000"/>
          </a:xfrm>
          <a:prstGeom prst="rect">
            <a:avLst/>
          </a:prstGeom>
          <a:noFill/>
          <a:ln w="0">
            <a:noFill/>
          </a:ln>
        </p:spPr>
        <p:txBody>
          <a:bodyPr lIns="0" rIns="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4617b"/>
                </a:solidFill>
                <a:latin typeface="Calibri"/>
              </a:rPr>
              <a:t>Escuela Nacional Penitenciaria</a:t>
            </a:r>
            <a:endParaRPr b="0" lang="en-US" sz="4200" spc="-1" strike="noStrike">
              <a:solidFill>
                <a:srgbClr val="04617b"/>
              </a:solidFill>
              <a:latin typeface="Calibri"/>
            </a:endParaRPr>
          </a:p>
        </p:txBody>
      </p:sp>
      <p:sp>
        <p:nvSpPr>
          <p:cNvPr id="224" name="PlaceHolder 2"/>
          <p:cNvSpPr>
            <a:spLocks noGrp="1"/>
          </p:cNvSpPr>
          <p:nvPr>
            <p:ph/>
          </p:nvPr>
        </p:nvSpPr>
        <p:spPr>
          <a:xfrm>
            <a:off x="468360" y="1699920"/>
            <a:ext cx="8229600" cy="4389480"/>
          </a:xfrm>
          <a:prstGeom prst="rect">
            <a:avLst/>
          </a:prstGeom>
          <a:noFill/>
          <a:ln w="0">
            <a:noFill/>
          </a:ln>
        </p:spPr>
        <p:txBody>
          <a:bodyPr anchor="t">
            <a:normAutofit/>
          </a:bodyPr>
          <a:p>
            <a:pPr marL="272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onstantia"/>
              </a:rPr>
              <a:t>	</a:t>
            </a:r>
            <a:r>
              <a:rPr b="0" lang="es-ES" sz="3000" spc="-1" strike="noStrike">
                <a:solidFill>
                  <a:srgbClr val="000000"/>
                </a:solidFill>
                <a:latin typeface="Constantia"/>
              </a:rPr>
              <a:t>Mediante auto No. 10468 del entonces Procurador General de la República, Dr. Víctor Manuel Céspedes Martínez, de fecha treinta (30) de Julio del 2003, el ordinal quinto; deja establecida la Escuela Nacional Penitenciaria, destacando su naturaleza, misión y principales funcione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1" descr="FOTO DE LA ENAP PARA MONOGRAFICO"/>
          <p:cNvPicPr/>
          <p:nvPr/>
        </p:nvPicPr>
        <p:blipFill>
          <a:blip r:embed="rId1"/>
          <a:stretch/>
        </p:blipFill>
        <p:spPr>
          <a:xfrm>
            <a:off x="-252360" y="0"/>
            <a:ext cx="9685440" cy="6858000"/>
          </a:xfrm>
          <a:prstGeom prst="rect">
            <a:avLst/>
          </a:prstGeom>
          <a:ln w="0">
            <a:noFill/>
          </a:ln>
        </p:spPr>
      </p:pic>
      <p:sp>
        <p:nvSpPr>
          <p:cNvPr id="226" name="Rectangle 35"/>
          <p:cNvSpPr/>
          <p:nvPr/>
        </p:nvSpPr>
        <p:spPr>
          <a:xfrm>
            <a:off x="45720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Rectangle 38"/>
          <p:cNvSpPr/>
          <p:nvPr/>
        </p:nvSpPr>
        <p:spPr>
          <a:xfrm>
            <a:off x="45720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Rectangle 39"/>
          <p:cNvSpPr/>
          <p:nvPr/>
        </p:nvSpPr>
        <p:spPr>
          <a:xfrm>
            <a:off x="459000" y="217332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9" name="Rectangle 40"/>
          <p:cNvSpPr/>
          <p:nvPr/>
        </p:nvSpPr>
        <p:spPr>
          <a:xfrm>
            <a:off x="45720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Rectangle 41"/>
          <p:cNvSpPr/>
          <p:nvPr/>
        </p:nvSpPr>
        <p:spPr>
          <a:xfrm>
            <a:off x="45720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4617b"/>
                </a:solidFill>
                <a:latin typeface="Calibri"/>
              </a:rPr>
              <a:t> </a:t>
            </a:r>
            <a:r>
              <a:rPr b="0" lang="es-ES_tradnl" sz="6200" spc="-1" strike="noStrike">
                <a:solidFill>
                  <a:srgbClr val="04617b"/>
                </a:solidFill>
                <a:latin typeface="Calibri"/>
              </a:rPr>
              <a:t>LEMA</a:t>
            </a:r>
            <a:endParaRPr b="0" lang="en-US" sz="6200" spc="-1" strike="noStrike">
              <a:solidFill>
                <a:srgbClr val="04617b"/>
              </a:solidFill>
              <a:latin typeface="Calibri"/>
            </a:endParaRPr>
          </a:p>
        </p:txBody>
      </p:sp>
      <p:sp>
        <p:nvSpPr>
          <p:cNvPr id="232" name="PlaceHolder 2"/>
          <p:cNvSpPr>
            <a:spLocks noGrp="1"/>
          </p:cNvSpPr>
          <p:nvPr>
            <p:ph/>
          </p:nvPr>
        </p:nvSpPr>
        <p:spPr>
          <a:xfrm>
            <a:off x="395280" y="2468160"/>
            <a:ext cx="8229600" cy="2675160"/>
          </a:xfrm>
          <a:prstGeom prst="rect">
            <a:avLst/>
          </a:prstGeom>
          <a:noFill/>
          <a:ln w="0">
            <a:noFill/>
          </a:ln>
        </p:spPr>
        <p:txBody>
          <a:bodyPr anchor="t">
            <a:normAutofit fontScale="89000"/>
          </a:bodyPr>
          <a:p>
            <a:pPr marL="2426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00000"/>
                </a:solidFill>
                <a:latin typeface="Constantia"/>
              </a:rPr>
              <a:t>“</a:t>
            </a:r>
            <a:r>
              <a:rPr b="1" lang="es-ES" sz="5000" spc="-1" strike="noStrike">
                <a:solidFill>
                  <a:srgbClr val="000000"/>
                </a:solidFill>
                <a:latin typeface="Constantia"/>
              </a:rPr>
              <a:t>Educamos Personas que Trabajan para la Libertad”</a:t>
            </a:r>
            <a:endParaRPr b="0" lang="en-US" sz="5000" spc="-1" strike="noStrike">
              <a:solidFill>
                <a:srgbClr val="000000"/>
              </a:solidFill>
              <a:latin typeface="Constantia"/>
            </a:endParaRPr>
          </a:p>
          <a:p>
            <a:pPr marL="2426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onstantia"/>
              </a:rPr>
              <a:t>Nick Brooke</a:t>
            </a:r>
            <a:endParaRPr b="0"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04617b"/>
                </a:solidFill>
                <a:latin typeface="Calibri"/>
              </a:rPr>
              <a:t>Naturaleza,  Misión y Objetivos</a:t>
            </a:r>
            <a:endParaRPr b="0" lang="en-US" sz="4200" spc="-1" strike="noStrike">
              <a:solidFill>
                <a:srgbClr val="04617b"/>
              </a:solidFill>
              <a:latin typeface="Calibri"/>
            </a:endParaRPr>
          </a:p>
        </p:txBody>
      </p:sp>
      <p:sp>
        <p:nvSpPr>
          <p:cNvPr id="234" name="PlaceHolder 2"/>
          <p:cNvSpPr>
            <a:spLocks noGrp="1"/>
          </p:cNvSpPr>
          <p:nvPr>
            <p:ph/>
          </p:nvPr>
        </p:nvSpPr>
        <p:spPr>
          <a:xfrm>
            <a:off x="324000" y="198864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La Escuela Nacional Penitenciaria de la República Dominicana (ENAP),  es un centro de formación y capacitación dependiente de la Procuraduría General de la República, cuya misión, es la formación y capacitación técnica del personal del servicio correccional dominicano</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56760" y="1333440"/>
            <a:ext cx="8363160" cy="4595760"/>
          </a:xfrm>
          <a:prstGeom prst="rect">
            <a:avLst/>
          </a:prstGeom>
          <a:solidFill>
            <a:srgbClr val="0f6fc6"/>
          </a:solidFill>
          <a:ln w="9360">
            <a:solidFill>
              <a:srgbClr val="00ffff"/>
            </a:solidFill>
            <a:miter/>
          </a:ln>
        </p:spPr>
        <p:txBody>
          <a:bodyPr anchor="t">
            <a:normAutofit/>
          </a:bodyPr>
          <a:p>
            <a:pPr marL="272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nstantia"/>
              </a:rPr>
              <a:t>CONFERENCIA:</a:t>
            </a:r>
            <a:endParaRPr b="0" lang="en-US" sz="3600" spc="-1" strike="noStrike">
              <a:solidFill>
                <a:srgbClr val="ffffff"/>
              </a:solidFill>
              <a:latin typeface="Constantia"/>
            </a:endParaRPr>
          </a:p>
          <a:p>
            <a:pPr marL="272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nstantia"/>
              </a:rPr>
              <a:t>MODELO PENITENCIARIO DOMINICANO</a:t>
            </a:r>
            <a:endParaRPr b="0" lang="en-US" sz="3600" spc="-1" strike="noStrike">
              <a:solidFill>
                <a:srgbClr val="ffffff"/>
              </a:solidFill>
              <a:latin typeface="Constantia"/>
            </a:endParaRPr>
          </a:p>
          <a:p>
            <a:pPr marL="272880"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ff"/>
                </a:solidFill>
                <a:latin typeface="Constantia"/>
              </a:rPr>
              <a:t>(SISTEMA CARCELARIO TRADICIONAL , </a:t>
            </a:r>
            <a:endParaRPr b="0" lang="en-US" sz="3000" spc="-1" strike="noStrike">
              <a:solidFill>
                <a:srgbClr val="ffffff"/>
              </a:solidFill>
              <a:latin typeface="Constantia"/>
            </a:endParaRPr>
          </a:p>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ff"/>
                </a:solidFill>
                <a:latin typeface="Constantia"/>
              </a:rPr>
              <a:t>EL NUEVO MODELO DE GESTIÓN  PENITENCIARIA Y LA ESCUELA NACIONAL PENITENCIARIA (ENAP) )</a:t>
            </a:r>
            <a:endParaRPr b="0" lang="en-US" sz="3000" spc="-1" strike="noStrike">
              <a:solidFill>
                <a:srgbClr val="ffffff"/>
              </a:solidFill>
              <a:latin typeface="Constantia"/>
            </a:endParaRPr>
          </a:p>
          <a:p>
            <a:pPr marL="272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ARTE 5</a:t>
            </a:r>
            <a:endParaRPr b="0" lang="en-US" sz="2800" spc="-1" strike="noStrike">
              <a:solidFill>
                <a:srgbClr val="ffffff"/>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68360" y="1341000"/>
            <a:ext cx="8229600" cy="4389480"/>
          </a:xfrm>
          <a:prstGeom prst="rect">
            <a:avLst/>
          </a:prstGeom>
          <a:noFill/>
          <a:ln w="0">
            <a:noFill/>
          </a:ln>
        </p:spPr>
        <p:txBody>
          <a:bodyPr anchor="t">
            <a:normAutofit/>
          </a:bodyPr>
          <a:p>
            <a:pPr marL="272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2600" spc="-1" strike="noStrike">
                <a:solidFill>
                  <a:srgbClr val="000000"/>
                </a:solidFill>
                <a:latin typeface="Constantia"/>
              </a:rPr>
              <a:t>Está dirigida a la selección, formación, calificación y evaluación de los Recursos Humanos que gestionen el sistema penitenciario, en interés de poner en ejecución plena, la Ley 224-84;  así como los reglamentos y normas trazadas por la Procuraduría General de la República en asuntos penitenciario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773000"/>
            <a:ext cx="8229600" cy="4389480"/>
          </a:xfrm>
          <a:prstGeom prst="rect">
            <a:avLst/>
          </a:prstGeom>
          <a:noFill/>
          <a:ln w="0">
            <a:noFill/>
          </a:ln>
        </p:spPr>
        <p:txBody>
          <a:bodyPr anchor="t">
            <a:normAutofit fontScale="96000"/>
          </a:bodyPr>
          <a:p>
            <a:pPr marL="2617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400" spc="-1" strike="noStrike">
                <a:solidFill>
                  <a:srgbClr val="000000"/>
                </a:solidFill>
                <a:latin typeface="Constantia"/>
              </a:rPr>
              <a:t>La ENAP también tiene entre sus múltiples funciones, el establecimiento de vínculos y relaciones nacionales e internacionales, a fin de realizar intercambios de índole científico y docente, que permitan el establecimiento de convenios de cooperación técnica</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125000"/>
            <a:ext cx="8229600" cy="5000760"/>
          </a:xfrm>
          <a:prstGeom prst="rect">
            <a:avLst/>
          </a:prstGeom>
          <a:noFill/>
          <a:ln w="0">
            <a:noFill/>
          </a:ln>
        </p:spPr>
        <p:txBody>
          <a:bodyPr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Constantia"/>
              </a:rPr>
              <a:t>	</a:t>
            </a:r>
            <a:r>
              <a:rPr b="0" lang="es-DO" sz="2400" spc="-1" strike="noStrike">
                <a:solidFill>
                  <a:srgbClr val="000000"/>
                </a:solidFill>
                <a:latin typeface="Constantia"/>
              </a:rPr>
              <a:t>En el año 2003 con la designación del Lic. Roberto Santana se inicia el proceso de diseño e implantación de la Escuela Nacional Penitenciaria ENAP, y con el concurso del consultor español Andréu Estela Barnet y el Programa de Apoyo a la Reforma y Modernización del Estado (PARME), así como la  asesoría del experto británico Nick Brooke, se logra ampliar el horizonte del sistema penitenciario.</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Constantia"/>
              </a:rPr>
              <a:t>	</a:t>
            </a:r>
            <a:r>
              <a:rPr b="0" lang="es-DO" sz="2400" spc="-1" strike="noStrike">
                <a:solidFill>
                  <a:srgbClr val="000000"/>
                </a:solidFill>
                <a:latin typeface="Constantia"/>
              </a:rPr>
              <a:t>En ese mismo año 2003, la ENAP por instrucciones de la Procuraduría General de la República inicia el proceso de selección de jóvenes, hembras y varones, en la provincia de Puerto Plata para formar el primer grupo de Agentes de Vigilancia y Tratamiento Penitenciario VTP.</a:t>
            </a:r>
            <a:endParaRPr b="0" lang="en-US" sz="24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4617b"/>
                </a:solidFill>
                <a:latin typeface="Calibri"/>
              </a:rPr>
              <a:t>Sede docente de la Escuela Nacional Penitenciaria (ENAP), Castillo del Cerro, San Cristóbal</a:t>
            </a:r>
            <a:endParaRPr b="0" lang="en-US" sz="2600" spc="-1" strike="noStrike">
              <a:solidFill>
                <a:srgbClr val="04617b"/>
              </a:solidFill>
              <a:latin typeface="Calibri"/>
            </a:endParaRPr>
          </a:p>
        </p:txBody>
      </p:sp>
      <p:sp>
        <p:nvSpPr>
          <p:cNvPr id="239" name="PlaceHolder 2"/>
          <p:cNvSpPr>
            <a:spLocks noGrp="1"/>
          </p:cNvSpPr>
          <p:nvPr>
            <p:ph/>
          </p:nvPr>
        </p:nvSpPr>
        <p:spPr>
          <a:xfrm>
            <a:off x="324000" y="184428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3000" spc="-1" strike="noStrike">
                <a:solidFill>
                  <a:srgbClr val="000000"/>
                </a:solidFill>
                <a:latin typeface="Constantia"/>
              </a:rPr>
              <a:t>Mediante el Decreto No. 528-05, de fecha veinte (20) del mes de septiembre del 2005, art. 4, donde se asigna el Castillo del Cerro en  San Cristóbal, a la Procuraduría General de la República, para ser destinado a la Escuela Nacional Penitenciaria, en sus procesos de formación y capacitación en materia penitenciaria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
          <p:cNvPicPr/>
          <p:nvPr/>
        </p:nvPicPr>
        <p:blipFill>
          <a:blip r:embed="rId1"/>
          <a:stretch/>
        </p:blipFill>
        <p:spPr>
          <a:xfrm>
            <a:off x="1979640" y="2617920"/>
            <a:ext cx="5400720" cy="4051080"/>
          </a:xfrm>
          <a:prstGeom prst="rect">
            <a:avLst/>
          </a:prstGeom>
          <a:ln w="0">
            <a:noFill/>
          </a:ln>
        </p:spPr>
      </p:pic>
      <p:sp>
        <p:nvSpPr>
          <p:cNvPr id="241" name="Text Box 3"/>
          <p:cNvSpPr/>
          <p:nvPr/>
        </p:nvSpPr>
        <p:spPr>
          <a:xfrm>
            <a:off x="1258920" y="1282680"/>
            <a:ext cx="6661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f6fc6"/>
                </a:solidFill>
                <a:latin typeface="Arial"/>
              </a:rPr>
              <a:t>SEDE DOCENTE, CASTILLO DEL CERRO, S. C.</a:t>
            </a:r>
            <a:endParaRPr b="0" lang="en-US" sz="3200" spc="-1" strike="noStrike">
              <a:solidFill>
                <a:srgbClr val="000000"/>
              </a:solidFill>
              <a:latin typeface="Arial"/>
            </a:endParaRPr>
          </a:p>
        </p:txBody>
      </p:sp>
      <p:sp>
        <p:nvSpPr>
          <p:cNvPr id="242" name="AutoShape 4"/>
          <p:cNvSpPr/>
          <p:nvPr/>
        </p:nvSpPr>
        <p:spPr>
          <a:xfrm rot="5400000">
            <a:off x="5798160" y="1986840"/>
            <a:ext cx="936360" cy="509400"/>
          </a:xfrm>
          <a:custGeom>
            <a:avLst/>
            <a:gdLst>
              <a:gd name="textAreaLeft" fmla="*/ 117000 w 936360"/>
              <a:gd name="textAreaRight" fmla="*/ 819360 w 936360"/>
              <a:gd name="textAreaTop" fmla="*/ 127440 h 509400"/>
              <a:gd name="textAreaBottom" fmla="*/ 382320 h 509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5" descr=""/>
          <p:cNvPicPr/>
          <p:nvPr/>
        </p:nvPicPr>
        <p:blipFill>
          <a:blip r:embed="rId2"/>
          <a:stretch/>
        </p:blipFill>
        <p:spPr>
          <a:xfrm>
            <a:off x="1692360" y="173160"/>
            <a:ext cx="5545080" cy="10951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95280" y="620280"/>
            <a:ext cx="8229600" cy="4389480"/>
          </a:xfrm>
          <a:prstGeom prst="rect">
            <a:avLst/>
          </a:prstGeom>
          <a:noFill/>
          <a:ln w="0">
            <a:noFill/>
          </a:ln>
        </p:spPr>
        <p:txBody>
          <a:bodyPr anchor="t">
            <a:normAutofit fontScale="94000"/>
          </a:bodyPr>
          <a:p>
            <a:pPr marL="2563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Unidad Coordinadora del Modelo de Gestión Penitenciaria y la Oficina Coordinadora de los Centros de Corrección y Rehabilitación (CCRs)</a:t>
            </a:r>
            <a:endParaRPr b="0" lang="en-US" sz="2600" spc="-1" strike="noStrike">
              <a:solidFill>
                <a:srgbClr val="000000"/>
              </a:solidFill>
              <a:latin typeface="Constantia"/>
            </a:endParaRPr>
          </a:p>
          <a:p>
            <a:pPr marL="2563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600" spc="-1" strike="noStrike">
                <a:solidFill>
                  <a:srgbClr val="000000"/>
                </a:solidFill>
                <a:latin typeface="Constantia"/>
              </a:rPr>
              <a:t>	</a:t>
            </a:r>
            <a:r>
              <a:rPr b="0" lang="es-DO" sz="2600" spc="-1" strike="noStrike">
                <a:solidFill>
                  <a:srgbClr val="000000"/>
                </a:solidFill>
                <a:latin typeface="Constantia"/>
              </a:rPr>
              <a:t>El  veintidós (22) de noviembre del 2007, fue creada la Unidad Coordinadora del Modelo de Gestión Penitenciaria y la Oficina Nacional de Coordinación de los Centros de Corrección y Rehabilitación, mediante la resolución 0078, del Magistrado Procurador General de la República, Dr. Radhamés Jiménez Peña</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95280" y="1125000"/>
            <a:ext cx="8229600" cy="4389480"/>
          </a:xfrm>
          <a:prstGeom prst="rect">
            <a:avLst/>
          </a:prstGeom>
          <a:noFill/>
          <a:ln w="0">
            <a:noFill/>
          </a:ln>
        </p:spPr>
        <p:txBody>
          <a:bodyPr anchor="t">
            <a:normAutofit fontScale="93000"/>
          </a:bodyPr>
          <a:p>
            <a:pPr marL="253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La cuál fue necesaria, en razón de que todo proceso de reforma para un mejor desenvolvimiento sin interferencia entre el Nuevo Modelo Penitenciario y el sistema penitenciario tradicional vigente, para la salud del proceso institucional que conduce a la implantación total del primero y a la correspondiente extinción del segundo, al tenor de los artículos 10, 95, 102, 104 y 105 de la ley 224 sobre régimen penitenciario</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125000"/>
            <a:ext cx="8229600" cy="4389480"/>
          </a:xfrm>
          <a:prstGeom prst="rect">
            <a:avLst/>
          </a:prstGeom>
          <a:noFill/>
          <a:ln w="0">
            <a:noFill/>
          </a:ln>
        </p:spPr>
        <p:txBody>
          <a:bodyPr anchor="t">
            <a:normAutofit fontScale="93000"/>
          </a:bodyPr>
          <a:p>
            <a:pPr marL="253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En su artículo primero, la resolución 0078 establece que el Nuevo Modelo de Gestión Penitenciaria está basado en el sistema progresivo, instituido por la Ley 224, de fecha 26 de junio de 1984,  consiste en obtener la rehabilitación social mediante etapas o grados, apoyado en herramientas de gestión moderna consignadas en el Manual de Gestión Penitenciaria, normativas y procedimentales existentes o por crearse</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4617b"/>
                </a:solidFill>
                <a:latin typeface="Calibri"/>
              </a:rPr>
              <a:t>Centros de Corrección y Rehabilitación (CCRs)</a:t>
            </a:r>
            <a:endParaRPr b="0" lang="en-US" sz="3800" spc="-1" strike="noStrike">
              <a:solidFill>
                <a:srgbClr val="04617b"/>
              </a:solidFill>
              <a:latin typeface="Calibri"/>
            </a:endParaRPr>
          </a:p>
        </p:txBody>
      </p:sp>
      <p:sp>
        <p:nvSpPr>
          <p:cNvPr id="248" name="PlaceHolder 2"/>
          <p:cNvSpPr>
            <a:spLocks noGrp="1"/>
          </p:cNvSpPr>
          <p:nvPr>
            <p:ph/>
          </p:nvPr>
        </p:nvSpPr>
        <p:spPr>
          <a:xfrm>
            <a:off x="468360" y="2468160"/>
            <a:ext cx="8229600" cy="4389480"/>
          </a:xfrm>
          <a:prstGeom prst="rect">
            <a:avLst/>
          </a:prstGeom>
          <a:noFill/>
          <a:ln w="0">
            <a:noFill/>
          </a:ln>
        </p:spPr>
        <p:txBody>
          <a:bodyPr anchor="t">
            <a:normAutofit/>
          </a:bodyPr>
          <a:p>
            <a:pPr marL="2728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3400" spc="-1" strike="noStrike">
                <a:solidFill>
                  <a:srgbClr val="000000"/>
                </a:solidFill>
                <a:latin typeface="Constantia"/>
              </a:rPr>
              <a:t>Se denominan Centros de Corrección y Rehabilitación (CCRs), los recintos penitenciarios donde deban permanecer las personas privadas de libertad, ya sea por prisión preventiva o cumpliendo condena </a:t>
            </a: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95280" y="1267920"/>
            <a:ext cx="8229600" cy="4389480"/>
          </a:xfrm>
          <a:prstGeom prst="rect">
            <a:avLst/>
          </a:prstGeom>
          <a:noFill/>
          <a:ln w="0">
            <a:noFill/>
          </a:ln>
        </p:spPr>
        <p:txBody>
          <a:bodyPr anchor="t">
            <a:normAutofit fontScale="96000"/>
          </a:bodyPr>
          <a:p>
            <a:pPr marL="2617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3000" spc="-1" strike="noStrike">
                <a:solidFill>
                  <a:srgbClr val="000000"/>
                </a:solidFill>
                <a:latin typeface="Constantia"/>
              </a:rPr>
              <a:t>Estos Centros se encuentran adscrito al Modelo de Gestión Penitenciaria, dependencia de la Procuraduría General de la República, según </a:t>
            </a:r>
            <a:r>
              <a:rPr b="0" lang="es-DO" sz="3000" spc="-1" strike="noStrike">
                <a:solidFill>
                  <a:srgbClr val="000000"/>
                </a:solidFill>
                <a:latin typeface="Constantia"/>
              </a:rPr>
              <a:t>resolución 0078, del veintidós (22) de noviembre del 2007, donde fue  creada la Unidad Coordinadora del Modelo de Gestión Penitenciaria y la Oficina Nacional de Coordinación de los Centros de Corrección y Rehabilitación (CCRs)</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1856880"/>
            <a:ext cx="8229600" cy="2071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5000" spc="-1" strike="noStrike">
                <a:solidFill>
                  <a:srgbClr val="04617b"/>
                </a:solidFill>
                <a:latin typeface="Berlin Sans FB Demi"/>
              </a:rPr>
              <a:t>NUEVO MODELO DE  GESTIÓN PENITENCIARIA</a:t>
            </a:r>
            <a:endParaRPr b="0" lang="en-US" sz="5000" spc="-1" strike="noStrike">
              <a:solidFill>
                <a:srgbClr val="04617b"/>
              </a:solidFill>
              <a:latin typeface="Calibri"/>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1773000"/>
            <a:ext cx="8229600" cy="4389480"/>
          </a:xfrm>
          <a:prstGeom prst="rect">
            <a:avLst/>
          </a:prstGeom>
          <a:noFill/>
          <a:ln w="0">
            <a:noFill/>
          </a:ln>
        </p:spPr>
        <p:txBody>
          <a:bodyPr anchor="t">
            <a:normAutofit/>
          </a:bodyPr>
          <a:p>
            <a:pPr marL="27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200" spc="-1" strike="noStrike">
                <a:solidFill>
                  <a:srgbClr val="000000"/>
                </a:solidFill>
                <a:latin typeface="Constantia"/>
              </a:rPr>
              <a:t>	</a:t>
            </a:r>
            <a:r>
              <a:rPr b="0" lang="es-DO" sz="3200" spc="-1" strike="noStrike">
                <a:solidFill>
                  <a:srgbClr val="000000"/>
                </a:solidFill>
                <a:latin typeface="Constantia"/>
              </a:rPr>
              <a:t>Estos Centros sustituyen a los policías y militares por Agentes de Vigilancia y Tratamiento Penitenciario (VTP), capacitados en la Sede Docente de la Escuela Nacional Penitenciaria, ubicada en el Castillo del Cerro, San Cristóbal</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4000" y="1844280"/>
            <a:ext cx="8229600" cy="4389480"/>
          </a:xfrm>
          <a:prstGeom prst="rect">
            <a:avLst/>
          </a:prstGeom>
          <a:noFill/>
          <a:ln w="0">
            <a:noFill/>
          </a:ln>
        </p:spPr>
        <p:txBody>
          <a:bodyPr anchor="t">
            <a:normAutofit/>
          </a:bodyPr>
          <a:p>
            <a:pPr marL="2728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400" spc="-1" strike="noStrike">
                <a:solidFill>
                  <a:srgbClr val="000000"/>
                </a:solidFill>
                <a:latin typeface="Constantia"/>
              </a:rPr>
              <a:t>El punto neurálgico del sistema carcelario para efectuar este cambio, ha consistido en la capacitación del recurso humano adecuado</a:t>
            </a:r>
            <a:r>
              <a:rPr b="0" lang="es-ES" sz="3400" spc="-1" strike="noStrike">
                <a:solidFill>
                  <a:srgbClr val="000000"/>
                </a:solidFill>
                <a:latin typeface="Constantia"/>
              </a:rPr>
              <a:t> </a:t>
            </a: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95280" y="155700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La Procuraduría General de la República dio su primer paso con la creación de la Escuela Nacional Penitenciaria y la reconstrucción y mejoramiento de la estructura física de varios recintos penitenciarios.  Este proyecto abarca once (11) centros rehabilitados y modernizados</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360" y="980640"/>
            <a:ext cx="8229600" cy="4389480"/>
          </a:xfrm>
          <a:prstGeom prst="rect">
            <a:avLst/>
          </a:prstGeom>
          <a:noFill/>
          <a:ln w="0">
            <a:noFill/>
          </a:ln>
        </p:spPr>
        <p:txBody>
          <a:bodyPr anchor="t">
            <a:normAutofit fontScale="91000"/>
          </a:bodyPr>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600" spc="-1" strike="noStrike">
                <a:solidFill>
                  <a:srgbClr val="000000"/>
                </a:solidFill>
                <a:latin typeface="Constantia"/>
              </a:rPr>
              <a:t>CCR-San Felipe de Puerto Plata. </a:t>
            </a:r>
            <a:r>
              <a:rPr b="0" lang="es-DO" sz="2600" spc="-1" strike="noStrike">
                <a:solidFill>
                  <a:srgbClr val="000000"/>
                </a:solidFill>
                <a:latin typeface="Constantia"/>
              </a:rPr>
              <a:t>Primer Centro Modelo, creado en  agosto del 2004, con capacidad para 551 internos.</a:t>
            </a:r>
            <a:endParaRPr b="0" lang="en-US" sz="2600" spc="-1" strike="noStrike">
              <a:solidFill>
                <a:srgbClr val="000000"/>
              </a:solidFill>
              <a:latin typeface="Constantia"/>
            </a:endParaRPr>
          </a:p>
          <a:p>
            <a:pPr marL="248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1" lang="es-DO" sz="2600" spc="-1" strike="noStrike">
                <a:solidFill>
                  <a:srgbClr val="000000"/>
                </a:solidFill>
                <a:latin typeface="Constantia"/>
              </a:rPr>
              <a:t>CCR-Najayo Mujeres. </a:t>
            </a:r>
            <a:r>
              <a:rPr b="0" lang="es-DO" sz="2600" spc="-1" strike="noStrike">
                <a:solidFill>
                  <a:srgbClr val="000000"/>
                </a:solidFill>
                <a:latin typeface="Constantia"/>
              </a:rPr>
              <a:t> Incorporado al Nuevo Modelo en marzo del 2005, con capacidad para 309 internas. </a:t>
            </a:r>
            <a:endParaRPr b="0" lang="en-US" sz="2600" spc="-1" strike="noStrike">
              <a:solidFill>
                <a:srgbClr val="000000"/>
              </a:solidFill>
              <a:latin typeface="Constantia"/>
            </a:endParaRPr>
          </a:p>
          <a:p>
            <a:pPr marL="248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2600" spc="-1" strike="noStrike">
                <a:solidFill>
                  <a:srgbClr val="000000"/>
                </a:solidFill>
                <a:latin typeface="Constantia"/>
              </a:rPr>
              <a:t>CCR-Beller Dajabon.</a:t>
            </a:r>
            <a:r>
              <a:rPr b="0" lang="es-DO" sz="2600" spc="-1" strike="noStrike">
                <a:solidFill>
                  <a:srgbClr val="000000"/>
                </a:solidFill>
                <a:latin typeface="Constantia"/>
              </a:rPr>
              <a:t> Dejado formalmente implantado en diciembre del 2005, tiene capacidad para 90 interno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2133720" y="1219320"/>
            <a:ext cx="6781680" cy="144756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nstantia"/>
              </a:rPr>
              <a:t>GRACIAS POR SU ATENCION</a:t>
            </a:r>
            <a:endParaRPr b="0" lang="en-US" sz="4800" spc="-1" strike="noStrike">
              <a:solidFill>
                <a:srgbClr val="000000"/>
              </a:solidFill>
              <a:latin typeface="Arial"/>
            </a:endParaRPr>
          </a:p>
        </p:txBody>
      </p:sp>
      <p:pic>
        <p:nvPicPr>
          <p:cNvPr id="255" name="Picture 3" descr="D:\Datos Importantes\Generalidad De Fotos\Detalles\AMIDEA.WMF"/>
          <p:cNvPicPr/>
          <p:nvPr/>
        </p:nvPicPr>
        <p:blipFill>
          <a:blip r:embed="rId1"/>
          <a:stretch/>
        </p:blipFill>
        <p:spPr>
          <a:xfrm>
            <a:off x="990720" y="1143000"/>
            <a:ext cx="1295280" cy="3933720"/>
          </a:xfrm>
          <a:prstGeom prst="rect">
            <a:avLst/>
          </a:prstGeom>
          <a:ln w="0">
            <a:noFill/>
          </a:ln>
        </p:spPr>
      </p:pic>
      <p:sp>
        <p:nvSpPr>
          <p:cNvPr id="256" name="Rectangle 1"/>
          <p:cNvSpPr/>
          <p:nvPr/>
        </p:nvSpPr>
        <p:spPr>
          <a:xfrm>
            <a:off x="2286000" y="3741120"/>
            <a:ext cx="66294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000000"/>
                </a:solidFill>
                <a:latin typeface="Arial"/>
              </a:rPr>
              <a:t>Ing.+Lic. Yunior Andrés Castillo 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Arial"/>
              </a:rPr>
              <a:t>Página Web: yuniorandrescastillo.galeon.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Arial"/>
              </a:rPr>
              <a:t>Correo: yuniorcastillo@yahoo.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Arial"/>
              </a:rPr>
              <a:t>Celular:1-829-725-857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tiago de los Caballeros, República Dominica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Arial"/>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ntecedentes</a:t>
            </a:r>
            <a:endParaRPr b="0" lang="en-US" sz="5000" spc="-1" strike="noStrike">
              <a:solidFill>
                <a:srgbClr val="04617b"/>
              </a:solidFill>
              <a:latin typeface="Calibri"/>
            </a:endParaRPr>
          </a:p>
        </p:txBody>
      </p:sp>
      <p:sp>
        <p:nvSpPr>
          <p:cNvPr id="209" name="PlaceHolder 2"/>
          <p:cNvSpPr>
            <a:spLocks noGrp="1"/>
          </p:cNvSpPr>
          <p:nvPr>
            <p:ph/>
          </p:nvPr>
        </p:nvSpPr>
        <p:spPr>
          <a:xfrm>
            <a:off x="395280" y="1773000"/>
            <a:ext cx="8229600" cy="4389480"/>
          </a:xfrm>
          <a:prstGeom prst="rect">
            <a:avLst/>
          </a:prstGeom>
          <a:noFill/>
          <a:ln w="0">
            <a:noFill/>
          </a:ln>
        </p:spPr>
        <p:txBody>
          <a:bodyPr anchor="t">
            <a:normAutofit fontScale="95000"/>
          </a:bodyPr>
          <a:p>
            <a:pPr marL="25920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700" spc="-1" strike="noStrike">
                <a:solidFill>
                  <a:srgbClr val="000000"/>
                </a:solidFill>
                <a:latin typeface="Constantia"/>
              </a:rPr>
              <a:t>Gran parte de las cárceles existentes, respondían al diseño propio de la cultura de castigo y tortura ya que, en su mayoría, datan de la época de la dictadura de Rafael Leonidas Trujillo. </a:t>
            </a:r>
            <a:endParaRPr b="0" lang="en-US" sz="2700" spc="-1" strike="noStrike">
              <a:solidFill>
                <a:srgbClr val="000000"/>
              </a:solidFill>
              <a:latin typeface="Constantia"/>
            </a:endParaRPr>
          </a:p>
          <a:p>
            <a:pPr marL="25920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5920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onstantia"/>
              </a:rPr>
              <a:t>	</a:t>
            </a:r>
            <a:r>
              <a:rPr b="0" lang="es-ES" sz="2700" spc="-1" strike="noStrike">
                <a:solidFill>
                  <a:srgbClr val="000000"/>
                </a:solidFill>
                <a:latin typeface="Constantia"/>
              </a:rPr>
              <a:t>No es sino hasta la construcción del primer Centro de Corrección y Rehabilitación San Felipe de Puerto Plata, el cuál ha sido edificado bajo una estructura diferente a las antiguas, tomando en cuenta el debido trato a toda persona privada de libertad, creando pabellones  diferentes acorde  con los requerimientos mínimos aceptados por organismos internacionales. </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24000" y="1483920"/>
            <a:ext cx="8229600" cy="4389480"/>
          </a:xfrm>
          <a:prstGeom prst="rect">
            <a:avLst/>
          </a:prstGeom>
          <a:noFill/>
          <a:ln w="0">
            <a:noFill/>
          </a:ln>
        </p:spPr>
        <p:txBody>
          <a:bodyPr anchor="t">
            <a:normAutofit/>
          </a:bodyPr>
          <a:p>
            <a:pPr marL="2728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400" spc="-1" strike="noStrike">
                <a:solidFill>
                  <a:srgbClr val="000000"/>
                </a:solidFill>
                <a:latin typeface="Constantia"/>
              </a:rPr>
              <a:t>	</a:t>
            </a:r>
            <a:r>
              <a:rPr b="0" lang="es-DO" sz="3400" spc="-1" strike="noStrike">
                <a:solidFill>
                  <a:srgbClr val="000000"/>
                </a:solidFill>
                <a:latin typeface="Constantia"/>
              </a:rPr>
              <a:t>El Estado Dominicano en los últimos años, ha iniciado un proceso de remodelación de las cárceles existentes, con la finalidad de implementar un sistema penitenciario moderno, respetuoso de los derechos humanos</a:t>
            </a:r>
            <a:r>
              <a:rPr b="0" lang="es-ES" sz="3400" spc="-1" strike="noStrike">
                <a:solidFill>
                  <a:srgbClr val="000000"/>
                </a:solidFill>
                <a:latin typeface="Constantia"/>
              </a:rPr>
              <a:t> </a:t>
            </a: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4617b"/>
                </a:solidFill>
                <a:latin typeface="Calibri"/>
              </a:rPr>
              <a:t>Generalidades del Nuevo Modelo Penitenciario</a:t>
            </a:r>
            <a:endParaRPr b="0" lang="en-US" sz="2600" spc="-1" strike="noStrike">
              <a:solidFill>
                <a:srgbClr val="04617b"/>
              </a:solidFill>
              <a:latin typeface="Calibri"/>
            </a:endParaRPr>
          </a:p>
        </p:txBody>
      </p:sp>
      <p:sp>
        <p:nvSpPr>
          <p:cNvPr id="212" name="PlaceHolder 2"/>
          <p:cNvSpPr>
            <a:spLocks noGrp="1"/>
          </p:cNvSpPr>
          <p:nvPr>
            <p:ph/>
          </p:nvPr>
        </p:nvSpPr>
        <p:spPr>
          <a:xfrm>
            <a:off x="468360" y="1844280"/>
            <a:ext cx="8229600" cy="4389480"/>
          </a:xfrm>
          <a:prstGeom prst="rect">
            <a:avLst/>
          </a:prstGeom>
          <a:noFill/>
          <a:ln w="0">
            <a:noFill/>
          </a:ln>
        </p:spPr>
        <p:txBody>
          <a:bodyPr anchor="t">
            <a:normAutofit/>
          </a:bodyPr>
          <a:p>
            <a:pPr marL="272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La implementación de un nuevo sistema penitenciario, basado en la filosofía de respeto a la condición humana de las personas privadas de libertad, descansa sobre tres pilares fundamentales; construcción de nuevas plantas físicas o adecuación de las mismas, talento humano y aplicación del nuevo sistema de gestión penitenciaria.</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1125000"/>
            <a:ext cx="8229600" cy="4389480"/>
          </a:xfrm>
          <a:prstGeom prst="rect">
            <a:avLst/>
          </a:prstGeom>
          <a:noFill/>
          <a:ln w="0">
            <a:noFill/>
          </a:ln>
        </p:spPr>
        <p:txBody>
          <a:bodyPr anchor="t">
            <a:normAutofit fontScale="92000"/>
          </a:bodyPr>
          <a:p>
            <a:pPr marL="250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2600" spc="-1" strike="noStrike">
                <a:solidFill>
                  <a:srgbClr val="000000"/>
                </a:solidFill>
                <a:latin typeface="Constantia"/>
              </a:rPr>
              <a:t>Estos factores van íntimamente relacionados, en el sentido de que es insostenible una Gestión Penitenciaria eficiente en las viejas edificaciones, donde el hacinamiento, la insalubridad y la deshumanización se han convertido en la realidad imperante, del mismo modo que es inútil una nueva edificación si no podemos implementar una gestión penitenciaria con talento humano capacitado en el manejo de la administración penitenciaria, profesionales de la salud que comprendan la condición del privado de libertad y Agentes entrenados en Vigilancia y Tratamiento Penitenciario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24000" y="1267920"/>
            <a:ext cx="8229600" cy="4389480"/>
          </a:xfrm>
          <a:prstGeom prst="rect">
            <a:avLst/>
          </a:prstGeom>
          <a:noFill/>
          <a:ln w="0">
            <a:noFill/>
          </a:ln>
        </p:spPr>
        <p:txBody>
          <a:bodyPr anchor="t">
            <a:normAutofit fontScale="99000"/>
          </a:bodyPr>
          <a:p>
            <a:pPr marL="27000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400" spc="-1" strike="noStrike">
                <a:solidFill>
                  <a:srgbClr val="000000"/>
                </a:solidFill>
                <a:latin typeface="Constantia"/>
              </a:rPr>
              <a:t>Este nuevo modelo, permite a los internos crecer y desarrollarse con mejores oportunidades, garantizándoles el derecho a recibir información, respecto a sus derechos, comunicación con su abogado, familiares, sacerdote; y que su familia se entere en caso de su traslado</a:t>
            </a:r>
            <a:r>
              <a:rPr b="0" lang="es-ES" sz="3400" spc="-1" strike="noStrike">
                <a:solidFill>
                  <a:srgbClr val="000000"/>
                </a:solidFill>
                <a:latin typeface="Constantia"/>
              </a:rPr>
              <a:t> </a:t>
            </a: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196640"/>
            <a:ext cx="8229600" cy="4389480"/>
          </a:xfrm>
          <a:prstGeom prst="rect">
            <a:avLst/>
          </a:prstGeom>
          <a:noFill/>
          <a:ln w="0">
            <a:noFill/>
          </a:ln>
        </p:spPr>
        <p:txBody>
          <a:bodyPr anchor="t">
            <a:normAutofit fontScale="95000"/>
          </a:bodyPr>
          <a:p>
            <a:pPr marL="2592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Constantia"/>
              </a:rPr>
              <a:t>	</a:t>
            </a:r>
            <a:r>
              <a:rPr b="0" lang="es-DO" sz="3000" spc="-1" strike="noStrike">
                <a:solidFill>
                  <a:srgbClr val="000000"/>
                </a:solidFill>
                <a:latin typeface="Constantia"/>
              </a:rPr>
              <a:t>Este Nuevo modelo implica por un lado, la formación y capacitación de un personal técnico administrativo especializado, cuya función es preservar la integridad física y mental del interno y acompañarlo en este proceso hasta su reinserción en la sociedad, la creación de un cuerpo de agentes que tienen a su cargo la vigilancia y seguridad de los centros, y por otro lado, instalaciones adecuadas, que permitan al interno vivir de manera digna</a:t>
            </a:r>
            <a:r>
              <a:rPr b="0" lang="es-E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9:40:29Z</dcterms:created>
  <dc:creator>Ing.+ Lic. Yunior Andres Castillo S.</dc:creator>
  <dc:description>Ingeniero Industrial+Licenciado en Derecho: Ingeniero en Derecho
Celular: 1-829-725-8571</dc:description>
  <cp:keywords>yuniorcastillo@yahoo.com</cp:keywords>
  <dc:language>en-US</dc:language>
  <cp:lastModifiedBy>Ing. Licdo. YuniorAndrésCastilloS</cp:lastModifiedBy>
  <dcterms:modified xsi:type="dcterms:W3CDTF">2014-10-07T00:35:37Z</dcterms:modified>
  <cp:revision>426</cp:revision>
  <dc:subject>Derecho de Saber para Pensar</dc:subject>
  <dc:title>MODELO PENITENCIARIO DOMINICANO</dc:title>
</cp:coreProperties>
</file>