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64ABB-4289-4AA3-BC5B-7FD4627C6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1AD97-EC2F-42AD-B348-2066A44B8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17E206-8B8A-45C8-B811-0694FA5FAB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84B495-2700-4EBF-AED3-8B56FD8389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42E766-BF70-484D-971C-B596918F6D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D53792-430E-4313-AFD4-D8050A69A4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DEEF7E-F7C1-4D06-A757-8E543A7B52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680078-62E7-46A9-B75F-8430EF3A5C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E1159F-024D-4D10-A69A-B3E1916883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3EFFFD-2C44-48DA-A6E3-E75B4F0934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6AF773-7C63-445F-9DEF-19BBEE4FF6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7C5E47D-0739-44A7-A822-5FF05FF8D43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0E819-D255-472C-AEF8-033F8B60F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95BC65-1649-4449-989C-6DA54CE56B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96E209-6EA8-4CD7-8D87-76D6810F74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EFCCC1-02F6-4B4E-9300-A1CB86E652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624F6B-C966-41A4-B7A4-1F988CA913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E34D93-989A-4732-AF22-CB2F144512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24C78B-20A6-4414-AACD-A228A69581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0466C2-2EC0-42BE-953C-3A476A25CD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0A9598-828B-41CF-A383-60AE33744C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5F1E87-64E1-4195-B812-39A22C9204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A5AAC2C-92B7-4E2E-BA61-0038777A78B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C0759-3DFD-41B7-A060-0C4DC27AB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7047215-4F95-4AF3-B31C-35840D5AC9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6ED987D-8D90-47D6-8258-F43F5E86D3E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1F5DBC-8586-40F6-AAA4-EBBC39CD46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4A5F34-BEA8-4864-A867-1F830CC13D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4FC61A-C933-4CB1-B9DC-93B4917606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3E3EDF-2238-440E-9654-D99D605060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D177B7-E8D9-4F6D-A10C-718CB34E45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716AE7-34FD-4FAC-A355-73028AB8B7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E05DD4-7E39-40E9-B55D-A2205482A5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3EF93A-E9BA-4C47-AC0F-D4411BD9DF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CD78E-7C45-4492-B96B-BBAF34A32B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275430-8A18-4EFD-964D-A55A55D2B5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2B6C9C-EC6F-405C-BE9F-6F96740D2B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3BF23E-2DDD-4B97-BE36-25EDA7BD0B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42EC6C3-70AA-432F-AD4F-30FE86D3E8B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34ECF5-AB40-4046-8333-7780742F63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0B75187-AD69-41A4-AFE1-07CBEA8D0C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A09D01-35BD-46D7-9542-0C2AE7F2DA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446666-D35A-48D3-9E6F-222E81829C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B982A8-FDAE-49F6-A4B8-F4EDE7A5E2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DA7C52-2C93-4AE8-BEBC-9A72874D48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32A51-EBC3-4900-A123-A2BA720F9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8E06F1-D7D6-4499-BEA4-3828420BC3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7B1759-3DB0-4768-B737-2AF55DAFC7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702FC5-EE7E-4137-A831-BA2EFBE821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9ADFDD8-0BE2-4617-8D72-3F3AF73EED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3D04FC1-773E-4C55-9330-002912AE02C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E46F5-EC43-4E45-BD22-97F4732B8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894D4-AACC-4227-887A-A05AF02AA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AE14B-5A32-4435-9CB3-07D28CF59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BD2B1-0ABC-4DC3-B353-3853F9D66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2FF67-FAB8-4B1E-BE06-08CC7B418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14E0A-9B46-4637-AB94-CA36A5555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E1C57-4648-4687-BF61-C2CFF2A18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54C0C-1112-4FA4-B7C8-E70D6976B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7D1AE-A260-4DCB-94BD-51FBEF721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14EBD4-5F6C-410E-8DF4-CABCDF03B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FD0DB-CE3E-489D-B797-F856CECA98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4B57F0-1305-4068-9D7C-05A0F54A18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28AA79-81B5-4668-908E-97EB6F1F71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A6AEB2-FB41-455E-8A4A-F3246CEBB8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9003DB-3038-41A0-9D88-065BC2915B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34C9C3-BD3F-4112-AD88-BD86452C2F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DA52D-4FB4-43BE-98D8-5D7669CC4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28C19A-1E30-425D-8741-4B93F48193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2FB625-42BD-4120-A0DC-E6D089708D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F8998-D220-4A9B-B058-037D5FDFA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9DD52-DCB1-45A5-B0A8-3FAD6A5FC4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3B552B-A5FE-4223-9F2C-226E16D4F1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EC40C3-7751-4F18-BE19-4953ADCE2E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C80B45-D813-417E-90FB-2D5CBCC210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A8B855-F3A7-479A-972C-732A0FB98C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B90734-82B1-48D7-92C5-27F9D70093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5F13AB-BCD7-4F00-862E-10CD19F0B5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7207C-86CD-4846-B483-2EA77211D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413FD1-0766-42B9-8685-601C8429D7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4734D7-7F38-4640-8389-9487E39592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75F5A5-AA45-4B4F-A1C4-9448C3C864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E4C79-44CD-4688-B418-B93005861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72072A-2908-49DA-8D6E-937F795EE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6B1055-E776-40F5-99C0-D14E70250E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82E4E8-0DBC-4392-BC7F-A48A04F865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CDBF63-5F86-4C47-8B52-0C085A042F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A5A955-8612-485B-BE95-50F4F1CCB5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DE0DA8-4B82-4DFC-AF40-8E25A35630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ADCBA-0E63-4016-903F-5103F8217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559802-F890-435C-8EDA-6A8037BF5F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64200D-E721-4748-81EE-D993F23F9A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F3280D-F2C6-4D82-9E54-E158396635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68AB3A-8BDB-4FBE-9E9D-5E61C2D71B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B058BA-FA0F-4BE1-9DDB-9C26F1C01A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9E9A6D-8AAD-434A-8000-4E54F8B07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06F037-1FAC-4839-B466-6CF0220E5A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D7292E-E008-405A-82E5-BB9059D1D1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80044F-A319-4E77-BED2-ED8D3C8E95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75D6A6-E470-4099-882C-1DA47D2337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335F9-7D4A-45CD-B6D2-97CA47382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9AFB2C-3E9C-4D5E-B23A-AD4F9A7907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1A221A-D15F-40BF-8F87-56C121B3DB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429A00-359E-4478-9FFE-33DED23033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371389-C44A-48B5-843B-32F2F45FCB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6D8C91-0C7F-4D1E-9C93-DC55D44753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E601FA-1F8F-47E0-94B6-856F4E650A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D41B1B-A790-4E32-B5C9-5BA12DBD34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C180DE-1793-4DEA-88B7-544FB79A2A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D32E4E-37A3-4A6F-9F8A-D3863D17DB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D7A6CE-5B3C-4636-96E8-79B59EE733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DCB6F-6448-4FD0-9514-0889AD341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A4C352-36F9-4D01-869D-EF28A4F7AA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5EF87F-4425-40A3-A9CE-C1B63F0F3A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4FFC14-0ECD-4F0F-8463-3E976255A4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5CA010-DE57-43A5-82FC-11C9D56206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31EF2D-D9F5-4A20-AAD9-9E89AC569B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92F4D9-1E0E-45DA-9DA7-90D43C49C2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F513BB-99DF-4576-A2DE-6D124542BF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3437C3-8E94-48EA-A92D-1026026A03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4C8793-F830-4FEB-9F9F-6732309118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DF4573-C794-4ACF-AA5F-0A77163451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C5727-C84D-4439-A8C0-BCBAA57BF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781377-BEA6-4169-A121-10C914CD36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56A5BD-AF5A-4044-9964-24B1850E73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5B6BED-FD62-4D15-B83A-05235E1C5A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CBB92A-4F17-40BF-A93F-A7D349A475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17D749-4EE1-4C6F-9FBE-2A8ABC0895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0E6AEF-5C53-4B39-8DB6-2926A418E9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9E658C-5010-4FAF-893F-B1955AC20F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4E23F9-4E95-47FF-A2C4-5CF7DDAA4C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365CD8-1AD0-4D4F-8058-6BA0A4D73F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4553BB-7DB4-4A50-B349-0CBD9C2D50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BE773-91BF-4F51-93C3-C3286AF5D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235727-4166-4019-9A22-9D3B124439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ADDC00-57D5-4FE4-A514-0DB5832D47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01CBC8-1DC5-4685-B74B-5BF69BB06F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D1A77C-FF0E-4359-9BF2-4B77D2E17B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AB3C8C-A820-4783-A245-B43613719D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93351D-0837-405E-9265-0117D9CC81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D00853-9B30-4BFE-A570-7F32C6FE7B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BC9D94-7220-40B9-BD69-F17B08FBAB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6A9CED-0AE4-46A0-B11E-BA05D22292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46313B-2551-4768-87B4-9F8954C212F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1194-CF5F-4594-BF94-DCBCA85FD5CE}"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734A-95D5-494A-97C3-0E0C7DF7ED06}"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8A6F-F852-40B7-8169-AE2083EB886B}"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28EB-6E22-486E-B385-070BD186ADF8}"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8E83-F479-400F-994C-FC1AEB81F97D}"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4612-2B76-4A96-9D71-881B8C02414D}"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74C7-F832-40A5-BBB4-4CCA2FC51E77}"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7939-B07C-4CE8-AC59-43AEC20C7D83}"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E03F-6D1D-42C1-BB9D-7936B74B552A}"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E59B-E612-4D09-9468-B1E38834279E}"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332C-EC1C-4FBC-B175-B3C882CCB732}"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ABE3-5B44-4125-ACA2-A5DAB6320B8D}" type="slidenum">
              <a:rPr b="0" lang="es-C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www.unrobotica.com/" TargetMode="External"/><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78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000000"/>
                </a:solidFill>
                <a:latin typeface="Calibri"/>
              </a:rPr>
              <a:t>Programación de Microprocesado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7" name="Picture 2" descr="Modulador de alta definición "/>
          <p:cNvPicPr/>
          <p:nvPr/>
        </p:nvPicPr>
        <p:blipFill>
          <a:blip r:embed="rId1"/>
          <a:stretch/>
        </p:blipFill>
        <p:spPr>
          <a:xfrm>
            <a:off x="324000" y="333360"/>
            <a:ext cx="4572000" cy="3429000"/>
          </a:xfrm>
          <a:prstGeom prst="rect">
            <a:avLst/>
          </a:prstGeom>
          <a:ln w="0">
            <a:noFill/>
          </a:ln>
        </p:spPr>
      </p:pic>
      <p:pic>
        <p:nvPicPr>
          <p:cNvPr id="508" name="Picture 4" descr="smartbook.jpg"/>
          <p:cNvPicPr/>
          <p:nvPr/>
        </p:nvPicPr>
        <p:blipFill>
          <a:blip r:embed="rId2"/>
          <a:stretch/>
        </p:blipFill>
        <p:spPr>
          <a:xfrm>
            <a:off x="4925880" y="476280"/>
            <a:ext cx="3810240" cy="2209680"/>
          </a:xfrm>
          <a:prstGeom prst="rect">
            <a:avLst/>
          </a:prstGeom>
          <a:ln w="0">
            <a:noFill/>
          </a:ln>
        </p:spPr>
      </p:pic>
      <p:pic>
        <p:nvPicPr>
          <p:cNvPr id="509" name="Picture 6" descr="http://www.e-lab.de/diverse/LCD4x20large.jpg"/>
          <p:cNvPicPr/>
          <p:nvPr/>
        </p:nvPicPr>
        <p:blipFill>
          <a:blip r:embed="rId3"/>
          <a:stretch/>
        </p:blipFill>
        <p:spPr>
          <a:xfrm>
            <a:off x="108000" y="3767040"/>
            <a:ext cx="4174920" cy="3130560"/>
          </a:xfrm>
          <a:prstGeom prst="rect">
            <a:avLst/>
          </a:prstGeom>
          <a:ln w="0">
            <a:noFill/>
          </a:ln>
        </p:spPr>
      </p:pic>
      <p:pic>
        <p:nvPicPr>
          <p:cNvPr id="510" name="Picture 8" descr="http://t3.gstatic.com/images?q=tbn:ANd9GcTyCUQjw4V28d5KTCfd5-yMAOv1g3_YMvqTJwp4RfAB2M0HF7Q53g"/>
          <p:cNvPicPr/>
          <p:nvPr/>
        </p:nvPicPr>
        <p:blipFill>
          <a:blip r:embed="rId4"/>
          <a:stretch/>
        </p:blipFill>
        <p:spPr>
          <a:xfrm>
            <a:off x="4849920" y="2781360"/>
            <a:ext cx="3886200" cy="386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1" name="Picture 2" descr="http://t1.gstatic.com/images?q=tbn:ANd9GcQg8B2X8pb_TitUfoKNcLtXBh5QNIdk8zYc7NDq_cT-hkybSYLO_Q"/>
          <p:cNvPicPr/>
          <p:nvPr/>
        </p:nvPicPr>
        <p:blipFill>
          <a:blip r:embed="rId1"/>
          <a:stretch/>
        </p:blipFill>
        <p:spPr>
          <a:xfrm>
            <a:off x="250920" y="404640"/>
            <a:ext cx="3649680" cy="2482920"/>
          </a:xfrm>
          <a:prstGeom prst="rect">
            <a:avLst/>
          </a:prstGeom>
          <a:ln w="0">
            <a:noFill/>
          </a:ln>
        </p:spPr>
      </p:pic>
      <p:sp>
        <p:nvSpPr>
          <p:cNvPr id="51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AutoShape 6"/>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Picture 7" descr=""/>
          <p:cNvPicPr/>
          <p:nvPr/>
        </p:nvPicPr>
        <p:blipFill>
          <a:blip r:embed="rId2"/>
          <a:stretch/>
        </p:blipFill>
        <p:spPr>
          <a:xfrm>
            <a:off x="4932360" y="276120"/>
            <a:ext cx="3672000" cy="2739960"/>
          </a:xfrm>
          <a:prstGeom prst="rect">
            <a:avLst/>
          </a:prstGeom>
          <a:ln w="0">
            <a:noFill/>
          </a:ln>
        </p:spPr>
      </p:pic>
      <p:pic>
        <p:nvPicPr>
          <p:cNvPr id="515" name="Picture 9" descr="http://t3.gstatic.com/images?q=tbn:ANd9GcQI9d4JaeMKIpggXOJN6oCcNidN2HJYK29u0Wlop69V0IDj2P_1nQ"/>
          <p:cNvPicPr/>
          <p:nvPr/>
        </p:nvPicPr>
        <p:blipFill>
          <a:blip r:embed="rId3"/>
          <a:stretch/>
        </p:blipFill>
        <p:spPr>
          <a:xfrm>
            <a:off x="612720" y="3573360"/>
            <a:ext cx="2209680" cy="2067120"/>
          </a:xfrm>
          <a:prstGeom prst="rect">
            <a:avLst/>
          </a:prstGeom>
          <a:ln w="0">
            <a:noFill/>
          </a:ln>
        </p:spPr>
      </p:pic>
      <p:pic>
        <p:nvPicPr>
          <p:cNvPr id="516" name="Picture 11" descr="http://t2.gstatic.com/images?q=tbn:ANd9GcRz1TsZNi1arbnNTB7FL6EgPd22uWcw3lMVHc9Avy4KDs0iBGHo"/>
          <p:cNvPicPr/>
          <p:nvPr/>
        </p:nvPicPr>
        <p:blipFill>
          <a:blip r:embed="rId4"/>
          <a:stretch/>
        </p:blipFill>
        <p:spPr>
          <a:xfrm>
            <a:off x="4788000" y="2887560"/>
            <a:ext cx="3477960" cy="383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7" name="Picture 2" descr="http://www.pidtechinsights.com/wp-content/uploads/2012/09/plc_FP0.jpg"/>
          <p:cNvPicPr/>
          <p:nvPr/>
        </p:nvPicPr>
        <p:blipFill>
          <a:blip r:embed="rId1"/>
          <a:stretch/>
        </p:blipFill>
        <p:spPr>
          <a:xfrm>
            <a:off x="1042920" y="595440"/>
            <a:ext cx="6524640" cy="595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0" name="Picture 6" descr="http://drugline.org/img/term/ph-meter-11518_2.jpg"/>
          <p:cNvPicPr/>
          <p:nvPr/>
        </p:nvPicPr>
        <p:blipFill>
          <a:blip r:embed="rId1"/>
          <a:stretch/>
        </p:blipFill>
        <p:spPr>
          <a:xfrm>
            <a:off x="1440" y="146160"/>
            <a:ext cx="2857680" cy="2857320"/>
          </a:xfrm>
          <a:prstGeom prst="rect">
            <a:avLst/>
          </a:prstGeom>
          <a:ln w="0">
            <a:noFill/>
          </a:ln>
        </p:spPr>
      </p:pic>
      <p:pic>
        <p:nvPicPr>
          <p:cNvPr id="521" name="Picture 8" descr="http://t3.gstatic.com/images?q=tbn:ANd9GcRMKAteY6XZ1lP53KVtxCb4CdKwZO7-Tx6DuIctTAyLUenXvCp1"/>
          <p:cNvPicPr/>
          <p:nvPr/>
        </p:nvPicPr>
        <p:blipFill>
          <a:blip r:embed="rId2"/>
          <a:stretch/>
        </p:blipFill>
        <p:spPr>
          <a:xfrm>
            <a:off x="2700360" y="574560"/>
            <a:ext cx="2352600" cy="1943280"/>
          </a:xfrm>
          <a:prstGeom prst="rect">
            <a:avLst/>
          </a:prstGeom>
          <a:ln w="0">
            <a:noFill/>
          </a:ln>
        </p:spPr>
      </p:pic>
      <p:sp>
        <p:nvSpPr>
          <p:cNvPr id="522" name="AutoShape 10"/>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AutoShape 12"/>
          <p:cNvSpPr/>
          <p:nvPr/>
        </p:nvSpPr>
        <p:spPr>
          <a:xfrm>
            <a:off x="612720" y="31284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AutoShape 14"/>
          <p:cNvSpPr/>
          <p:nvPr/>
        </p:nvSpPr>
        <p:spPr>
          <a:xfrm>
            <a:off x="765000" y="4651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5" name="Picture 16" descr="http://t0.gstatic.com/images?q=tbn:ANd9GcTU2dYcDpYjndqzRuAHggNKpuuBTy7wWIjnRQ4dwHAq83PeM7tVAw"/>
          <p:cNvPicPr/>
          <p:nvPr/>
        </p:nvPicPr>
        <p:blipFill>
          <a:blip r:embed="rId3"/>
          <a:stretch/>
        </p:blipFill>
        <p:spPr>
          <a:xfrm>
            <a:off x="5240160" y="480960"/>
            <a:ext cx="3888000" cy="2130480"/>
          </a:xfrm>
          <a:prstGeom prst="rect">
            <a:avLst/>
          </a:prstGeom>
          <a:ln w="0">
            <a:noFill/>
          </a:ln>
        </p:spPr>
      </p:pic>
      <p:pic>
        <p:nvPicPr>
          <p:cNvPr id="526" name="Picture 18" descr="http://t1.gstatic.com/images?q=tbn:ANd9GcQFZxp8o50vZRlSq7QieUiretO6ETmGO6Aw4elhxl-qe0su33mORw"/>
          <p:cNvPicPr/>
          <p:nvPr/>
        </p:nvPicPr>
        <p:blipFill>
          <a:blip r:embed="rId4"/>
          <a:stretch/>
        </p:blipFill>
        <p:spPr>
          <a:xfrm>
            <a:off x="76320" y="4076640"/>
            <a:ext cx="3343320" cy="2376720"/>
          </a:xfrm>
          <a:prstGeom prst="rect">
            <a:avLst/>
          </a:prstGeom>
          <a:ln w="0">
            <a:noFill/>
          </a:ln>
        </p:spPr>
      </p:pic>
      <p:pic>
        <p:nvPicPr>
          <p:cNvPr id="527" name="Picture 20" descr="http://t1.gstatic.com/images?q=tbn:ANd9GcQUHsZtUxsWq8iU1E0TkHLKu2r7s0KsThgg8O5g68UquVeZ7uh0"/>
          <p:cNvPicPr/>
          <p:nvPr/>
        </p:nvPicPr>
        <p:blipFill>
          <a:blip r:embed="rId5"/>
          <a:stretch/>
        </p:blipFill>
        <p:spPr>
          <a:xfrm>
            <a:off x="3402000" y="2316240"/>
            <a:ext cx="2266920" cy="2009520"/>
          </a:xfrm>
          <a:prstGeom prst="rect">
            <a:avLst/>
          </a:prstGeom>
          <a:ln w="0">
            <a:noFill/>
          </a:ln>
        </p:spPr>
      </p:pic>
      <p:sp>
        <p:nvSpPr>
          <p:cNvPr id="528" name="AutoShape 22"/>
          <p:cNvSpPr/>
          <p:nvPr/>
        </p:nvSpPr>
        <p:spPr>
          <a:xfrm>
            <a:off x="917640" y="61740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AutoShape 24"/>
          <p:cNvSpPr/>
          <p:nvPr/>
        </p:nvSpPr>
        <p:spPr>
          <a:xfrm>
            <a:off x="1069920" y="77004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0" name="Picture 26" descr="http://www.comunicat.com/images/lka2101.jpg"/>
          <p:cNvPicPr/>
          <p:nvPr/>
        </p:nvPicPr>
        <p:blipFill>
          <a:blip r:embed="rId6"/>
          <a:stretch/>
        </p:blipFill>
        <p:spPr>
          <a:xfrm>
            <a:off x="5240160" y="3724200"/>
            <a:ext cx="3805560" cy="281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1" name="Picture 2" descr="http://bimg1.mlstatic.com/router-linksys-wrt54g-v5_MCO-F-4194149183_042013.jpg"/>
          <p:cNvPicPr/>
          <p:nvPr/>
        </p:nvPicPr>
        <p:blipFill>
          <a:blip r:embed="rId1"/>
          <a:stretch/>
        </p:blipFill>
        <p:spPr>
          <a:xfrm>
            <a:off x="1116000" y="907920"/>
            <a:ext cx="7128000" cy="472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2" name="Picture 2" descr="http://static.ddmcdn.com/gif/car-computer-inside.jpg"/>
          <p:cNvPicPr/>
          <p:nvPr/>
        </p:nvPicPr>
        <p:blipFill>
          <a:blip r:embed="rId1"/>
          <a:stretch/>
        </p:blipFill>
        <p:spPr>
          <a:xfrm>
            <a:off x="395280" y="-74520"/>
            <a:ext cx="8190000" cy="6796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3" name="Picture 2" descr="http://t1.gstatic.com/images?q=tbn:ANd9GcSiAMSDEZi5Vt1Ef3dilWZrr2zH4cf7P-5IIL0J5VaZ8fqcgPN7RQ"/>
          <p:cNvPicPr/>
          <p:nvPr/>
        </p:nvPicPr>
        <p:blipFill>
          <a:blip r:embed="rId1"/>
          <a:stretch/>
        </p:blipFill>
        <p:spPr>
          <a:xfrm>
            <a:off x="684360" y="476280"/>
            <a:ext cx="2333520" cy="1962000"/>
          </a:xfrm>
          <a:prstGeom prst="rect">
            <a:avLst/>
          </a:prstGeom>
          <a:ln w="0">
            <a:noFill/>
          </a:ln>
        </p:spPr>
      </p:pic>
      <p:pic>
        <p:nvPicPr>
          <p:cNvPr id="534" name="Picture 4" descr="http://t0.gstatic.com/images?q=tbn:ANd9GcRUCFhMgUp5ZanTTqlTpI27eM0Cz1hcvZUDnDdo0jqBEDWExrXe"/>
          <p:cNvPicPr/>
          <p:nvPr/>
        </p:nvPicPr>
        <p:blipFill>
          <a:blip r:embed="rId2"/>
          <a:stretch/>
        </p:blipFill>
        <p:spPr>
          <a:xfrm>
            <a:off x="3851280" y="152280"/>
            <a:ext cx="1752480" cy="2610000"/>
          </a:xfrm>
          <a:prstGeom prst="rect">
            <a:avLst/>
          </a:prstGeom>
          <a:ln w="0">
            <a:noFill/>
          </a:ln>
        </p:spPr>
      </p:pic>
      <p:pic>
        <p:nvPicPr>
          <p:cNvPr id="535" name="Picture 6" descr="http://t1.gstatic.com/images?q=tbn:ANd9GcQG26Ce6tTnENUkyc0taZu6jk6WO2Y6tRHOq2gYDkQjAYYMd_BH"/>
          <p:cNvPicPr/>
          <p:nvPr/>
        </p:nvPicPr>
        <p:blipFill>
          <a:blip r:embed="rId3"/>
          <a:stretch/>
        </p:blipFill>
        <p:spPr>
          <a:xfrm>
            <a:off x="6156360" y="730080"/>
            <a:ext cx="2647800" cy="1724040"/>
          </a:xfrm>
          <a:prstGeom prst="rect">
            <a:avLst/>
          </a:prstGeom>
          <a:ln w="0">
            <a:noFill/>
          </a:ln>
        </p:spPr>
      </p:pic>
      <p:sp>
        <p:nvSpPr>
          <p:cNvPr id="53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AutoShape 10"/>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8" name="Picture 12" descr="http://t1.gstatic.com/images?q=tbn:ANd9GcQl1XBiPRfI5Zj41nvZ_Njhj9TujGiEbQyJJmdBrKqg_OjgS-ze"/>
          <p:cNvPicPr/>
          <p:nvPr/>
        </p:nvPicPr>
        <p:blipFill>
          <a:blip r:embed="rId4"/>
          <a:stretch/>
        </p:blipFill>
        <p:spPr>
          <a:xfrm>
            <a:off x="307800" y="4149720"/>
            <a:ext cx="2971800" cy="153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3 CuadroTexto"/>
          <p:cNvSpPr/>
          <p:nvPr/>
        </p:nvSpPr>
        <p:spPr>
          <a:xfrm>
            <a:off x="324000" y="333360"/>
            <a:ext cx="8496000" cy="652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ea typeface="Arial"/>
              </a:rPr>
              <a:t>Porque estudiar procesadores en ingeniería de contro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ea typeface="Arial"/>
              </a:rPr>
              <a:t>Tanto en ingeniería eléctrica como en ingeniería de control desarrollamos proyectos apropiando tecnología. La apropiación exige coordinar varias tecnologías o sistemas</a:t>
            </a:r>
            <a:endParaRPr b="0" lang="en-US" sz="19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ea typeface="Arial"/>
              </a:rPr>
              <a:t>Esa coordinación precisa de sistemas intermedios llamados circuitos de interfaz</a:t>
            </a:r>
            <a:endParaRPr b="0" lang="en-US" sz="19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ea typeface="Arial"/>
              </a:rPr>
              <a:t>Los procesadores permiten crear de forma rápida y económica eficiente circuitos de interfaz.</a:t>
            </a:r>
            <a:endParaRPr b="0" lang="en-US" sz="19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ea typeface="Arial"/>
              </a:rPr>
              <a:t>Hay otros campos de desempeño como la instrumentación y la medición donde se requieren el desarrollo de nuevos aparatos de medición sobre todo cuando es muy complejo medir la variable. Ejemplo : Variables altamente no lineales. espectrometría</a:t>
            </a:r>
            <a:endParaRPr b="0" lang="en-US" sz="19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ea typeface="Arial"/>
              </a:rPr>
              <a:t>En el campo del monitoreo ha evolucionado actualmente a la telemetría y la telemetría simplemente es como su nombre nos da la idea medir una variable de forma remota adicionalmente podemos requerir a ser un accionamiento remoto</a:t>
            </a:r>
            <a:endParaRPr b="0" lang="en-US" sz="19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ea typeface="Arial"/>
              </a:rPr>
              <a:t>Y en el campo del control uno de los grandes retos del ingeniero de control en su labor de producir tecnología consiste en diseñar nuevos equipos de control para insertar en módulos y gabinetes a nivel de planta que puedan ejecutar algoritmos modernos como controladores predictivos, controladores no lineales y controladores inteligente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1 CuadroTexto"/>
          <p:cNvSpPr/>
          <p:nvPr/>
        </p:nvSpPr>
        <p:spPr>
          <a:xfrm>
            <a:off x="250920" y="189000"/>
            <a:ext cx="8642160" cy="652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De que se componen la asignatur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Programació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imulació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Implementació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rPr>
              <a:t>Aptitud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ectura extra clas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Habilidades de programació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ectura de textos en inglé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Y dedicar tiempo a labores de simul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Objetivo gener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prender a diseñar e implementar aplicaciones embebidas simp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Objetivos específic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Programar procesadores, seleccionar procesadores, diseñar estructuras de Harvard simple, simular  y poner a punto  Sistemas embebidos simples, optimizar hardware, incorporar Harvard externo a un procesador para aumentar las prestaciones del sistema embebido. Implementar prototipos de sistemas embebidos con miras a ser fabricados de forma masiva si es posi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1 CuadroTexto"/>
          <p:cNvSpPr/>
          <p:nvPr/>
        </p:nvSpPr>
        <p:spPr>
          <a:xfrm>
            <a:off x="250920" y="260280"/>
            <a:ext cx="856908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Programación del curso . Completo ver webb</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onceptos de procesadore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onceptos de arquitectur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onceptos de programación básica en bajo nive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onceptos de programación básica en alto nive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istemas de desarrollo</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jemplos de programación en bajo nive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Introducción a la simulación con prote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lección de un procesado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procesador genérico</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rquitectura del procesador genérico</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Periféricos intern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Periféricos extern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programación y configuración de los periféricos intern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lgunos periféricos extern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omunicaciones entre procesadore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el bus I2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bus SP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bus a un hilo</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bus C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3 CuadroTexto"/>
          <p:cNvSpPr/>
          <p:nvPr/>
        </p:nvSpPr>
        <p:spPr>
          <a:xfrm>
            <a:off x="395280" y="260280"/>
            <a:ext cx="828036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Calibri"/>
                <a:ea typeface="Arial"/>
              </a:rPr>
              <a:t>Procesado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Arial"/>
              </a:rPr>
              <a:t>Circuito electrónico integrado programable para realizar una aplicación embebid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ea typeface="Arial"/>
              </a:rPr>
              <a:t>Aplicación embebid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Arial"/>
              </a:rPr>
              <a:t>Una solución a un problema de control monitoreo instrumentación que pueda ser implementada en un procesado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ea typeface="Arial"/>
              </a:rPr>
              <a:t>Clases de aplicaciones indebida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Arial"/>
              </a:rPr>
              <a:t>Un teléfono celul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Arial"/>
              </a:rPr>
              <a:t>Un mod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Arial"/>
              </a:rPr>
              <a:t>Un GP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Arial"/>
              </a:rPr>
              <a:t>El control de un horno de microond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Arial"/>
              </a:rPr>
              <a:t>El control de una lavado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Arial"/>
              </a:rPr>
              <a:t>El control de una neve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Arial"/>
              </a:rPr>
              <a:t>Una contestadora automáti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Arial"/>
              </a:rPr>
              <a:t>Una grabadora digit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Arial"/>
              </a:rPr>
              <a:t>Un reproductor mp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ea typeface="Arial"/>
              </a:rPr>
              <a:t>Aplicaciones que requieran procesamiento de información y visualización programación memoria registro control monitoreo accionamiento son susceptibles a ser embebid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1 CuadroTexto"/>
          <p:cNvSpPr/>
          <p:nvPr/>
        </p:nvSpPr>
        <p:spPr>
          <a:xfrm>
            <a:off x="250920" y="333360"/>
            <a:ext cx="8642160" cy="5580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onversores análogos digital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onversión digital análog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Puertos PWM</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Interface de trasmisión síncrona asíncron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plicacion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anejo de relojes de tiempo real</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anejo de conversores análogos digitales externo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anejo de memorias I2c externa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anejo de módulos de cristal líquido</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omunicaciones infrarrojas IRD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ódulos de contacto</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anejo de teclado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Incorporación de circuitos de comunicación genérica a una aplicación micro procesad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onexión a un GP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onexión a un módem GSM GPRS</a:t>
            </a: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Nota:</a:t>
            </a: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e las aplicaciones anteriores se desarrollarán ejemplos en clase, tanto en programación como en simul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1 CuadroTexto"/>
          <p:cNvSpPr/>
          <p:nvPr/>
        </p:nvSpPr>
        <p:spPr>
          <a:xfrm>
            <a:off x="611280" y="189000"/>
            <a:ext cx="7993080" cy="679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0000"/>
                </a:solidFill>
                <a:latin typeface="Calibri"/>
              </a:rPr>
              <a:t>Recursos</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aterial bibliográfico</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piladores en alto nivel</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Simulador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ogramador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boratorio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ágina web   </a:t>
            </a:r>
            <a:r>
              <a:rPr b="0" lang="es-CO" sz="2400" spc="-1" strike="noStrike" u="sng">
                <a:solidFill>
                  <a:srgbClr val="0000ff"/>
                </a:solidFill>
                <a:uFillTx/>
                <a:latin typeface="Calibri"/>
                <a:hlinkClick r:id="rId1"/>
              </a:rPr>
              <a:t>http://www.unrobotica.com</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lases por presentaciones en PowerPoin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Calibri"/>
              </a:rPr>
              <a:t>Metodología</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lase magistral</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Ejemplos de clase</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Tareas individual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esarrollo de un proyecto fi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1 CuadroTexto"/>
          <p:cNvSpPr/>
          <p:nvPr/>
        </p:nvSpPr>
        <p:spPr>
          <a:xfrm>
            <a:off x="177840" y="765000"/>
            <a:ext cx="8785080" cy="570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Calibri"/>
                <a:ea typeface="Arial"/>
              </a:rPr>
              <a:t>Evaluació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ea typeface="Arial"/>
              </a:rPr>
              <a:t>Tareas eventuales: 25%</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a:rPr>
              <a:t>Las tareas son individuales y personales o  personalizadas. (significa que el reto es persona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ea typeface="Arial"/>
              </a:rPr>
              <a:t>Un primer parcial de conceptos. Al</a:t>
            </a:r>
            <a:r>
              <a:rPr b="0" lang="es-CO" sz="2000" spc="-1" strike="noStrike">
                <a:solidFill>
                  <a:srgbClr val="000000"/>
                </a:solidFill>
                <a:latin typeface="Calibri"/>
                <a:ea typeface="Arial"/>
              </a:rPr>
              <a:t> terminar la parte teórica o técnica. Es Individual personal y obligatorio. El objetivo de este parcial  medir  en usted su preparación para abordar el reto que implica un trabajo final. </a:t>
            </a:r>
            <a:r>
              <a:rPr b="1" lang="es-CO" sz="2000" spc="-1" strike="noStrike">
                <a:solidFill>
                  <a:srgbClr val="000000"/>
                </a:solidFill>
                <a:latin typeface="Calibri"/>
                <a:ea typeface="Arial"/>
              </a:rPr>
              <a:t>35%</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a:rPr>
              <a:t> </a:t>
            </a:r>
            <a:r>
              <a:rPr b="1" lang="es-CO" sz="2000" spc="-1" strike="noStrike">
                <a:solidFill>
                  <a:srgbClr val="000000"/>
                </a:solidFill>
                <a:latin typeface="Calibri"/>
                <a:ea typeface="Arial"/>
              </a:rPr>
              <a:t>Trabajo final:  </a:t>
            </a:r>
            <a:r>
              <a:rPr b="0" lang="es-CO" sz="2000" spc="-1" strike="noStrike">
                <a:solidFill>
                  <a:srgbClr val="000000"/>
                </a:solidFill>
                <a:latin typeface="Calibri"/>
                <a:ea typeface="Arial"/>
              </a:rPr>
              <a:t>puede ser un trabajo práctico. En ese caso implica montaje real de prototipo en circuito y “funcionando” </a:t>
            </a:r>
            <a:r>
              <a:rPr b="1" lang="es-CO" sz="2000" spc="-1" strike="noStrike">
                <a:solidFill>
                  <a:srgbClr val="000000"/>
                </a:solidFill>
                <a:latin typeface="Calibri"/>
                <a:ea typeface="Arial"/>
              </a:rPr>
              <a:t>40%</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a:rPr>
              <a:t>Asistencia absolutamente obligatoria y su puntualida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a:rPr>
              <a:t>Oficina M8-211</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a:rPr>
              <a:t>Atención estudiant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a:rPr>
              <a:t>Martes 10 a 12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5" name="Picture 4" descr="http://upload.wikimedia.org/wikipedia/commons/thumb/1/18/PIC18F8720.jpg/220px-PIC18F8720.jpg"/>
          <p:cNvPicPr/>
          <p:nvPr/>
        </p:nvPicPr>
        <p:blipFill>
          <a:blip r:embed="rId1"/>
          <a:stretch/>
        </p:blipFill>
        <p:spPr>
          <a:xfrm>
            <a:off x="460440" y="160200"/>
            <a:ext cx="2700360" cy="2700360"/>
          </a:xfrm>
          <a:prstGeom prst="rect">
            <a:avLst/>
          </a:prstGeom>
          <a:ln w="0">
            <a:noFill/>
          </a:ln>
        </p:spPr>
      </p:pic>
      <p:pic>
        <p:nvPicPr>
          <p:cNvPr id="496" name="Picture 10" descr="http://t3.gstatic.com/images?q=tbn:ANd9GcS2HgJxaL0KXxRW1HKTZvEniQZMHisXgfzu-EhCyOUlWtbifjXG"/>
          <p:cNvPicPr/>
          <p:nvPr/>
        </p:nvPicPr>
        <p:blipFill>
          <a:blip r:embed="rId2"/>
          <a:stretch/>
        </p:blipFill>
        <p:spPr>
          <a:xfrm>
            <a:off x="5937120" y="620640"/>
            <a:ext cx="2772000" cy="2711520"/>
          </a:xfrm>
          <a:prstGeom prst="rect">
            <a:avLst/>
          </a:prstGeom>
          <a:ln w="0">
            <a:noFill/>
          </a:ln>
        </p:spPr>
      </p:pic>
      <p:pic>
        <p:nvPicPr>
          <p:cNvPr id="497" name="Picture 12" descr="http://igorlirc-usb.sourceforge.net/images/atmel.jpg"/>
          <p:cNvPicPr/>
          <p:nvPr/>
        </p:nvPicPr>
        <p:blipFill>
          <a:blip r:embed="rId3"/>
          <a:stretch/>
        </p:blipFill>
        <p:spPr>
          <a:xfrm>
            <a:off x="155520" y="3614760"/>
            <a:ext cx="4119480" cy="3065400"/>
          </a:xfrm>
          <a:prstGeom prst="rect">
            <a:avLst/>
          </a:prstGeom>
          <a:ln w="0">
            <a:noFill/>
          </a:ln>
        </p:spPr>
      </p:pic>
      <p:pic>
        <p:nvPicPr>
          <p:cNvPr id="498" name="Picture 14" descr="http://t1.gstatic.com/images?q=tbn:ANd9GcQCUYq3AV6WgQp72HSGKN4yXywwBoJirAD3iLKa22N-cfyWa6qSlw"/>
          <p:cNvPicPr/>
          <p:nvPr/>
        </p:nvPicPr>
        <p:blipFill>
          <a:blip r:embed="rId4"/>
          <a:stretch/>
        </p:blipFill>
        <p:spPr>
          <a:xfrm>
            <a:off x="2595600" y="2565360"/>
            <a:ext cx="2905200" cy="1571760"/>
          </a:xfrm>
          <a:prstGeom prst="rect">
            <a:avLst/>
          </a:prstGeom>
          <a:ln w="0">
            <a:noFill/>
          </a:ln>
        </p:spPr>
      </p:pic>
      <p:pic>
        <p:nvPicPr>
          <p:cNvPr id="499" name="Picture 16" descr="http://t3.gstatic.com/images?q=tbn:ANd9GcS2_M7GPfbA2vqm9Z5ePDgjIh4BH3hCSJMkfL6kqIW_36yeVNvz"/>
          <p:cNvPicPr/>
          <p:nvPr/>
        </p:nvPicPr>
        <p:blipFill>
          <a:blip r:embed="rId5"/>
          <a:stretch/>
        </p:blipFill>
        <p:spPr>
          <a:xfrm>
            <a:off x="5500800" y="3443400"/>
            <a:ext cx="3643200" cy="340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0" name="Picture 2" descr="http://www.msebilbao.com/tienda/images/A000057.jpg"/>
          <p:cNvPicPr/>
          <p:nvPr/>
        </p:nvPicPr>
        <p:blipFill>
          <a:blip r:embed="rId1"/>
          <a:stretch/>
        </p:blipFill>
        <p:spPr>
          <a:xfrm>
            <a:off x="684360" y="260280"/>
            <a:ext cx="7619760" cy="568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1" name="Picture 4" descr="http://t0.gstatic.com/images?q=tbn:ANd9GcThxHvAoIpCP5_7F7ADMmioWgNUpzzppumm--diWzXyXyU6c9WU"/>
          <p:cNvPicPr/>
          <p:nvPr/>
        </p:nvPicPr>
        <p:blipFill>
          <a:blip r:embed="rId1"/>
          <a:stretch/>
        </p:blipFill>
        <p:spPr>
          <a:xfrm>
            <a:off x="324000" y="549360"/>
            <a:ext cx="3674880" cy="2801880"/>
          </a:xfrm>
          <a:prstGeom prst="rect">
            <a:avLst/>
          </a:prstGeom>
          <a:ln w="0">
            <a:noFill/>
          </a:ln>
        </p:spPr>
      </p:pic>
      <p:pic>
        <p:nvPicPr>
          <p:cNvPr id="502" name="Picture 6" descr="http://images.eldiario.es/turing/Raspberry_Pi-Arduino_EDIIMA20130408_0445_1.jpg"/>
          <p:cNvPicPr/>
          <p:nvPr/>
        </p:nvPicPr>
        <p:blipFill>
          <a:blip r:embed="rId2"/>
          <a:stretch/>
        </p:blipFill>
        <p:spPr>
          <a:xfrm>
            <a:off x="3019320" y="3409920"/>
            <a:ext cx="6124680" cy="344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3" name="3 CuadroTexto"/>
          <p:cNvSpPr/>
          <p:nvPr/>
        </p:nvSpPr>
        <p:spPr>
          <a:xfrm>
            <a:off x="468360" y="260280"/>
            <a:ext cx="813600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ea typeface="Arial"/>
              </a:rPr>
              <a:t>SISTEMA EMBEBIDO  </a:t>
            </a:r>
            <a:r>
              <a:rPr b="0" lang="es-CO" sz="2400" spc="-1" strike="noStrike">
                <a:solidFill>
                  <a:srgbClr val="000000"/>
                </a:solidFill>
                <a:latin typeface="Calibri"/>
                <a:ea typeface="Arial"/>
              </a:rPr>
              <a:t>es un  sistema de computación diseñado para realizar una o algunas pocas funciones dedicadas.  Frecuentemente en un sistema de computación en tiempo real. Al contrario de lo que ocurre con los ordenadores de propósito general (como por ejemplo una computadora personal o PC) que están diseñados para cubrir un amplio rango de necesidades, los sistemas embebidos se diseñan para cubrir necesidades específicas. En un sistema embebido la mayoría de los componentes se encuentran incluidos en la placa base (la tarjeta de vídeo, audio, módem, etc.) y muchas veces los dispositivos resultantes no tienen el aspecto de lo que se suele asociar a una computadora. Algunos ejemplos de sistemas embebidos podrían ser dispositivos como un taxímetro, un sistema de control de acceso, la electrónica que controla una máquina expendedora o el sistema de control de una fotocopiadora entre otras múltiples aplicacion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4" name="4 CuadroTexto"/>
          <p:cNvSpPr/>
          <p:nvPr/>
        </p:nvSpPr>
        <p:spPr>
          <a:xfrm>
            <a:off x="468360" y="260280"/>
            <a:ext cx="835164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ea typeface="Arial"/>
              </a:rPr>
              <a:t>Se pueden programar directamente en el lenguaje ensamblador del micro controlador o microprocesador incorporado sobre el mismo, o también, utilizando los compiladores específicos, pueden utilizarse lenguajes como C++; en algunos casos, cuando el tiempo de respuesta de la aplicación no es un factor crítico, también pueden usarse lenguajes interpretados como JAVA.</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ea typeface="Arial"/>
              </a:rPr>
              <a:t>Puesto que los sistemas embebidos se pueden fabricar por decenas de millares o por millones de unidades, una de las principales preocupaciones es reducir los costes. Los sistemas embebidos suelen usar un procesador relativamente pequeño y una memoria pequeña para ello. Los primeros equipos embebidos que se desarrollaron fueron elaborados por IBM en los años 1980.</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ea typeface="Arial"/>
              </a:rPr>
              <a:t>Los programas de sistemas embebidos se enfrentan normalmente a tareas de procesamiento en tiempo re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3 CuadroTexto"/>
          <p:cNvSpPr/>
          <p:nvPr/>
        </p:nvSpPr>
        <p:spPr>
          <a:xfrm>
            <a:off x="468360" y="260280"/>
            <a:ext cx="8207280" cy="704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ea typeface="Arial"/>
              </a:rPr>
              <a:t>Los lugares donde se pueden encontrar los sistemas embebidos son numerosos y de varias naturalezas. </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ea typeface="Arial"/>
              </a:rPr>
              <a:t>EJEMPLOS: En una fábrica, para controlar un proceso de montaje o producción. Una máquina que se encargue de una determinada tarea hoy en día contiene numerosos circuitos electrónicos y eléctricos para el control de motores, hornos, etc. que deben ser gobernados por un procesador, el cual ofrece un interfaz persona – máquina para ser dirigido por un operario e informarle al mismo de la marcha del proceso.</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ea typeface="Arial"/>
              </a:rPr>
              <a:t>PUNTOS DE SERVICIO O VENTA: Integrando teclados numéricos, lectores de códigos de barras mediante láser, lectores de tarjetas bancarias de banda magnética o chip, pantalla alfanumérica de cristal líquido, etc. Puntos de información al ciudadano. En oficinas de turismo, grandes almacenes, bibliotecas, etc. existen equipos con una pantalla táctil donde se puede pulsar sobre la misma y elegir la consulta a realizar, obteniendo una respuesta personalizada en un entorno gráfico amigable.</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4 CuadroTexto"/>
          <p:cNvSpPr/>
          <p:nvPr/>
        </p:nvSpPr>
        <p:spPr>
          <a:xfrm>
            <a:off x="393840" y="620640"/>
            <a:ext cx="84247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ea typeface="Arial"/>
              </a:rPr>
              <a:t>Decodificadores y set-top boxes para la recepción de televisión. </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ea typeface="Arial"/>
              </a:rPr>
              <a:t>Sistemas radar de aviones. El procesado de la señal recibida o reflejada del sistema radar embarcado en un avión requiere alta potencia de cálculo además de ocupar poco espacio, pesar poco y soportar condiciones extremas de funcionamiento (temperatura, presión atmosférica, vibraciones, etc.).</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ea typeface="Arial"/>
              </a:rPr>
              <a:t>Equipos de medicina en hospitales y ambulancias UVI – móvil.</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ea typeface="Arial"/>
              </a:rPr>
              <a:t>Máquinas de revelado automático de fotos.</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ea typeface="Arial"/>
              </a:rPr>
              <a:t>Cajeros automáticos.</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ea typeface="Arial"/>
              </a:rPr>
              <a:t>Pasarelas (Gateways) Internet-LAN.</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ea typeface="Arial"/>
              </a:rPr>
              <a:t>Y un sin fin de posibilidades aún por descubrir o en estado embrionario como son las neveras inteligentes que controlen su suministro vía Internet, PC de bolsillo, etc.</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2T23:54:44Z</dcterms:created>
  <dc:creator>Pablo Turmero</dc:creator>
  <dc:description/>
  <dc:language>en-US</dc:language>
  <cp:lastModifiedBy>Pablo Turmero</cp:lastModifiedBy>
  <dcterms:modified xsi:type="dcterms:W3CDTF">2015-03-03T23:06:34Z</dcterms:modified>
  <cp:revision>30</cp:revision>
  <dc:subject/>
  <dc:title/>
</cp:coreProperties>
</file>