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AD6-22EC-4898-8F00-ECBD62BB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5DBF-C729-4899-938D-F6C92672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23B69-BB12-4E00-A923-1D9845E3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0B0932-64F7-4505-ABF9-DB290122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28D230-B877-452F-B81A-E8B77952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6459C-A6DF-41EB-9E74-4E8BB15B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ED7B9-103A-435C-97CF-A5DE7EFB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A6983-FAC4-4D74-9548-F9C5E67E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3064B-0FAE-4E4D-AD83-7D9B9D98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DF5C6E-5ACC-4807-BD64-950165459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973B25-C617-4742-AD4A-8E579E17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6CDD8-F3A4-4F29-8574-8A9968FF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CE7B-6842-4808-B804-A00976656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F6B80-657E-4A6E-959A-B14B9A21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56620-50EF-4E29-AEEF-6C470406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A7D40-3399-434C-8C90-1E9701D10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3640B1-6D33-47C8-9CAC-C9AD5330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041983-66CC-40D8-ACBE-7CB5E0F1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80898-4BDA-4DAA-8456-67391AD1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45B05-490A-439E-98FD-852AEFF9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8F561-4660-49E0-BC98-7EB35C5B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70F45-5F1E-4290-8EEC-3E337D83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949D4-880D-45D4-919D-39B712FFE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B91B-D011-4A04-BF6C-C36AD687C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7AC28E-6789-44C5-B155-310308D3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9FBBF-AA66-4340-BB3B-A5411A88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B1296A-F281-4FA5-B96A-855A5A5A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FA840-40DD-41D2-8D6D-C2795F9F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BD7B2-CC69-43CA-8410-FA594CC7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9F6240-A0A3-4F97-BBAC-A903688B5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A9D7E9-1739-4A3D-98EA-158473F6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9C0B7E-2F27-4948-BE9A-5BFF9E76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0A339-6922-493D-9667-427F1275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4F01F-DA7D-468C-848C-3B444E9D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F971E-943F-4E9C-AED0-2C1AA9057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9000C-EC73-4B7B-9DC6-B6E53B52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E9FF8-49C9-4897-88CA-2725A64A2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2E454-8412-4984-B098-DD7AD3DA3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83ACC6-0D33-435F-87C4-DBB66F07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586870-4A16-481A-9335-B90386BA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63F3B-81D4-401A-A659-5E636970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536489-E70D-4FD9-A26E-D032411B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AD30E-86A6-4388-915F-43A863E9F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92CC8-EDCA-4890-9F08-09E7CD8B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87E835-841B-419D-A34B-029EA52F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8C63-259E-4B17-A46F-3336CDA18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0F13D-3408-4F4B-A1C7-52A055C7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68D0F3-7E97-4271-9064-340A05DA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907D1F-B767-4EFE-8979-5BE74C8F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E221CA-CD9B-42BD-B3D4-E9A4BDCB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25E0DE-E6E4-4D90-A0B4-0C0128D4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1BE70-6017-491E-A596-448AA617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4520-CD9A-46EC-AB8E-982C5942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26A1-488B-459B-930A-32056E49F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B61D-BA56-4A30-9463-ECF0308B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A661-1E4B-44DB-B14D-9AA2EB1D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DF5D-90FB-4D14-ACC1-EC651F4D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4AFE-B70A-4CCA-B383-D82EE517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402E-01F6-428E-8E5F-F02A41F1C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E39C-8B61-4B8B-944F-7A1798B2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55FD-89A2-4479-813F-D97754F3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76E0-4E12-47FF-9955-F9A73C815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54DCF-E0F5-4669-B0D8-15001AFC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507D4-8FF5-4FF9-BC00-2E4D178D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CA5C7-69D6-4EBF-B0E9-93F7A17D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411A8-A7E7-40AD-A649-D1335AF4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C9E9D-225D-459A-B80F-8118D86A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8CC4-B310-4DF5-BD07-7744FF0D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3C96A-64D0-43FF-857F-E46176F7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3257-FF20-4148-AFC8-FD299438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81216-95E9-4B97-820A-18D84FA3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5B3C3-9324-4D5B-981B-6F2D0ECD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4CD10-F69E-483F-931D-B819062A9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1794-7992-4B6F-AE23-91419AEC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28A02-16F0-47E0-832A-7E5611EA2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B9E2D-78D9-41E0-9C1F-D210675A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69881-2387-401C-8B12-A3D82391C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F49E3-5E11-4BFB-A180-C54CC6D1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C20-0173-4D86-9947-1298BB88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947A6-E0DB-45F8-8E50-6BD42CCB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7346B-2605-461E-810F-E3A6EAAD5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A4592-D07B-46FC-A874-D1D89E80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2995C-0F85-4F92-B4CE-1ABB3137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BCFA9-1325-4FE0-A106-71D51091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0E6A2-8040-4426-92A7-BFBC21A1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958BB-315A-49B2-A4B1-B9539BA1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2DFA9-D1E0-4BC7-80D9-AC98EDD22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204EB-42A9-446A-83FA-1FBC6EF89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755F3-7C7A-4DF5-BAC2-5DCE3DFB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D93-495D-4106-85BD-8FF561CF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FF8C61-3FF6-48ED-BDD9-25E4E4FE6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D53F4-21CC-49E8-9E5A-524F4E70F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AAF43-9547-4386-8179-398DE441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DEC3B-EE15-4382-BADE-7C4226D4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1ECAC-5D2D-49F6-B786-528294FDF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1A5C7-2F1A-4ADD-A164-E62860BD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F10B0-7180-4406-AD14-9CC156E2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08609-55E4-4227-BC9D-44227798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66A5E-D006-4084-B779-D35FE6D40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53DAE-1F80-4DB3-A169-B01A1D3CF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EE9-1057-46B0-9099-DA07BD853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D37DC-058C-4B27-A580-12EA4D0A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F7664-4EF6-4858-8C69-357CDDE27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3CB27-E3F9-4BF9-AA19-7881D258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0F56E-7696-4B07-A7F0-D4177786E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A8E83-05D4-4DFF-B3D6-0C1CB1CBE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90AEE5-101D-4BD3-9FF7-DAB04394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E4FF38-6884-4E0E-9AD8-E0A8615D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434C3-C6E1-4F40-8B8A-EA5C9EC4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6A2FA-2AFE-41D4-B579-C83C490E0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E0E8F-EDB6-4CE7-970B-08CAE628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6B4-C2B6-4D45-BD18-5B50521A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82EC7-5ACF-4822-958E-93C992557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B750A-5EEE-4934-8424-69857098A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9B765-6346-4DAB-A645-76FE4D03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68793-58D6-43BF-95E7-B13B0333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4BF2F-2C12-468C-993F-76FBE61F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47DF8-C9D6-474E-8674-22292CCA6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4F4E7-E87A-4265-BD7B-5B163038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D4019-8BC2-4732-BC78-6F50720F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62B846-2D82-4B77-9BD1-444E5EBB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5558C2-E6DA-40DF-9009-8F852CF3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8C75-7B7F-4103-BF74-585DEE86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64258-39A5-491B-8FA9-B15F537B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6906A-8102-49F7-B163-1D54988D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FF454-743A-4433-8665-9F4C1CE0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A2B11-188F-4276-B7A1-626DAFE5C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13E31-8118-47AA-9E57-814D6528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9E945-2133-48CC-8376-0A35783C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512E9-FF95-4C5E-9A28-E7499369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4DB20-8A90-4DC9-A141-9D0F94BE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5C830-79F3-4B59-9DE4-84F8EBF2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6FE5BA-4493-470F-A196-89735EAA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D46-1669-4E0F-B65E-B7716D09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9C9FF8-8A19-419E-A298-D70D597B3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71FDB8-2806-4F73-9CAA-5B92FE7E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BDB7E-5B61-48EE-BC4C-F7AFCCD1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3DBA7-CC4B-4849-98E2-E0569FEB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53184-2E00-4150-B0AE-AD04153E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42DFA-918C-49CF-99CD-EF721907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51C5A-F66A-4916-9210-33D05188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09CEE-0E98-47BB-BDBC-205A856C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6B1D1-96BD-4263-9BC2-12527294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0D873-F703-4DC1-B025-B7115F76B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9F91-D36D-4798-9CA7-B1A064B6AA7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323F-C88E-4C99-9444-783FFD62730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4ADC-B5E9-4C3E-B4EC-A3CDB556BA0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20CF-FB92-4394-B421-948A16E33A7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5979-71B7-4887-AD56-CFFBB649CF6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0CBA-FC7F-4EE6-B081-8A1FD863088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B256-B6D0-45A5-84F5-280C3C51435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ABDA1-A643-44C7-901E-B45D00B0BBA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9FAD-257D-4D8F-A10A-03A70B6FB8D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B9CE-D4EC-484D-B685-D8CE650899D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BA49D-8E16-47F0-8479-6A8A67D47A0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2C05-7742-49AD-AB97-7312CA12610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6"/>
          <p:cNvSpPr/>
          <p:nvPr/>
        </p:nvSpPr>
        <p:spPr>
          <a:xfrm>
            <a:off x="971640" y="1695600"/>
            <a:ext cx="746748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6040"/>
                <a:tab algn="l" pos="722304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lmacenamiento y Recuperación de la Inform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324000" y="1413000"/>
            <a:ext cx="830556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ara mejorar el desempe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inimizar movimientos del braz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o ideal para la latencia es que la cabeza se encuentre justo en el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ctor que contiene el dato que se requiere. Sectores contiguos v/s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ctores intercal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ransferencia en paralelo desde el pack de discos, para esto se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quieren varios brazos. Ante esto nace el concepto de RAID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(Redundant Array of Independent Dis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onceptos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468360" y="1484280"/>
            <a:ext cx="8064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array es administrado por una controladora que contiene RAID firmwa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AID administrado por hardware es más rápido que el administrado por software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5" descr=""/>
          <p:cNvPicPr/>
          <p:nvPr/>
        </p:nvPicPr>
        <p:blipFill>
          <a:blip r:embed="rId1"/>
          <a:stretch/>
        </p:blipFill>
        <p:spPr>
          <a:xfrm>
            <a:off x="1752480" y="2438280"/>
            <a:ext cx="5029200" cy="291492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6"/>
          <p:cNvSpPr/>
          <p:nvPr/>
        </p:nvSpPr>
        <p:spPr>
          <a:xfrm>
            <a:off x="533520" y="5410080"/>
            <a:ext cx="79246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controladora posee una BIOS que proporciona las herramientas de administración para la configuración y manten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sistema operativo ve el arreglo como un “gran disco dur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468360" y="148428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ambién existen soluciones externas, las cuales son conectadas mediante SCSI, Ethernet o Fib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5" descr=""/>
          <p:cNvPicPr/>
          <p:nvPr/>
        </p:nvPicPr>
        <p:blipFill>
          <a:blip r:embed="rId1"/>
          <a:stretch/>
        </p:blipFill>
        <p:spPr>
          <a:xfrm>
            <a:off x="1600200" y="2490840"/>
            <a:ext cx="478620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468360" y="1484280"/>
            <a:ext cx="8064360" cy="39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ahoma"/>
              </a:rPr>
              <a:t>Niveles RA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xisten distintas alternativas de configurar un arreglo de dis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Generalmente un nivel se define en base a los requerimientos de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plicaciones que lo utiliza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ásicamente constituyen un compromiso entre redundancia y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RAID 0(strip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rigor no corresponde a un nivel RAID, debido a que no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senta redund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iene utilizarlo cuando los datos no son críticos y el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 es importante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4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12460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4"/>
          <p:cNvSpPr/>
          <p:nvPr/>
        </p:nvSpPr>
        <p:spPr>
          <a:xfrm>
            <a:off x="468360" y="1484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RAID 1(mirror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5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5286240" cy="231768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6"/>
          <p:cNvSpPr/>
          <p:nvPr/>
        </p:nvSpPr>
        <p:spPr>
          <a:xfrm>
            <a:off x="304920" y="1981080"/>
            <a:ext cx="72388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porciona la forma más completa en cuanto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dund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ede soportar muchas fallas sin la necesidad de un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goritmo de recup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1295280" y="5791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 un array de N discos, es posible soportar la falla de N-1 de ellos sin pérdida de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468360" y="1484280"/>
            <a:ext cx="806436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n embargo, el rendimiento de las operaciones de escritura es inversamente proporcional al aumento de discos en el ar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r otro es posible realizar lecturas en forma concurr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ORTANTE: el costo de implementación es como mínimo el doble del requerimiento de almacen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468360" y="148428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RAID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tiliza un disco para almacenar información de paridad, la cual se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tiliza ante un eventual desas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5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457668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468360" y="1484280"/>
            <a:ext cx="806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RAID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quí se elimina el uso de un disco exclusivo para el tema de la paridad. Se utiliza un bloque por cada dis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"/>
          <p:cNvPicPr/>
          <p:nvPr/>
        </p:nvPicPr>
        <p:blipFill>
          <a:blip r:embed="rId1"/>
          <a:stretch/>
        </p:blipFill>
        <p:spPr>
          <a:xfrm>
            <a:off x="1523880" y="2895480"/>
            <a:ext cx="533412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380880" y="15238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ibri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binan diferentes niveles RAID para incrementar rendimiento y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fia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RAID 10(striping mirr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5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4353120" cy="26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250920" y="1155600"/>
            <a:ext cx="835164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datos son lo más importante para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e constituyen en el elemento fundamental para el proceso de toma de deci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n proceso de administración de datos debe contemp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cceso selectivo y efic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cesamiento y present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Garantía en consistencia de los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395280" y="189000"/>
            <a:ext cx="77724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onceptos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4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380880" y="15238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RAID 50(striping pari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"/>
          <p:cNvPicPr/>
          <p:nvPr/>
        </p:nvPicPr>
        <p:blipFill>
          <a:blip r:embed="rId1"/>
          <a:stretch/>
        </p:blipFill>
        <p:spPr>
          <a:xfrm>
            <a:off x="1676520" y="2209680"/>
            <a:ext cx="504828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380880" y="1371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raciones en el re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533520" y="2057400"/>
          <a:ext cx="7238880" cy="1959120"/>
        </p:xfrm>
        <a:graphic>
          <a:graphicData uri="http://schemas.openxmlformats.org/drawingml/2006/table">
            <a:tbl>
              <a:tblPr/>
              <a:tblGrid>
                <a:gridCol w="1760400"/>
                <a:gridCol w="1251000"/>
                <a:gridCol w="1411200"/>
                <a:gridCol w="1408320"/>
                <a:gridCol w="1407960"/>
              </a:tblGrid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D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D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D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D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ción de escri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enta, mas aun si se agregan disc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ucho mejor que un único disc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able a raid 0 con un disco men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able a raid 0 con un disco m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6" name=""/>
          <p:cNvGraphicFramePr/>
          <p:nvPr/>
        </p:nvGraphicFramePr>
        <p:xfrm>
          <a:off x="533520" y="4419720"/>
          <a:ext cx="7238880" cy="1958760"/>
        </p:xfrm>
        <a:graphic>
          <a:graphicData uri="http://schemas.openxmlformats.org/drawingml/2006/table">
            <a:tbl>
              <a:tblPr/>
              <a:tblGrid>
                <a:gridCol w="1760400"/>
                <a:gridCol w="1251000"/>
                <a:gridCol w="1411200"/>
                <a:gridCol w="1408320"/>
                <a:gridCol w="1407960"/>
              </a:tblGrid>
              <a:tr h="49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D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D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D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D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ción de lec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ápida, mas aun si se agregan disc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 mej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able a raid 0 con un disco men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parable a raid 0 con un disco me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380880" y="13716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Fallas y tipos de aplic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0" name=""/>
          <p:cNvGraphicFramePr/>
          <p:nvPr/>
        </p:nvGraphicFramePr>
        <p:xfrm>
          <a:off x="533520" y="2057400"/>
          <a:ext cx="7238880" cy="990720"/>
        </p:xfrm>
        <a:graphic>
          <a:graphicData uri="http://schemas.openxmlformats.org/drawingml/2006/table">
            <a:tbl>
              <a:tblPr/>
              <a:tblGrid>
                <a:gridCol w="1760400"/>
                <a:gridCol w="1251000"/>
                <a:gridCol w="1411200"/>
                <a:gridCol w="1408320"/>
                <a:gridCol w="140796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D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D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D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D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ro de fal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1" name=""/>
          <p:cNvGraphicFramePr/>
          <p:nvPr/>
        </p:nvGraphicFramePr>
        <p:xfrm>
          <a:off x="228600" y="3657600"/>
          <a:ext cx="8305920" cy="2103480"/>
        </p:xfrm>
        <a:graphic>
          <a:graphicData uri="http://schemas.openxmlformats.org/drawingml/2006/table">
            <a:tbl>
              <a:tblPr/>
              <a:tblGrid>
                <a:gridCol w="2021040"/>
                <a:gridCol w="1434960"/>
                <a:gridCol w="1617480"/>
                <a:gridCol w="1617840"/>
                <a:gridCol w="1614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D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D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D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ID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plic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vidor de imágenes.En gnral, sistemas con poca volatilida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quivalente a raid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ervidor de archivos, bases de dat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4"/>
          <p:cNvSpPr/>
          <p:nvPr/>
        </p:nvSpPr>
        <p:spPr>
          <a:xfrm>
            <a:off x="380880" y="1523880"/>
            <a:ext cx="8001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Fallas en los d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 beneficio de RAID es la capacidad de afrontar fallas sin la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tervención del usua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ot-spares : reemplazo de un disco sin intervención del usuario.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ot-swap   : reemplazo del un disco con intervención del usuario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380880" y="1523880"/>
            <a:ext cx="8001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nsideraciones de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debemos olvidar que un array es solo un componente mas de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un sistema computa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chos factores afectan el rendimiento y la capacidad de expansión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 un arreglo de disc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hroughput del b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nales de I/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hroughput del protocolo de acceso al dis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locidad del dis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PU y mem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siderando estos factores la idea es poner atención a los posibles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uellos de botella que se puedan gener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4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052960" cy="327816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5"/>
          <p:cNvSpPr/>
          <p:nvPr/>
        </p:nvSpPr>
        <p:spPr>
          <a:xfrm>
            <a:off x="609480" y="487692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velocidad de los buses de datos y de disco tiene un impacto directo en el desempeño del sistema. Es sencillo agregar más controladoras de disco aumentando el throughput pero el bus de datos es uno so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380880" y="1523880"/>
            <a:ext cx="8001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Bus P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s el bus de datos más comun en la actu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 velocidad es determinada por dos factores: el ancho del bus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bus-width) y la veolcidad del bus (bus-spe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-width: indica cuantos bytes de datos se pueden enviar a la v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us-speed: especifica cuantas veces por segundo es posible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ransferir datos por el b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228600" y="4267080"/>
          <a:ext cx="8534520" cy="2108160"/>
        </p:xfrm>
        <a:graphic>
          <a:graphicData uri="http://schemas.openxmlformats.org/drawingml/2006/table">
            <a:tbl>
              <a:tblPr/>
              <a:tblGrid>
                <a:gridCol w="2133720"/>
                <a:gridCol w="2133360"/>
                <a:gridCol w="2133720"/>
                <a:gridCol w="213372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po de B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 (bit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clos (MHz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roughput (MB/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A (x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SA (a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-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.33-66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3.33-533.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380880" y="1523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 se construye un RAID considerando 3 tarjetas SCSI cada una de las cuales tienes una velocidad de 80MB/s, es posible generar un cuello de botella si se cuenta con una tarjeta madre que posee un bus PCI de 32 bits corriendo a 33MHz  (80MB/s *3 v/s 133.33 MB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380880" y="1523880"/>
            <a:ext cx="800100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tocolos de acceso a d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nen un impacto en el rendimiento y escalabilidad del arr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da protocolo tiene bien definido su throughput y el número de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positivos que se pueden conect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as soluciones basadas en arrays, el más usado es SC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bus-width SCSI se conoce como narrow (8 bits) o wide (16 bits).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terminan la cantidad de discos que se pueden conectar a un bus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CS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arrow : 8, sin embargo la cantidad efectiva es 7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wide : 16, la cantidad efectiva es 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ambos casos se debe a que se considera la tarjeta controlado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380880" y="1371600"/>
          <a:ext cx="8305920" cy="4873680"/>
        </p:xfrm>
        <a:graphic>
          <a:graphicData uri="http://schemas.openxmlformats.org/drawingml/2006/table">
            <a:tbl>
              <a:tblPr/>
              <a:tblGrid>
                <a:gridCol w="2076480"/>
                <a:gridCol w="2076480"/>
                <a:gridCol w="2076480"/>
                <a:gridCol w="20764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d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gnal rate (MHz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oughput (MB/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SI-1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SI,Narrow S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st S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st Wide S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tra S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tra wide S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tra2 SCSI, Ultra2 Narr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tra2 wide SC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ltra3 SCSI, Ultra 160 S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4"/>
          <p:cNvSpPr/>
          <p:nvPr/>
        </p:nvSpPr>
        <p:spPr>
          <a:xfrm>
            <a:off x="250920" y="1155600"/>
            <a:ext cx="8351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rchivo: generalmente corresponde a una colección de registros lógicamente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Registro: es una estructura de campos o de datos lógicamente relacionados. Generalmente un registro se puede identificar de manera única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ato: representación de un atributo en el dominio de un prob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5"/>
          <p:cNvSpPr/>
          <p:nvPr/>
        </p:nvSpPr>
        <p:spPr>
          <a:xfrm>
            <a:off x="533520" y="3505320"/>
            <a:ext cx="259056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6"/>
          <p:cNvSpPr/>
          <p:nvPr/>
        </p:nvSpPr>
        <p:spPr>
          <a:xfrm>
            <a:off x="685800" y="3733920"/>
            <a:ext cx="68580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7"/>
          <p:cNvSpPr/>
          <p:nvPr/>
        </p:nvSpPr>
        <p:spPr>
          <a:xfrm>
            <a:off x="1523880" y="3733920"/>
            <a:ext cx="68580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8"/>
          <p:cNvSpPr/>
          <p:nvPr/>
        </p:nvSpPr>
        <p:spPr>
          <a:xfrm>
            <a:off x="2362320" y="3733920"/>
            <a:ext cx="68580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9"/>
          <p:cNvSpPr/>
          <p:nvPr/>
        </p:nvSpPr>
        <p:spPr>
          <a:xfrm>
            <a:off x="685800" y="4495680"/>
            <a:ext cx="6858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10"/>
          <p:cNvSpPr/>
          <p:nvPr/>
        </p:nvSpPr>
        <p:spPr>
          <a:xfrm flipV="1">
            <a:off x="2819520" y="3733560"/>
            <a:ext cx="1447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1"/>
          <p:cNvSpPr/>
          <p:nvPr/>
        </p:nvSpPr>
        <p:spPr>
          <a:xfrm>
            <a:off x="4343400" y="3505320"/>
            <a:ext cx="2590920" cy="19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struct persona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int eda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char nombre[45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char rut[9]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}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ahoma"/>
              </a:rPr>
              <a:t>a.edad=45; /*eso es un dato *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3"/>
          <p:cNvSpPr/>
          <p:nvPr/>
        </p:nvSpPr>
        <p:spPr>
          <a:xfrm>
            <a:off x="0" y="3124080"/>
            <a:ext cx="333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>
            <a:off x="1828800" y="5105520"/>
            <a:ext cx="2057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5"/>
          <p:cNvSpPr/>
          <p:nvPr/>
        </p:nvSpPr>
        <p:spPr>
          <a:xfrm>
            <a:off x="4114800" y="586728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Vista lógica de un arch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6"/>
          <p:cNvSpPr/>
          <p:nvPr/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onceptos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17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RAID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(Redundant Array of Independent Disks )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380880" y="1523880"/>
            <a:ext cx="800100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fer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</a:rPr>
              <a:t>Managing RAID on Linux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 Derek Vadala. Ed. O’Rei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Cin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684360" y="1484280"/>
            <a:ext cx="77752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lmacen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Un dispositivo de almacenamiento para archivos secuenciales es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cinta. Es preferible para secuenciales desorde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5" descr=""/>
          <p:cNvPicPr/>
          <p:nvPr/>
        </p:nvPicPr>
        <p:blipFill>
          <a:blip r:embed="rId1"/>
          <a:stretch/>
        </p:blipFill>
        <p:spPr>
          <a:xfrm>
            <a:off x="2268360" y="2924280"/>
            <a:ext cx="4348440" cy="165240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6"/>
          <p:cNvSpPr/>
          <p:nvPr/>
        </p:nvSpPr>
        <p:spPr>
          <a:xfrm>
            <a:off x="971640" y="4941720"/>
            <a:ext cx="720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ámetros releva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pacio entre blo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rgo de la c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ns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Cin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684360" y="1700280"/>
            <a:ext cx="7200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ámetros relev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amaño de los regis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actor de bloqu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or 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rgo : 2400 [pies]  (1 pie = 12 pulgad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nsidad: 6250 [bpp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 registro : 100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actor de bloqueo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pacio entre bloques: 0.6 [pul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uántos bloques puede contener la cinta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uál es la eficiencia en el uso de  la cin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Cin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684360" y="1700280"/>
            <a:ext cx="72007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pacio que ocupa un blo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1 [pulg]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6250 [bits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X    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100 [bit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X = 0.0016 [pul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rgo de la cin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400 [pies] * 12 [pulg/pie] = 28800 [pulg]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a cantidad de bloques se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28800 [pulg]/(0.016 + 0.6)[pulg] = 46753 [bloqu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Cin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3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684360" y="1700280"/>
            <a:ext cx="720072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ficiencia en el uso de la ci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uanto espacio de la cinta se ocupa con dato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uando el fb es 1 : 46753*0.0016 = 748 [pulg]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2.7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Que sucede si aumentamos el fb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pongamos fb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X = 0.32 [pul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antidad de bloques se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8800 [pulg]/(0.32 + 0.6)[pulg] = 31304 [bloque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la efici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31304*0.32 = 10017 [pulg]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34.7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Cint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4"/>
          <p:cNvSpPr/>
          <p:nvPr/>
        </p:nvSpPr>
        <p:spPr>
          <a:xfrm>
            <a:off x="826920" y="1341360"/>
            <a:ext cx="720108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uego, el factor de bloqueo es muy import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Tahoma"/>
              </a:rPr>
              <a:t>Tiempos de ac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l factor de bloqueo también influye en los tiempos de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cup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cceso lectura/escritura : 200 [pulg/se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etención entre espacios: 4 [m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ual es el tiempo  requerido para leer toda la cin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iempo para leer bloques + detención entre espac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so fb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3.74 [seg] + 187.012 [seg] = 190.752 [se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aso fb=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50.086 [seg] + 125.22 [seg] = 175.3 [seg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Respaldo y Recup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5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468360" y="1989000"/>
            <a:ext cx="8280360" cy="43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nte pérdida o daño en los datos (medio de almacenamiento) es necesaria una política de respaldo y recupe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Generalmente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se asocia a un enfoque de B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ara una recuperació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spal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Journa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heck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spal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rresponde a una copia de los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eriodicidad: diaria, semanal, mensual. (cold backup, hot backu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Respaldo y Recup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3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468360" y="1989000"/>
            <a:ext cx="828036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Journ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orresponde a un registro (log) de los procesos (transacciones) y las actualizaciones realizadas sobre los datos.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ransactional Log: registro de acciones realizadas por las transac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Database Change Log : imagen de los datos actualiz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efore-image: copia antes de la modif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fter-image: copia después de la modific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4"/>
          <p:cNvSpPr/>
          <p:nvPr/>
        </p:nvSpPr>
        <p:spPr>
          <a:xfrm>
            <a:off x="395280" y="1628640"/>
            <a:ext cx="8280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heckPoi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Cuando se actualiza un dato vale la pena guardar un registro especial en el log de transacciones y pre-imágenes. Util para realizar la recuperación desde la “última marca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Respaldo y Recup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47"/>
          <p:cNvSpPr/>
          <p:nvPr/>
        </p:nvSpPr>
        <p:spPr>
          <a:xfrm>
            <a:off x="3492360" y="3860640"/>
            <a:ext cx="136872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48"/>
          <p:cNvSpPr/>
          <p:nvPr/>
        </p:nvSpPr>
        <p:spPr>
          <a:xfrm>
            <a:off x="3492360" y="4292640"/>
            <a:ext cx="13669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9"/>
          <p:cNvSpPr/>
          <p:nvPr/>
        </p:nvSpPr>
        <p:spPr>
          <a:xfrm>
            <a:off x="3492360" y="4726080"/>
            <a:ext cx="13669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0"/>
          <p:cNvSpPr/>
          <p:nvPr/>
        </p:nvSpPr>
        <p:spPr>
          <a:xfrm>
            <a:off x="3492360" y="5229360"/>
            <a:ext cx="1366920" cy="217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51"/>
          <p:cNvSpPr/>
          <p:nvPr/>
        </p:nvSpPr>
        <p:spPr>
          <a:xfrm>
            <a:off x="2916360" y="4365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52"/>
          <p:cNvSpPr/>
          <p:nvPr/>
        </p:nvSpPr>
        <p:spPr>
          <a:xfrm>
            <a:off x="2916360" y="4797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53"/>
          <p:cNvSpPr/>
          <p:nvPr/>
        </p:nvSpPr>
        <p:spPr>
          <a:xfrm>
            <a:off x="2916360" y="530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4"/>
          <p:cNvSpPr/>
          <p:nvPr/>
        </p:nvSpPr>
        <p:spPr>
          <a:xfrm rot="16200000">
            <a:off x="2010600" y="476640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heck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5"/>
          <p:cNvSpPr/>
          <p:nvPr/>
        </p:nvSpPr>
        <p:spPr>
          <a:xfrm>
            <a:off x="3489840" y="35002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ac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4" descr="FIG12-6"/>
          <p:cNvPicPr/>
          <p:nvPr/>
        </p:nvPicPr>
        <p:blipFill>
          <a:blip r:embed="rId1"/>
          <a:stretch/>
        </p:blipFill>
        <p:spPr>
          <a:xfrm>
            <a:off x="971640" y="1413000"/>
            <a:ext cx="7162560" cy="5251320"/>
          </a:xfrm>
          <a:prstGeom prst="rect">
            <a:avLst/>
          </a:prstGeom>
          <a:ln w="0">
            <a:noFill/>
          </a:ln>
        </p:spPr>
      </p:pic>
      <p:sp>
        <p:nvSpPr>
          <p:cNvPr id="644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Respaldo y Recup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6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250920" y="1268280"/>
            <a:ext cx="830556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 técnica utilizada para representar y almacenar registros es llamada </a:t>
            </a: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organización de archivos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odo tipo de organización de archivos busca la conveniencia respecto de tiempos de acceso y recuperac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 organización más apropiada para un archivo dependerá de las características operacionales del medio de almacenamiento y por la naturaleza de las operaciones sobre los regis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3"/>
          <p:cNvSpPr/>
          <p:nvPr/>
        </p:nvSpPr>
        <p:spPr>
          <a:xfrm>
            <a:off x="395280" y="981000"/>
            <a:ext cx="6157800" cy="1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onceptos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Respaldo y Recup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468360" y="1989000"/>
            <a:ext cx="8280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cedimientos de recup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estore-rerun: reprocesar transacciones contra el back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ollback: se aplica la pre-imagen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13_07a"/>
          <p:cNvPicPr/>
          <p:nvPr/>
        </p:nvPicPr>
        <p:blipFill>
          <a:blip r:embed="rId1"/>
          <a:stretch/>
        </p:blipFill>
        <p:spPr>
          <a:xfrm>
            <a:off x="1908000" y="3789360"/>
            <a:ext cx="481824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Respaldo y Recupe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468360" y="1989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RollForward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6" descr="13_07b"/>
          <p:cNvPicPr/>
          <p:nvPr/>
        </p:nvPicPr>
        <p:blipFill>
          <a:blip r:embed="rId1"/>
          <a:stretch/>
        </p:blipFill>
        <p:spPr>
          <a:xfrm>
            <a:off x="1763640" y="2708280"/>
            <a:ext cx="524988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Consist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3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755640" y="1628640"/>
            <a:ext cx="7056360" cy="32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l momento nos interesa la noción de consistencia. Consideremos el siguiente proce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ocedure depos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eg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input(account#, amount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emp:= read(accounts[account#]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temp:= temp+amou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write(accounts[account#], temp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end;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8"/>
          <p:cNvSpPr/>
          <p:nvPr/>
        </p:nvSpPr>
        <p:spPr>
          <a:xfrm>
            <a:off x="900000" y="4869000"/>
            <a:ext cx="6767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las siguientes acciones de dos clientes (cliente1 y cliente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alizan depósitos sobre la misma cuenta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account13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la cual posee inicialmente $1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ente1 deposita $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 mismo tiempo” cliente2 deposita $1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Consist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3"/>
          <p:cNvSpPr/>
          <p:nvPr/>
        </p:nvSpPr>
        <p:spPr>
          <a:xfrm>
            <a:off x="539640" y="1268280"/>
            <a:ext cx="8209080" cy="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6"/>
          <p:cNvSpPr/>
          <p:nvPr/>
        </p:nvSpPr>
        <p:spPr>
          <a:xfrm>
            <a:off x="611280" y="1700280"/>
            <a:ext cx="7705800" cy="44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origina la siguiente ejecución concurr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read1(accounts[13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3300"/>
                </a:solidFill>
                <a:latin typeface="Arial"/>
              </a:rPr>
              <a:t>read2(accounts[13]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3300"/>
                </a:solidFill>
                <a:latin typeface="Arial"/>
              </a:rPr>
              <a:t>write2(accounts[13],$1010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ff3300"/>
                </a:solidFill>
                <a:latin typeface="Arial"/>
              </a:rPr>
              <a:t>commit2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write1(accounts[13],$110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commit1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pósito del cliente2 se perdió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necesario garantiza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nsistenci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 los datos ante ejecuciones concur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dea: permitir concurrencia siempre y cuando una ejecución intercalada de 2 o más procesos tenga el mismo efecto que una ejecución serial. Lo anterior se conoce como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ejecución serializabl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324000" y="1268280"/>
            <a:ext cx="8305560" cy="49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siderando el almacenamiento se tiene la siguiente jerarquía: Memoria Caché, Memoria Principal, Discos Magnéticos, Memoria terci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n forma idea siempre es recomendable trabajar con los datos en memoria volátil, debido a la velocidad de acceso, para luego enviarlos a memoria secundaria o terci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emoria Caché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u objetivo es reducir los tiempos de esp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s pequeña pero de mucha rápide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s necesario administrar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emoria Princip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utiliza para el procesamiento de los da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onceptos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4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395280" y="1052640"/>
            <a:ext cx="83059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co Magnétic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no es volát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positivo de acceso aleator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ermite almacenar gran cantidad de by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ara procesar su contenido es necesario el uso de la memoria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princip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emoria tercia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onsidera entre otros, CDs,  DVDs y Cin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una cinta es un dispositivo de acceso secuencial, es mas lenta que un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co magnético, generalmente se utiliza para respaldos.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 principal desventaja en la utiización de Discos se encuentra en el tiempo de acceso y de recuperación. Sin embargo este se puede disminuir seleccionando una orgnización adecu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onceptos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2"/>
          <p:cNvSpPr/>
          <p:nvPr/>
        </p:nvSpPr>
        <p:spPr>
          <a:xfrm>
            <a:off x="395280" y="1125360"/>
            <a:ext cx="8305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Disco Magné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ambién conocido como disco duro, se compone de un pack de platos cada uno de los cuales tiene  caras, pistas y 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ctores para almacenar la información. Además posee cabezas, asociadas a un brazo, para leer y grabar la .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3" descr="recover-hard-drive"/>
          <p:cNvPicPr/>
          <p:nvPr/>
        </p:nvPicPr>
        <p:blipFill>
          <a:blip r:embed="rId1"/>
          <a:stretch/>
        </p:blipFill>
        <p:spPr>
          <a:xfrm>
            <a:off x="2340000" y="2708280"/>
            <a:ext cx="4114800" cy="283536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4"/>
          <p:cNvSpPr/>
          <p:nvPr/>
        </p:nvSpPr>
        <p:spPr>
          <a:xfrm>
            <a:off x="533520" y="55627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a cabeza se mueve radialmente sobre la superficie de un plato que gira a gran velocidad. Sólo una cabeza puede realizar transferencia de datos en un determinado mo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5"/>
          <p:cNvSpPr/>
          <p:nvPr/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onceptos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6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324000" y="1268280"/>
            <a:ext cx="83055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l tiempo de acceso a un disco está dado por </a:t>
            </a:r>
            <a:r>
              <a:rPr b="0" i="1" lang="es-CL" sz="1800" spc="-1" strike="noStrike">
                <a:solidFill>
                  <a:srgbClr val="000000"/>
                </a:solidFill>
                <a:latin typeface="Tahoma"/>
              </a:rPr>
              <a:t>tiempo de seek+latencia (rotacional)+ tiempo de transfer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ek: tiempo requerido para transitar entre pis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latencia: tiempo requerido para que el disco gire al sector que se desea. Generalmente corresponde a media vuel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ransferencia: velocidad con la que se escriben/leen bytes hacia/desde el disc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3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onceptos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2"/>
          <p:cNvSpPr/>
          <p:nvPr/>
        </p:nvSpPr>
        <p:spPr>
          <a:xfrm>
            <a:off x="250920" y="1268280"/>
            <a:ext cx="830556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Ejercicio: considere el ordenamiento y mezcla de un archivo de 800000 registros. Sólo 10000 se pueden almacenar en R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amaño del registro 1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Se utiliza un disco de 3600 RPM que posee seek de 18 ms y transferencia de 1229 bytes/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Cuanto es el tiempo requerido para realizar el ordenamiento y mezc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380880" y="228600"/>
            <a:ext cx="77724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ahoma"/>
              </a:rPr>
              <a:t>Conceptos</a:t>
            </a:r>
            <a:r>
              <a:rPr b="0" lang="es-E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4"/>
          <p:cNvSpPr/>
          <p:nvPr/>
        </p:nvSpPr>
        <p:spPr>
          <a:xfrm>
            <a:off x="395280" y="1052640"/>
            <a:ext cx="6157800" cy="14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9T20:10:17Z</dcterms:created>
  <dc:creator>Pablo Turmero</dc:creator>
  <dc:description/>
  <dc:language>en-US</dc:language>
  <cp:lastModifiedBy>Pablo Turmero</cp:lastModifiedBy>
  <dcterms:modified xsi:type="dcterms:W3CDTF">2015-08-22T19:58:31Z</dcterms:modified>
  <cp:revision>24</cp:revision>
  <dc:subject/>
  <dc:title/>
</cp:coreProperties>
</file>