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B27-E5B1-45A6-9A56-CADD52D3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6E1-9BDE-4974-9318-2A6F364C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DA5EC-D8C9-4A30-AA45-74611BF8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583E3-3C71-44F5-9197-C72BBF6A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9FD3B-3115-4718-8A04-96A7114C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F15BB-D4F8-449F-8A07-FC539ED5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FB6A9-CDA0-4632-84BE-10AE7B90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27411-564C-4D52-AC6C-50B6473C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CC2B7-9FC5-47D6-8FE8-3D0A5381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836E1-EA65-4584-9A75-1423340B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45E41-5D7A-4538-B7AF-E65C178B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51747-35F0-4866-8428-5ECCA720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6DA-DEAC-4947-AB5A-7A3A6E15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D927F-0A09-481A-B5DD-B57D12CD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1777C-9C1C-477A-9B3B-3BE41F08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7CF88-5F17-44BA-885F-898B51A8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E7FC9-E95A-48B5-A8B9-5872FA8F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6C421-6DE0-4D43-BC13-FB3DED5E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326EE-E15F-4D92-AB99-97823AC9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09526-C28D-4935-8040-47432FF4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1D18F-68FF-4234-876F-CD27FE18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F8414-CA14-428B-98DB-77F8C5CD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32807-7B60-4353-A12E-5215B082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E32-75FF-4474-8F8F-2EFCC251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40D35-158C-4D73-8791-3F1B0D1F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4BF59-CB8D-4507-BA16-BB2108CA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8D750-A924-49D4-981E-E649AD97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D1B8E-A0BD-4D13-8246-0375371E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437D0-3494-4C81-BACB-87FEEB6C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B9CB5-BCCC-4557-8911-35DCD01A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6C54E-3119-4FE0-BEB4-9408870F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284C3-B1E7-4A14-86D8-F180B938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B6931-6008-4253-BAEF-DB6647CC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7838B-4448-45C1-B9EC-AF09821F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99D6-C870-415D-92FE-17D02262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13205-9F44-4EF3-B7B3-A79F6ADA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400AC-93D0-497E-AD2D-E5BA19B9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14818-2E25-480E-B25A-ECFB074A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8DF08-7E2E-4A3F-A1BE-79357B02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572C7-82B7-4758-BC3F-9C22B5DC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4E2D3-DE1C-4CD7-9BFB-39C8D84C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83B47-D79B-4F82-AEC1-968A9A8B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C9464-48C3-461D-BFDB-0C4BF75A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E2E3C-1E37-4B8B-AF4C-A38BE97C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48E7F-AA8B-4DFF-9015-3BC6F0BA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7437-3561-4917-8214-B4B1A253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C4188-B84C-45AF-A552-EEA28A14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717FA-A5F2-41C4-911A-3A59B16F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0B7D8-0EE0-4AEF-B4F1-B49AD8FC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293FD-73E5-4ACC-9714-A3E20518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13720-6C42-4CF7-AF68-10C79E04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6B71-C65A-4B2A-824B-D09937F5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9776-232A-4CB9-AA01-B0902002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4067-1F80-4669-9304-9F33B91A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7073-BB5A-4BCC-8792-BA3C9F1E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9817-3DAB-43B8-AEE3-C39003D2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709-F645-4D7F-9DA6-87C2B695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52F1-E43A-414F-BF51-545AF06A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90DF-755E-48AA-A558-E4993579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102D-838F-4E9D-B835-CC8EA449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44A4-1CE9-4010-80CF-3F2CF027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F6F5-8B5F-4091-928B-8A3467D1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07E0-B66C-4FC2-B114-B59D19E0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C04EB-CA63-47F3-AB75-EB40AA9D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DB9A4-2EC0-450B-B1E7-9978FCFA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AA16A-214B-4EA7-8F64-49B53E80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FB665-0FAF-4B3A-A234-DE87C0CF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7E9-B871-464F-B017-496316D7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C0253-B657-4CC3-8802-53969CAC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75168-6374-47B4-8FAE-282D2D59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04727-7206-4295-9C05-2B92F59D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B2E88-FF34-4512-98B6-895586AC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27B4B-ABDA-469B-AAC4-2365E984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440C7-094B-4AB2-B48C-E8E3778D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81E34-9F79-48E6-A030-DA36736A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CDDA-3F4B-443D-AC2A-80A3B46F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A5E53-4B17-4E04-9067-BBB2B087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68E14-D6AD-4D0A-9EF8-12A5E5AD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E99-5FAA-48C5-B613-403A5E74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B0A8A-7DEA-4278-941E-D59D33B7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A878A-7DF8-4E1A-8105-D3597657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FB8E0-3070-47C9-9E88-C0C6FEF5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AD253-5575-44CF-84A9-9BAAFC0F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4EBFB-5491-4A66-95A4-CD618ECF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4E375-1A85-45D7-B825-4C7E6E01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896BF-10BE-4803-94F7-1F69BF9B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28D03-C15D-4D80-99A5-83135298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EBE92-3064-4831-90D7-2234947A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0D3C3-B037-4E7E-98F1-9EBEE410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DB6-A47F-4A77-BD5B-7D142E99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9BAAA-1175-496B-977F-A8861E71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2333C-2C46-40D5-8C5C-D45376E0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F427B-98CD-433C-9AFF-4F8F549B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7749F-A343-4CB9-959C-8EF72143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7F71A-25DE-4203-BF46-BEE75742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92705-F147-471D-A9EF-0B1E15EF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7BF6A-83F2-4F1E-8DFE-A0C0C6DB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D0757-29A9-4C36-A46B-04E9FBB4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73E7F-ED92-4FBD-BFBF-AF3D2205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40DEE-AD81-4E1C-ABEB-00F53269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CEB-EA4C-4F83-B678-BABB384E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12A0E-E33D-48DC-A8C3-EF29B655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9DDBF-E0B4-4434-9108-E1E8C878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1790A-EE55-4A25-B3C5-6D680312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B9654-9DB5-4CDF-8605-4CFDF694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D9E24-171B-4D77-9663-E3858305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AA845-22AD-4884-ABE6-6A80CA1F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83335-2F89-47B6-B2FC-3A119CE2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484DA-C703-4FE0-8F76-03619D7D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BB748-AAD5-4E48-B985-E202C84B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9A96F-2B8B-4BB7-873E-8FF7ADDA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081-E4BF-485B-84E8-A13C7A57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EEF91-CC5A-41B0-8E3B-2F2992E8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10063-FF66-48E3-9C95-36CC792C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C8479-171B-4E06-B13D-BD350E2A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2AFB6-68B1-4F31-BF5F-C682E07D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7A46F-A97E-4696-A9E0-C2FB9DB3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09FB3-6FB7-4558-8FBF-B4F75BB4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DE76E-5125-42C9-BE98-DE1C7AC5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61D68-6579-4285-8BE5-1638DE94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8A797-4CB2-49DB-92F1-B94FF6E3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C8B6A-F85C-4ACD-BDD1-06CBBD2D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6BA-FA60-4AA1-94F1-452A0FBA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737AF-EBD0-4B26-868D-4DB54C3B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EFB60-7C4D-4888-BE0B-6330DDB7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1EB27-983C-4969-B526-02828035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B0AE0-A39F-4BA8-975D-F26CDE5B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5D973-F63D-4B39-AE7C-BF5F95C3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99ECB-15DB-48BA-B8B4-F3FE4E38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09041-0A8E-4C82-B3D1-A0F9A511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28486-B8A8-49E6-BF70-EE4D2786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1D2D9-CA27-40B4-A934-2B1A5EF4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16BA9-FA7E-4102-A872-3C15CE4F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EF1-EE61-4C6D-BC32-F1721E65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7DCC2-1BC0-4718-B517-9A0075A8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4EB24-F295-4891-A8CB-7D42A82D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31162-018C-4673-A554-AD601773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B7857-4848-4E1E-9389-89CA297C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F4E90-88F6-45E2-B5BC-F702120E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EBE36-8045-4694-9810-A934CA0A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682A3-4AC0-4036-9C07-953AC18F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0623A-2CAE-478A-BA19-EC453330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92EE3-F0EF-4FE4-80A6-44AA11FA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DCFAC-7E80-4EB9-9EA5-2083AB37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CEC4-6CA5-45D1-B1CF-1DA6B892F435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D97B-7546-4ED0-8E07-BE3F88F901D4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FAFB-251D-4BD7-BD7A-ECA3335A4300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CF2D-8CDB-4DAD-8683-946D39312D17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0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2 Forma libre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B343-185F-4905-89A0-292D7F984210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565B-EEDB-4C16-87B4-E08D01F86CCB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10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12 Forma libre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0ACB-CA40-4599-B081-C5E8BD8E6F54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DA9F-F4A3-4593-AC80-87971498AA2E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A037-1740-4932-81C6-B34B6504C985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6C56-4021-49FE-A25F-FBE6DC2A96FD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B788-437F-4273-84B5-2B26A6C46A31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A54C-08F4-4457-B1D7-0D90AE59D9E4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"/>
          <p:cNvSpPr/>
          <p:nvPr/>
        </p:nvSpPr>
        <p:spPr>
          <a:xfrm>
            <a:off x="216000" y="635040"/>
            <a:ext cx="87487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Arial"/>
              </a:rPr>
              <a:t>Análisis de señales y de sistemas discretos en el dominio del tiemp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395280" y="3000240"/>
            <a:ext cx="832644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istemas lineales discretos e invariantes con el tiem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cripción de un sistema por medio de su ecuación de difer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4"/>
          <p:cNvSpPr/>
          <p:nvPr/>
        </p:nvSpPr>
        <p:spPr>
          <a:xfrm>
            <a:off x="324000" y="4752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terminar si los siguentes sistemas son invarian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y(n) = x(n) – x(n - 1)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y(n) = nx(n)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y(n) = x(-n)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y(n) = x(n) cos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ω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133200" y="260280"/>
            <a:ext cx="88315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116e0"/>
                </a:solidFill>
                <a:latin typeface="Arial"/>
              </a:rPr>
              <a:t>Sistemas lineales.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finidos por el principio de superposición. </a:t>
            </a:r>
            <a:br>
              <a:rPr sz="2400"/>
            </a:b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an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las respuestas a las entradas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400"/>
            </a:b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sistema es lineal solo s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66"/>
                </a:solidFill>
                <a:latin typeface="Times New Roman"/>
              </a:rPr>
              <a:t>T[a</a:t>
            </a:r>
            <a:r>
              <a:rPr b="0" i="1" lang="es-MX" sz="24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r>
              <a:rPr b="0" i="1" lang="es-MX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0" i="1" lang="es-MX" sz="24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r>
              <a:rPr b="0" i="1" lang="es-MX" sz="2400" spc="-1" strike="noStrike">
                <a:solidFill>
                  <a:srgbClr val="ffff66"/>
                </a:solidFill>
                <a:latin typeface="Times New Roman"/>
              </a:rPr>
              <a:t>(n) + a</a:t>
            </a:r>
            <a:r>
              <a:rPr b="0" i="1" lang="es-MX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0" i="1" lang="es-MX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ffff66"/>
                </a:solidFill>
                <a:latin typeface="Times New Roman"/>
              </a:rPr>
              <a:t>(n)] = a</a:t>
            </a:r>
            <a:r>
              <a:rPr b="0" i="1" lang="es-MX" sz="24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r>
              <a:rPr b="0" i="1" lang="es-MX" sz="2400" spc="-1" strike="noStrike">
                <a:solidFill>
                  <a:srgbClr val="ffff66"/>
                </a:solidFill>
                <a:latin typeface="Times New Roman"/>
              </a:rPr>
              <a:t>T[x</a:t>
            </a:r>
            <a:r>
              <a:rPr b="0" i="1" lang="es-MX" sz="24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r>
              <a:rPr b="0" i="1" lang="es-MX" sz="2400" spc="-1" strike="noStrike">
                <a:solidFill>
                  <a:srgbClr val="ffff66"/>
                </a:solidFill>
                <a:latin typeface="Times New Roman"/>
              </a:rPr>
              <a:t>(n)] + a</a:t>
            </a:r>
            <a:r>
              <a:rPr b="0" i="1" lang="es-MX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ffff66"/>
                </a:solidFill>
                <a:latin typeface="Times New Roman"/>
              </a:rPr>
              <a:t>T[x</a:t>
            </a:r>
            <a:r>
              <a:rPr b="0" i="1" lang="es-MX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ffff66"/>
                </a:solidFill>
                <a:latin typeface="Times New Roman"/>
              </a:rPr>
              <a:t>(n)] =a</a:t>
            </a:r>
            <a:r>
              <a:rPr b="0" i="1" lang="es-MX" sz="24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r>
              <a:rPr b="0" i="1" lang="es-MX" sz="2400" spc="-1" strike="noStrike">
                <a:solidFill>
                  <a:srgbClr val="ffff66"/>
                </a:solidFill>
                <a:latin typeface="Times New Roman"/>
              </a:rPr>
              <a:t> y</a:t>
            </a:r>
            <a:r>
              <a:rPr b="0" i="1" lang="es-MX" sz="24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r>
              <a:rPr b="0" i="1" lang="es-MX" sz="2400" spc="-1" strike="noStrike">
                <a:solidFill>
                  <a:srgbClr val="ffff66"/>
                </a:solidFill>
                <a:latin typeface="Times New Roman"/>
              </a:rPr>
              <a:t>(n) + a</a:t>
            </a:r>
            <a:r>
              <a:rPr b="0" i="1" lang="es-MX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0" i="1" lang="es-MX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ffff66"/>
                </a:solidFill>
                <a:latin typeface="Times New Roman"/>
              </a:rPr>
              <a:t>(n)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on constantes arbitrarias.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324000" y="3718080"/>
            <a:ext cx="83991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116e0"/>
                </a:solidFill>
                <a:latin typeface="Arial"/>
              </a:rPr>
              <a:t>Sistemas no lineales.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quellos que no satisfacen el principio de superposi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 sistema lineal en </a:t>
            </a:r>
            <a:r>
              <a:rPr b="0" i="1" lang="es-MX" sz="2400" spc="-1" strike="noStrike">
                <a:solidFill>
                  <a:srgbClr val="ff7c80"/>
                </a:solidFill>
                <a:latin typeface="Arial"/>
              </a:rPr>
              <a:t>repos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es aquel que a una entrada cero, produce una salida c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 sistema que produce una salida diferente de cero cuando la entrada es cero </a:t>
            </a:r>
            <a:r>
              <a:rPr b="0" i="1" lang="es-MX" sz="2400" spc="-1" strike="noStrike">
                <a:solidFill>
                  <a:srgbClr val="ff7c80"/>
                </a:solidFill>
                <a:latin typeface="Arial"/>
              </a:rPr>
              <a:t>n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stá en </a:t>
            </a:r>
            <a:r>
              <a:rPr b="0" i="1" lang="es-MX" sz="2400" spc="-1" strike="noStrike">
                <a:solidFill>
                  <a:srgbClr val="ff7c80"/>
                </a:solidFill>
                <a:latin typeface="Arial"/>
              </a:rPr>
              <a:t>repos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o </a:t>
            </a:r>
            <a:r>
              <a:rPr b="0" i="1" lang="es-MX" sz="2400" spc="-1" strike="noStrike">
                <a:solidFill>
                  <a:srgbClr val="ff7c80"/>
                </a:solidFill>
                <a:latin typeface="Arial"/>
              </a:rPr>
              <a:t>n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s </a:t>
            </a:r>
            <a:r>
              <a:rPr b="0" i="1" lang="es-MX" sz="2400" spc="-1" strike="noStrike">
                <a:solidFill>
                  <a:srgbClr val="ff7c80"/>
                </a:solidFill>
                <a:latin typeface="Arial"/>
              </a:rPr>
              <a:t>lineal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4"/>
          <p:cNvSpPr/>
          <p:nvPr/>
        </p:nvSpPr>
        <p:spPr>
          <a:xfrm>
            <a:off x="324000" y="40356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terminar si los siguientes sistemas son linea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y(n) = n x(n)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y(n) = x(n</a:t>
            </a:r>
            <a:r>
              <a:rPr b="0" i="1" lang="es-MX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y(n) = x</a:t>
            </a:r>
            <a:r>
              <a:rPr b="0" i="1" lang="es-MX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(n)</a:t>
            </a:r>
            <a:br>
              <a:rPr sz="2000"/>
            </a:b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y(n) = Ax(n) + B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y(n) = e</a:t>
            </a:r>
            <a:r>
              <a:rPr b="0" i="1" lang="es-MX" sz="2000" spc="-1" strike="noStrike" baseline="30000">
                <a:solidFill>
                  <a:srgbClr val="ffffff"/>
                </a:solidFill>
                <a:latin typeface="Times New Roman"/>
              </a:rPr>
              <a:t>x(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"/>
          <p:cNvSpPr/>
          <p:nvPr/>
        </p:nvSpPr>
        <p:spPr>
          <a:xfrm>
            <a:off x="420840" y="693720"/>
            <a:ext cx="8399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116e0"/>
                </a:solidFill>
                <a:latin typeface="Arial"/>
              </a:rPr>
              <a:t>Sistemas causales.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uando para cualquier valor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el valor de la secuencia de salida en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= n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depende solo de los valores de entrada par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≤ n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 Es decir, la salida depende de las entradas pasadas y pres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116e0"/>
                </a:solidFill>
                <a:latin typeface="Arial"/>
              </a:rPr>
              <a:t>Sistemas no causales.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quellos que no cumplen las condiciones de causa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324000" y="3564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y(n) = x(n) – x(n - 1)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y(n) = ax(n)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y(n) = 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∑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x(k); k= -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∞ …n</a:t>
            </a:r>
            <a:br>
              <a:rPr sz="2000"/>
            </a:b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y(n) = x(n) + 3x(n + 4)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y(n) = x(n</a:t>
            </a:r>
            <a:r>
              <a:rPr b="0" i="1" lang="es-MX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y(n) = x(2n)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y(n) = x(-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349200" y="404640"/>
            <a:ext cx="8470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116e0"/>
                </a:solidFill>
                <a:latin typeface="Arial"/>
              </a:rPr>
              <a:t>Sistemas estables.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 sistema es estable en el sentido de entrada acotada y salida acotada.</a:t>
            </a:r>
            <a:br>
              <a:rPr sz="2400"/>
            </a:b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entrad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stá acotada si existe un valor finito positivo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al qu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|x(n)|  ≤ B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&lt; ∞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para todo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estabilidad requiere que para cualquier entrada acotada exista un valor finito positivo fijo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tal qu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|y(n)|  ≤ B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&lt; ∞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para todo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116e0"/>
                </a:solidFill>
                <a:latin typeface="Arial"/>
              </a:rPr>
              <a:t>Sistemas inestables.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Aquellos que no cumplen con las condiciones de e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5"/>
          <p:cNvSpPr/>
          <p:nvPr/>
        </p:nvSpPr>
        <p:spPr>
          <a:xfrm>
            <a:off x="45720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2. Sistemas lineales discretos e invariantes con el tiempo (LTI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57200" y="2203560"/>
            <a:ext cx="829152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os sistemas LTI son caracterizados en el dominio del tiempo por su respuesta al impulso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ualquier señal arbitraria se puede descomponer y representar como una suma ponderada de impulsos uni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s propiedades de linealidad e invarianza en el tiempo hacen que la respuesta del sistema a cualquier señal de entrada se pueda expresar en términos de su respuesta al impulso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5"/>
          <p:cNvSpPr/>
          <p:nvPr/>
        </p:nvSpPr>
        <p:spPr>
          <a:xfrm>
            <a:off x="277920" y="260280"/>
            <a:ext cx="8542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7c80"/>
                </a:solidFill>
                <a:latin typeface="Arial"/>
              </a:rPr>
              <a:t>Técnicas para el análisis de sist. line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116e0"/>
                </a:solidFill>
                <a:latin typeface="Arial"/>
              </a:rPr>
              <a:t>Método basado en la solución directa de la ecuación de entrada-salida para el sist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116e0"/>
                </a:solidFill>
                <a:latin typeface="Arial"/>
              </a:rPr>
              <a:t>Descomponiendo la señal de entrada en una suma de señales elementales.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s señales elementales se eligen de modo que la respuesta del sistema a cada componente de la señal se pueda determinar con facilidad. Debido a la linealidad del sistema, las respuestas se suman para tener la respuesta to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2"/>
              <p:cNvSpPr txBox="1"/>
              <p:nvPr/>
            </p:nvSpPr>
            <p:spPr>
              <a:xfrm>
                <a:off x="533520" y="2289240"/>
                <a:ext cx="80708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2279520" y="2847960"/>
                <a:ext cx="4597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6" name="Object 2"/>
              <p:cNvSpPr txBox="1"/>
              <p:nvPr/>
            </p:nvSpPr>
            <p:spPr>
              <a:xfrm>
                <a:off x="3479760" y="115920"/>
                <a:ext cx="2197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7" name="Text Box 6"/>
          <p:cNvSpPr/>
          <p:nvPr/>
        </p:nvSpPr>
        <p:spPr>
          <a:xfrm>
            <a:off x="840960" y="982800"/>
            <a:ext cx="690480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{c</a:t>
            </a:r>
            <a:r>
              <a:rPr b="0" i="1" lang="es-MX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es el conjunto de amplitudes o coeficientes ponder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{x</a:t>
            </a:r>
            <a:r>
              <a:rPr b="0" i="1" lang="es-MX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es el conjunto de señales ele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MX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(n)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es la respuesta a la señal elemental 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MX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3"/>
              <p:cNvSpPr txBox="1"/>
              <p:nvPr/>
            </p:nvSpPr>
            <p:spPr>
              <a:xfrm>
                <a:off x="3543480" y="2205000"/>
                <a:ext cx="20937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T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9" name="Text Box 8"/>
          <p:cNvSpPr/>
          <p:nvPr/>
        </p:nvSpPr>
        <p:spPr>
          <a:xfrm>
            <a:off x="397080" y="2924280"/>
            <a:ext cx="8225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sumiendo que el sistema está en reposo y que la respuesta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MX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MX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(n)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es 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MX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MX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(n)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or la propiedad de escalamiento, la respuesta total 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4"/>
              <p:cNvSpPr txBox="1"/>
              <p:nvPr/>
            </p:nvSpPr>
            <p:spPr>
              <a:xfrm>
                <a:off x="2598840" y="3591000"/>
                <a:ext cx="38811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T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5"/>
              <p:cNvSpPr txBox="1"/>
              <p:nvPr/>
            </p:nvSpPr>
            <p:spPr>
              <a:xfrm>
                <a:off x="3314880" y="4508640"/>
                <a:ext cx="25794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T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6"/>
              <p:cNvSpPr txBox="1"/>
              <p:nvPr/>
            </p:nvSpPr>
            <p:spPr>
              <a:xfrm>
                <a:off x="3441600" y="5229360"/>
                <a:ext cx="22478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3" name="Text Box 12"/>
          <p:cNvSpPr/>
          <p:nvPr/>
        </p:nvSpPr>
        <p:spPr>
          <a:xfrm>
            <a:off x="127800" y="6094440"/>
            <a:ext cx="8751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ota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Un sistema está en reposo en un tiempo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MX" sz="1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si la señal de salida 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y(t)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en el intervalo 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MX" sz="1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 ≤ t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está sola y unicamente determinada por la señal de entrada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x(t)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en el intervalo 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MX" sz="1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 ≤ t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para 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-∞ &lt; t</a:t>
            </a:r>
            <a:r>
              <a:rPr b="0" i="1" lang="es-MX" sz="1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5"/>
          <p:cNvSpPr/>
          <p:nvPr/>
        </p:nvSpPr>
        <p:spPr>
          <a:xfrm>
            <a:off x="299880" y="1557360"/>
            <a:ext cx="5280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una señal arbitraria </a:t>
            </a:r>
            <a:br>
              <a:rPr sz="2400"/>
            </a:b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 =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 - 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s el retardo del impulso uni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ultiplicando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(n - 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tene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(n - k) = x(k)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(n - 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a secuencia de ceros excepto </a:t>
            </a:r>
            <a:br>
              <a:rPr sz="2400"/>
            </a:b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uando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=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Repitiendo para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∞ &lt; k &lt; ∞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tene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6"/>
          <p:cNvSpPr/>
          <p:nvPr/>
        </p:nvSpPr>
        <p:spPr>
          <a:xfrm>
            <a:off x="250920" y="201600"/>
            <a:ext cx="857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7c80"/>
                </a:solidFill>
                <a:latin typeface="Arial"/>
              </a:rPr>
              <a:t>Representación de una señal discreta en impulsos uni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8" descr="The image “http://wiryana.pandu.org/artikel/dsp_01/dsp2_3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522760" y="1628640"/>
            <a:ext cx="3225960" cy="439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7" name="Object 2"/>
              <p:cNvSpPr txBox="1"/>
              <p:nvPr/>
            </p:nvSpPr>
            <p:spPr>
              <a:xfrm>
                <a:off x="1131840" y="5153040"/>
                <a:ext cx="28861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5"/>
          <p:cNvSpPr/>
          <p:nvPr/>
        </p:nvSpPr>
        <p:spPr>
          <a:xfrm>
            <a:off x="351000" y="260280"/>
            <a:ext cx="8397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7c80"/>
                </a:solidFill>
                <a:latin typeface="Arial"/>
              </a:rPr>
              <a:t>La respuesta de los sistemas LTI a entradas arbitrarias: </a:t>
            </a:r>
            <a:r>
              <a:rPr b="1" i="1" lang="es-MX" sz="3000" spc="-1" strike="noStrike">
                <a:solidFill>
                  <a:srgbClr val="ffff66"/>
                </a:solidFill>
                <a:latin typeface="Arial"/>
              </a:rPr>
              <a:t>La suma de convolució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n, 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la respuesta del sistema a un impulso unitario en</a:t>
            </a:r>
            <a:br>
              <a:rPr sz="2400"/>
            </a:b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instant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= k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para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∞ &lt; k &lt; ∞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 Esto 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, k) ≡ h(n, k) = T[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 - k)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escalamos el impulso a la entrada por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≡ x(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esto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n, k) = x(k) h(n, 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Y si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e expresa co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nemos finalmente que la respuesta del sistema 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3125880" y="4005360"/>
                <a:ext cx="28861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41400" y="5516640"/>
                <a:ext cx="906768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T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[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4572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312840" y="1628640"/>
            <a:ext cx="85071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9360" indent="-279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7c80"/>
                </a:solidFill>
                <a:latin typeface="Arial"/>
              </a:rPr>
              <a:t>Señales discretas en el tiem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x(n)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es una función de una variable independiente que es un ent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tas señales no están definidas en los instantes entre dos muestras suces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x(n) =  0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si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no es ent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uele asumirse que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el-GR" sz="3200" spc="-1" strike="noStrike">
                <a:solidFill>
                  <a:srgbClr val="ffffff"/>
                </a:solidFill>
                <a:latin typeface="Times New Roman"/>
              </a:rPr>
              <a:t>∞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 &lt; n &lt; 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5"/>
          <p:cNvSpPr/>
          <p:nvPr/>
        </p:nvSpPr>
        <p:spPr>
          <a:xfrm>
            <a:off x="351000" y="620640"/>
            <a:ext cx="8397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la respuesta del sistema LTI a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e denota como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sto 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n) ≡ T[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)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or la propiedad de invarianza, la respuesta a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- 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n - k) = T[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- k)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tonces tenemos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función de respuesta del sistema LTI se conoce como </a:t>
            </a:r>
            <a:r>
              <a:rPr b="0" i="1" lang="es-MX" sz="2400" spc="-1" strike="noStrike">
                <a:solidFill>
                  <a:srgbClr val="ff7c80"/>
                </a:solidFill>
                <a:latin typeface="Arial"/>
              </a:rPr>
              <a:t>suma de convolución</a:t>
            </a:r>
            <a:r>
              <a:rPr b="0" lang="es-MX" sz="2400" spc="-1" strike="noStrike">
                <a:solidFill>
                  <a:srgbClr val="ff7c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entrad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s “convolucionada” por la respuesta al impulso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para producir la salid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2700360" y="3500280"/>
            <a:ext cx="3672000" cy="936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2"/>
              <p:cNvSpPr txBox="1"/>
              <p:nvPr/>
            </p:nvSpPr>
            <p:spPr>
              <a:xfrm>
                <a:off x="3132000" y="3500280"/>
                <a:ext cx="288612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5"/>
          <p:cNvSpPr/>
          <p:nvPr/>
        </p:nvSpPr>
        <p:spPr>
          <a:xfrm>
            <a:off x="351000" y="404640"/>
            <a:ext cx="839772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116e0"/>
                </a:solidFill>
                <a:latin typeface="Arial"/>
              </a:rPr>
              <a:t>Análisis de la suma de convolu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seamos calcular la salida del sistema par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= n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enton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n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-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on funciones del índic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n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-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e multiplican entre si para producir una secuencia de produc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s la suma de los produ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n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-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e obtiene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reflejándola alrededor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k = 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produciendo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-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y luego desplazando en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2"/>
              <p:cNvSpPr txBox="1"/>
              <p:nvPr/>
            </p:nvSpPr>
            <p:spPr>
              <a:xfrm>
                <a:off x="3014640" y="1768320"/>
                <a:ext cx="311616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5"/>
          <p:cNvSpPr/>
          <p:nvPr/>
        </p:nvSpPr>
        <p:spPr>
          <a:xfrm>
            <a:off x="351000" y="477720"/>
            <a:ext cx="8397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99"/>
                </a:solidFill>
                <a:latin typeface="Arial"/>
              </a:rPr>
              <a:t>La suma de convolución involucra cuatro pas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Reflejo.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 reflej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alrededor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k = 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para tener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-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Desplazamiento.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e desplaz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-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a la derecha (izquierda) si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s positivo (negativo) para obtener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n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- 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Multiplicación.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 multiplic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n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-k)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ra tener la secuencia de productos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MX" sz="1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k) ≡ x(k)h(n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-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Suma.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 suman todos los valores de la secuencia de productos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MX" sz="1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para obtener el valor de la salida en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= n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nos interesa evaluar la respuesta del sistema para todos los instantes de tiempo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∞ &lt; n &lt; ∞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repetimos los pasos del 2 al 4 para todos los posibles desplazamientos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4" descr="20023"/>
          <p:cNvPicPr/>
          <p:nvPr/>
        </p:nvPicPr>
        <p:blipFill>
          <a:blip r:embed="rId1"/>
          <a:srcRect l="0" t="0" r="0" b="4982"/>
          <a:stretch/>
        </p:blipFill>
        <p:spPr>
          <a:xfrm>
            <a:off x="2082960" y="73080"/>
            <a:ext cx="49370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144360" y="18828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etermina la salida</a:t>
            </a: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 y(n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) de un sistema LTI con respuesta al impulso </a:t>
            </a: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h(n) = a</a:t>
            </a:r>
            <a:r>
              <a:rPr b="0" i="1" lang="es-MX" sz="1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u(n), </a:t>
            </a:r>
            <a:br>
              <a:rPr sz="1800"/>
            </a:b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|a| &lt; 1.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uando la entrada es la secuencia escalón unitario </a:t>
            </a: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x(n) = u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5" descr="20024"/>
          <p:cNvPicPr/>
          <p:nvPr/>
        </p:nvPicPr>
        <p:blipFill>
          <a:blip r:embed="rId1"/>
          <a:srcRect l="0" t="0" r="0" b="8987"/>
          <a:stretch/>
        </p:blipFill>
        <p:spPr>
          <a:xfrm>
            <a:off x="1403280" y="836640"/>
            <a:ext cx="623592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5"/>
          <p:cNvSpPr/>
          <p:nvPr/>
        </p:nvSpPr>
        <p:spPr>
          <a:xfrm>
            <a:off x="351000" y="404640"/>
            <a:ext cx="839772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116e0"/>
                </a:solidFill>
                <a:latin typeface="Arial"/>
              </a:rPr>
              <a:t>Propiedades de la convolu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7c80"/>
                </a:solidFill>
                <a:latin typeface="Arial"/>
              </a:rPr>
              <a:t>Conmutat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</a:t>
            </a:r>
            <a:r>
              <a:rPr b="0" i="1" lang="es-MX" sz="4000" spc="-1" strike="noStrike" baseline="-25000">
                <a:solidFill>
                  <a:srgbClr val="ffffff"/>
                </a:solidFill>
                <a:latin typeface="Times New Roman"/>
              </a:rPr>
              <a:t>*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n) = h(n)</a:t>
            </a:r>
            <a:r>
              <a:rPr b="0" i="1" lang="es-MX" sz="4000" spc="-1" strike="noStrike" baseline="-25000">
                <a:solidFill>
                  <a:srgbClr val="ffffff"/>
                </a:solidFill>
                <a:latin typeface="Times New Roman"/>
              </a:rPr>
              <a:t>*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7c80"/>
                </a:solidFill>
                <a:latin typeface="Arial"/>
              </a:rPr>
              <a:t>Asociativ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[x(n)</a:t>
            </a:r>
            <a:r>
              <a:rPr b="0" i="1" lang="es-MX" sz="4000" spc="-1" strike="noStrike" baseline="-25000">
                <a:solidFill>
                  <a:srgbClr val="ffffff"/>
                </a:solidFill>
                <a:latin typeface="Times New Roman"/>
              </a:rPr>
              <a:t>*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]</a:t>
            </a:r>
            <a:r>
              <a:rPr b="0" i="1" lang="es-MX" sz="4000" spc="-1" strike="noStrike" baseline="-25000">
                <a:solidFill>
                  <a:srgbClr val="ffffff"/>
                </a:solidFill>
                <a:latin typeface="Times New Roman"/>
              </a:rPr>
              <a:t>*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 = x(n)</a:t>
            </a:r>
            <a:r>
              <a:rPr b="0" i="1" lang="es-MX" sz="4000" spc="-1" strike="noStrike" baseline="-25000">
                <a:solidFill>
                  <a:srgbClr val="ffffff"/>
                </a:solidFill>
                <a:latin typeface="Times New Roman"/>
              </a:rPr>
              <a:t>*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[h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</a:t>
            </a:r>
            <a:r>
              <a:rPr b="0" i="1" lang="es-MX" sz="4000" spc="-1" strike="noStrike" baseline="-25000">
                <a:solidFill>
                  <a:srgbClr val="ffffff"/>
                </a:solidFill>
                <a:latin typeface="Times New Roman"/>
              </a:rPr>
              <a:t>*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2"/>
              <p:cNvSpPr txBox="1"/>
              <p:nvPr/>
            </p:nvSpPr>
            <p:spPr>
              <a:xfrm>
                <a:off x="2336760" y="760320"/>
                <a:ext cx="4468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2" name="Rectangle 7"/>
          <p:cNvSpPr/>
          <p:nvPr/>
        </p:nvSpPr>
        <p:spPr>
          <a:xfrm>
            <a:off x="2033640" y="2716200"/>
            <a:ext cx="936720" cy="503280"/>
          </a:xfrm>
          <a:prstGeom prst="rect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h(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8"/>
          <p:cNvSpPr/>
          <p:nvPr/>
        </p:nvSpPr>
        <p:spPr>
          <a:xfrm>
            <a:off x="1386000" y="30034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9"/>
          <p:cNvSpPr/>
          <p:nvPr/>
        </p:nvSpPr>
        <p:spPr>
          <a:xfrm>
            <a:off x="2970360" y="30034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Line 10"/>
          <p:cNvSpPr/>
          <p:nvPr/>
        </p:nvSpPr>
        <p:spPr>
          <a:xfrm>
            <a:off x="3833640" y="3003480"/>
            <a:ext cx="129564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1346040" y="25732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13"/>
          <p:cNvSpPr/>
          <p:nvPr/>
        </p:nvSpPr>
        <p:spPr>
          <a:xfrm>
            <a:off x="3035160" y="25671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14"/>
          <p:cNvSpPr/>
          <p:nvPr/>
        </p:nvSpPr>
        <p:spPr>
          <a:xfrm>
            <a:off x="6066000" y="2722680"/>
            <a:ext cx="936360" cy="503280"/>
          </a:xfrm>
          <a:prstGeom prst="rect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x(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15"/>
          <p:cNvSpPr/>
          <p:nvPr/>
        </p:nvSpPr>
        <p:spPr>
          <a:xfrm>
            <a:off x="5418000" y="300996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16"/>
          <p:cNvSpPr/>
          <p:nvPr/>
        </p:nvSpPr>
        <p:spPr>
          <a:xfrm>
            <a:off x="7002360" y="30099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17"/>
          <p:cNvSpPr/>
          <p:nvPr/>
        </p:nvSpPr>
        <p:spPr>
          <a:xfrm>
            <a:off x="5372280" y="25797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h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18"/>
          <p:cNvSpPr/>
          <p:nvPr/>
        </p:nvSpPr>
        <p:spPr>
          <a:xfrm>
            <a:off x="7067520" y="25732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19"/>
          <p:cNvSpPr/>
          <p:nvPr/>
        </p:nvSpPr>
        <p:spPr>
          <a:xfrm>
            <a:off x="2625840" y="4587840"/>
            <a:ext cx="936360" cy="503280"/>
          </a:xfrm>
          <a:prstGeom prst="rect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20"/>
          <p:cNvSpPr/>
          <p:nvPr/>
        </p:nvSpPr>
        <p:spPr>
          <a:xfrm>
            <a:off x="611280" y="48751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21"/>
          <p:cNvSpPr/>
          <p:nvPr/>
        </p:nvSpPr>
        <p:spPr>
          <a:xfrm>
            <a:off x="3635280" y="48751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22"/>
          <p:cNvSpPr/>
          <p:nvPr/>
        </p:nvSpPr>
        <p:spPr>
          <a:xfrm>
            <a:off x="4336920" y="4875120"/>
            <a:ext cx="129564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23"/>
          <p:cNvSpPr/>
          <p:nvPr/>
        </p:nvSpPr>
        <p:spPr>
          <a:xfrm>
            <a:off x="623880" y="44449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24"/>
          <p:cNvSpPr/>
          <p:nvPr/>
        </p:nvSpPr>
        <p:spPr>
          <a:xfrm>
            <a:off x="3720960" y="44388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25"/>
          <p:cNvSpPr/>
          <p:nvPr/>
        </p:nvSpPr>
        <p:spPr>
          <a:xfrm>
            <a:off x="6588000" y="4508640"/>
            <a:ext cx="1243080" cy="779400"/>
          </a:xfrm>
          <a:prstGeom prst="rect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h(n)=</a:t>
            </a:r>
            <a:br>
              <a:rPr sz="1600"/>
            </a:b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(n)</a:t>
            </a:r>
            <a:r>
              <a:rPr b="0" i="1" lang="es-MX" sz="2800" spc="-1" strike="noStrike" baseline="-25000">
                <a:solidFill>
                  <a:srgbClr val="ffffff"/>
                </a:solidFill>
                <a:latin typeface="Times New Roman"/>
              </a:rPr>
              <a:t>*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26"/>
          <p:cNvSpPr/>
          <p:nvPr/>
        </p:nvSpPr>
        <p:spPr>
          <a:xfrm>
            <a:off x="5921280" y="48816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7"/>
          <p:cNvSpPr/>
          <p:nvPr/>
        </p:nvSpPr>
        <p:spPr>
          <a:xfrm>
            <a:off x="7812000" y="48816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28"/>
          <p:cNvSpPr/>
          <p:nvPr/>
        </p:nvSpPr>
        <p:spPr>
          <a:xfrm>
            <a:off x="5881680" y="44514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29"/>
          <p:cNvSpPr/>
          <p:nvPr/>
        </p:nvSpPr>
        <p:spPr>
          <a:xfrm>
            <a:off x="8040600" y="44449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30"/>
          <p:cNvSpPr/>
          <p:nvPr/>
        </p:nvSpPr>
        <p:spPr>
          <a:xfrm>
            <a:off x="1258920" y="4581360"/>
            <a:ext cx="936720" cy="503280"/>
          </a:xfrm>
          <a:prstGeom prst="rect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31"/>
          <p:cNvSpPr/>
          <p:nvPr/>
        </p:nvSpPr>
        <p:spPr>
          <a:xfrm>
            <a:off x="2195640" y="48690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32"/>
          <p:cNvSpPr/>
          <p:nvPr/>
        </p:nvSpPr>
        <p:spPr>
          <a:xfrm>
            <a:off x="2212920" y="5740560"/>
            <a:ext cx="936720" cy="502920"/>
          </a:xfrm>
          <a:prstGeom prst="rect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33"/>
          <p:cNvSpPr/>
          <p:nvPr/>
        </p:nvSpPr>
        <p:spPr>
          <a:xfrm>
            <a:off x="198360" y="60278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34"/>
          <p:cNvSpPr/>
          <p:nvPr/>
        </p:nvSpPr>
        <p:spPr>
          <a:xfrm>
            <a:off x="3222720" y="60278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35"/>
          <p:cNvSpPr/>
          <p:nvPr/>
        </p:nvSpPr>
        <p:spPr>
          <a:xfrm>
            <a:off x="3924360" y="6027840"/>
            <a:ext cx="129528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36"/>
          <p:cNvSpPr/>
          <p:nvPr/>
        </p:nvSpPr>
        <p:spPr>
          <a:xfrm>
            <a:off x="210960" y="55976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37"/>
          <p:cNvSpPr/>
          <p:nvPr/>
        </p:nvSpPr>
        <p:spPr>
          <a:xfrm>
            <a:off x="3308040" y="55911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38"/>
          <p:cNvSpPr/>
          <p:nvPr/>
        </p:nvSpPr>
        <p:spPr>
          <a:xfrm>
            <a:off x="846000" y="5734080"/>
            <a:ext cx="936720" cy="503280"/>
          </a:xfrm>
          <a:prstGeom prst="rect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39"/>
          <p:cNvSpPr/>
          <p:nvPr/>
        </p:nvSpPr>
        <p:spPr>
          <a:xfrm>
            <a:off x="1782720" y="6021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40"/>
          <p:cNvSpPr/>
          <p:nvPr/>
        </p:nvSpPr>
        <p:spPr>
          <a:xfrm>
            <a:off x="7308720" y="5734080"/>
            <a:ext cx="936720" cy="503280"/>
          </a:xfrm>
          <a:prstGeom prst="rect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41"/>
          <p:cNvSpPr/>
          <p:nvPr/>
        </p:nvSpPr>
        <p:spPr>
          <a:xfrm>
            <a:off x="5294160" y="602136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42"/>
          <p:cNvSpPr/>
          <p:nvPr/>
        </p:nvSpPr>
        <p:spPr>
          <a:xfrm>
            <a:off x="5306760" y="55911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43"/>
          <p:cNvSpPr/>
          <p:nvPr/>
        </p:nvSpPr>
        <p:spPr>
          <a:xfrm>
            <a:off x="8404200" y="55846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44"/>
          <p:cNvSpPr/>
          <p:nvPr/>
        </p:nvSpPr>
        <p:spPr>
          <a:xfrm>
            <a:off x="5942160" y="5727600"/>
            <a:ext cx="936360" cy="503280"/>
          </a:xfrm>
          <a:prstGeom prst="rect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Line 45"/>
          <p:cNvSpPr/>
          <p:nvPr/>
        </p:nvSpPr>
        <p:spPr>
          <a:xfrm>
            <a:off x="6878520" y="601488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Object 3"/>
              <p:cNvSpPr txBox="1"/>
              <p:nvPr/>
            </p:nvSpPr>
            <p:spPr>
              <a:xfrm>
                <a:off x="5646600" y="1773360"/>
                <a:ext cx="28861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1" name="Line 47"/>
          <p:cNvSpPr/>
          <p:nvPr/>
        </p:nvSpPr>
        <p:spPr>
          <a:xfrm>
            <a:off x="4356000" y="2205000"/>
            <a:ext cx="863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5"/>
          <p:cNvSpPr/>
          <p:nvPr/>
        </p:nvSpPr>
        <p:spPr>
          <a:xfrm>
            <a:off x="647640" y="169560"/>
            <a:ext cx="7812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etermina la respuesta al impulso de la cascada de dos sistemas LTI con respuestas al impulso </a:t>
            </a: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(n) =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</a:t>
            </a:r>
            <a:r>
              <a:rPr b="0" i="1" lang="es-MX" sz="1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u(n) y h</a:t>
            </a:r>
            <a:r>
              <a:rPr b="0" i="1" lang="es-MX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(n) =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¼</a:t>
            </a:r>
            <a:r>
              <a:rPr b="0" i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(n)</a:t>
            </a: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3" name="Picture 6" descr="20026"/>
          <p:cNvPicPr/>
          <p:nvPr/>
        </p:nvPicPr>
        <p:blipFill>
          <a:blip r:embed="rId1"/>
          <a:srcRect l="0" t="-5094" r="0" b="69281"/>
          <a:stretch/>
        </p:blipFill>
        <p:spPr>
          <a:xfrm>
            <a:off x="919080" y="907920"/>
            <a:ext cx="73040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4"/>
          <p:cNvSpPr/>
          <p:nvPr/>
        </p:nvSpPr>
        <p:spPr>
          <a:xfrm>
            <a:off x="351000" y="404640"/>
            <a:ext cx="839772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7c80"/>
                </a:solidFill>
                <a:latin typeface="Arial"/>
              </a:rPr>
              <a:t>Distribu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</a:t>
            </a:r>
            <a:r>
              <a:rPr b="0" i="1" lang="es-MX" sz="4000" spc="-1" strike="noStrike" baseline="-25000">
                <a:solidFill>
                  <a:srgbClr val="ffffff"/>
                </a:solidFill>
                <a:latin typeface="Times New Roman"/>
              </a:rPr>
              <a:t>*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[h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+h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] = x(n)</a:t>
            </a:r>
            <a:r>
              <a:rPr b="0" i="1" lang="es-MX" sz="4000" spc="-1" strike="noStrike" baseline="-25000">
                <a:solidFill>
                  <a:srgbClr val="ffffff"/>
                </a:solidFill>
                <a:latin typeface="Times New Roman"/>
              </a:rPr>
              <a:t>*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+x(n)</a:t>
            </a:r>
            <a:r>
              <a:rPr b="0" i="1" lang="es-MX" sz="4000" spc="-1" strike="noStrike" baseline="-25000">
                <a:solidFill>
                  <a:srgbClr val="ffffff"/>
                </a:solidFill>
                <a:latin typeface="Times New Roman"/>
              </a:rPr>
              <a:t>*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11"/>
          <p:cNvSpPr/>
          <p:nvPr/>
        </p:nvSpPr>
        <p:spPr>
          <a:xfrm>
            <a:off x="2050920" y="2708280"/>
            <a:ext cx="936720" cy="503280"/>
          </a:xfrm>
          <a:prstGeom prst="rect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12"/>
          <p:cNvSpPr/>
          <p:nvPr/>
        </p:nvSpPr>
        <p:spPr>
          <a:xfrm>
            <a:off x="684360" y="249228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13"/>
          <p:cNvSpPr/>
          <p:nvPr/>
        </p:nvSpPr>
        <p:spPr>
          <a:xfrm>
            <a:off x="3565440" y="2511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4267080" y="2511360"/>
            <a:ext cx="129564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15"/>
          <p:cNvSpPr/>
          <p:nvPr/>
        </p:nvSpPr>
        <p:spPr>
          <a:xfrm>
            <a:off x="696600" y="2062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16"/>
          <p:cNvSpPr/>
          <p:nvPr/>
        </p:nvSpPr>
        <p:spPr>
          <a:xfrm>
            <a:off x="3651120" y="20750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17"/>
          <p:cNvSpPr/>
          <p:nvPr/>
        </p:nvSpPr>
        <p:spPr>
          <a:xfrm>
            <a:off x="6445080" y="2144880"/>
            <a:ext cx="1243080" cy="779400"/>
          </a:xfrm>
          <a:prstGeom prst="rect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h(n)=</a:t>
            </a:r>
            <a:br>
              <a:rPr sz="1600"/>
            </a:b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(n)+h</a:t>
            </a:r>
            <a:r>
              <a:rPr b="0" i="1" lang="es-MX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18"/>
          <p:cNvSpPr/>
          <p:nvPr/>
        </p:nvSpPr>
        <p:spPr>
          <a:xfrm>
            <a:off x="5778360" y="25178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19"/>
          <p:cNvSpPr/>
          <p:nvPr/>
        </p:nvSpPr>
        <p:spPr>
          <a:xfrm>
            <a:off x="7669080" y="25178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20"/>
          <p:cNvSpPr/>
          <p:nvPr/>
        </p:nvSpPr>
        <p:spPr>
          <a:xfrm>
            <a:off x="5738760" y="20876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21"/>
          <p:cNvSpPr/>
          <p:nvPr/>
        </p:nvSpPr>
        <p:spPr>
          <a:xfrm>
            <a:off x="7897680" y="20811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22"/>
          <p:cNvSpPr/>
          <p:nvPr/>
        </p:nvSpPr>
        <p:spPr>
          <a:xfrm>
            <a:off x="2050920" y="1773360"/>
            <a:ext cx="936720" cy="503280"/>
          </a:xfrm>
          <a:prstGeom prst="rect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1403280" y="2997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Line 25"/>
          <p:cNvSpPr/>
          <p:nvPr/>
        </p:nvSpPr>
        <p:spPr>
          <a:xfrm>
            <a:off x="1403280" y="1989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Line 26"/>
          <p:cNvSpPr/>
          <p:nvPr/>
        </p:nvSpPr>
        <p:spPr>
          <a:xfrm>
            <a:off x="1403280" y="198900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Oval 27"/>
          <p:cNvSpPr/>
          <p:nvPr/>
        </p:nvSpPr>
        <p:spPr>
          <a:xfrm>
            <a:off x="3274920" y="2349360"/>
            <a:ext cx="289080" cy="287640"/>
          </a:xfrm>
          <a:prstGeom prst="ellipse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29"/>
          <p:cNvSpPr/>
          <p:nvPr/>
        </p:nvSpPr>
        <p:spPr>
          <a:xfrm>
            <a:off x="2987640" y="1989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30"/>
          <p:cNvSpPr/>
          <p:nvPr/>
        </p:nvSpPr>
        <p:spPr>
          <a:xfrm>
            <a:off x="2987640" y="2997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31"/>
          <p:cNvSpPr/>
          <p:nvPr/>
        </p:nvSpPr>
        <p:spPr>
          <a:xfrm>
            <a:off x="3419640" y="198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Line 32"/>
          <p:cNvSpPr/>
          <p:nvPr/>
        </p:nvSpPr>
        <p:spPr>
          <a:xfrm flipV="1">
            <a:off x="3419640" y="2636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351000" y="260280"/>
            <a:ext cx="8397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7c80"/>
                </a:solidFill>
                <a:latin typeface="Arial"/>
              </a:rPr>
              <a:t>Sistemas LTI caus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stema causal es aquel que cuya salida en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pende solo de las entradas pasadas y pres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usal es una condición sobre la respuesta al impul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sidere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subdividimos la suma tenem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el sistema es causal y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= n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ntonces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n) = 0, n &lt; 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luimos que : </a:t>
            </a:r>
            <a:r>
              <a:rPr b="0" i="1" lang="es-MX" sz="2400" spc="-1" strike="noStrike">
                <a:solidFill>
                  <a:srgbClr val="a116e0"/>
                </a:solidFill>
                <a:latin typeface="Arial"/>
              </a:rPr>
              <a:t>Un sistema LTI es causal si y solo si su respuesta al impulso es cero para valores negativos de </a:t>
            </a:r>
            <a:r>
              <a:rPr b="0" i="1" lang="es-MX" sz="2400" spc="-1" strike="noStrike">
                <a:solidFill>
                  <a:srgbClr val="a116e0"/>
                </a:solidFill>
                <a:latin typeface="Times New Roman"/>
              </a:rPr>
              <a:t>n</a:t>
            </a:r>
            <a:r>
              <a:rPr b="0" i="1" lang="es-MX" sz="2400" spc="-1" strike="noStrike">
                <a:solidFill>
                  <a:srgbClr val="a116e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2"/>
              <p:cNvSpPr txBox="1"/>
              <p:nvPr/>
            </p:nvSpPr>
            <p:spPr>
              <a:xfrm>
                <a:off x="3013200" y="2060640"/>
                <a:ext cx="3114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3"/>
              <p:cNvSpPr txBox="1"/>
              <p:nvPr/>
            </p:nvSpPr>
            <p:spPr>
              <a:xfrm>
                <a:off x="1890720" y="3352680"/>
                <a:ext cx="53611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4"/>
              <p:cNvSpPr txBox="1"/>
              <p:nvPr/>
            </p:nvSpPr>
            <p:spPr>
              <a:xfrm>
                <a:off x="1692360" y="4292640"/>
                <a:ext cx="57452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d>
                        </m:e>
                      </m:mr>
                      <m:mr>
                        <m:e>
                          <m:r>
                            <m:t xml:space="preserve">+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9" name="Object 2"/>
              <p:cNvSpPr txBox="1"/>
              <p:nvPr/>
            </p:nvSpPr>
            <p:spPr>
              <a:xfrm>
                <a:off x="2043000" y="549360"/>
                <a:ext cx="50562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0" name="Rectangle 6"/>
          <p:cNvSpPr/>
          <p:nvPr/>
        </p:nvSpPr>
        <p:spPr>
          <a:xfrm>
            <a:off x="372960" y="1628640"/>
            <a:ext cx="839808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la entrada al sistema LTI causal es una secuencia causal (i.e.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 = 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par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&lt; 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) se restringen los límites de la suma de convolu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or lo tanto, la respuesta de un sistema causal a una secuencia de entrada causal es causal, es dec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 = 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par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&lt; 0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3"/>
              <p:cNvSpPr txBox="1"/>
              <p:nvPr/>
            </p:nvSpPr>
            <p:spPr>
              <a:xfrm>
                <a:off x="2076480" y="2852640"/>
                <a:ext cx="50054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6"/>
          <p:cNvSpPr/>
          <p:nvPr/>
        </p:nvSpPr>
        <p:spPr>
          <a:xfrm>
            <a:off x="312840" y="404640"/>
            <a:ext cx="85071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demás de la representación gráfica existen otras alternativ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presentación fun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presentación ta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presentación secuen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x(n) = {… 0, 0, 1, 4, 1, 0, 0, …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2"/>
              <p:cNvSpPr txBox="1"/>
              <p:nvPr/>
            </p:nvSpPr>
            <p:spPr>
              <a:xfrm>
                <a:off x="4759200" y="1422360"/>
                <a:ext cx="125280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4" name="Text Box 8"/>
          <p:cNvSpPr/>
          <p:nvPr/>
        </p:nvSpPr>
        <p:spPr>
          <a:xfrm>
            <a:off x="6060960" y="1504800"/>
            <a:ext cx="19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r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= 1,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r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=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otra man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2698920" y="3718080"/>
          <a:ext cx="5329080" cy="1079280"/>
        </p:xfrm>
        <a:graphic>
          <a:graphicData uri="http://schemas.openxmlformats.org/drawingml/2006/table">
            <a:tbl>
              <a:tblPr/>
              <a:tblGrid>
                <a:gridCol w="863280"/>
                <a:gridCol w="4465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 </a:t>
                      </a: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  -1  0  1  2  3  4  5 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(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  </a:t>
                      </a: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  0   0  1  4  1  0  0 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Line 26"/>
          <p:cNvSpPr/>
          <p:nvPr/>
        </p:nvSpPr>
        <p:spPr>
          <a:xfrm flipV="1">
            <a:off x="2627280" y="602136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4"/>
          <p:cNvSpPr/>
          <p:nvPr/>
        </p:nvSpPr>
        <p:spPr>
          <a:xfrm>
            <a:off x="351000" y="260280"/>
            <a:ext cx="8397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7c80"/>
                </a:solidFill>
                <a:latin typeface="Arial"/>
              </a:rPr>
              <a:t>Sistemas LTI es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finimos un sistema arbitrario relajado como estable BIBO si y solo si la secuencia de salid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stá acotada para toda entrada acotad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stá acotada, existe una constant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tal 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 modo similar, si la salida está acotada, existe una constant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tal 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nemos la fórmula de convol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omamos el valor absoluto de ambos lados de la fó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2"/>
              <p:cNvSpPr txBox="1"/>
              <p:nvPr/>
            </p:nvSpPr>
            <p:spPr>
              <a:xfrm>
                <a:off x="3586320" y="2421000"/>
                <a:ext cx="1966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3"/>
              <p:cNvSpPr txBox="1"/>
              <p:nvPr/>
            </p:nvSpPr>
            <p:spPr>
              <a:xfrm>
                <a:off x="3556080" y="3638520"/>
                <a:ext cx="19922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Object 4"/>
              <p:cNvSpPr txBox="1"/>
              <p:nvPr/>
            </p:nvSpPr>
            <p:spPr>
              <a:xfrm>
                <a:off x="3127320" y="4508640"/>
                <a:ext cx="2884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5"/>
              <p:cNvSpPr txBox="1"/>
              <p:nvPr/>
            </p:nvSpPr>
            <p:spPr>
              <a:xfrm>
                <a:off x="3043080" y="5661000"/>
                <a:ext cx="30639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4"/>
          <p:cNvSpPr/>
          <p:nvPr/>
        </p:nvSpPr>
        <p:spPr>
          <a:xfrm>
            <a:off x="351000" y="260280"/>
            <a:ext cx="8469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valor absoluto de la suma de los términos es siempre menor o igual a la suma de sus valores absolu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la entrada está acotada, existe un número finito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tal qu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|x(n)| ≤ M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 Sustituyendo la cota superior par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tene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Vemos que la salida está acotada si la respuesta al impulso del sistema satis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a116e0"/>
                </a:solidFill>
                <a:latin typeface="Arial"/>
              </a:rPr>
              <a:t>Un sistema LTI es estable si su respuesta al impulso es absolutamente sum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sta condición no es suficiente pero si necesaria para asegurar la estabilidad del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3005280" y="1077840"/>
                <a:ext cx="31399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Object 3"/>
              <p:cNvSpPr txBox="1"/>
              <p:nvPr/>
            </p:nvSpPr>
            <p:spPr>
              <a:xfrm>
                <a:off x="3306600" y="2708280"/>
                <a:ext cx="2502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4"/>
              <p:cNvSpPr txBox="1"/>
              <p:nvPr/>
            </p:nvSpPr>
            <p:spPr>
              <a:xfrm>
                <a:off x="3408480" y="4221000"/>
                <a:ext cx="227304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351000" y="260280"/>
            <a:ext cx="8397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7c80"/>
                </a:solidFill>
                <a:latin typeface="Arial"/>
              </a:rPr>
              <a:t>Sistemas con respuesta al impulso de duración finita e infin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os sistemas LTI se clasifican en 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 respuesta finita al impulso (FI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 respuesta infinita al impulso (II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 sistema FIR tiene una respuesta al impulso de cero fuera de un intervalo de tiempo finito. En el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n) = 0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&lt; 0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≥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Y la fórmula de convolución se reduce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sistema actúa como una ventana que solo ve las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muestras más recientes de entrada al formar la sal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2"/>
              <p:cNvSpPr txBox="1"/>
              <p:nvPr/>
            </p:nvSpPr>
            <p:spPr>
              <a:xfrm>
                <a:off x="3152880" y="4508640"/>
                <a:ext cx="2833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351000" y="765000"/>
            <a:ext cx="84690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os sistemas LTI IIR tienen una respuesta al impulso de duración infinita. Su salida basada en la convolución se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odemos decir que un sistema FIR tiene memoria finita de tamaño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mientras un sistema IIR tiene memoria infini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2"/>
              <p:cNvSpPr txBox="1"/>
              <p:nvPr/>
            </p:nvSpPr>
            <p:spPr>
              <a:xfrm>
                <a:off x="3154320" y="1768320"/>
                <a:ext cx="283356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5"/>
          <p:cNvSpPr/>
          <p:nvPr/>
        </p:nvSpPr>
        <p:spPr>
          <a:xfrm>
            <a:off x="45720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3. Descripción de un sistema por medio de su ecuación diferenci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6"/>
          <p:cNvSpPr/>
          <p:nvPr/>
        </p:nvSpPr>
        <p:spPr>
          <a:xfrm>
            <a:off x="457200" y="1916280"/>
            <a:ext cx="82915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351000" y="1773360"/>
            <a:ext cx="8469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os sistemas LTI se caracterizan por su respuesta al impulso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que les permite determinar su salid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dada una secuencia de entrad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a través de la convolu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os FIR involucran sumas, productos y memoria finita para realizar la convolución, mientras los IIR hacen imposible su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ra realizar sistemas IIR se emplean ecuaciones diferenciales, y son útiles para el desarrollo de filtros, modelado de fenómenos físicos y sistemas fís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Object 2"/>
              <p:cNvSpPr txBox="1"/>
              <p:nvPr/>
            </p:nvSpPr>
            <p:spPr>
              <a:xfrm>
                <a:off x="3129120" y="3137040"/>
                <a:ext cx="28843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4"/>
          <p:cNvSpPr/>
          <p:nvPr/>
        </p:nvSpPr>
        <p:spPr>
          <a:xfrm>
            <a:off x="351000" y="260280"/>
            <a:ext cx="8397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7c80"/>
                </a:solidFill>
                <a:latin typeface="Arial"/>
              </a:rPr>
              <a:t>Sistemas discretos recursivos y no recur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 ocasiones es deseable expresar la salida en términos de los valores pasados de la salida mis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jemplo, calcular el promedio acumulado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n el intervalo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0 ≤ k ≤ 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 requiere almacenar todas las muestra de entrad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par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0 ≤ k ≤ 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 Donde si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crece, requerimos más memo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Object 2"/>
              <p:cNvSpPr txBox="1"/>
              <p:nvPr/>
            </p:nvSpPr>
            <p:spPr>
              <a:xfrm>
                <a:off x="3332160" y="2565360"/>
                <a:ext cx="24764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3"/>
              <p:cNvSpPr txBox="1"/>
              <p:nvPr/>
            </p:nvSpPr>
            <p:spPr>
              <a:xfrm>
                <a:off x="1816200" y="4648320"/>
                <a:ext cx="55404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4"/>
              <p:cNvSpPr txBox="1"/>
              <p:nvPr/>
            </p:nvSpPr>
            <p:spPr>
              <a:xfrm>
                <a:off x="2633760" y="5446800"/>
                <a:ext cx="39052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3" name="Rectangle 9"/>
          <p:cNvSpPr/>
          <p:nvPr/>
        </p:nvSpPr>
        <p:spPr>
          <a:xfrm>
            <a:off x="468360" y="6165720"/>
            <a:ext cx="7497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e calcula recursiva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0"/>
          <p:cNvSpPr/>
          <p:nvPr/>
        </p:nvSpPr>
        <p:spPr>
          <a:xfrm>
            <a:off x="331200" y="4292640"/>
            <a:ext cx="57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Rearreglando algebraicamente tenem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5"/>
          <p:cNvSpPr/>
          <p:nvPr/>
        </p:nvSpPr>
        <p:spPr>
          <a:xfrm>
            <a:off x="336600" y="2536920"/>
            <a:ext cx="846936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ste es un ejemplo de un </a:t>
            </a:r>
            <a:r>
              <a:rPr b="0" i="1" lang="es-MX" sz="2400" spc="-1" strike="noStrike">
                <a:solidFill>
                  <a:srgbClr val="a116e0"/>
                </a:solidFill>
                <a:latin typeface="Arial"/>
              </a:rPr>
              <a:t>sistema recursiv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 En general, un sistema cuya salid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depende de valores de salida pasados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-1), y(n-2),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s llamado sistema recur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= n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el tene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Y el témino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-1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s llamado </a:t>
            </a:r>
            <a:r>
              <a:rPr b="0" i="1" lang="es-MX" sz="2400" spc="-1" strike="noStrike">
                <a:solidFill>
                  <a:srgbClr val="a116e0"/>
                </a:solidFill>
                <a:latin typeface="Arial"/>
              </a:rPr>
              <a:t>condición inicial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Oval 6"/>
          <p:cNvSpPr/>
          <p:nvPr/>
        </p:nvSpPr>
        <p:spPr>
          <a:xfrm>
            <a:off x="2556000" y="404640"/>
            <a:ext cx="431640" cy="432000"/>
          </a:xfrm>
          <a:prstGeom prst="ellipse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Oval 7"/>
          <p:cNvSpPr/>
          <p:nvPr/>
        </p:nvSpPr>
        <p:spPr>
          <a:xfrm>
            <a:off x="3348000" y="1197000"/>
            <a:ext cx="432000" cy="431640"/>
          </a:xfrm>
          <a:prstGeom prst="ellipse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8"/>
          <p:cNvSpPr/>
          <p:nvPr/>
        </p:nvSpPr>
        <p:spPr>
          <a:xfrm>
            <a:off x="5219640" y="404640"/>
            <a:ext cx="432000" cy="432000"/>
          </a:xfrm>
          <a:prstGeom prst="ellipse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4572000" y="1197000"/>
            <a:ext cx="576360" cy="503280"/>
          </a:xfrm>
          <a:prstGeom prst="rect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1" i="1" lang="es-MX" sz="1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11"/>
          <p:cNvSpPr/>
          <p:nvPr/>
        </p:nvSpPr>
        <p:spPr>
          <a:xfrm>
            <a:off x="1547640" y="620640"/>
            <a:ext cx="1008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12"/>
          <p:cNvSpPr/>
          <p:nvPr/>
        </p:nvSpPr>
        <p:spPr>
          <a:xfrm>
            <a:off x="2987640" y="620640"/>
            <a:ext cx="223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13"/>
          <p:cNvSpPr/>
          <p:nvPr/>
        </p:nvSpPr>
        <p:spPr>
          <a:xfrm>
            <a:off x="5651640" y="620640"/>
            <a:ext cx="115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14"/>
          <p:cNvSpPr/>
          <p:nvPr/>
        </p:nvSpPr>
        <p:spPr>
          <a:xfrm>
            <a:off x="3780000" y="141300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15"/>
          <p:cNvSpPr/>
          <p:nvPr/>
        </p:nvSpPr>
        <p:spPr>
          <a:xfrm>
            <a:off x="5148360" y="141300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16"/>
          <p:cNvSpPr/>
          <p:nvPr/>
        </p:nvSpPr>
        <p:spPr>
          <a:xfrm flipV="1">
            <a:off x="6443640" y="620280"/>
            <a:ext cx="0" cy="79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18"/>
          <p:cNvSpPr/>
          <p:nvPr/>
        </p:nvSpPr>
        <p:spPr>
          <a:xfrm flipV="1">
            <a:off x="2771640" y="83628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19"/>
          <p:cNvSpPr/>
          <p:nvPr/>
        </p:nvSpPr>
        <p:spPr>
          <a:xfrm flipH="1">
            <a:off x="2771280" y="141300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24"/>
          <p:cNvSpPr/>
          <p:nvPr/>
        </p:nvSpPr>
        <p:spPr>
          <a:xfrm>
            <a:off x="959040" y="4064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25"/>
          <p:cNvSpPr/>
          <p:nvPr/>
        </p:nvSpPr>
        <p:spPr>
          <a:xfrm>
            <a:off x="6869160" y="3999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26"/>
          <p:cNvSpPr/>
          <p:nvPr/>
        </p:nvSpPr>
        <p:spPr>
          <a:xfrm flipV="1">
            <a:off x="5435640" y="83628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27"/>
          <p:cNvSpPr/>
          <p:nvPr/>
        </p:nvSpPr>
        <p:spPr>
          <a:xfrm flipV="1">
            <a:off x="3564000" y="162828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28"/>
          <p:cNvSpPr/>
          <p:nvPr/>
        </p:nvSpPr>
        <p:spPr>
          <a:xfrm>
            <a:off x="3248280" y="1911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29"/>
          <p:cNvSpPr/>
          <p:nvPr/>
        </p:nvSpPr>
        <p:spPr>
          <a:xfrm>
            <a:off x="5458320" y="90972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Times New Roman"/>
              </a:rPr>
              <a:t>1/(n+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2"/>
              <p:cNvSpPr txBox="1"/>
              <p:nvPr/>
            </p:nvSpPr>
            <p:spPr>
              <a:xfrm>
                <a:off x="3633840" y="3933720"/>
                <a:ext cx="44672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6"/>
          <p:cNvSpPr/>
          <p:nvPr/>
        </p:nvSpPr>
        <p:spPr>
          <a:xfrm>
            <a:off x="336600" y="404640"/>
            <a:ext cx="846936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 sistema recursivo que depende de las salidas pasadas es 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causal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y puede expresarse co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[</a:t>
            </a:r>
            <a:r>
              <a:rPr b="1" i="1" lang="es-MX" sz="24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denota una función con sus argum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 contraste, si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olo depende de sus entradas presentes y pasadas, esto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icho sistema es llamado </a:t>
            </a:r>
            <a:r>
              <a:rPr b="0" i="1" lang="es-MX" sz="2400" spc="-1" strike="noStrike">
                <a:solidFill>
                  <a:srgbClr val="a116e0"/>
                </a:solidFill>
                <a:latin typeface="Arial"/>
              </a:rPr>
              <a:t>no recursiv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 sistema recursivo debe calcular la salida en orden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[y(0), y(1), y(2),…],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mientras un sistema no recursivo no requiere de orden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200), y(15), y(3), etc.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Object 2"/>
              <p:cNvSpPr txBox="1"/>
              <p:nvPr/>
            </p:nvSpPr>
            <p:spPr>
              <a:xfrm>
                <a:off x="542880" y="1482840"/>
                <a:ext cx="79898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Object 3"/>
              <p:cNvSpPr txBox="1"/>
              <p:nvPr/>
            </p:nvSpPr>
            <p:spPr>
              <a:xfrm>
                <a:off x="2341440" y="4003560"/>
                <a:ext cx="43912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5"/>
          <p:cNvSpPr/>
          <p:nvPr/>
        </p:nvSpPr>
        <p:spPr>
          <a:xfrm>
            <a:off x="351000" y="260280"/>
            <a:ext cx="8397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7c80"/>
                </a:solidFill>
                <a:latin typeface="Arial"/>
              </a:rPr>
              <a:t>Sistemas LTI caracterizados por ecuaciones diferenciales con coeficientes const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stos sistemas son una subclase de los sistemas recursivos y no recurs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pongamos el sistema recursiv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s una co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deseamos calcular la salid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y asumimos la existencia de una condición inicial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-1)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tenemos par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≥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Object 2"/>
              <p:cNvSpPr txBox="1"/>
              <p:nvPr/>
            </p:nvSpPr>
            <p:spPr>
              <a:xfrm>
                <a:off x="1258920" y="3308400"/>
                <a:ext cx="2782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0" name="Group 26"/>
          <p:cNvGrpSpPr/>
          <p:nvPr/>
        </p:nvGrpSpPr>
        <p:grpSpPr>
          <a:xfrm>
            <a:off x="5219640" y="2567160"/>
            <a:ext cx="3462120" cy="1438200"/>
            <a:chOff x="5219640" y="2567160"/>
            <a:chExt cx="3462120" cy="1438200"/>
          </a:xfrm>
        </p:grpSpPr>
        <p:sp>
          <p:nvSpPr>
            <p:cNvPr id="681" name="Oval 7"/>
            <p:cNvSpPr/>
            <p:nvPr/>
          </p:nvSpPr>
          <p:spPr>
            <a:xfrm>
              <a:off x="6012000" y="2716200"/>
              <a:ext cx="431640" cy="432000"/>
            </a:xfrm>
            <a:prstGeom prst="ellipse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10"/>
            <p:cNvSpPr/>
            <p:nvPr/>
          </p:nvSpPr>
          <p:spPr>
            <a:xfrm>
              <a:off x="6804000" y="3502080"/>
              <a:ext cx="576360" cy="50328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1" lang="es-MX" sz="18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Line 11"/>
            <p:cNvSpPr/>
            <p:nvPr/>
          </p:nvSpPr>
          <p:spPr>
            <a:xfrm>
              <a:off x="5219640" y="2925720"/>
              <a:ext cx="792360" cy="6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Line 12"/>
            <p:cNvSpPr/>
            <p:nvPr/>
          </p:nvSpPr>
          <p:spPr>
            <a:xfrm>
              <a:off x="6443640" y="2932200"/>
              <a:ext cx="22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Line 15"/>
            <p:cNvSpPr/>
            <p:nvPr/>
          </p:nvSpPr>
          <p:spPr>
            <a:xfrm flipV="1">
              <a:off x="7380360" y="3717720"/>
              <a:ext cx="503280" cy="6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Line 16"/>
            <p:cNvSpPr/>
            <p:nvPr/>
          </p:nvSpPr>
          <p:spPr>
            <a:xfrm flipV="1">
              <a:off x="7883640" y="2932200"/>
              <a:ext cx="0" cy="79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Line 17"/>
            <p:cNvSpPr/>
            <p:nvPr/>
          </p:nvSpPr>
          <p:spPr>
            <a:xfrm flipV="1">
              <a:off x="6227640" y="3148200"/>
              <a:ext cx="0" cy="57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Line 18"/>
            <p:cNvSpPr/>
            <p:nvPr/>
          </p:nvSpPr>
          <p:spPr>
            <a:xfrm flipH="1">
              <a:off x="6227280" y="3724200"/>
              <a:ext cx="576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278680" y="25671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ffffff"/>
                  </a:solidFill>
                  <a:latin typeface="Times New Roman"/>
                </a:rPr>
                <a:t>x(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Text Box 20"/>
            <p:cNvSpPr/>
            <p:nvPr/>
          </p:nvSpPr>
          <p:spPr>
            <a:xfrm>
              <a:off x="8120160" y="256716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ffffff"/>
                  </a:solidFill>
                  <a:latin typeface="Times New Roman"/>
                </a:rPr>
                <a:t>y(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Text Box 25"/>
            <p:cNvSpPr/>
            <p:nvPr/>
          </p:nvSpPr>
          <p:spPr>
            <a:xfrm>
              <a:off x="6354720" y="3359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2" name="Object 3"/>
              <p:cNvSpPr txBox="1"/>
              <p:nvPr/>
            </p:nvSpPr>
            <p:spPr>
              <a:xfrm>
                <a:off x="2557440" y="5226120"/>
                <a:ext cx="39830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3" name="AutoShape 28"/>
          <p:cNvSpPr/>
          <p:nvPr/>
        </p:nvSpPr>
        <p:spPr>
          <a:xfrm rot="3082200">
            <a:off x="6284520" y="3641400"/>
            <a:ext cx="234720" cy="203400"/>
          </a:xfrm>
          <a:prstGeom prst="rtTriangle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4"/>
          <p:cNvSpPr/>
          <p:nvPr/>
        </p:nvSpPr>
        <p:spPr>
          <a:xfrm>
            <a:off x="336600" y="404640"/>
            <a:ext cx="846936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el sistema está relajado en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= 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entonces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-1) = 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y el sistema recursivo inicia </a:t>
            </a:r>
            <a:r>
              <a:rPr b="0" lang="es-MX" sz="2400" spc="-1" strike="noStrike">
                <a:solidFill>
                  <a:srgbClr val="ffcc99"/>
                </a:solidFill>
                <a:latin typeface="Arial"/>
              </a:rPr>
              <a:t>sin condiciones iniciales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 dice entonces que el sistema se halla en estado cero y su salida es una </a:t>
            </a:r>
            <a:r>
              <a:rPr b="0" i="1" lang="es-MX" sz="2400" spc="-1" strike="noStrike">
                <a:solidFill>
                  <a:srgbClr val="a116e0"/>
                </a:solidFill>
                <a:latin typeface="Arial"/>
              </a:rPr>
              <a:t>respuesta forzada o de estado cer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sz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ual es una suma de convolución don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e convoluciona con la respuesta al impul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el sistema inicalmente no está relajado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-1)≠0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i="1" lang="es-MX" sz="2400" spc="-1" strike="noStrike">
                <a:solidFill>
                  <a:srgbClr val="ffcc99"/>
                </a:solidFill>
                <a:latin typeface="Times New Roman"/>
              </a:rPr>
              <a:t>x(n) = 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para tod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 La salida del sistema con entrada cero es llamada </a:t>
            </a:r>
            <a:r>
              <a:rPr b="0" i="1" lang="es-MX" sz="2400" spc="-1" strike="noStrike">
                <a:solidFill>
                  <a:srgbClr val="a116e0"/>
                </a:solidFill>
                <a:latin typeface="Arial"/>
              </a:rPr>
              <a:t>respuesta natural, libre o de entrada cer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zi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r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 = 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-∞ &lt; n &lt; ∞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tenemos par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≥ 0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2"/>
              <p:cNvSpPr txBox="1"/>
              <p:nvPr/>
            </p:nvSpPr>
            <p:spPr>
              <a:xfrm>
                <a:off x="3192480" y="2060640"/>
                <a:ext cx="27576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3"/>
              <p:cNvSpPr txBox="1"/>
              <p:nvPr/>
            </p:nvSpPr>
            <p:spPr>
              <a:xfrm>
                <a:off x="3699000" y="3716280"/>
                <a:ext cx="17366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4"/>
              <p:cNvSpPr txBox="1"/>
              <p:nvPr/>
            </p:nvSpPr>
            <p:spPr>
              <a:xfrm>
                <a:off x="3433680" y="5921280"/>
                <a:ext cx="2271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6"/>
          <p:cNvSpPr/>
          <p:nvPr/>
        </p:nvSpPr>
        <p:spPr>
          <a:xfrm>
            <a:off x="250920" y="260280"/>
            <a:ext cx="8507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9360" indent="-279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7c80"/>
                </a:solidFill>
                <a:latin typeface="Arial"/>
              </a:rPr>
              <a:t>Algunas señales discretas element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secuencia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 muestra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 impulso unitario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δ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señal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 escalón unitario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u(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señal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 rampa unitaria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MX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señal 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exponencial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x(n) = a</a:t>
            </a:r>
            <a:r>
              <a:rPr b="0" i="1" lang="es-MX" sz="2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12" descr="The image “http://wiryana.pandu.org/artikel/dsp_01/dsp2_5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6329520" y="2066760"/>
            <a:ext cx="2419200" cy="13622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The image “http://wiryana.pandu.org/artikel/dsp_01/dsp2_4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900000" y="5022720"/>
            <a:ext cx="3143520" cy="1285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6" descr="Unit Sample Sequence"/>
          <p:cNvPicPr/>
          <p:nvPr/>
        </p:nvPicPr>
        <p:blipFill>
          <a:blip r:embed="rId3"/>
          <a:stretch/>
        </p:blipFill>
        <p:spPr>
          <a:xfrm>
            <a:off x="1227240" y="3191040"/>
            <a:ext cx="2552760" cy="139032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25"/>
          <p:cNvGrpSpPr/>
          <p:nvPr/>
        </p:nvGrpSpPr>
        <p:grpSpPr>
          <a:xfrm>
            <a:off x="4811760" y="3840120"/>
            <a:ext cx="3936960" cy="2397240"/>
            <a:chOff x="4811760" y="3840120"/>
            <a:chExt cx="3936960" cy="2397240"/>
          </a:xfrm>
        </p:grpSpPr>
        <p:pic>
          <p:nvPicPr>
            <p:cNvPr id="512" name="Picture 20" descr="The image “http://www.zoology.ubc.ca/~bio301/Bio301/Lectures/Lecture4/Fig1.jpg” cannot be displayed, because it contains errors."/>
            <p:cNvPicPr/>
            <p:nvPr/>
          </p:nvPicPr>
          <p:blipFill>
            <a:blip r:embed="rId4"/>
            <a:srcRect l="5921" t="0" r="0" b="7463"/>
            <a:stretch/>
          </p:blipFill>
          <p:spPr>
            <a:xfrm>
              <a:off x="4811760" y="3840120"/>
              <a:ext cx="3936960" cy="23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Line 21"/>
            <p:cNvSpPr/>
            <p:nvPr/>
          </p:nvSpPr>
          <p:spPr>
            <a:xfrm flipV="1">
              <a:off x="8604000" y="414936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22"/>
            <p:cNvSpPr/>
            <p:nvPr/>
          </p:nvSpPr>
          <p:spPr>
            <a:xfrm flipV="1">
              <a:off x="7956360" y="5013360"/>
              <a:ext cx="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23"/>
            <p:cNvSpPr/>
            <p:nvPr/>
          </p:nvSpPr>
          <p:spPr>
            <a:xfrm flipV="1">
              <a:off x="7235640" y="558936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24"/>
            <p:cNvSpPr/>
            <p:nvPr/>
          </p:nvSpPr>
          <p:spPr>
            <a:xfrm flipV="1">
              <a:off x="6588000" y="587664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4"/>
          <p:cNvSpPr/>
          <p:nvPr/>
        </p:nvSpPr>
        <p:spPr>
          <a:xfrm>
            <a:off x="250920" y="404640"/>
            <a:ext cx="862812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ton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 sistema con </a:t>
            </a:r>
            <a:r>
              <a:rPr b="0" lang="es-MX" sz="2400" spc="-1" strike="noStrike">
                <a:solidFill>
                  <a:srgbClr val="ffcc99"/>
                </a:solidFill>
                <a:latin typeface="Arial"/>
              </a:rPr>
              <a:t>respuesta forzad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o de </a:t>
            </a:r>
            <a:r>
              <a:rPr b="0" lang="es-MX" sz="2400" spc="-1" strike="noStrike">
                <a:solidFill>
                  <a:srgbClr val="ffcc99"/>
                </a:solidFill>
                <a:latin typeface="Arial"/>
              </a:rPr>
              <a:t>estado cer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depende de la naturaleza del sistema y de la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señal de entrad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 sistema con </a:t>
            </a:r>
            <a:r>
              <a:rPr b="0" lang="es-MX" sz="2400" spc="-1" strike="noStrike">
                <a:solidFill>
                  <a:srgbClr val="ffcc99"/>
                </a:solidFill>
                <a:latin typeface="Arial"/>
              </a:rPr>
              <a:t>respuesta natural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o  de </a:t>
            </a:r>
            <a:r>
              <a:rPr b="0" lang="es-MX" sz="2400" spc="-1" strike="noStrike">
                <a:solidFill>
                  <a:srgbClr val="ffcc99"/>
                </a:solidFill>
                <a:latin typeface="Arial"/>
              </a:rPr>
              <a:t>entrada cer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depende de la naturaleza del sistema y de la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condición inicial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 general, la respuesta total del sistema se expresa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MX" sz="2400" spc="-1" strike="noStrike">
                <a:solidFill>
                  <a:srgbClr val="a116e0"/>
                </a:solidFill>
                <a:latin typeface="Arial"/>
              </a:rPr>
              <a:t>forma general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de un sistema recursivo descrito por ecuaciones diferenciales lineales con coeficientes constantes 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Object 2"/>
              <p:cNvSpPr txBox="1"/>
              <p:nvPr/>
            </p:nvSpPr>
            <p:spPr>
              <a:xfrm>
                <a:off x="2943360" y="3041640"/>
                <a:ext cx="3141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Object 3"/>
              <p:cNvSpPr txBox="1"/>
              <p:nvPr/>
            </p:nvSpPr>
            <p:spPr>
              <a:xfrm>
                <a:off x="2246400" y="4638600"/>
                <a:ext cx="45972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Object 4"/>
              <p:cNvSpPr txBox="1"/>
              <p:nvPr/>
            </p:nvSpPr>
            <p:spPr>
              <a:xfrm>
                <a:off x="2293920" y="5586480"/>
                <a:ext cx="45464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nary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≡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4"/>
          <p:cNvSpPr/>
          <p:nvPr/>
        </p:nvSpPr>
        <p:spPr>
          <a:xfrm>
            <a:off x="336600" y="404640"/>
            <a:ext cx="846936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 sistema es lineal si satisfa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respuesta total es igual a la suma de las respuestas de entrada cero y estado c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principio de superposición es aplicable a la respuesta de estado cero: </a:t>
            </a:r>
            <a:r>
              <a:rPr b="0" i="1" lang="es-MX" sz="2400" spc="-1" strike="noStrike">
                <a:solidFill>
                  <a:srgbClr val="ffcc99"/>
                </a:solidFill>
                <a:latin typeface="Arial"/>
              </a:rPr>
              <a:t>Estado cero lineal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principio de superposición es aplicable a la respuesta de entrada cero: </a:t>
            </a:r>
            <a:r>
              <a:rPr b="0" i="1" lang="es-MX" sz="2400" spc="-1" strike="noStrike">
                <a:solidFill>
                  <a:srgbClr val="ffcc99"/>
                </a:solidFill>
                <a:latin typeface="Arial"/>
              </a:rPr>
              <a:t>Entrada cero lineal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 sistema recursivo descrito por ecuaciones diferenciales lineales con coeficientes constantes es lineal e invariante en el tiemp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stos sistemas son estables si y solo si para toda entrada y condición inicial acotadas, la respuesta total del sistema está acot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5"/>
          <p:cNvSpPr/>
          <p:nvPr/>
        </p:nvSpPr>
        <p:spPr>
          <a:xfrm>
            <a:off x="351000" y="620640"/>
            <a:ext cx="8397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7c80"/>
                </a:solidFill>
                <a:latin typeface="Arial"/>
              </a:rPr>
              <a:t>Solución a ecuaciones diferenciales con coeficientes constantes (edc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ada una edcc como la relación de entrada-salida de un sistema LTI, el objetivo es determinar una expresión explícita para la salid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étodo dir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étodo indirecto (Transformada 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étodo directo asum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 = y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 + y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s la solución complementaria u homoge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s la solución particu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351000" y="620640"/>
            <a:ext cx="8397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116e0"/>
                </a:solidFill>
                <a:latin typeface="Arial"/>
              </a:rPr>
              <a:t>La solución homogen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sumimos </a:t>
            </a:r>
            <a:r>
              <a:rPr b="0" i="1" lang="es-MX" sz="2400" spc="-1" strike="noStrike">
                <a:solidFill>
                  <a:srgbClr val="ff7c80"/>
                </a:solidFill>
                <a:latin typeface="Times New Roman"/>
              </a:rPr>
              <a:t>x(n) = 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para obtener la solución a la 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ecuación diferencial homogene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ponemos que la solución es exponen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 =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λ</a:t>
            </a:r>
            <a:r>
              <a:rPr b="0" i="1" lang="es-MX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nemos ahora la ecuación exponen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2"/>
              <p:cNvSpPr txBox="1"/>
              <p:nvPr/>
            </p:nvSpPr>
            <p:spPr>
              <a:xfrm>
                <a:off x="3479760" y="1989000"/>
                <a:ext cx="21747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3"/>
              <p:cNvSpPr txBox="1"/>
              <p:nvPr/>
            </p:nvSpPr>
            <p:spPr>
              <a:xfrm>
                <a:off x="3735360" y="4292640"/>
                <a:ext cx="16891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4"/>
              <p:cNvSpPr txBox="1"/>
              <p:nvPr/>
            </p:nvSpPr>
            <p:spPr>
              <a:xfrm>
                <a:off x="1647720" y="5560920"/>
                <a:ext cx="5810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λ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8" name="Text Box 8"/>
          <p:cNvSpPr/>
          <p:nvPr/>
        </p:nvSpPr>
        <p:spPr>
          <a:xfrm>
            <a:off x="3154320" y="609300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Polinomio caracterís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Line 10"/>
          <p:cNvSpPr/>
          <p:nvPr/>
        </p:nvSpPr>
        <p:spPr>
          <a:xfrm>
            <a:off x="2411280" y="6021360"/>
            <a:ext cx="4321440" cy="0"/>
          </a:xfrm>
          <a:prstGeom prst="line">
            <a:avLst/>
          </a:prstGeom>
          <a:ln w="28440">
            <a:solidFill>
              <a:srgbClr val="a11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4"/>
          <p:cNvSpPr/>
          <p:nvPr/>
        </p:nvSpPr>
        <p:spPr>
          <a:xfrm>
            <a:off x="351000" y="260280"/>
            <a:ext cx="8397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polinomio característico tien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raices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λ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λ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…,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λ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s raices pueden ser reales o complej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 la práctica los coeficientes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…,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on re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s raices complejas se presentan como pares conjugados complej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lgunas de las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raices pueden ser idénticas, teniendo raices de orden múltip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poniendo raices distintas tenemos la solución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…,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on coeficientes ponderados, determinados a partir de las condiciones iniciales del sis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ado que la entrad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 = 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s-MX" sz="2400" spc="-1" strike="noStrike">
                <a:solidFill>
                  <a:srgbClr val="ff7c80"/>
                </a:solidFill>
                <a:latin typeface="Arial"/>
              </a:rPr>
              <a:t>la </a:t>
            </a:r>
            <a:r>
              <a:rPr b="0" i="1" lang="es-MX" sz="2400" spc="-1" strike="noStrike" u="sng">
                <a:solidFill>
                  <a:srgbClr val="ff7c80"/>
                </a:solidFill>
                <a:uFillTx/>
                <a:latin typeface="Arial"/>
              </a:rPr>
              <a:t>solución homogenea</a:t>
            </a:r>
            <a:r>
              <a:rPr b="0" i="1" lang="es-MX" sz="2400" spc="-1" strike="noStrike">
                <a:solidFill>
                  <a:srgbClr val="ff7c80"/>
                </a:solidFill>
                <a:latin typeface="Arial"/>
              </a:rPr>
              <a:t> se puede usar para obtener la respuesta de </a:t>
            </a:r>
            <a:r>
              <a:rPr b="0" i="1" lang="es-MX" sz="2400" spc="-1" strike="noStrike" u="sng">
                <a:solidFill>
                  <a:srgbClr val="ff7c80"/>
                </a:solidFill>
                <a:uFillTx/>
                <a:latin typeface="Arial"/>
              </a:rPr>
              <a:t>entrada cero</a:t>
            </a:r>
            <a:r>
              <a:rPr b="0" i="1" lang="es-MX" sz="2400" spc="-1" strike="noStrike">
                <a:solidFill>
                  <a:srgbClr val="ff7c80"/>
                </a:solidFill>
                <a:latin typeface="Arial"/>
              </a:rPr>
              <a:t> del sistem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Object 2"/>
              <p:cNvSpPr txBox="1"/>
              <p:nvPr/>
            </p:nvSpPr>
            <p:spPr>
              <a:xfrm>
                <a:off x="2581200" y="3789360"/>
                <a:ext cx="3942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4"/>
          <p:cNvSpPr/>
          <p:nvPr/>
        </p:nvSpPr>
        <p:spPr>
          <a:xfrm>
            <a:off x="925920" y="260280"/>
            <a:ext cx="718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eterminar la respuesta a la entrada cero de los siguientes sistem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Object 2"/>
              <p:cNvSpPr txBox="1"/>
              <p:nvPr/>
            </p:nvSpPr>
            <p:spPr>
              <a:xfrm>
                <a:off x="3112920" y="692280"/>
                <a:ext cx="29181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3"/>
              <p:cNvSpPr txBox="1"/>
              <p:nvPr/>
            </p:nvSpPr>
            <p:spPr>
              <a:xfrm>
                <a:off x="2671920" y="1279440"/>
                <a:ext cx="38383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4"/>
          <p:cNvSpPr/>
          <p:nvPr/>
        </p:nvSpPr>
        <p:spPr>
          <a:xfrm>
            <a:off x="351000" y="620640"/>
            <a:ext cx="8397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116e0"/>
                </a:solidFill>
                <a:latin typeface="Arial"/>
              </a:rPr>
              <a:t>La solución particu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s cualquier solución que satisfag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ra resolverla, se asume una forma que dependa de la forma de la entrad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Object 2"/>
              <p:cNvSpPr txBox="1"/>
              <p:nvPr/>
            </p:nvSpPr>
            <p:spPr>
              <a:xfrm>
                <a:off x="2217600" y="1698480"/>
                <a:ext cx="46990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nary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17" name=""/>
          <p:cNvGraphicFramePr/>
          <p:nvPr/>
        </p:nvGraphicFramePr>
        <p:xfrm>
          <a:off x="1523880" y="3813120"/>
          <a:ext cx="6096240" cy="2498760"/>
        </p:xfrm>
        <a:graphic>
          <a:graphicData uri="http://schemas.openxmlformats.org/drawingml/2006/table">
            <a:tbl>
              <a:tblPr/>
              <a:tblGrid>
                <a:gridCol w="2903760"/>
                <a:gridCol w="3192480"/>
              </a:tblGrid>
              <a:tr h="43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ñal de entrada </a:t>
                      </a:r>
                      <a:r>
                        <a:rPr b="1" i="1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ción particular </a:t>
                      </a:r>
                      <a:r>
                        <a:rPr b="1" i="1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s-MX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r>
                        <a:rPr b="1" i="1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(constant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</a:t>
                      </a:r>
                      <a:r>
                        <a:rPr b="1" i="1" lang="es-MX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M</a:t>
                      </a:r>
                      <a:r>
                        <a:rPr b="1" i="1" lang="es-MX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</a:t>
                      </a:r>
                      <a:r>
                        <a:rPr b="1" i="1" lang="es-MX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s-MX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1" i="1" lang="es-MX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 K</a:t>
                      </a:r>
                      <a:r>
                        <a:rPr b="1" i="1" lang="es-MX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1" i="1" lang="es-MX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M-1</a:t>
                      </a: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…+ K</a:t>
                      </a:r>
                      <a:r>
                        <a:rPr b="1" i="1" lang="es-MX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i="1" lang="es-MX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1" i="1" lang="es-MX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i="1" lang="es-MX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K</a:t>
                      </a:r>
                      <a:r>
                        <a:rPr b="1" i="1" lang="es-MX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1" i="1" lang="es-MX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 K</a:t>
                      </a:r>
                      <a:r>
                        <a:rPr b="1" i="1" lang="es-MX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1" i="1" lang="es-MX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M-1</a:t>
                      </a: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…+ K</a:t>
                      </a:r>
                      <a:r>
                        <a:rPr b="1" i="1" lang="es-MX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os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ω</a:t>
                      </a:r>
                      <a:r>
                        <a:rPr b="1" i="1" lang="es-MX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br>
                        <a:rPr sz="1800"/>
                      </a:b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Asen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ω</a:t>
                      </a:r>
                      <a:r>
                        <a:rPr b="1" i="1" lang="es-MX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s-MX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s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ω</a:t>
                      </a:r>
                      <a:r>
                        <a:rPr b="1" i="1" lang="es-MX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 + K</a:t>
                      </a:r>
                      <a:r>
                        <a:rPr b="1" i="1" lang="es-MX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n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ω</a:t>
                      </a:r>
                      <a:r>
                        <a:rPr b="1" i="1" lang="es-MX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r>
                        <a:rPr b="1" i="1" lang="es-MX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4"/>
          <p:cNvSpPr/>
          <p:nvPr/>
        </p:nvSpPr>
        <p:spPr>
          <a:xfrm>
            <a:off x="417240" y="26028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eterminar la solución particular de los sistem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2"/>
              <p:cNvSpPr txBox="1"/>
              <p:nvPr/>
            </p:nvSpPr>
            <p:spPr>
              <a:xfrm>
                <a:off x="1590840" y="692280"/>
                <a:ext cx="59641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si 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y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Object 3"/>
              <p:cNvSpPr txBox="1"/>
              <p:nvPr/>
            </p:nvSpPr>
            <p:spPr>
              <a:xfrm>
                <a:off x="1330200" y="1241280"/>
                <a:ext cx="64245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si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4"/>
          <p:cNvSpPr/>
          <p:nvPr/>
        </p:nvSpPr>
        <p:spPr>
          <a:xfrm>
            <a:off x="252360" y="620640"/>
            <a:ext cx="8640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116e0"/>
                </a:solidFill>
                <a:latin typeface="Arial"/>
              </a:rPr>
              <a:t>La solución to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propiedad de linealidad permite tener la solución to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 = y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 + y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suma resultant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tiene los parámetros constantes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dentro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.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stas constantes pueden determinarse para satisfacer las condicione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a </a:t>
            </a:r>
            <a:r>
              <a:rPr b="0" lang="es-MX" sz="2400" spc="-1" strike="noStrike">
                <a:solidFill>
                  <a:srgbClr val="ffcc99"/>
                </a:solidFill>
                <a:latin typeface="Arial"/>
              </a:rPr>
              <a:t>solución particular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e puede obtener a partir de la respuesta del sistema al </a:t>
            </a:r>
            <a:r>
              <a:rPr b="0" lang="es-MX" sz="2400" spc="-1" strike="noStrike">
                <a:solidFill>
                  <a:srgbClr val="ffcc99"/>
                </a:solidFill>
                <a:latin typeface="Arial"/>
              </a:rPr>
              <a:t>estado cer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|&lt;1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lo que establece la estabilidad del sistema, tenem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2"/>
              <p:cNvSpPr txBox="1"/>
              <p:nvPr/>
            </p:nvSpPr>
            <p:spPr>
              <a:xfrm>
                <a:off x="2914560" y="5373720"/>
                <a:ext cx="32752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4"/>
          <p:cNvSpPr/>
          <p:nvPr/>
        </p:nvSpPr>
        <p:spPr>
          <a:xfrm>
            <a:off x="395280" y="620640"/>
            <a:ext cx="84232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esta componente de la respuesta del sistema no tiende a cero conform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e acerca al infinito, se denomina la </a:t>
            </a:r>
            <a:r>
              <a:rPr b="0" i="1" lang="es-MX" sz="2400" spc="-1" strike="noStrike">
                <a:solidFill>
                  <a:srgbClr val="a116e0"/>
                </a:solidFill>
                <a:latin typeface="Arial"/>
              </a:rPr>
              <a:t>respuesta de estado estacionari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por parte del sis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sta respuesta persiste mientras la entrada pers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omponente que tiende a cero conform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e acerca al infinito es la </a:t>
            </a:r>
            <a:r>
              <a:rPr b="0" i="1" lang="es-MX" sz="2400" spc="-1" strike="noStrike">
                <a:solidFill>
                  <a:srgbClr val="a116e0"/>
                </a:solidFill>
                <a:latin typeface="Arial"/>
              </a:rPr>
              <a:t>respuesta transitori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del sis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5"/>
          <p:cNvSpPr/>
          <p:nvPr/>
        </p:nvSpPr>
        <p:spPr>
          <a:xfrm>
            <a:off x="539640" y="117360"/>
            <a:ext cx="8209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7c80"/>
                </a:solidFill>
                <a:latin typeface="Arial"/>
              </a:rPr>
              <a:t>Clasificación de las señales discre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6ea0b0"/>
                </a:solidFill>
                <a:latin typeface="Arial"/>
              </a:rPr>
              <a:t>Señales de energía y de pot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la energía es finita se llama </a:t>
            </a:r>
            <a:r>
              <a:rPr b="0" i="1" lang="es-MX" sz="2400" spc="-1" strike="noStrike">
                <a:solidFill>
                  <a:srgbClr val="a116e0"/>
                </a:solidFill>
                <a:latin typeface="Arial"/>
              </a:rPr>
              <a:t>energía de la señal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y si la potencia es finita ésta es la </a:t>
            </a:r>
            <a:r>
              <a:rPr b="0" i="1" lang="es-MX" sz="2400" spc="-1" strike="noStrike">
                <a:solidFill>
                  <a:srgbClr val="a116e0"/>
                </a:solidFill>
                <a:latin typeface="Arial"/>
              </a:rPr>
              <a:t>potencia de la señ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ea0b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6ea0b0"/>
                </a:solidFill>
                <a:latin typeface="Arial"/>
              </a:rPr>
              <a:t>Señales periódicas y aperiód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s </a:t>
            </a:r>
            <a:r>
              <a:rPr b="0" lang="es-MX" sz="2400" spc="-1" strike="noStrike">
                <a:solidFill>
                  <a:srgbClr val="a116e0"/>
                </a:solidFill>
                <a:latin typeface="Arial"/>
              </a:rPr>
              <a:t>periódic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con periodo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í y solo s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 + N) = x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para tod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enor valor de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que satisfaga (1) es el </a:t>
            </a:r>
            <a:r>
              <a:rPr b="0" i="1" lang="es-MX" sz="2400" spc="-1" strike="noStrike">
                <a:solidFill>
                  <a:srgbClr val="a116e0"/>
                </a:solidFill>
                <a:latin typeface="Arial"/>
              </a:rPr>
              <a:t>periodo funda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no exist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que satisfaga (1) la señal es </a:t>
            </a:r>
            <a:r>
              <a:rPr b="0" lang="es-MX" sz="2400" spc="-1" strike="noStrike">
                <a:solidFill>
                  <a:srgbClr val="a116e0"/>
                </a:solidFill>
                <a:latin typeface="Arial"/>
              </a:rPr>
              <a:t>aperiódic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ea0b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6ea0b0"/>
                </a:solidFill>
                <a:latin typeface="Arial"/>
              </a:rPr>
              <a:t>Señales simétricas (par) y antisimétricas (imp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 = x(-n)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ñal simé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-x(n) = x(-n)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ñal antisimé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2"/>
              <p:cNvSpPr txBox="1"/>
              <p:nvPr/>
            </p:nvSpPr>
            <p:spPr>
              <a:xfrm>
                <a:off x="1763640" y="1989000"/>
                <a:ext cx="19749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5435640" y="1998720"/>
                <a:ext cx="23176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≡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4"/>
          <p:cNvSpPr/>
          <p:nvPr/>
        </p:nvSpPr>
        <p:spPr>
          <a:xfrm>
            <a:off x="834480" y="260280"/>
            <a:ext cx="43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eterminar la respuesta de los sistem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Object 2"/>
              <p:cNvSpPr txBox="1"/>
              <p:nvPr/>
            </p:nvSpPr>
            <p:spPr>
              <a:xfrm>
                <a:off x="1552680" y="692280"/>
                <a:ext cx="604188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si 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y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Object 3"/>
              <p:cNvSpPr txBox="1"/>
              <p:nvPr/>
            </p:nvSpPr>
            <p:spPr>
              <a:xfrm>
                <a:off x="695160" y="1268280"/>
                <a:ext cx="76806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si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4"/>
          <p:cNvSpPr/>
          <p:nvPr/>
        </p:nvSpPr>
        <p:spPr>
          <a:xfrm>
            <a:off x="351000" y="260280"/>
            <a:ext cx="8397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7c80"/>
                </a:solidFill>
                <a:latin typeface="Arial"/>
              </a:rPr>
              <a:t>La respuesta al impulso de un sistema recursivo L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uando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 =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δ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y el sistema está inicialmente relajado,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s igual a la respuesta al estado cero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zs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jemplo, dado el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 respuesta al estado cero 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stituyendo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(n) =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δ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tenem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or lo tanto, la respuesta del sistema al impulso 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n) = a</a:t>
            </a:r>
            <a:r>
              <a:rPr b="0" i="1" lang="es-MX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u(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Object 2"/>
              <p:cNvSpPr txBox="1"/>
              <p:nvPr/>
            </p:nvSpPr>
            <p:spPr>
              <a:xfrm>
                <a:off x="3995640" y="2157480"/>
                <a:ext cx="27831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Object 3"/>
              <p:cNvSpPr txBox="1"/>
              <p:nvPr/>
            </p:nvSpPr>
            <p:spPr>
              <a:xfrm>
                <a:off x="3203640" y="3068640"/>
                <a:ext cx="27576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Object 4"/>
              <p:cNvSpPr txBox="1"/>
              <p:nvPr/>
            </p:nvSpPr>
            <p:spPr>
              <a:xfrm>
                <a:off x="2451240" y="4292640"/>
                <a:ext cx="4263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  <m:r>
                                <m:t xml:space="preserve">δ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nary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</m:e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4"/>
          <p:cNvSpPr/>
          <p:nvPr/>
        </p:nvSpPr>
        <p:spPr>
          <a:xfrm>
            <a:off x="395280" y="620640"/>
            <a:ext cx="84232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 el caso general de un sistema LTI arbitrario tenem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uando la entrada es un impulso tene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zs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 = h(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sideremos el problema de determinar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dada una edcc describiendo un sis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quí </a:t>
            </a:r>
            <a:r>
              <a:rPr b="0" lang="es-MX" sz="2400" spc="-1" strike="noStrike">
                <a:solidFill>
                  <a:srgbClr val="ff7c80"/>
                </a:solidFill>
                <a:latin typeface="Arial"/>
              </a:rPr>
              <a:t>la solución particular es cer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i la excitación es un impulso, y </a:t>
            </a:r>
            <a:r>
              <a:rPr b="0" lang="es-MX" sz="2400" spc="-1" strike="noStrike">
                <a:solidFill>
                  <a:srgbClr val="ff7c80"/>
                </a:solidFill>
                <a:latin typeface="Arial"/>
              </a:rPr>
              <a:t>la solución homogenea es la solución total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con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parámetros evaluados para satisfacer las condiciones iniciales determinadas por el impul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Object 2"/>
              <p:cNvSpPr txBox="1"/>
              <p:nvPr/>
            </p:nvSpPr>
            <p:spPr>
              <a:xfrm>
                <a:off x="2630520" y="1052640"/>
                <a:ext cx="39052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4"/>
          <p:cNvSpPr/>
          <p:nvPr/>
        </p:nvSpPr>
        <p:spPr>
          <a:xfrm>
            <a:off x="499320" y="260280"/>
            <a:ext cx="49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eterminar la respuesta al impulso del sistem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Object 2"/>
              <p:cNvSpPr txBox="1"/>
              <p:nvPr/>
            </p:nvSpPr>
            <p:spPr>
              <a:xfrm>
                <a:off x="1757520" y="860400"/>
                <a:ext cx="5554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4"/>
          <p:cNvSpPr/>
          <p:nvPr/>
        </p:nvSpPr>
        <p:spPr>
          <a:xfrm>
            <a:off x="395280" y="620640"/>
            <a:ext cx="84232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a116e0"/>
                </a:solidFill>
                <a:latin typeface="Arial"/>
              </a:rPr>
              <a:t>Observ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ualquier sistema recursivo descrito por edcc es un sistema IIR, pues tienen respuesta al impulso de duración infini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ero no todo sistema LTI IIR puede describirse con edc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uando un sistema es descrito por una ec. diferencial lineal de orde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la solución a la ecuación homogenea 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nde las raices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λ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on distin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respuesta al impulso es idéntica: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h(n) = y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nde los parámetros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e determinan poniendo las condiciones iniciales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-1) = … = y(-N) = 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Object 2"/>
              <p:cNvSpPr txBox="1"/>
              <p:nvPr/>
            </p:nvSpPr>
            <p:spPr>
              <a:xfrm>
                <a:off x="3560760" y="3282840"/>
                <a:ext cx="20430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4"/>
          <p:cNvSpPr/>
          <p:nvPr/>
        </p:nvSpPr>
        <p:spPr>
          <a:xfrm>
            <a:off x="395280" y="189000"/>
            <a:ext cx="84232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a116e0"/>
                </a:solidFill>
                <a:latin typeface="Arial"/>
              </a:rPr>
              <a:t>Estabi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 requiere que la respuesta al impulso sea </a:t>
            </a:r>
            <a:r>
              <a:rPr b="0" lang="es-MX" sz="2400" spc="-1" strike="noStrike">
                <a:solidFill>
                  <a:srgbClr val="ff7c80"/>
                </a:solidFill>
                <a:latin typeface="Arial"/>
              </a:rPr>
              <a:t>sumable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entonces, para un sistema causal tenem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hora, si |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λ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| &lt; 1 para toda 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ento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y por lo ta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or otro lado, si algún |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λ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| ≥ 1, 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h(n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no es sumable en lo absoluto, y en consecuencia, ines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a condición necesaria y suficiente para que un sistema IIR causal descrito por edcc sea estable es que todas las raices del polinomio característico sean menores a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2"/>
              <p:cNvSpPr txBox="1"/>
              <p:nvPr/>
            </p:nvSpPr>
            <p:spPr>
              <a:xfrm>
                <a:off x="2127240" y="1628640"/>
                <a:ext cx="47750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</m:nary>
                    <m:r>
                      <m:t xml:space="preserve">≤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3"/>
              <p:cNvSpPr txBox="1"/>
              <p:nvPr/>
            </p:nvSpPr>
            <p:spPr>
              <a:xfrm>
                <a:off x="6084720" y="2633760"/>
                <a:ext cx="15066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4"/>
              <p:cNvSpPr txBox="1"/>
              <p:nvPr/>
            </p:nvSpPr>
            <p:spPr>
              <a:xfrm>
                <a:off x="2556000" y="3429000"/>
                <a:ext cx="16095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600" spc="-1" strike="noStrike">
                <a:solidFill>
                  <a:srgbClr val="ffffff"/>
                </a:solidFill>
                <a:latin typeface="Franklin Gothic Book"/>
              </a:rPr>
              <a:t>Bibliografí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457200" y="105372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80000"/>
              </a:lnSpc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Digital Signal Processing: Principles, algorithms and application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J. G. Proakis &amp; D. G. Manolaki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earson Education Inc. 3a Ed. 1996.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roduction to Signals and System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. K. Lindner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cGraw Hill, 1999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ignals and Systems: Continuous and Discrete.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R. E. Ziemer, W. H. Tranter &amp; D. R. Fannin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rentice Hall, 4a Ed. 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rinciples of Signals and Systems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. J. Taylor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McGraw Hill, 1a Ed. 199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ignals and System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A. V. Oppenheim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rentice Hall, 1a Ed. 199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Analog and Digital Communication Systems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M. S. Roden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rentice Hall, 4a Ed. 199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5"/>
          <p:cNvSpPr/>
          <p:nvPr/>
        </p:nvSpPr>
        <p:spPr>
          <a:xfrm>
            <a:off x="395280" y="331920"/>
            <a:ext cx="84247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7c80"/>
                </a:solidFill>
                <a:latin typeface="Arial"/>
              </a:rPr>
              <a:t>Manipulaciones de señales discret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Transformación de la variable independiente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 sustituy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±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y tenemos un desplazamiento según el signo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(+ retraso, - adelan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dición, multiplicación y escalamiento de secu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 = x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 + x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 = x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*x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 = Ax(n)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para tod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quí la amplitud es la que se modif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5"/>
          <p:cNvSpPr/>
          <p:nvPr/>
        </p:nvSpPr>
        <p:spPr>
          <a:xfrm>
            <a:off x="312840" y="404640"/>
            <a:ext cx="85071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7c80"/>
                </a:solidFill>
                <a:latin typeface="Arial"/>
              </a:rPr>
              <a:t>Sistemas discretos en el tiem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 un dispositivo o algoritmo que opera sobre una señal discreta en el tiempo, llamada </a:t>
            </a:r>
            <a:r>
              <a:rPr b="0" i="1" lang="es-MX" sz="2800" spc="-1" strike="noStrike">
                <a:solidFill>
                  <a:srgbClr val="a116e0"/>
                </a:solidFill>
                <a:latin typeface="Arial"/>
              </a:rPr>
              <a:t>entrada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i="1" lang="es-MX" sz="2800" spc="-1" strike="noStrike">
                <a:solidFill>
                  <a:srgbClr val="a116e0"/>
                </a:solidFill>
                <a:latin typeface="Arial"/>
              </a:rPr>
              <a:t>excitación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, acorde a reglas bien definidas, para producir otra señal discreta en el tiempo llamada  </a:t>
            </a:r>
            <a:r>
              <a:rPr b="0" i="1" lang="es-MX" sz="2800" spc="-1" strike="noStrike">
                <a:solidFill>
                  <a:srgbClr val="a116e0"/>
                </a:solidFill>
                <a:latin typeface="Arial"/>
              </a:rPr>
              <a:t>salida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i="1" lang="es-MX" sz="2800" spc="-1" strike="noStrike">
                <a:solidFill>
                  <a:srgbClr val="a116e0"/>
                </a:solidFill>
                <a:latin typeface="Arial"/>
              </a:rPr>
              <a:t>respuesta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del sist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señal de entrada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x(n)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es </a:t>
            </a:r>
            <a:r>
              <a:rPr b="0" i="1" lang="es-MX" sz="2800" spc="-1" strike="noStrike">
                <a:solidFill>
                  <a:srgbClr val="a116e0"/>
                </a:solidFill>
                <a:latin typeface="Arial"/>
              </a:rPr>
              <a:t>transformada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por el sistema en la señal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y(n)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Esta relación se expres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66"/>
                </a:solidFill>
                <a:latin typeface="Times New Roman"/>
              </a:rPr>
              <a:t>y(n) ≡</a:t>
            </a:r>
            <a:r>
              <a:rPr b="0" i="1" lang="el-GR" sz="2800" spc="-1" strike="noStrike">
                <a:solidFill>
                  <a:srgbClr val="ffff66"/>
                </a:solidFill>
                <a:latin typeface="Times New Roman"/>
              </a:rPr>
              <a:t>Τ</a:t>
            </a:r>
            <a:r>
              <a:rPr b="0" i="1" lang="es-MX" sz="2800" spc="-1" strike="noStrike">
                <a:solidFill>
                  <a:srgbClr val="ffff66"/>
                </a:solidFill>
                <a:latin typeface="Times New Roman"/>
              </a:rPr>
              <a:t>[x(n)]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donde el operador 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denota la transformación o procesamiento efectuado a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x(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5"/>
          <p:cNvSpPr/>
          <p:nvPr/>
        </p:nvSpPr>
        <p:spPr>
          <a:xfrm>
            <a:off x="133200" y="404640"/>
            <a:ext cx="883152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7c80"/>
                </a:solidFill>
                <a:latin typeface="Arial"/>
              </a:rPr>
              <a:t>Clasificación de sistemas digit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116e0"/>
                </a:solidFill>
                <a:latin typeface="Arial"/>
              </a:rPr>
              <a:t>Sistemas sin memoria ó estátic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uando la salida de cualquier valor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depende solo de la entrada en el mismo valor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 = x(n)</a:t>
            </a:r>
            <a:r>
              <a:rPr b="0" i="1" lang="es-MX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 = ax(n)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 = nx(n) + bx</a:t>
            </a:r>
            <a:r>
              <a:rPr b="0" i="1" lang="es-MX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116e0"/>
                </a:solidFill>
                <a:latin typeface="Arial"/>
              </a:rPr>
              <a:t>Sistemas con memoria ó dinámicos.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uando la salida en un valor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depende de las entradas en el intervalo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[n-N, n]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≥ 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se dice que el sistema tiene memoria de duración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400"/>
            </a:b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= 0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l sistema es </a:t>
            </a:r>
            <a:r>
              <a:rPr b="0" lang="es-MX" sz="2400" spc="-1" strike="noStrike">
                <a:solidFill>
                  <a:srgbClr val="ffcc99"/>
                </a:solidFill>
                <a:latin typeface="Arial"/>
              </a:rPr>
              <a:t>estátic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; si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≤ N &lt; ∞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el sistema tiene </a:t>
            </a:r>
            <a:r>
              <a:rPr b="0" lang="es-MX" sz="2400" spc="-1" strike="noStrike">
                <a:solidFill>
                  <a:srgbClr val="ffcc99"/>
                </a:solidFill>
                <a:latin typeface="Arial"/>
              </a:rPr>
              <a:t>memoria finit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; si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 &lt; ∞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tiene </a:t>
            </a:r>
            <a:r>
              <a:rPr b="0" lang="es-MX" sz="2400" spc="-1" strike="noStrike">
                <a:solidFill>
                  <a:srgbClr val="ffcc99"/>
                </a:solidFill>
                <a:latin typeface="Arial"/>
              </a:rPr>
              <a:t>memoria infinita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 = x(n) + 3x(n-1)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 = ∑x(n-k)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; k=0…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(n) = ∑x(n-k)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; k=0…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5"/>
          <p:cNvSpPr/>
          <p:nvPr/>
        </p:nvSpPr>
        <p:spPr>
          <a:xfrm>
            <a:off x="395280" y="476280"/>
            <a:ext cx="83995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116e0"/>
                </a:solidFill>
                <a:latin typeface="Arial"/>
              </a:rPr>
              <a:t>Sistemas invariantes con el tiempo.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on aquellos sistemas para los que un desplazamiento temporal de la secuencia de entrada provoca el mismo desplazamiento en la secuencia de salida.</a:t>
            </a:r>
            <a:br>
              <a:rPr sz="2400"/>
            </a:b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para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 = x(n – k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se produce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 = y(n - 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116e0"/>
                </a:solidFill>
                <a:latin typeface="Arial"/>
              </a:rPr>
              <a:t>Sistemas variantes con el tiempo.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quellos donde la salida cumple con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n) ≠ y(n - k),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incluso para un solo valor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MX" sz="2800" spc="-1" strike="noStrike">
                <a:solidFill>
                  <a:srgbClr val="a116e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0:13:57Z</dcterms:created>
  <dc:creator>Pablo Turmero</dc:creator>
  <dc:description/>
  <dc:language>en-US</dc:language>
  <cp:lastModifiedBy>Pablo Turmero</cp:lastModifiedBy>
  <dcterms:modified xsi:type="dcterms:W3CDTF">2015-07-18T00:05:38Z</dcterms:modified>
  <cp:revision>11</cp:revision>
  <dc:subject/>
  <dc:title/>
</cp:coreProperties>
</file>