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A5B94-86E6-4FAD-882E-102E9577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8E0F5-95F0-4824-AD20-DED2C9B2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4D697A-1439-4E21-AE43-0A5BBF46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C4157C-7F75-43C2-8682-0CBF6F6A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47FA28-65A9-4C81-90BF-7F25B09C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2F9985-DA30-4733-AE44-4DE65EC5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477FEC-8405-41B3-B5E4-FEFEE6F9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0226B7-173D-4679-90FE-EADF170F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15FBF9-E396-4805-B4E4-8792231C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CAD673-F2DC-414B-82C4-959F4690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6353B9-1294-43F4-9530-E01DFE4B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0F3CC9-DFAE-443C-99DF-5D53C2EE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B3F67-73A2-47AA-9913-34823400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B87368-8D8C-4181-B8D5-CCB77582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9A28F1-5AFF-4D62-B969-DCF8EF77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F3F142-E574-4021-8206-58F4BFF3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C859E9-E901-4C3C-AFC5-0E28479F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BB0002-1E2B-4E77-A907-19A0DB30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161117-6F2B-4C32-81CE-A7EB17CB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6986EA-DD3B-4109-B323-4D1E7B53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12AB54-0E1F-42F3-984A-5CBE0DB8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D79A3A-F1E0-4509-BE8A-34BDA778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2CCAE8-E36E-4FB5-835B-37EC852A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08D61-9F97-4F5D-A766-3BB280CD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61CB9A-3B59-47F2-A503-98C57946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598301-2EB8-46FC-8182-68927E12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DFB5A4-1ADB-4AB1-89AC-3B0163CA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D6F174-7C7E-47DB-B69C-935E0E69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A0989C-C54B-4D2F-9686-D3E72B09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71B33D-13FF-4F98-BD01-BF8874CB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27FEE6-9546-4812-BC36-4239EA67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9EDEB2-1F33-4B47-A3CC-37FBF000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2C624A-9521-4F70-ABC2-A7DFD31A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33BF41-84FA-4F3B-938A-5768744A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2B48A-0987-40A3-B3A3-1F766F57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277D72-C0F3-4004-A3EA-A8DB4E2C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FBD116-AC24-48B6-9876-05D028E3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3710EC-9EA9-4FBC-B4F9-93E0D0141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8707FD-9A9C-4D92-8130-91ACDC2C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A7CB6F-E564-41E1-BD7F-B768B377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E6F50F-587A-4DBD-8A4E-336AD079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45A472-5C84-4C62-8E29-EEDE68F3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EAE6F9-EA7C-4104-9D05-40741784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A0EF53-4BC2-4F57-A417-CC93F852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E2B2DA-CD7E-4BE1-AFBD-2970B913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65C15-AEE5-4E89-AA4B-4615EBA1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1B8E5D-A3D4-41F1-BAF8-9D33D2C2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595222-27B6-4A61-8C28-C17B215A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6E9CBD-3330-4599-8A2C-A130C72C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9450C5-3F33-488D-8039-CD22D162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54B1CA-0F3F-46F3-8616-A04D88D4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3DAD3-C311-40F7-83B1-D0C87648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3C38E-21A9-45A8-B06A-3BC5AB92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8A77C-DC5F-4D69-86D0-D0207425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E2B42-186D-4D83-91AE-755DC22F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9FA76-0F22-4D44-812C-AC2039FE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F5542-3671-4FB5-B5AF-82438F28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1929E-847A-409F-B71C-23B6ED8A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AC6CE-2F33-4F3A-96AD-A2EE764A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F390C-0738-4631-A378-0F5F7931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0B5ED-8C06-43CB-B2C5-294167E3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3F0A6-D781-4EA3-B6B4-2598953D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27759-828A-46FA-A1C7-11757DCA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4B9361-C971-47D3-80DF-420D282C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EF0200-BB32-47C4-B69B-DC71288B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D38790-AD47-463D-9F0B-1139E636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282CD-5BD0-41A5-BBEA-DBBADC06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E5209-67FB-4213-B2AD-B0576EED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7A579A-A564-44F1-9BDA-274E79EE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72EEE-C473-4041-9F3F-97F5FD10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EF788-B222-47A2-9EFF-2033B462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EFDD9-FA65-498C-B8DC-B9791F36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4429C-B99F-42D9-BB2B-C6151EC9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B1B7F8-2279-4264-AEDF-B6B368B4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9341C7-6BFA-4502-846F-8D4B6129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0EBA77-5AA2-4555-9C45-779DFA21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E7AF63-E9D4-443F-AF69-C524E5D0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5DBB10-73C3-4023-8590-AA713632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84D70-86C7-4817-904E-4090BE6E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FFC329-65CD-428F-BBD8-B0ED071F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C54C9A-9D11-4948-B9A4-52526151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334213-FB6C-4FBA-9319-2308F61E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A099E6-0D55-4F0C-868E-66289C1D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8FBDD1-D9BA-4690-99FC-E9D9CAF9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9EAB4-878F-4583-A816-5F7235A1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4CE19D-50A7-4459-AB12-A140CB08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1C3E13-0962-4F78-BED1-B158DB3E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B75359-3E99-48CF-AC22-4852534E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0D7181-F333-488C-94EE-C5B7A653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89E1F-9995-4EB6-A8F4-85FF8118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B1851C-C834-4152-B262-B9DACD43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CEB079-68BD-4958-969A-266CE0E4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E026E9-0784-4FDB-83F9-5B52DA4C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055D97-DA3D-4669-9C69-7B91E8BC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44444C-46EA-442B-8122-396EC75C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802330-ABC5-417C-8D7D-EBA62097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BF1E4B-152B-41FB-8EBB-DCB9D1F6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D9C8A7-67DD-44FC-98D5-D729A23B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F2D5EE-557B-453F-85E8-4C3018AD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0F6EC4-0A39-484E-8516-0EC96347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D9E78-0C28-4E16-BC5C-E7B924DD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837DB6-5671-4316-A267-B39BC514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E48ADB-23F6-48C3-8047-FD52F33A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B61FC6-B60D-4784-9643-61211E0B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115D91-EA66-460C-8F5A-9242A64A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C632B4-E3BA-44BB-9382-E44D3B42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596C41-C42A-4AB4-9B83-375CFB74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AE3216-59B2-480C-8A1B-534D0151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3D2E87-1843-4510-B0CE-73A82B7F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1B6852-253E-4F48-A398-0591E7D9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FCD4D4-46BE-4917-9E74-16B33AC2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5BBE9-D34D-4D43-92D0-3DA5EDFF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8E9F79-873C-4003-9FF0-9B223653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E1EB02-D747-46E6-8D8D-14E44C5B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DA0D45-440F-4A13-8082-768CB0E4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12113E-4503-4174-9753-E891C802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556F8A-7A60-404D-9364-E0937448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C9141C-DD01-4AE6-89A1-744112F8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61866B-6B17-447E-914A-452705AB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009E5B-89AE-41D6-8396-F5355C17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530697-ABA4-4FCF-A3FC-5BF36AE8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3A4374-FF73-453A-91AB-0BE0C7C4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637EF-B880-4FB2-9BAB-F0337C1C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CB9953-B1E6-428F-95C6-EA9A8539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42FFAE-85D8-401C-A32F-F2444697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7BB4AB-D5BE-49E4-B00A-3E1D51E8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2491D6-3857-4C22-810A-519F138F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7283C9-25DB-46C0-B10C-1252E5AB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33E5BA-7F5A-4036-91E4-AFC9E695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0C1EA2-3310-49DD-846F-1F27E5E0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8DD61A-EA49-41F1-BA43-92FDCD83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6FC09D-F3B6-4D43-A708-D229B4FF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07DD72-C3E8-4921-8A77-98F3B5FF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CBB62-C473-4C8B-89FD-7B806EFF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C62BA4-297C-466A-B62B-EEA77810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FEAC11-021A-4EEA-BE19-941973DE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DF5706-8FE7-4787-BB57-EAA0CA44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6C1466-8819-4E1C-805A-A543C1CE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4B35A6-1F71-4621-882B-A10DCF74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66F73F-6A0F-4465-85D1-4323A1B9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93BDC4-E52F-4E50-86EE-C14C76D5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5D6951-B570-4DC1-915D-B30B8B02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7E6E27-D208-4B27-819D-3C86CB6A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EAD1AA-EBE0-483E-9404-625D3C98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C863-7194-4779-8FE5-C86E889C00C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6095880" y="6324480"/>
            <a:ext cx="28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Informática Bás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0" y="6165360"/>
            <a:ext cx="601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Escuela Universitaria Politéc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Ingeniería Técnica en Obras Públ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Construcciones Civiles - </a:t>
            </a:r>
            <a:r>
              <a:rPr b="0" lang="es-ES" sz="1200" spc="-1" strike="noStrike">
                <a:solidFill>
                  <a:srgbClr val="000000"/>
                </a:solidFill>
                <a:latin typeface="Arial Black"/>
                <a:ea typeface="Arial"/>
              </a:rPr>
              <a:t>Transportes y </a:t>
            </a: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ervicios Urbanos - Hidr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2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8D34-6B15-4FFC-9C03-5F57E908132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dt" idx="30"/>
          </p:nvPr>
        </p:nvSpPr>
        <p:spPr>
          <a:xfrm>
            <a:off x="0" y="6165360"/>
            <a:ext cx="601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Escuela Universitaria Politéc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Ingeniería Técnica en Obras Públ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Construcciones Civiles - </a:t>
            </a:r>
            <a:r>
              <a:rPr b="0" lang="es-ES" sz="1200" spc="-1" strike="noStrike">
                <a:solidFill>
                  <a:srgbClr val="000000"/>
                </a:solidFill>
                <a:latin typeface="Arial Black"/>
                <a:ea typeface="Arial"/>
              </a:rPr>
              <a:t>Transportes y </a:t>
            </a: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ervicios Urbanos - Hidr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3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4CA5-5BCD-4FA5-B8B6-1D7F82CB122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dt" idx="33"/>
          </p:nvPr>
        </p:nvSpPr>
        <p:spPr>
          <a:xfrm>
            <a:off x="0" y="6165360"/>
            <a:ext cx="601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Escuela Universitaria Politéc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Ingeniería Técnica en Obras Públ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Construcciones Civiles - </a:t>
            </a:r>
            <a:r>
              <a:rPr b="0" lang="es-ES" sz="1200" spc="-1" strike="noStrike">
                <a:solidFill>
                  <a:srgbClr val="000000"/>
                </a:solidFill>
                <a:latin typeface="Arial Black"/>
                <a:ea typeface="Arial"/>
              </a:rPr>
              <a:t>Transportes y </a:t>
            </a: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ervicios Urbanos - Hidr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3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E463-FC0A-4618-91ED-488553FFE06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dt" idx="36"/>
          </p:nvPr>
        </p:nvSpPr>
        <p:spPr>
          <a:xfrm>
            <a:off x="0" y="6165360"/>
            <a:ext cx="601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 Black"/>
              </a:rPr>
              <a:t>Escuela Universitaria Politéc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 Black"/>
              </a:rPr>
              <a:t>Ingeniería Técnica en Obras Públ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 Black"/>
              </a:rPr>
              <a:t>Construcciones Civiles - </a:t>
            </a:r>
            <a:r>
              <a:rPr b="0" lang="es-ES" sz="1200" spc="-1" strike="noStrike">
                <a:solidFill>
                  <a:srgbClr val="ffffff"/>
                </a:solidFill>
                <a:latin typeface="Arial Black"/>
                <a:ea typeface="Arial"/>
              </a:rPr>
              <a:t>Transportes y </a:t>
            </a:r>
            <a:r>
              <a:rPr b="0" lang="es-ES_tradnl" sz="1200" spc="-1" strike="noStrike">
                <a:solidFill>
                  <a:srgbClr val="ffffff"/>
                </a:solidFill>
                <a:latin typeface="Arial Black"/>
              </a:rPr>
              <a:t>Servicios Urbanos - Hidr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AE75-9DA3-4542-89D7-DB843082163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0" y="6165360"/>
            <a:ext cx="601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Escuela Universitaria Politéc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Ingeniería Técnica en Obras Públ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Construcciones Civiles - </a:t>
            </a:r>
            <a:r>
              <a:rPr b="0" lang="es-ES" sz="1200" spc="-1" strike="noStrike">
                <a:solidFill>
                  <a:srgbClr val="000000"/>
                </a:solidFill>
                <a:latin typeface="Arial Black"/>
                <a:ea typeface="Arial"/>
              </a:rPr>
              <a:t>Transportes y </a:t>
            </a: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ervicios Urbanos - Hidr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7BA9-6AEB-47E7-ABAB-9B4CE9AB1EB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0" y="6165360"/>
            <a:ext cx="601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Escuela Universitaria Politéc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Ingeniería Técnica en Obras Públ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Construcciones Civiles - </a:t>
            </a:r>
            <a:r>
              <a:rPr b="0" lang="es-ES" sz="1200" spc="-1" strike="noStrike">
                <a:solidFill>
                  <a:srgbClr val="000000"/>
                </a:solidFill>
                <a:latin typeface="Arial Black"/>
                <a:ea typeface="Arial"/>
              </a:rPr>
              <a:t>Transportes y </a:t>
            </a: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ervicios Urbanos - Hidr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FFF4-0EB4-4642-90AF-83FEB066884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dt" idx="12"/>
          </p:nvPr>
        </p:nvSpPr>
        <p:spPr>
          <a:xfrm>
            <a:off x="0" y="6165360"/>
            <a:ext cx="601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Escuela Universitaria Politéc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Ingeniería Técnica en Obras Públ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Construcciones Civiles - </a:t>
            </a:r>
            <a:r>
              <a:rPr b="0" lang="es-ES" sz="1200" spc="-1" strike="noStrike">
                <a:solidFill>
                  <a:srgbClr val="000000"/>
                </a:solidFill>
                <a:latin typeface="Arial Black"/>
                <a:ea typeface="Arial"/>
              </a:rPr>
              <a:t>Transportes y </a:t>
            </a: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ervicios Urbanos - Hidr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34D9-6DE3-4309-BD22-50627224393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dt" idx="15"/>
          </p:nvPr>
        </p:nvSpPr>
        <p:spPr>
          <a:xfrm>
            <a:off x="0" y="6165360"/>
            <a:ext cx="601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Escuela Universitaria Politéc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Ingeniería Técnica en Obras Públ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Construcciones Civiles - </a:t>
            </a:r>
            <a:r>
              <a:rPr b="0" lang="es-ES" sz="1200" spc="-1" strike="noStrike">
                <a:solidFill>
                  <a:srgbClr val="000000"/>
                </a:solidFill>
                <a:latin typeface="Arial Black"/>
                <a:ea typeface="Arial"/>
              </a:rPr>
              <a:t>Transportes y </a:t>
            </a: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ervicios Urbanos - Hidr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A98E-8A21-4A62-A2E8-4257DE27243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dt" idx="18"/>
          </p:nvPr>
        </p:nvSpPr>
        <p:spPr>
          <a:xfrm>
            <a:off x="0" y="6165360"/>
            <a:ext cx="601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Escuela Universitaria Politéc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Ingeniería Técnica en Obras Públ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Construcciones Civiles - </a:t>
            </a:r>
            <a:r>
              <a:rPr b="0" lang="es-ES" sz="1200" spc="-1" strike="noStrike">
                <a:solidFill>
                  <a:srgbClr val="000000"/>
                </a:solidFill>
                <a:latin typeface="Arial Black"/>
                <a:ea typeface="Arial"/>
              </a:rPr>
              <a:t>Transportes y </a:t>
            </a: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ervicios Urbanos - Hidr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D271-7F81-495A-985A-E0224CC0B6D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dt" idx="21"/>
          </p:nvPr>
        </p:nvSpPr>
        <p:spPr>
          <a:xfrm>
            <a:off x="0" y="6165360"/>
            <a:ext cx="601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Escuela Universitaria Politéc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Ingeniería Técnica en Obras Públ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Construcciones Civiles - </a:t>
            </a:r>
            <a:r>
              <a:rPr b="0" lang="es-ES" sz="1200" spc="-1" strike="noStrike">
                <a:solidFill>
                  <a:srgbClr val="000000"/>
                </a:solidFill>
                <a:latin typeface="Arial Black"/>
                <a:ea typeface="Arial"/>
              </a:rPr>
              <a:t>Transportes y </a:t>
            </a: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ervicios Urbanos - Hidr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9EBC-7569-4802-B31F-6BFAFD5AAAC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dt" idx="24"/>
          </p:nvPr>
        </p:nvSpPr>
        <p:spPr>
          <a:xfrm>
            <a:off x="0" y="6165360"/>
            <a:ext cx="601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Escuela Universitaria Politéc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Ingeniería Técnica en Obras Públ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Construcciones Civiles - </a:t>
            </a:r>
            <a:r>
              <a:rPr b="0" lang="es-ES" sz="1200" spc="-1" strike="noStrike">
                <a:solidFill>
                  <a:srgbClr val="000000"/>
                </a:solidFill>
                <a:latin typeface="Arial Black"/>
                <a:ea typeface="Arial"/>
              </a:rPr>
              <a:t>Transportes y </a:t>
            </a: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ervicios Urbanos - Hidr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2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D9BC-37BA-4231-ADD3-D6FDFB2D327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dt" idx="27"/>
          </p:nvPr>
        </p:nvSpPr>
        <p:spPr>
          <a:xfrm>
            <a:off x="0" y="6165360"/>
            <a:ext cx="601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Escuela Universitaria Politéc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Ingeniería Técnica en Obras Públ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Construcciones Civiles - </a:t>
            </a:r>
            <a:r>
              <a:rPr b="0" lang="es-ES" sz="1200" spc="-1" strike="noStrike">
                <a:solidFill>
                  <a:srgbClr val="000000"/>
                </a:solidFill>
                <a:latin typeface="Arial Black"/>
                <a:ea typeface="Arial"/>
              </a:rPr>
              <a:t>Transportes y </a:t>
            </a: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ervicios Urbanos - Hidr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8"/>
          <p:cNvSpPr/>
          <p:nvPr/>
        </p:nvSpPr>
        <p:spPr>
          <a:xfrm>
            <a:off x="609480" y="198900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Introducción a la Informática. Arquitectura de un Ordena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609480" y="7621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Arquitectura Hardware de un Comput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7010280" y="3962520"/>
            <a:ext cx="129564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eriféricos de Sali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2897280" y="2362320"/>
            <a:ext cx="261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Unidad Central de Proc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1909080" y="1371600"/>
            <a:ext cx="479844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emoria Auxiliar (soportes magnéticos, ópticos, 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2897280" y="274320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rocesad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380880" y="3962520"/>
            <a:ext cx="121932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eriféricos de Entr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3048120" y="3276720"/>
            <a:ext cx="24382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Unidad de 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3048120" y="3962520"/>
            <a:ext cx="24393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Unidad Aritmético Lóg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2819520" y="5410080"/>
            <a:ext cx="28954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emoria Cent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12"/>
          <p:cNvSpPr/>
          <p:nvPr/>
        </p:nvSpPr>
        <p:spPr>
          <a:xfrm>
            <a:off x="4040280" y="36576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16"/>
          <p:cNvSpPr/>
          <p:nvPr/>
        </p:nvSpPr>
        <p:spPr>
          <a:xfrm>
            <a:off x="2819520" y="3124080"/>
            <a:ext cx="289548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18"/>
          <p:cNvSpPr/>
          <p:nvPr/>
        </p:nvSpPr>
        <p:spPr>
          <a:xfrm>
            <a:off x="2438280" y="2666880"/>
            <a:ext cx="3733920" cy="32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AutoShape 26"/>
          <p:cNvSpPr/>
          <p:nvPr/>
        </p:nvSpPr>
        <p:spPr>
          <a:xfrm>
            <a:off x="4038480" y="4572000"/>
            <a:ext cx="533520" cy="762120"/>
          </a:xfrm>
          <a:prstGeom prst="upDownArrow">
            <a:avLst>
              <a:gd name="adj1" fmla="val 50000"/>
              <a:gd name="adj2" fmla="val 28437"/>
            </a:avLst>
          </a:prstGeom>
          <a:solidFill>
            <a:srgbClr val="efbf9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AutoShape 27"/>
          <p:cNvSpPr/>
          <p:nvPr/>
        </p:nvSpPr>
        <p:spPr>
          <a:xfrm>
            <a:off x="4038480" y="182880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efbf9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28"/>
          <p:cNvSpPr/>
          <p:nvPr/>
        </p:nvSpPr>
        <p:spPr>
          <a:xfrm>
            <a:off x="1828800" y="396252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fbf9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29"/>
          <p:cNvSpPr/>
          <p:nvPr/>
        </p:nvSpPr>
        <p:spPr>
          <a:xfrm>
            <a:off x="6400800" y="396252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fbf9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609480" y="7621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l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687960" y="33526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2745360" y="1981080"/>
            <a:ext cx="29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stemas Opera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748240" y="4343400"/>
            <a:ext cx="32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ftware de Apli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6555600" y="37339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gra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7088040" y="43434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6860160" y="49528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a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AutoShape 10"/>
          <p:cNvSpPr/>
          <p:nvPr/>
        </p:nvSpPr>
        <p:spPr>
          <a:xfrm>
            <a:off x="2362320" y="1752480"/>
            <a:ext cx="152280" cy="373392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AutoShape 11"/>
          <p:cNvSpPr/>
          <p:nvPr/>
        </p:nvSpPr>
        <p:spPr>
          <a:xfrm>
            <a:off x="6172200" y="3429000"/>
            <a:ext cx="380880" cy="2286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609480" y="7621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l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685800" y="129528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SISTEMA OPERATIVO es el soporte lógico que controla el funcionamiento del equipo físico (hardware), ocultando los detalles del hardware y haciendo “sencillo” el uso de la computadora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4651920" y="3352680"/>
            <a:ext cx="2864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Gestión de la Inform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Gestión de la Memo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Gestión de Entrada/Sali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Gestión de Procesad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Gestión de Trabajos o Tare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18"/>
          <p:cNvSpPr/>
          <p:nvPr/>
        </p:nvSpPr>
        <p:spPr>
          <a:xfrm>
            <a:off x="1984320" y="3886200"/>
            <a:ext cx="21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rogramas de 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19"/>
          <p:cNvSpPr/>
          <p:nvPr/>
        </p:nvSpPr>
        <p:spPr>
          <a:xfrm>
            <a:off x="1981080" y="495288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rogramas de Utilidad (Utilidad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20"/>
          <p:cNvSpPr/>
          <p:nvPr/>
        </p:nvSpPr>
        <p:spPr>
          <a:xfrm>
            <a:off x="609480" y="4267080"/>
            <a:ext cx="110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istema Operativ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21"/>
          <p:cNvSpPr/>
          <p:nvPr/>
        </p:nvSpPr>
        <p:spPr>
          <a:xfrm>
            <a:off x="1752480" y="3276720"/>
            <a:ext cx="152640" cy="2514600"/>
          </a:xfrm>
          <a:custGeom>
            <a:avLst/>
            <a:gdLst>
              <a:gd name="textAreaLeft" fmla="*/ 97560 w 152640"/>
              <a:gd name="textAreaRight" fmla="*/ 153000 w 15264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22"/>
          <p:cNvSpPr/>
          <p:nvPr/>
        </p:nvSpPr>
        <p:spPr>
          <a:xfrm>
            <a:off x="4343400" y="335268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09480" y="7621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Niveles d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WordArt 11"/>
          <p:cNvSpPr txBox="1"/>
          <p:nvPr/>
        </p:nvSpPr>
        <p:spPr>
          <a:xfrm>
            <a:off x="3886200" y="1371600"/>
            <a:ext cx="152388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plicaciones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6" name="Oval 15"/>
          <p:cNvSpPr/>
          <p:nvPr/>
        </p:nvSpPr>
        <p:spPr>
          <a:xfrm>
            <a:off x="3657600" y="2666880"/>
            <a:ext cx="1905120" cy="1905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Oval 16"/>
          <p:cNvSpPr/>
          <p:nvPr/>
        </p:nvSpPr>
        <p:spPr>
          <a:xfrm>
            <a:off x="3124080" y="2133720"/>
            <a:ext cx="3048120" cy="2971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Oval 17"/>
          <p:cNvSpPr/>
          <p:nvPr/>
        </p:nvSpPr>
        <p:spPr>
          <a:xfrm>
            <a:off x="2666880" y="1676520"/>
            <a:ext cx="4038840" cy="3962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18"/>
          <p:cNvSpPr/>
          <p:nvPr/>
        </p:nvSpPr>
        <p:spPr>
          <a:xfrm>
            <a:off x="1981080" y="1066680"/>
            <a:ext cx="5410440" cy="51818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WordArt 20"/>
          <p:cNvSpPr txBox="1"/>
          <p:nvPr/>
        </p:nvSpPr>
        <p:spPr>
          <a:xfrm>
            <a:off x="4114800" y="1905120"/>
            <a:ext cx="114300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Utilidades</a:t>
            </a:r>
            <a:endParaRPr b="0" lang="en-US" sz="1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1" name="WordArt 21"/>
          <p:cNvSpPr txBox="1"/>
          <p:nvPr/>
        </p:nvSpPr>
        <p:spPr>
          <a:xfrm>
            <a:off x="3581280" y="2438280"/>
            <a:ext cx="213372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rogramas de Control</a:t>
            </a:r>
            <a:endParaRPr b="0" lang="en-US" sz="1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2" name="WordArt 28"/>
          <p:cNvSpPr txBox="1"/>
          <p:nvPr/>
        </p:nvSpPr>
        <p:spPr>
          <a:xfrm>
            <a:off x="4114800" y="4572000"/>
            <a:ext cx="99072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istema</a:t>
            </a:r>
            <a:endParaRPr b="0" lang="en-US" sz="1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3" name="WordArt 29"/>
          <p:cNvSpPr txBox="1"/>
          <p:nvPr/>
        </p:nvSpPr>
        <p:spPr>
          <a:xfrm>
            <a:off x="4038480" y="5029200"/>
            <a:ext cx="1295640" cy="351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perativo</a:t>
            </a:r>
            <a:endParaRPr b="0" lang="en-US" sz="1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4" name="WordArt 30"/>
          <p:cNvSpPr txBox="1"/>
          <p:nvPr/>
        </p:nvSpPr>
        <p:spPr>
          <a:xfrm>
            <a:off x="3962520" y="3429000"/>
            <a:ext cx="1295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Hardware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5" name="WordArt 31"/>
          <p:cNvSpPr txBox="1"/>
          <p:nvPr/>
        </p:nvSpPr>
        <p:spPr>
          <a:xfrm>
            <a:off x="7696080" y="838080"/>
            <a:ext cx="1067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Usuario</a:t>
            </a:r>
            <a:endParaRPr b="0" lang="en-US" sz="1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6" name="Line 33"/>
          <p:cNvSpPr/>
          <p:nvPr/>
        </p:nvSpPr>
        <p:spPr>
          <a:xfrm flipH="1">
            <a:off x="6781320" y="1143000"/>
            <a:ext cx="685800" cy="533520"/>
          </a:xfrm>
          <a:prstGeom prst="line">
            <a:avLst/>
          </a:prstGeom>
          <a:ln w="127080">
            <a:solidFill>
              <a:srgbClr val="efbf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609480" y="762120"/>
            <a:ext cx="8229600" cy="56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Prehisto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l origen de la informática se encuentra en la necesidad de automatizar procesos de cálculo tediosos y repetitivos, sobre todo para registrar bienes (contabilida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a necesidad provocó la necesidad de representar cantidades numéricas que permitían cuantificar la rea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cubrimiento de las matemáticas y el cálculo que viene del término latino “calculus” que significa piedra (se contaba ayudándose de piedra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609480" y="762120"/>
            <a:ext cx="373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Prehisto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l ÁBACO es el primer “artilugio” que facilitaba el proceso de cálcu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ún se utiliza hoy día en algunos países orient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Picture 4" descr="abaco"/>
          <p:cNvPicPr/>
          <p:nvPr/>
        </p:nvPicPr>
        <p:blipFill>
          <a:blip r:embed="rId1"/>
          <a:stretch/>
        </p:blipFill>
        <p:spPr>
          <a:xfrm>
            <a:off x="4572000" y="1219320"/>
            <a:ext cx="419112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Hechos y Personajes Histór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685800" y="1295280"/>
            <a:ext cx="5410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ohn Napier (escocés, 1550-1617) inventa los logaritmos naturales o neperianos para simplificar las operaciones de multiplicación, división y exponenciación, y construye en 1614 las primeras tablas de logaritm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deó un dispositivo manual basado en varillas cifradas que permitía multiplicar y dividir de forma automática. (Estructuras de Napier o Huesos de Napi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Picture 9" descr="napier-bones"/>
          <p:cNvPicPr/>
          <p:nvPr/>
        </p:nvPicPr>
        <p:blipFill>
          <a:blip r:embed="rId1"/>
          <a:stretch/>
        </p:blipFill>
        <p:spPr>
          <a:xfrm>
            <a:off x="6019920" y="3657600"/>
            <a:ext cx="2743200" cy="21938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0" descr="napier"/>
          <p:cNvPicPr/>
          <p:nvPr/>
        </p:nvPicPr>
        <p:blipFill>
          <a:blip r:embed="rId2"/>
          <a:stretch/>
        </p:blipFill>
        <p:spPr>
          <a:xfrm>
            <a:off x="6553080" y="1447920"/>
            <a:ext cx="14637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Hechos y Personajes Histór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685800" y="1295280"/>
            <a:ext cx="41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ilhelm Schickard (alemán, 1592-1635) diseño una calculadora mecánica denominada “reloj calculante” basada en ruedas dentadas, que era capaz de sumar y restar. No se construyó en su épo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Picture 6" descr="mac_schickard"/>
          <p:cNvPicPr/>
          <p:nvPr/>
        </p:nvPicPr>
        <p:blipFill>
          <a:blip r:embed="rId1"/>
          <a:stretch/>
        </p:blipFill>
        <p:spPr>
          <a:xfrm>
            <a:off x="5257800" y="1295280"/>
            <a:ext cx="3581280" cy="310356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7"/>
          <p:cNvSpPr/>
          <p:nvPr/>
        </p:nvSpPr>
        <p:spPr>
          <a:xfrm>
            <a:off x="762120" y="4495680"/>
            <a:ext cx="8381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 construyó a principios del SXX en IBM siguiendo los diseños origin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 considerada la primera máquina de calcular de origen mecán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Hechos y Personajes Histór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685800" y="1523880"/>
            <a:ext cx="548640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laise Pascal (francés, 1623-1662) inventó la primera máquina de calcular completa a base de ruedas dentadas que simulaba el funcionamiento del ába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umaba y restaba, y se denominó “Maquina Aritmética de Pascal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mercialmente se la conoció como “Pascalina” y realizaba operaciones de 8 dígi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6" descr="pascalina"/>
          <p:cNvPicPr/>
          <p:nvPr/>
        </p:nvPicPr>
        <p:blipFill>
          <a:blip r:embed="rId1"/>
          <a:stretch/>
        </p:blipFill>
        <p:spPr>
          <a:xfrm>
            <a:off x="6095880" y="4246560"/>
            <a:ext cx="2397240" cy="13622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7" descr="pascal"/>
          <p:cNvPicPr/>
          <p:nvPr/>
        </p:nvPicPr>
        <p:blipFill>
          <a:blip r:embed="rId2"/>
          <a:stretch/>
        </p:blipFill>
        <p:spPr>
          <a:xfrm>
            <a:off x="6400800" y="1676520"/>
            <a:ext cx="1397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Hechos y Personajes Histór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685800" y="15238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 1650, Padtrige, basándose en los descubrimientos de Napier, inventó la “regla de cálculo”. Hasta el boom de las calculadores electrónicas en los años setenta era el dispositivo de cálculo más uti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8" descr="slide-rule"/>
          <p:cNvPicPr/>
          <p:nvPr/>
        </p:nvPicPr>
        <p:blipFill>
          <a:blip r:embed="rId1"/>
          <a:stretch/>
        </p:blipFill>
        <p:spPr>
          <a:xfrm>
            <a:off x="2057400" y="3124080"/>
            <a:ext cx="54864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4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609480" y="762120"/>
            <a:ext cx="822960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Introdu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lo largo de la Historia ha existido la necesidad de transmitir y tratar información (escritura, libros, bibliotecas, correo tradicional, ...), porque la información es la representación física del cono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Humanidad no ha parado de crear máquinas y métodos para procesar y transmitir información a lo largo de toda su histo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 la práctica la Informática nace de la idea de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TOMATIZAR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trabajos rutinarios y repetitivos (cálculos matemáticos, ..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Hechos y Personajes Histór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609480" y="12952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 1666, el matemático inglés Samuel Morland, inventó máquina de similares características a la de Pascal que se llamó “Máquina Aritmética de Morland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533520" y="2666880"/>
            <a:ext cx="396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ottfried Wilhelm Leibniz (alemán, 1646-1716) mejora la máquina de Pascal y construye su “Calculadora Universal”, capaz de sumar, restar, multiplicar, dividir y extraer raíces cuadr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5" name="Picture 8" descr="mac_leibnitz"/>
          <p:cNvPicPr/>
          <p:nvPr/>
        </p:nvPicPr>
        <p:blipFill>
          <a:blip r:embed="rId1"/>
          <a:stretch/>
        </p:blipFill>
        <p:spPr>
          <a:xfrm>
            <a:off x="4876920" y="4572000"/>
            <a:ext cx="3809880" cy="15080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9" descr="leibnitz"/>
          <p:cNvPicPr/>
          <p:nvPr/>
        </p:nvPicPr>
        <p:blipFill>
          <a:blip r:embed="rId2"/>
          <a:stretch/>
        </p:blipFill>
        <p:spPr>
          <a:xfrm>
            <a:off x="5867280" y="2514600"/>
            <a:ext cx="1690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Hechos y Personajes Histór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609480" y="2971800"/>
            <a:ext cx="4724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oseph Marie Jacquard (francés, 1752-1834) construye un telar automático utilizando tarjetas perforadas que contenían el “programa” para tejer cada tejido. El Telar de Jaquard se la considera la primera máquina program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0" name="Picture 9" descr="jacquard"/>
          <p:cNvPicPr/>
          <p:nvPr/>
        </p:nvPicPr>
        <p:blipFill>
          <a:blip r:embed="rId1"/>
          <a:stretch/>
        </p:blipFill>
        <p:spPr>
          <a:xfrm>
            <a:off x="1752480" y="1295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0" descr="jacquard-loom"/>
          <p:cNvPicPr/>
          <p:nvPr/>
        </p:nvPicPr>
        <p:blipFill>
          <a:blip r:embed="rId2"/>
          <a:stretch/>
        </p:blipFill>
        <p:spPr>
          <a:xfrm>
            <a:off x="5087880" y="1295280"/>
            <a:ext cx="3471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Hechos y Personajes Histór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609480" y="1295280"/>
            <a:ext cx="7772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harles Babbage (inglés, 1792-1871) diseñó dos máquinas de calcular: la “Máquina de Diferencias” y la “Máquina Analítica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oy día se le considera el padre de las computadoras moder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5" name="Picture 7" descr="babbage"/>
          <p:cNvPicPr/>
          <p:nvPr/>
        </p:nvPicPr>
        <p:blipFill>
          <a:blip r:embed="rId1"/>
          <a:stretch/>
        </p:blipFill>
        <p:spPr>
          <a:xfrm>
            <a:off x="3581280" y="3505320"/>
            <a:ext cx="18972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Hechos y Personajes Histór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609480" y="1295280"/>
            <a:ext cx="52578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“Máquina de Diferencias” (1822) de Babbage se basaba en fundamentos mecánicos con ruedas dentadas. Su aplicación fue la resolución de funciones y la obtención de tablas de dichas fun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bido a las deficiencias tecnológicas de la época, no llegó a terminarla completamente. En 1991 se construyó una replica en Inglaterra siguiendo su diseño orig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9" name="Picture 7" descr="maquina-diferencias"/>
          <p:cNvPicPr/>
          <p:nvPr/>
        </p:nvPicPr>
        <p:blipFill>
          <a:blip r:embed="rId1"/>
          <a:stretch/>
        </p:blipFill>
        <p:spPr>
          <a:xfrm>
            <a:off x="5927760" y="1676520"/>
            <a:ext cx="3062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Hechos y Personajes Histór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609480" y="1523880"/>
            <a:ext cx="77724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“Máquina Analítica” (1833) de Babbage era capaz de realizar todas las operaciones matemáticas y podía ser programada mediante tarjetas de cartón perforado, además podía almacenar en su interior una cantidad de cifras consider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n el diseño de esta máquina se establecieron por primera vez en la historia los fundamentos de los computadores actu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 ideó para la realización automática de tablas de logaritmos y funciones trigonométric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Hechos y Personajes Histór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609480" y="15238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“Máquina Analítica” de Babbage tampoco llegó a construirse debido a las limitaciones tecnológicas de la época. Años después aparecieron máquinas con su dise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387720" y="4191120"/>
            <a:ext cx="99288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ntrad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(tarjeta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3054960" y="3962520"/>
            <a:ext cx="9702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emo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5034240" y="3962520"/>
            <a:ext cx="115164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alculad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3048120" y="4800600"/>
            <a:ext cx="31240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Unidad de 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7777080" y="4267080"/>
            <a:ext cx="7462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ali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10"/>
          <p:cNvSpPr/>
          <p:nvPr/>
        </p:nvSpPr>
        <p:spPr>
          <a:xfrm>
            <a:off x="2666880" y="3657600"/>
            <a:ext cx="38862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AutoShape 11"/>
          <p:cNvSpPr/>
          <p:nvPr/>
        </p:nvSpPr>
        <p:spPr>
          <a:xfrm>
            <a:off x="1828800" y="42670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efbf9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AutoShape 12"/>
          <p:cNvSpPr/>
          <p:nvPr/>
        </p:nvSpPr>
        <p:spPr>
          <a:xfrm>
            <a:off x="7010280" y="42670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efbf9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AutoShape 13"/>
          <p:cNvSpPr/>
          <p:nvPr/>
        </p:nvSpPr>
        <p:spPr>
          <a:xfrm>
            <a:off x="4343400" y="39625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efbf9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AutoShape 14"/>
          <p:cNvSpPr/>
          <p:nvPr/>
        </p:nvSpPr>
        <p:spPr>
          <a:xfrm>
            <a:off x="3352680" y="4419720"/>
            <a:ext cx="38124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efbf9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AutoShape 15"/>
          <p:cNvSpPr/>
          <p:nvPr/>
        </p:nvSpPr>
        <p:spPr>
          <a:xfrm>
            <a:off x="5486400" y="4419720"/>
            <a:ext cx="38088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efbf9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Hechos y Personajes Histór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609480" y="1523880"/>
            <a:ext cx="60962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“Máquina Analítica” de Babbage tampoco llegó a construirse debido a las limitaciones tecnológicas de la épo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ños después aparecieron máquinas con su dise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gusta Ada Byron (inglesa, 1788-1824), alumna de Babbage, fue la primera persona que realizó programas para la máquina analítica de Babbage. Se la considera la primera programadora de la histo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Picture 16" descr="adabyron"/>
          <p:cNvPicPr/>
          <p:nvPr/>
        </p:nvPicPr>
        <p:blipFill>
          <a:blip r:embed="rId1"/>
          <a:stretch/>
        </p:blipFill>
        <p:spPr>
          <a:xfrm>
            <a:off x="7010280" y="2743200"/>
            <a:ext cx="12700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Hechos y Personajes Histór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609480" y="1523880"/>
            <a:ext cx="7772400" cy="30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hr George Scheutz (sueco, 1785-1873) construyó una máquina diferencial similar a la de Babbage, denominada “Máquina Tabular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ue utilizada fundamentalmente para la realización de cálculos astronómicos y la confección de tablas para compañías de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Hechos y Personajes Histór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Rectangle 4"/>
          <p:cNvSpPr/>
          <p:nvPr/>
        </p:nvSpPr>
        <p:spPr>
          <a:xfrm>
            <a:off x="609480" y="152388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eorge Boole (inglés, 1915-1864) desarrolló el Álgebra de Boole que permitió el desarrollo matemático posterior del álgebra binaria que posibilitó la Teoría de Circuitos Lógicos, fundamento básico de la informática act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5" descr="boole"/>
          <p:cNvPicPr/>
          <p:nvPr/>
        </p:nvPicPr>
        <p:blipFill>
          <a:blip r:embed="rId1"/>
          <a:stretch/>
        </p:blipFill>
        <p:spPr>
          <a:xfrm>
            <a:off x="3581280" y="3429000"/>
            <a:ext cx="1737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Hechos y Personajes Histór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4"/>
          <p:cNvSpPr/>
          <p:nvPr/>
        </p:nvSpPr>
        <p:spPr>
          <a:xfrm>
            <a:off x="609480" y="1523880"/>
            <a:ext cx="4572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rman Hollerith (norteamericano, 1860-1929), funcionario del Censo de E.E.U.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nstruyó una “máquina censadora o tabuladora” para realizar el censo de E.E.U.U. en 1895 utilizando tarjetas perforadas. El censo normalmente se hacía en 10 años, con su máquina se tardaron sólo 3 a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1" name="Picture 6" descr="hollerith"/>
          <p:cNvPicPr/>
          <p:nvPr/>
        </p:nvPicPr>
        <p:blipFill>
          <a:blip r:embed="rId1"/>
          <a:stretch/>
        </p:blipFill>
        <p:spPr>
          <a:xfrm>
            <a:off x="6629400" y="1371600"/>
            <a:ext cx="1257480" cy="14968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7" descr="maquina_censadora"/>
          <p:cNvPicPr/>
          <p:nvPr/>
        </p:nvPicPr>
        <p:blipFill>
          <a:blip r:embed="rId2"/>
          <a:stretch/>
        </p:blipFill>
        <p:spPr>
          <a:xfrm>
            <a:off x="5105520" y="3562200"/>
            <a:ext cx="3924360" cy="24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026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027"/>
          <p:cNvSpPr/>
          <p:nvPr/>
        </p:nvSpPr>
        <p:spPr>
          <a:xfrm>
            <a:off x="609480" y="762120"/>
            <a:ext cx="822960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Introdu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Informática podría definirse como la ciencia que se encarga del estudio, desarrollo y construcción de máquinas y métodos para procesar inform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l término “Informática” proviene de la contracción de INFORmación y AutoMÁTICA, que a su vez procede del termíno francés “Informatique” (INFORmation AutoMATIQU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FINICIÓN: “La informática es la ciencia que estudia el tratamiento AUTOMÁTICO (máquinas) y RACIONAL (programas hechos por humanos) de la información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Hechos y Personajes Histór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609480" y="1523880"/>
            <a:ext cx="77724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 1896  Hollerith fundó la empresa “Tabulating Machines Company”, que en 1924 después de un proceso de fusiones pasó a ser la actual “International Business Machines” (IBM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l suizo Otto Steiger en 1893 construyo la primera calculadora que tuvo éxito comercial. Se utilizó en grandes negocios y en algunas aplicaciones cient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Hechos y Personajes Histór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609480" y="152388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onardo Torres Quevedo (español, 1852-1936) construyó a principios del siglo XX varias máquinas o autómatas teledirigidos, una máquina para jugar al ajedréz y una máquina calculadora. En 1914 diseño una máquina analítica que no llegó a constru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609480" y="3657600"/>
            <a:ext cx="563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an M. Turing (inglés, 1912-1954) inicia la Teoría Matemática de la Computación con su representación de formal de procesos algorítmicos a través de una máquina secuencial (Máquinas de Turing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Picture 6" descr="turing"/>
          <p:cNvPicPr/>
          <p:nvPr/>
        </p:nvPicPr>
        <p:blipFill>
          <a:blip r:embed="rId1"/>
          <a:stretch/>
        </p:blipFill>
        <p:spPr>
          <a:xfrm>
            <a:off x="6781680" y="3809880"/>
            <a:ext cx="12574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Hechos y Personajes Histór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609480" y="1523880"/>
            <a:ext cx="77724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oward H. Aiken (1900-1973) en 1937 desarrolla la idea de Babbage y construye en la Universidad de Harvard una calculadora numérica basada en relés electromagnéticos, ruedas dentadas y embragues electromecánicos (Mark I – “Calculadora Automática de Secuencia Controlada”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nía 16´6 m. largo x 2´6 m. alto, pesaba unas 70 toneladas, tenía unas 80.000 piezas móviles y su cableado tenía una longitud de 800.000 me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umaba dos números en menos de 1 segundo y los multiplicaba en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Hechos y Personajes Histór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Rectangle 4"/>
          <p:cNvSpPr/>
          <p:nvPr/>
        </p:nvSpPr>
        <p:spPr>
          <a:xfrm>
            <a:off x="609480" y="15238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Mark I sumaba dos números en menos de 1 segundo y los multiplicaba en 3. Trabajaba con números de 26 cifras decimales. Se terminó de construir en 194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7" name="Picture 5" descr="markone"/>
          <p:cNvPicPr/>
          <p:nvPr/>
        </p:nvPicPr>
        <p:blipFill>
          <a:blip r:embed="rId1"/>
          <a:stretch/>
        </p:blipFill>
        <p:spPr>
          <a:xfrm>
            <a:off x="2590920" y="3200400"/>
            <a:ext cx="402264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Hechos y Personajes Histór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609480" y="1371600"/>
            <a:ext cx="77724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laude Shannon (alemán, 1916-2001) comenzó aplicar el Álgebra de Boole para representar circuitos lógicos. Creó la Teoría Matemática de las Comunicaciones y define por primera vez el “bit” de inform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 1938, John V. Atanasoff y Clifford Berry de la Universidad de Iowa construyen la primera máquina totalmente electrónica que operaba en binario siguiendo las ideas de Babbage (ABC – “Atanasoff-Berry Computer). Es considerada la primera máquina de calcular digital. No era programable. Se utilizó para resolver ecuaciones lineales y diferen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Hechos y Personajes Histór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609480" y="1371600"/>
            <a:ext cx="77724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 1940, John W. Mauchly y John P. Eckert construyeron la primera computadora electrónica (ENIAC – “Electronic Numerical Integrator and Calculator”) a base de válvulas de vacio. Entró en funcionamiento en 194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ENIAC era programable y de propósito general. Se utilizó principalmente para el cálculo de trayectoria de proyectiles por parte del ejercito estadouniden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ra 1000 veces más rápida que la Mark I, sumaba en 2 diezmilésimas de segundo, y multiplicaba en 3 milésimas de segun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Hechos y Personajes Histór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609480" y="1447920"/>
            <a:ext cx="327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ENIAC ocupaba un volumen de unos 111 metros cúbicos, y una superficie de 160 m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, pesaba 30 toneladas, tenía 17.468 válvulas de vacío, y consumía entre 100.000 y 200.000 vat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7" name="Picture 5" descr="eniac"/>
          <p:cNvPicPr/>
          <p:nvPr/>
        </p:nvPicPr>
        <p:blipFill>
          <a:blip r:embed="rId1"/>
          <a:stretch/>
        </p:blipFill>
        <p:spPr>
          <a:xfrm>
            <a:off x="3809880" y="1447920"/>
            <a:ext cx="518184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Hechos y Personajes Histór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609480" y="144792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 1944, Jonh Von Neumann (húngaro-estadounidense, 1903-1957) desarrolla la idea de “programa interno” (programa no cableado en memoria) y establece “Modelo Von Neumann” para diseñar computad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Picture 7" descr="voneuman"/>
          <p:cNvPicPr/>
          <p:nvPr/>
        </p:nvPicPr>
        <p:blipFill>
          <a:blip r:embed="rId1"/>
          <a:stretch/>
        </p:blipFill>
        <p:spPr>
          <a:xfrm>
            <a:off x="2743200" y="3124080"/>
            <a:ext cx="388620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Hechos y Personajes Histór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609480" y="1447920"/>
            <a:ext cx="304812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ideas de Von Neumann fueron puestas en práctica en la construcción en 1952 de la EDVAC (“Electronic Discrete Variable Automatic Computer”), descendiente directa de la ENIA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5" name="Picture 5" descr="edvac"/>
          <p:cNvPicPr/>
          <p:nvPr/>
        </p:nvPicPr>
        <p:blipFill>
          <a:blip r:embed="rId1"/>
          <a:stretch/>
        </p:blipFill>
        <p:spPr>
          <a:xfrm>
            <a:off x="3733920" y="1447920"/>
            <a:ext cx="52070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Hechos y Personajes Histór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4"/>
          <p:cNvSpPr/>
          <p:nvPr/>
        </p:nvSpPr>
        <p:spPr>
          <a:xfrm>
            <a:off x="609480" y="1447920"/>
            <a:ext cx="7772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 1951, Mauchly  construye la primera computadora fabricada en serie puesta a la venta, la UNIVAC I (“Universal Automatic Computer) que también utilizaba cintas magnétic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9" name="Picture 6" descr="univac"/>
          <p:cNvPicPr/>
          <p:nvPr/>
        </p:nvPicPr>
        <p:blipFill>
          <a:blip r:embed="rId1"/>
          <a:stretch/>
        </p:blipFill>
        <p:spPr>
          <a:xfrm>
            <a:off x="2438280" y="3048120"/>
            <a:ext cx="433080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609480" y="762120"/>
            <a:ext cx="822960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Introdu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ciencia Informática incluye principalm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El desarrollo de nuevas máqui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El desarrollo de nuevos métodos de traba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La construcción de aplicaciones informáticas o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programas (programa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Mejorar las máquinas, métodos y aplicaciones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exist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Evolución de la Electrón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609480" y="1447920"/>
            <a:ext cx="77724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rápida evolución desde la primera computadora comercial, la UNIVAC I , hasta las computadoras actuales, ha sido causada principalmente por descubrimientos y avances en el campo de la Electrón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os avances se resumen en los siguientes pu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 1904, Fleming (inglés) inventa la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álvula de vacio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Evolución de la Electrón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4"/>
          <p:cNvSpPr/>
          <p:nvPr/>
        </p:nvSpPr>
        <p:spPr>
          <a:xfrm>
            <a:off x="609480" y="1447920"/>
            <a:ext cx="77724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. En los años 50, se descubren los semiconductores, inventándose el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iodo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y el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ransistor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, W. Brattain, J. Barden y W. Shockley en los laboratorios Bell inventan este último en 194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. Basándose en el transistor, se construyen circuitos capaces de realizar funciones lógicas (puertas lógica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. Más tarde se construyen los primeros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ircuitos integrados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(SSI – Short Scale Integration, unas 10 puertas lógica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Evolución de la Electrón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533520" y="1219320"/>
            <a:ext cx="77724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5. Apareció la integración a media escala (MSI – Medium Scale Integration, entre 100 y 1000 puertas lógica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6. Aparece la integración a gran escala (LSI – Long Scale Integration, entre 1000 y 10000 puertas lógica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7. Se llega a la integración a muy alta escala (VLSI – Very Large Scale Integration, más de 10000 puertas lógica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8.  En 1971 aparece el primer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icroprocesador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(Intel 4004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 Box 3"/>
          <p:cNvSpPr/>
          <p:nvPr/>
        </p:nvSpPr>
        <p:spPr>
          <a:xfrm>
            <a:off x="609480" y="762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Generaciones de Comput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5"/>
          <p:cNvSpPr/>
          <p:nvPr/>
        </p:nvSpPr>
        <p:spPr>
          <a:xfrm>
            <a:off x="533520" y="1295280"/>
            <a:ext cx="77724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ambién se suele hacer una clasificación de los computadores en función de los cambios tecnológicos que les dieron orig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ª Generación (1940-195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cnología: válvulas de va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plicaciones: uso militar y cálculo científ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gramación: lenguaje máqu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emoria: tarjetas y cintas perforadas, líneas de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ercu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 Box 3"/>
          <p:cNvSpPr/>
          <p:nvPr/>
        </p:nvSpPr>
        <p:spPr>
          <a:xfrm>
            <a:off x="609480" y="762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Generaciones de Comput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4"/>
          <p:cNvSpPr/>
          <p:nvPr/>
        </p:nvSpPr>
        <p:spPr>
          <a:xfrm>
            <a:off x="533520" y="1295280"/>
            <a:ext cx="77724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ª Generación (1952-196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cnología: transis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plicaciones: uso militar, cálculo científico,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dministración y gestión (aplicación comer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gramación: ensamblador, Fortran, Cobol,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g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emoria principal: núcleos de ferrita, tambores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gné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emoria externa: cintas magnéticas y tambores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gné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609480" y="762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Generaciones de Comput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533520" y="1295280"/>
            <a:ext cx="77724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ª Generación (1964-197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cnología: circuito integrado (1964), SSI y MSI,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parecen las mini computado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plicaciones: de todo ti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gramación: Basic, Pascal,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istemas Operativos: multiprogramación, tiempo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al, tiempo compartido, modo inter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emoria principal: semiconduct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emoria externa: discos magné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 Box 3"/>
          <p:cNvSpPr/>
          <p:nvPr/>
        </p:nvSpPr>
        <p:spPr>
          <a:xfrm>
            <a:off x="609480" y="762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Generaciones de Comput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4"/>
          <p:cNvSpPr/>
          <p:nvPr/>
        </p:nvSpPr>
        <p:spPr>
          <a:xfrm>
            <a:off x="533520" y="1295280"/>
            <a:ext cx="77724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ª Generación (1971-198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cnología: aparece el primer microprocesador y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s primeras microcomputadoras, L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plicaciones: de todo ti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gramación: C, C++,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istemas Operativos: UNIX, CPM, MSDOS,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leinformática: las redes de ordenadores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piezan a prolife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3"/>
          <p:cNvSpPr/>
          <p:nvPr/>
        </p:nvSpPr>
        <p:spPr>
          <a:xfrm>
            <a:off x="609480" y="762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olución Histórica: Generaciones de Comput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4"/>
          <p:cNvSpPr/>
          <p:nvPr/>
        </p:nvSpPr>
        <p:spPr>
          <a:xfrm>
            <a:off x="533520" y="1295280"/>
            <a:ext cx="77724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5ª Generación (1981-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cnología: VLSI, Inteligencia Artif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plicaciones: de todo ti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gramación: lenguaje natural (lenguajes de 5º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ener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leinformática: redes integr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gración de datos, imágenes y voz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(multimed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3"/>
          <p:cNvSpPr/>
          <p:nvPr/>
        </p:nvSpPr>
        <p:spPr>
          <a:xfrm>
            <a:off x="6094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Clasificación de los Comput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609480" y="144792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upercomputadora (Cray Y-MP), billones 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inframe (IBM 3090), 5000 termi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inicomputadora (DEC VAX, IBM AS/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icrocomputad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mputadora Personal (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rtátiles (laptop, notebook, pocket-PC o palmt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ación de Trabajo (workst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609480" y="76212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lementos y Conceptos Fundamen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5410080" y="43434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1600200" y="3124080"/>
            <a:ext cx="647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”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(a) COMPUTADOR(A) u ORDENADOR es una MÁQUINA compuesta de elementos FÍSICOS (hardware) que es capaz de realizar una tarea o trabajo de forma AUTOMÁTICA siguiendo un conjunto de instrucciones PREVIAMENTE establecidas (PROGRAMA)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Picture 6" descr="computer"/>
          <p:cNvPicPr/>
          <p:nvPr/>
        </p:nvPicPr>
        <p:blipFill>
          <a:blip r:embed="rId1"/>
          <a:stretch/>
        </p:blipFill>
        <p:spPr>
          <a:xfrm>
            <a:off x="5715000" y="609480"/>
            <a:ext cx="24004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609480" y="76212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lementos y Conceptos Fundamen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5410080" y="43434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685800" y="205740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”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a APLICACIÓN INFORMÁTICA es el conjunto de uno o varios programas que ejecutada en uno/varios computadores realiza un determinado trabajo o tarea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12" descr="office_2000_box"/>
          <p:cNvPicPr/>
          <p:nvPr/>
        </p:nvPicPr>
        <p:blipFill>
          <a:blip r:embed="rId1"/>
          <a:stretch/>
        </p:blipFill>
        <p:spPr>
          <a:xfrm>
            <a:off x="5265720" y="1219320"/>
            <a:ext cx="3189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609480" y="76212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lementos y Conceptos Fundamen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5410080" y="43434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304920" y="1905120"/>
            <a:ext cx="38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”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l término SISTEMA INFORMÁTICO se refiere al conjunto de elementos necesarios (computadores, terminales, impresoras, ...) para la realización (programación) y explotación de aplicaciones informáticas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10" descr="computer-system"/>
          <p:cNvPicPr/>
          <p:nvPr/>
        </p:nvPicPr>
        <p:blipFill>
          <a:blip r:embed="rId1"/>
          <a:stretch/>
        </p:blipFill>
        <p:spPr>
          <a:xfrm>
            <a:off x="4267080" y="1219320"/>
            <a:ext cx="457200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609480" y="7621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lementos y Conceptos Fundamen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La “información” es todo aquello que nos permite expresar y/o transmitir algún “conocimient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" name="Group 16"/>
          <p:cNvGrpSpPr/>
          <p:nvPr/>
        </p:nvGrpSpPr>
        <p:grpSpPr>
          <a:xfrm>
            <a:off x="152280" y="2743200"/>
            <a:ext cx="8991720" cy="2438280"/>
            <a:chOff x="152280" y="2743200"/>
            <a:chExt cx="8991720" cy="2438280"/>
          </a:xfrm>
        </p:grpSpPr>
        <p:sp>
          <p:nvSpPr>
            <p:cNvPr id="518" name="Text Box 8"/>
            <p:cNvSpPr/>
            <p:nvPr/>
          </p:nvSpPr>
          <p:spPr>
            <a:xfrm>
              <a:off x="3048120" y="3657600"/>
              <a:ext cx="2590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Arial"/>
                </a:rPr>
                <a:t>Procesamiento (Algoritmo o Proceso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Text Box 7"/>
            <p:cNvSpPr/>
            <p:nvPr/>
          </p:nvSpPr>
          <p:spPr>
            <a:xfrm>
              <a:off x="152280" y="3581280"/>
              <a:ext cx="137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Arial"/>
                </a:rPr>
                <a:t>Datos de Entrad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Text Box 9"/>
            <p:cNvSpPr/>
            <p:nvPr/>
          </p:nvSpPr>
          <p:spPr>
            <a:xfrm>
              <a:off x="7315200" y="380988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Arial"/>
                </a:rPr>
                <a:t>Resultados de Salid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Rectangle 10"/>
            <p:cNvSpPr/>
            <p:nvPr/>
          </p:nvSpPr>
          <p:spPr>
            <a:xfrm>
              <a:off x="2743200" y="3352680"/>
              <a:ext cx="3200400" cy="1828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12"/>
            <p:cNvSpPr/>
            <p:nvPr/>
          </p:nvSpPr>
          <p:spPr>
            <a:xfrm>
              <a:off x="6095880" y="426708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11"/>
            <p:cNvSpPr/>
            <p:nvPr/>
          </p:nvSpPr>
          <p:spPr>
            <a:xfrm>
              <a:off x="1219320" y="419076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Text Box 15"/>
            <p:cNvSpPr/>
            <p:nvPr/>
          </p:nvSpPr>
          <p:spPr>
            <a:xfrm>
              <a:off x="2056320" y="2743200"/>
              <a:ext cx="45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efbf9f"/>
                  </a:solidFill>
                  <a:latin typeface="Arial"/>
                </a:rPr>
                <a:t>Tratamiento de la Informació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6094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Módulo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609480" y="762120"/>
            <a:ext cx="822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lementos y Conceptos Fundamen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El HARDWARE es el elemento FÍSICO que constituye un sistema informático: el propio ordenador, las impresoras, los discos, los CDs, las cintas magnéticas, las tarjetas de sonido, el ratón, el teclado, el joystick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El SOFTWARE es el elemento LÓGICO que dota a un equipo físico (HARDWARE) de capacidad para realizar algún tipo de trabajo o tarea: programas y aplicaciones (sistemas operativos, procesadores de texto, programas de diseño gráfico, juegos, et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8T16:31:07Z</dcterms:created>
  <dc:creator>Pablo Turmero</dc:creator>
  <dc:description/>
  <dc:language>en-US</dc:language>
  <cp:lastModifiedBy>Pablo Turmero</cp:lastModifiedBy>
  <cp:lastPrinted>2000-04-07T09:22:44Z</cp:lastPrinted>
  <dcterms:modified xsi:type="dcterms:W3CDTF">2015-08-11T17:45:15Z</dcterms:modified>
  <cp:revision>283</cp:revision>
  <dc:subject/>
  <dc:title/>
</cp:coreProperties>
</file>