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8.wmf" ContentType="image/x-wmf"/>
  <Override PartName="/ppt/media/image13.png" ContentType="image/png"/>
  <Override PartName="/ppt/media/image10.wmf" ContentType="image/x-wmf"/>
  <Override PartName="/ppt/media/image25.png" ContentType="image/png"/>
  <Override PartName="/ppt/media/image6.png" ContentType="image/png"/>
  <Override PartName="/ppt/media/image5.wmf" ContentType="image/x-wmf"/>
  <Override PartName="/ppt/media/image4.png" ContentType="image/png"/>
  <Override PartName="/ppt/media/image3.wmf" ContentType="image/x-wmf"/>
  <Override PartName="/ppt/media/image2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B7AA-F600-4ACA-8327-FB858C5E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650-B664-43E7-8539-CE8D0DEF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C2968-4F0A-4518-BE7F-985F0A4E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B8945-EFCA-4ED5-88F3-48A71BB5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422AB-B035-4A6B-A08A-F400F8A3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2755A-7479-4D7A-8B9E-86231A78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FD4CB-3FD4-448B-ABEE-8E943C1F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37CB4-8DA4-48B3-811C-150A18CF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99756-8C5D-4E78-B9AB-F2911425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8F612-3CA5-415D-AB78-E502DA27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07D98-9984-499A-A1BA-652334DB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A3D5F-D5C0-4948-8A92-42CACA54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8AB6-A861-410E-99F5-1F4D4222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1E0E1-ED2C-4390-BC0C-D976A572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2ED78-E76D-4D73-9265-3DE53036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85E3A-44FE-41E4-9078-567318F7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B7E28-2E19-4EC2-A0DE-E6843AA9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2ED74-9BEB-4957-8A3A-BC812EF6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C119B-7B98-4290-9967-8673BACA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4BC3E-6C82-4807-9396-10C61100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D5844-B817-4C11-8882-E2BC037B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1E3BD-713F-472B-9D8C-714AE27A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B2283-FE36-4141-BB02-D53D9152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A5B-D350-4E94-9DC3-00B43F73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E8ED6-93A1-468F-8FD3-1C6C6C49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0573A-F3E6-40F3-A845-125D6218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46FF0-2E00-413A-84CF-B3CD213D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5D377-1922-4353-89C5-ED0C749C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0E58D-967C-44CF-AD09-B6CBEB4C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F8A45-AD81-461F-A231-616DDDC3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B934C-E3C1-4CA2-A08F-D2D75310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8246D-3CA6-442F-9949-2C425AC4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C3305-5D4A-40A2-A4D6-37AA2852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5621C-F4C0-41F7-B34B-C181B22D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67C8-BD58-4E28-A050-1931C694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D229B-8DFC-4DFB-9DD5-00A6B1AF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7C9B4-0836-4479-A154-2AF0B3ED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41C29-D6BA-4ECB-8857-A711F95D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B5A89-E98D-4526-AE62-2AB2B43E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14E6B-0783-47B6-9509-5D484FB1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007E2-260F-4510-82A0-6E36F187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AE577-42ED-4382-B18E-31870544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E6557-F2AA-403E-A2C5-50BBB5FB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F1BFF-79C9-45DE-B2F6-F78D5BC0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827FF-5875-414D-93E7-D7FCBA4B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DE5E-B203-439F-811D-C081C82D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11E38-9B4E-4342-9CB3-F38943BF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4BBE1-1560-43BC-B741-C97F2D16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4E3C6-0BE1-4741-A7DD-4E7E7525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095A9-AA0D-4EE7-8D5F-FC02570C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826F1-09FA-4DE5-B8CD-BD968E45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B6CE-B889-482F-AE82-564A00B1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D652-560E-462E-90FC-A854AED8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26C6-351E-427E-89AC-BDCAA10A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7FB8-2B75-4D93-A06F-53354477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2FEA-2FA5-479E-BA31-C067A37B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4D8-D627-4006-ADD0-815ED4CF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EA72-20F5-4FB4-AFFE-4760F010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CE23-575D-42C8-AB12-CF4F63A9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E4D8-49CB-4646-A9DD-DD0D70F1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B040-53D7-4806-A937-DC544C5B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D4FC-24EE-49B0-96AB-8679FD5A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4E2D0-8D0E-4BD0-A564-BD91D62B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55714-C740-43E5-ABB0-5724C4B0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4D0F-1606-40E2-95D9-31A12567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45529-E2F4-42CA-8DD5-DB2F989E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0AC0A-D93E-4FA4-B5D4-AD2A3614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9E9-9DEE-4FC7-B530-25A14D53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E589C-5CA0-4FD2-B0CA-CEA9B6DF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B7FC7-1B2E-45B1-BE53-1A69F647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89B60-E4E9-4602-9A2D-A5C9B741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EA91E-FD6A-4C35-B0D7-5C8526CB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E0E90-7D96-4C43-AD2D-FA75F5C1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AAB1-36AA-43CF-9D35-B4D75ABD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049A8-C7F1-4D39-94CD-DDB828FD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A1FF5-4A59-40AC-82F4-3CC4849E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C111E-DB32-44E5-805F-31269818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6A22E-30CE-4D35-943D-77D4B4ED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405A-02FA-47EC-A5C1-408AE4C1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39358-261D-417C-844F-11C46A23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9B918-E1C3-410E-B010-22E73D66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FB7FB-B60F-4945-B9AA-74967A79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C0507-E33B-4EB7-A4C0-95334752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4EEEC-1F12-4F92-9F98-6D35A6F5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D7DD5-860F-48C9-AE6F-3C746CC3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61309-75BD-46F0-90EF-F2847C4C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6584B-EDE3-4868-B864-20CE6946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C4113-DCB2-4815-838E-C2907C2B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32939-2F04-4968-9031-75FD4D43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14F-CC55-4AEC-BEAB-3C894912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E3952-2E42-4B6C-A7F4-AA0D1D99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E10B3-1424-471B-B947-3D8EE8A8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DB449-41AF-49B4-87C2-BE9BD546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A4491-C672-4915-80AA-DC9E7BD5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A1CF3-78C1-49DB-85AF-F2B1B9A0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B0882-0D49-4833-8229-E9808A2B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7746E-A3D3-46C9-A436-DC67A751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201C3-6B3D-4E6F-8061-115BCB56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A3227-6988-4E52-ADAC-56054986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2EC65-7E3B-479E-A35B-ABF752E2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207D-66B5-45EF-816E-BB52CCCD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BF628-E30A-4D7F-9AE6-6888CB6A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6B2E6-4266-471C-B5E0-BEE835F2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C6C01-B314-4F35-9BF3-C7B13FDD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516BB-7B3D-465A-B2BE-E5D83916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D48F9-0CE2-42BC-B3D4-E4B83EE3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8EFC2-17A9-4C43-A6FA-A6153F7D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CF656-C8D9-4B28-BFEF-15B0002D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69CCB-DF48-442D-8E88-E808A5B3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9CC6E-DC8E-4D5A-B197-B90DBD7C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0EDCD-1D50-46D2-B910-D94BC4C5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BEF-7CD9-4B12-90F4-5481B627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EFD4E-7A3A-4A99-8B49-6A883083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3C6A5-2049-4E0E-AADF-84AB4906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74561-FDA1-4891-9D9A-8762700C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90388-C9BE-40D8-8665-12661BED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937B2-D84A-4D9A-A91B-E0A378BC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EF741-8029-4BC6-882E-AD24D04F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ACEB2-AAC9-4917-8629-BA7F7A64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C5670-8671-465E-B2DF-0063EA1A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FCEFA-B329-4430-B2B6-55279F59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18858-7302-407D-AE8A-AE1932DC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0AC-D7C6-485A-B324-BBAF98C5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46162-2883-4C85-894E-C318E4EB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9553C-98D8-4B03-A995-409398DD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644CE-E38B-4296-8ABF-5A3A99ED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084A0-4A04-4D08-9121-CA352AAD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FE08A-F31D-43CB-8EA4-D36A891D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CD940-BBE2-421D-84DC-E17CAE2A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35FF0-9891-4E69-89DE-D1838B4B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47F13-91AD-4C66-8ED3-5B3506A7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5BBDF-15E9-4F98-845C-86D2B32B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4CA22-1B7A-4EF9-A12A-0A766D25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ED3-B18D-4FC6-9173-3FB3A610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C7F30-9CF1-4D4E-9E09-45486496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808AF-82F6-4C5A-A396-22922F60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D0CDB-82C9-414B-9D4C-2857FB8F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369C2-25F2-4CDD-B31B-78A2044D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17E4B-648A-4A1B-9BD5-B9307A42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D2E25-529B-4E50-B9E8-EF55B4FF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5AE97-09BF-4DE6-B428-FB7BBF79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6722E-7BD8-45C6-9E6C-6A15DE66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62AD4-96F6-4095-87FB-2D1D9B04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2BCB5-C312-4448-9B38-4F53DBA7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1813-D914-425E-B624-B4ED16DEEA7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0C0A-A92B-48BD-936D-216A669FADC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C8CA-596F-4047-A4E0-6738C9CEC9B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8A4F-C518-4087-87D5-86A7A9CBC1F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F270-0514-4034-8DBB-BB7505CDB21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3C1D-DB96-4F31-A1CF-E22780B117C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6124-80F9-48F6-A46A-BAE3A33112D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666F-2867-4511-A086-095B4D2C516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5152-9285-4CAD-8813-3E9F1374CEE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9390-ADC7-4417-9C2C-0D6E9C4169D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389C-13CD-4F71-9A54-A8CC3C40A9B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A51B-3F40-461B-800F-38800DC6359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4"/>
          <p:cNvSpPr/>
          <p:nvPr/>
        </p:nvSpPr>
        <p:spPr>
          <a:xfrm>
            <a:off x="372960" y="601920"/>
            <a:ext cx="839808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PIEDADES DEL MATERIAL REFRACTARIO I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.-ALTA REFRACTAR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.- ESTABILIDAD VOLUMÉTRICA A LAS TEMPERATURAS DE OP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3.- ESTABILIDAD QUÍMICA (FRENTE A GASES, VAPORES Y ESCORI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4.- RESISTENCIA AL CHOQUE TÉRM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5.- ALTA RESISTENCIA MECÁNICA EN CAL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6.- ALTA DEN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7.- BAJA CONDUCTIVIDAD TÉR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8.- ALTA RESISTENCIA A LA ABRA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9.- BAJA CONDUCTIVIDAD ELÉCTRICA A ALTAS TEMPERA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5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748720" cy="399096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6"/>
          <p:cNvSpPr/>
          <p:nvPr/>
        </p:nvSpPr>
        <p:spPr>
          <a:xfrm>
            <a:off x="538920" y="619920"/>
            <a:ext cx="84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ASIFICACIÓN DE LOS LADRILLOS REFRACTARIOS FRENTE A REACCIONES DE CONTAC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46623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"/>
          <p:cNvPicPr/>
          <p:nvPr/>
        </p:nvPicPr>
        <p:blipFill>
          <a:blip r:embed="rId2"/>
          <a:stretch/>
        </p:blipFill>
        <p:spPr>
          <a:xfrm>
            <a:off x="2987640" y="5495760"/>
            <a:ext cx="34560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2715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5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6985080" cy="42861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"/>
          <p:cNvPicPr/>
          <p:nvPr/>
        </p:nvPicPr>
        <p:blipFill>
          <a:blip r:embed="rId3"/>
          <a:stretch/>
        </p:blipFill>
        <p:spPr>
          <a:xfrm>
            <a:off x="1332000" y="5937120"/>
            <a:ext cx="2879640" cy="5954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"/>
          <p:cNvPicPr/>
          <p:nvPr/>
        </p:nvPicPr>
        <p:blipFill>
          <a:blip r:embed="rId4"/>
          <a:stretch/>
        </p:blipFill>
        <p:spPr>
          <a:xfrm>
            <a:off x="4716360" y="6053040"/>
            <a:ext cx="345456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5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Untitled - 1"/>
          <p:cNvPicPr/>
          <p:nvPr/>
        </p:nvPicPr>
        <p:blipFill>
          <a:blip r:embed="rId1"/>
          <a:stretch/>
        </p:blipFill>
        <p:spPr>
          <a:xfrm>
            <a:off x="250920" y="1268280"/>
            <a:ext cx="5761080" cy="370224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6"/>
          <p:cNvSpPr/>
          <p:nvPr/>
        </p:nvSpPr>
        <p:spPr>
          <a:xfrm>
            <a:off x="0" y="45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327240" y="764640"/>
            <a:ext cx="57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STINTOS VOLÚMENES QUE PRESENTA UN 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Object 8"/>
          <p:cNvGraphicFramePr/>
          <p:nvPr/>
        </p:nvGraphicFramePr>
        <p:xfrm>
          <a:off x="6300720" y="1844640"/>
          <a:ext cx="230364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1844640"/>
                    <a:ext cx="2303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Rectangle 1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10"/>
          <p:cNvGraphicFramePr/>
          <p:nvPr/>
        </p:nvGraphicFramePr>
        <p:xfrm>
          <a:off x="6300720" y="3357720"/>
          <a:ext cx="2016360" cy="55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00720" y="3357720"/>
                    <a:ext cx="201636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Text Box 12"/>
          <p:cNvSpPr/>
          <p:nvPr/>
        </p:nvSpPr>
        <p:spPr>
          <a:xfrm>
            <a:off x="6304680" y="1341360"/>
            <a:ext cx="19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6157440" y="2924280"/>
            <a:ext cx="23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APAR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4" descr="Examenparte_Pic1"/>
          <p:cNvPicPr/>
          <p:nvPr/>
        </p:nvPicPr>
        <p:blipFill>
          <a:blip r:embed="rId1"/>
          <a:stretch/>
        </p:blipFill>
        <p:spPr>
          <a:xfrm>
            <a:off x="1403280" y="620640"/>
            <a:ext cx="6191280" cy="24130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aaaaaaaaaaaaaaaaaaaa_Pic2"/>
          <p:cNvPicPr/>
          <p:nvPr/>
        </p:nvPicPr>
        <p:blipFill>
          <a:blip r:embed="rId2"/>
          <a:stretch/>
        </p:blipFill>
        <p:spPr>
          <a:xfrm>
            <a:off x="1835280" y="2997360"/>
            <a:ext cx="583236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5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4" descr="bbbbbbbbbbbbbbbbbbbbbbb_Pic1"/>
          <p:cNvPicPr/>
          <p:nvPr/>
        </p:nvPicPr>
        <p:blipFill>
          <a:blip r:embed="rId1"/>
          <a:stretch/>
        </p:blipFill>
        <p:spPr>
          <a:xfrm>
            <a:off x="2124000" y="1557360"/>
            <a:ext cx="4969080" cy="430992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6"/>
          <p:cNvSpPr/>
          <p:nvPr/>
        </p:nvSpPr>
        <p:spPr>
          <a:xfrm>
            <a:off x="611280" y="404280"/>
            <a:ext cx="80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ATURACIÓN DE LA PROBETA POR INMERSIÓN PROGRESIVA EN AGUA A EBULL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4" descr="aaaaaaaaaaaaaaaaaaaa_Pic3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542448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5"/>
          <p:cNvSpPr/>
          <p:nvPr/>
        </p:nvSpPr>
        <p:spPr>
          <a:xfrm>
            <a:off x="900000" y="333360"/>
            <a:ext cx="718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STALACIÓN DE VACÍO PARA LA DETERMINACIÓN DE LA DENSIDAD APARENTE Y POROSIDAD ABIE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bbbbbbbbbbbbbbbbbbbbbbbbbbbbb_Pic1"/>
          <p:cNvPicPr/>
          <p:nvPr/>
        </p:nvPicPr>
        <p:blipFill>
          <a:blip r:embed="rId1"/>
          <a:stretch/>
        </p:blipFill>
        <p:spPr>
          <a:xfrm>
            <a:off x="468360" y="1413000"/>
            <a:ext cx="2663640" cy="132552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3"/>
          <p:cNvSpPr/>
          <p:nvPr/>
        </p:nvSpPr>
        <p:spPr>
          <a:xfrm>
            <a:off x="-223920" y="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4" descr="aaaaaaaaaaaaaaaaaaaa_Pic4"/>
          <p:cNvPicPr/>
          <p:nvPr/>
        </p:nvPicPr>
        <p:blipFill>
          <a:blip r:embed="rId2"/>
          <a:stretch/>
        </p:blipFill>
        <p:spPr>
          <a:xfrm>
            <a:off x="4427640" y="114480"/>
            <a:ext cx="4400280" cy="674352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5"/>
          <p:cNvSpPr/>
          <p:nvPr/>
        </p:nvSpPr>
        <p:spPr>
          <a:xfrm>
            <a:off x="225360" y="680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611280" y="561960"/>
            <a:ext cx="230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IMINACIÓN DE LOS POROS CERRADOS POR PULVER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395280" y="349992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ÁLCULO DE LA DENSIDAD REAL POR EL MÉTODO DEL PICN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" descr="pp_Pic1"/>
          <p:cNvPicPr/>
          <p:nvPr/>
        </p:nvPicPr>
        <p:blipFill>
          <a:blip r:embed="rId1"/>
          <a:stretch/>
        </p:blipFill>
        <p:spPr>
          <a:xfrm>
            <a:off x="1258920" y="2276640"/>
            <a:ext cx="5905440" cy="38210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4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1187280" y="836640"/>
            <a:ext cx="60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ÁLCULO DE LA DENSIDAD REAL POR EL MÉTODO DEL MATRAZ DE REES – HUG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2124360" y="177264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MÉTODO DEL VOLUMENÓME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4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28036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4"/>
          <p:cNvSpPr/>
          <p:nvPr/>
        </p:nvSpPr>
        <p:spPr>
          <a:xfrm>
            <a:off x="324000" y="981000"/>
            <a:ext cx="84978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PIEDADES REFRACTARIO AISLANTE I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.- MUY BAJA CONDUCTIVIDAD TÉR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.- ALTA REFRACTAR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3.- BUENA RESISTENCIA AL ATAQUE QUÍMICO DE GASES, VAPORES Y ESCO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4.- BUENAS PROPIEDADES MECÁNICAS EN CAL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5.- BAJA DEN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Porosimetria1"/>
          <p:cNvPicPr/>
          <p:nvPr/>
        </p:nvPicPr>
        <p:blipFill>
          <a:blip r:embed="rId1"/>
          <a:srcRect l="0" t="6301" r="0" b="0"/>
          <a:stretch/>
        </p:blipFill>
        <p:spPr>
          <a:xfrm>
            <a:off x="2124000" y="2133720"/>
            <a:ext cx="5473800" cy="3930480"/>
          </a:xfrm>
          <a:prstGeom prst="rect">
            <a:avLst/>
          </a:prstGeom>
          <a:ln w="0">
            <a:noFill/>
          </a:ln>
        </p:spPr>
      </p:pic>
      <p:sp>
        <p:nvSpPr>
          <p:cNvPr id="549" name="Line 5"/>
          <p:cNvSpPr/>
          <p:nvPr/>
        </p:nvSpPr>
        <p:spPr>
          <a:xfrm flipH="1" flipV="1">
            <a:off x="3995280" y="3213000"/>
            <a:ext cx="2286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7"/>
          <p:cNvSpPr/>
          <p:nvPr/>
        </p:nvSpPr>
        <p:spPr>
          <a:xfrm>
            <a:off x="4211640" y="3716280"/>
            <a:ext cx="1224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3348000" y="3068640"/>
            <a:ext cx="457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8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9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3"/>
          <p:cNvSpPr/>
          <p:nvPr/>
        </p:nvSpPr>
        <p:spPr>
          <a:xfrm>
            <a:off x="324000" y="466200"/>
            <a:ext cx="813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QUEMA MOSTRANDO LA INTRUSIÓN DE MERCURIO EN UN PORO DE DIÁMETRO 2R. DEBIDO A LAS FUERZAS DE COHESIÓN ENTRE EL LIQUIDO Y LA PARED, LA FORMA DE LA SUPERFICIE DEL LIQUIDO TIENE UN ÁNGULO DE CONTACTO CARACTERI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4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1723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4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626436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4" descr="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65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201080" cy="64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2116080" y="404640"/>
            <a:ext cx="5376960" cy="618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611280" y="677160"/>
            <a:ext cx="756108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USAS DE DESG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FACTORES QUI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1.- ATMOSFERA DEL H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2.- COMBUS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3.- PRODUCTOS DE COMBU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4.- MATERIALES REACCION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5.- PRODUCTOS RESULTANTES DE LA REACCIÓN (ESCORIAS, METALES FUNDIDO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6.- EVENTUAL INFLUENCIA DE LA HUMEDAD AMBIENTAL O POR VAPOR DE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2922120" y="403200"/>
            <a:ext cx="37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USAS DE DESG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1241280" y="1052640"/>
            <a:ext cx="6661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FACTORESTER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1.- TIPO DE H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2.- TAMAÑO DEL H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3.- CALENTAMIENT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ULTI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 UN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4.- DISTRIBUCIÓN DE TEMPERATURAS EN EL H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5.-ENERGÍA POR UNIDAD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6.-GRADIENTE O TEMPERATURA EN EL REVEST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7.- ACUMULACIÓN DE CALOR EN LAS PAR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8.- TRABAJO CONTINUO O DISCONTINUO DEL H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4"/>
          <p:cNvSpPr/>
          <p:nvPr/>
        </p:nvSpPr>
        <p:spPr>
          <a:xfrm>
            <a:off x="3065040" y="403200"/>
            <a:ext cx="37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USAS DE DESG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539640" y="1179360"/>
            <a:ext cx="81360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FACTORES MECA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1.- HORNO FIJO O MÓ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2.- CARACTERISTICAS FÍSICAS DE LOS PRODUCTOS REACCION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3.- MOVIMIENTO DE LOS PRODUCTOS REACCION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4.- VELOCIDAD DE LOS GASES DE COMBU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5.- ATMÓSFERA PULVERU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6.- INFLUENCIAS MECÁNICAS EXTERIORES, POR EJEMPLO,  FORMA   DE LA CARGA Y DESCARGA, VIBRACIONES, DEFORMACIONES DE LA CORAZ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4"/>
          <p:cNvSpPr/>
          <p:nvPr/>
        </p:nvSpPr>
        <p:spPr>
          <a:xfrm>
            <a:off x="866160" y="1573920"/>
            <a:ext cx="741204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.- CARACTERISTICAS ESTRUC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1.- COMPOSICIÓN QUÍ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2.- COMPOSICIÓN MINERALÓGICA. GRADO DE VITRIFIC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3.- TAMAÑO DE LOS CRIS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4.- POROSIDAD Y DENSIDAD. TAMAÑO Y TIPO DE PO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5.- PERMEABILIDAD (AL AIRE, GASES O VAPOR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252000" y="548640"/>
            <a:ext cx="87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CARACTERISTICAS Y  PROPIEDADES DE LOS MATERIALES REFRACTARI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4"/>
          <p:cNvSpPr/>
          <p:nvPr/>
        </p:nvSpPr>
        <p:spPr>
          <a:xfrm>
            <a:off x="180720" y="40464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CARACTERISTICAS Y  PROPIEDADES DE LOS MATERIALES REFRAC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324000" y="1077120"/>
            <a:ext cx="806436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B.- CARACTERISTICAS OPER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B1.- MECAN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M1.- RESISTENCIA A LA COMPRESIÓN EN FRÍ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M2.- RESISTENCIA A LA FLEXIÓN EN FRÍO. MÓDULO DE DE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M3.- RESISTENCIA AL DESGAS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M4.-RESISTENCIA A LA ABRA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B2.- MECANICO –TERM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MT1.- REFRACTARIEDAD BAJO CARGA (TA), REBLANDECIMIENTO BAJO CARGA A TEMPERATURA CREC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MT2.- FLUENCIA BAJO PRESIÓN (REBLANDECIMIENTO BAJO CARGA A TEMPERATURA CONSTANTE, DURANTE UN LARGO PERÍODO DE TIEMP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MT3.- RESISTENCIA A LA FLEXIÓN EN CALIENTE (MO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4"/>
          <p:cNvSpPr/>
          <p:nvPr/>
        </p:nvSpPr>
        <p:spPr>
          <a:xfrm>
            <a:off x="426960" y="3333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CARACTERISTICAS Y  PROPIEDADES DE LOS MATERIALES REFRAC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2342160" y="836640"/>
            <a:ext cx="42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B.- CARACTERISTICAS OPER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24000" y="1410840"/>
            <a:ext cx="84960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B3.- TERM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T1.- REFRACTARIEDAD (RESISTENCIA PIROSCÓPICA, CP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T2.- DILATACIÓN TÉRM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T3.- MODIFICACIÓN PERMANENTE DE LA LONGITUD (DEFORMACIÓN PERMANENT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T4.- CONDUCTIVIDAD TÉRM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T4.- CALOR ESPECIF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T5.- RESISTENCIA AL CHOQUE TÉRM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B4.- QUIM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Q1.- RESISTENCIA A ESCORIAS, METALES FUND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Q2.-RESISTENCIA A GASES Y VAP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Q3.- RESISTENCIA A LOS ÁC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Q4.- RESISTENCIA A LA HIDRA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642160" cy="60390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5"/>
          <p:cNvSpPr/>
          <p:nvPr/>
        </p:nvSpPr>
        <p:spPr>
          <a:xfrm>
            <a:off x="840240" y="259200"/>
            <a:ext cx="73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RACTERISTICAS DE LOS PRINCIPALES TIPOS DE MATERIALES REFRAC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1:53:33Z</dcterms:created>
  <dc:creator>Pablo Turmero</dc:creator>
  <dc:description/>
  <dc:language>en-US</dc:language>
  <cp:lastModifiedBy>Pablo Turmero</cp:lastModifiedBy>
  <dcterms:modified xsi:type="dcterms:W3CDTF">2015-08-09T19:25:33Z</dcterms:modified>
  <cp:revision>19</cp:revision>
  <dc:subject/>
  <dc:title/>
</cp:coreProperties>
</file>