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28.jpeg" ContentType="image/jpeg"/>
  <Override PartName="/ppt/media/image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8.jpeg" ContentType="image/jpeg"/>
  <Override PartName="/ppt/media/image19.jpeg" ContentType="image/jpeg"/>
  <Override PartName="/ppt/media/image20.wmf" ContentType="image/x-wmf"/>
  <Override PartName="/ppt/media/image3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6183360" y="8550360"/>
            <a:ext cx="444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55440" y="8728200"/>
            <a:ext cx="2592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8620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© 2001, Cisco Systems, Inc. Todos los derechos reservad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0"/>
                <a:tab algn="l" pos="478620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0"/>
          <p:cNvSpPr/>
          <p:nvPr/>
        </p:nvSpPr>
        <p:spPr>
          <a:xfrm>
            <a:off x="150840" y="8742240"/>
            <a:ext cx="658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Num" idx="1"/>
          </p:nvPr>
        </p:nvSpPr>
        <p:spPr>
          <a:xfrm>
            <a:off x="586404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03F86221-5822-424A-9952-81E8622A762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ldImg"/>
          </p:nvPr>
        </p:nvSpPr>
        <p:spPr>
          <a:xfrm>
            <a:off x="853920" y="244080"/>
            <a:ext cx="5284800" cy="396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9680" bIns="49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784DC231-4E67-476E-A1E1-98537E9C1E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857160" y="244440"/>
            <a:ext cx="5283360" cy="396252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401760" y="4349880"/>
            <a:ext cx="60544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A0509DF9-DB82-4915-98FD-15BD94774E4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DB092C5-2FD7-47D0-B6FB-1D6AFEC76B6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289EE46-8A49-4557-8878-91D41D774AE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4DA95A25-7C93-4623-9DBD-A4B1DB3EB7B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D567B5F1-AFCD-4490-9397-FBAC3CDC0C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4865E11C-7852-4469-A773-E59397322A3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81B5D226-8168-485C-B689-D13822EC8FF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7037A605-2B0F-4885-8CF6-8ED45B64AF1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23C79247-B93E-4486-9459-4C7FA8A829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1B609A65-8588-479A-B978-3CB0E10DF82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74B062A7-4D84-4870-A9A6-B65230C5DBB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94B2BE03-7CFA-4966-BEC3-73CA5DE189E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03D989B-92A5-4ED0-9811-CA05A71BA10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87539798-53BA-49D1-B471-5648CAA0428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F4F9DF2F-CACF-4816-A268-C71D70E936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8C686183-C995-4561-9BB2-A822542233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1FAD203-6D68-4A4E-BBA9-5490154EA9A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2B3EF56-D341-40D9-845D-5DA4A81B71F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F696733D-9DFC-4943-A273-9FEC7D4C7ED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DA4828F0-CD81-48FC-9C16-9564269413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45AA99E-A45A-4A7B-B11B-C3A03FB7FE6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00915641-C661-484A-8600-44E45A4F3AD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A05EDE1A-FD4B-4AD2-AF28-59C577B3EFA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D63E7F6-B268-4151-A678-88788EE8B8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2017308B-3B3B-4617-A884-D474498AE32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2DE7C0C-3406-4F28-8AD8-87FA76D74C2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5D7D16C4-95CF-4986-8DB1-0795BE5B56C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DDC510A7-B8BD-467A-8ECE-76249F4C51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11"/>
          <p:cNvSpPr/>
          <p:nvPr/>
        </p:nvSpPr>
        <p:spPr>
          <a:xfrm>
            <a:off x="5864400" y="8621640"/>
            <a:ext cx="804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049F4F98-45C0-49E7-B645-0CFC7009AD5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853920" y="244440"/>
            <a:ext cx="5284800" cy="39639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399600" y="4349880"/>
            <a:ext cx="6056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293840" y="6672240"/>
            <a:ext cx="252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700" spc="-1" strike="noStrike">
                <a:solidFill>
                  <a:srgbClr val="d3d3d3"/>
                </a:solidFill>
                <a:latin typeface="Arial"/>
              </a:rPr>
              <a:t>© 2006 Cisco Systems, Inc. Todos los derechos reservad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118400" y="6669000"/>
            <a:ext cx="1294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nformación pública de Cisc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3527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EABE61E-D186-43A0-9AEB-CD1FF82547A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293840" y="6672240"/>
            <a:ext cx="252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700" spc="-1" strike="noStrike">
                <a:solidFill>
                  <a:srgbClr val="d3d3d3"/>
                </a:solidFill>
                <a:latin typeface="Arial"/>
              </a:rPr>
              <a:t>© 2006 Cisco Systems, Inc. Todos los derechos reservad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118400" y="6672240"/>
            <a:ext cx="1294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nformación pública de Cisc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82520" y="666900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Módulo 6 de BSC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8596440" y="6626520"/>
            <a:ext cx="3204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d3d3d3"/>
                </a:solidFill>
                <a:latin typeface="Arial"/>
              </a:rPr>
              <a:t>‹</a:t>
            </a:r>
            <a:r>
              <a:rPr b="0" lang="en-US" sz="1000" spc="-1" strike="noStrike">
                <a:solidFill>
                  <a:srgbClr val="d3d3d3"/>
                </a:solidFill>
                <a:latin typeface="Arial"/>
              </a:rPr>
              <a:t>#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 marL="315360" indent="-315360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 marL="315360" indent="-315360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293840" y="6669000"/>
            <a:ext cx="252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700" spc="-1" strike="noStrike">
                <a:solidFill>
                  <a:srgbClr val="d3d3d3"/>
                </a:solidFill>
                <a:latin typeface="Arial"/>
              </a:rPr>
              <a:t>© 2006 Cisco Systems, Inc. Todos los derechos reservad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118400" y="6669000"/>
            <a:ext cx="1294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nformación pública de Cisc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527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CEE177F-6F2A-41C3-A290-9FB2542047E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0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7" descr=""/>
          <p:cNvPicPr/>
          <p:nvPr/>
        </p:nvPicPr>
        <p:blipFill>
          <a:blip r:embed="rId3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orbit-computer-solutions.com/Complex-ACLs.php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ans.org/" TargetMode="External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isco.com/warp/public/701/61.pdf" TargetMode="External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03440" y="2278080"/>
            <a:ext cx="771192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Introducción de conceptos de diseño de red </a:t>
            </a:r>
            <a:endParaRPr b="1" lang="en-US" sz="44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5" descr="Slide10-sc"/>
          <p:cNvPicPr/>
          <p:nvPr/>
        </p:nvPicPr>
        <p:blipFill>
          <a:blip r:embed="rId1"/>
          <a:stretch/>
        </p:blipFill>
        <p:spPr>
          <a:xfrm>
            <a:off x="4815000" y="1436760"/>
            <a:ext cx="4197240" cy="504828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48844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núcle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77880" y="1527120"/>
            <a:ext cx="4673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ía de mall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ía de mall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ción de 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dundancia tambié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existir a nivel eléctri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PS, fuentes duale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error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os: mal diseñ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5" descr="Slide11-sc"/>
          <p:cNvPicPr/>
          <p:nvPr/>
        </p:nvPicPr>
        <p:blipFill>
          <a:blip r:embed="rId1"/>
          <a:stretch/>
        </p:blipFill>
        <p:spPr>
          <a:xfrm>
            <a:off x="4498920" y="2455920"/>
            <a:ext cx="4467240" cy="328608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650440" cy="839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distribución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99760" y="144468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19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de la capa de distrib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ltrado y administración de flujos de t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de control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arización de ru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islamiento de la capa núcleo de la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de la capa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utamiento entre las VL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9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capa de distribución 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reducir el tamañ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os dominios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witch bloc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espliegue d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witch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pares para prevenir l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aí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red en caso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enlaces redundantes mejoran la estabilidad y confiabilidad de la red y el RSTP asegura rápida convergencia en caso de usar un enlace de respal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4"/>
          <p:cNvSpPr/>
          <p:nvPr/>
        </p:nvSpPr>
        <p:spPr>
          <a:xfrm>
            <a:off x="276120" y="366120"/>
            <a:ext cx="8867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distribución de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7" descr="Slide12-sc"/>
          <p:cNvPicPr/>
          <p:nvPr/>
        </p:nvPicPr>
        <p:blipFill>
          <a:blip r:embed="rId1"/>
          <a:stretch/>
        </p:blipFill>
        <p:spPr>
          <a:xfrm>
            <a:off x="1758960" y="3598920"/>
            <a:ext cx="5067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7" descr="Slide13-sc"/>
          <p:cNvPicPr/>
          <p:nvPr/>
        </p:nvPicPr>
        <p:blipFill>
          <a:blip r:embed="rId1"/>
          <a:stretch/>
        </p:blipFill>
        <p:spPr>
          <a:xfrm>
            <a:off x="4064040" y="2281320"/>
            <a:ext cx="5011560" cy="284796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plicar cómo las ACL filtran el tráfico para brindar seguridad y permitir la administración de trá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ién exis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s comple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nám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n un enrutad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rr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i se ingresa p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gana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flex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olo deja pasar tráfic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respuesta si viene de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ada en tiem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 activan sol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determinados periodos de tiempo.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83a2cf"/>
                </a:solidFill>
                <a:uFillTx/>
                <a:latin typeface="Arial"/>
                <a:hlinkClick r:id="rId2"/>
              </a:rPr>
              <a:t>http://www.orbit-computer-solutions.com/Complex-ACLs.ph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272520" y="365040"/>
            <a:ext cx="8837640" cy="835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distribución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Práctica de Laboratorio</a:t>
            </a: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boratorio 1.3.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4" descr=""/>
          <p:cNvPicPr/>
          <p:nvPr/>
        </p:nvPicPr>
        <p:blipFill>
          <a:blip r:embed="rId1"/>
          <a:stretch/>
        </p:blipFill>
        <p:spPr>
          <a:xfrm>
            <a:off x="538200" y="2500200"/>
            <a:ext cx="833436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ordar el concepto de sumarización de ruta y cómo se implementa en la capa de distribución de la 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272880" y="36468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distribución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030" name="Picture 6" descr="Slide14-sc"/>
          <p:cNvPicPr/>
          <p:nvPr/>
        </p:nvPicPr>
        <p:blipFill>
          <a:blip r:embed="rId1"/>
          <a:stretch/>
        </p:blipFill>
        <p:spPr>
          <a:xfrm>
            <a:off x="1176480" y="2384280"/>
            <a:ext cx="65610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5" descr="Slide15-sc"/>
          <p:cNvPicPr/>
          <p:nvPr/>
        </p:nvPicPr>
        <p:blipFill>
          <a:blip r:embed="rId1"/>
          <a:stretch/>
        </p:blipFill>
        <p:spPr>
          <a:xfrm>
            <a:off x="3700440" y="1819440"/>
            <a:ext cx="5133960" cy="46670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8506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acces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icación física del equip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la segurid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eza por aq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arios de cabl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 convergen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quipos que requie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ciones difer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ibilidad (100% de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5" descr="Slide16-sc"/>
          <p:cNvPicPr/>
          <p:nvPr/>
        </p:nvPicPr>
        <p:blipFill>
          <a:blip r:embed="rId1"/>
          <a:stretch/>
        </p:blipFill>
        <p:spPr>
          <a:xfrm>
            <a:off x="4311720" y="3048120"/>
            <a:ext cx="4686120" cy="350496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72880" y="364680"/>
            <a:ext cx="880128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icación de los factores que se deben tener en cuenta al diseñar la capa de acces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16000" y="1436760"/>
            <a:ext cx="8269200" cy="419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 para hacer una r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ej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s de denominación (nombres adecu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tectura de V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ones de tráf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ategia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gnación de prio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ndarizar proceso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ro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87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ar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5410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icación de los factores que se deben tener en cuenta al diseñar la capa de acces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55560" y="127296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pologías en estr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áciles de instalar y configurar, pero son un punto único de fa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pologías de ma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rindar redundancia pero conllevan más configuración y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5" descr="Slide17-sc"/>
          <p:cNvPicPr/>
          <p:nvPr/>
        </p:nvPicPr>
        <p:blipFill>
          <a:blip r:embed="rId1"/>
          <a:stretch/>
        </p:blipFill>
        <p:spPr>
          <a:xfrm>
            <a:off x="1120680" y="2971800"/>
            <a:ext cx="7035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5" descr="Slide18-sc"/>
          <p:cNvPicPr/>
          <p:nvPr/>
        </p:nvPicPr>
        <p:blipFill>
          <a:blip r:embed="rId1"/>
          <a:stretch/>
        </p:blipFill>
        <p:spPr>
          <a:xfrm>
            <a:off x="3238560" y="3352680"/>
            <a:ext cx="4790880" cy="31482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8506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acces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45840" y="127008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iones de las V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parar y clasificar el trá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ar los broad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omendación: contener varias VLAN dentro de un solo armario de cabl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145720" cy="55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Objetivo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45840" y="123048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icación de cómo un diseño de red jerárquico crea una red escalable, confiable  y 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icar qué factores se deben considerar cuando se diseña e implementa la capa núcleo de una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icar qué factores se deben considerar cuando se diseña e implementa la capa de distribución de una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icar qué factores se deben considerar cuando se diseña e implementa la capa de acceso de una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ir las ventajas y las implicaciones de seguridad de la creación de granjas de serv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ir las consideraciones de la implementación de un diseño de red inalámb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ir los factores que afectan la implementación de VPN, incluso cómo se puede asistir a los trabajadores remo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Práctica de Laboratorio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boratorio 1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4" descr=""/>
          <p:cNvPicPr/>
          <p:nvPr/>
        </p:nvPicPr>
        <p:blipFill>
          <a:blip r:embed="rId1"/>
          <a:stretch/>
        </p:blipFill>
        <p:spPr>
          <a:xfrm>
            <a:off x="1573200" y="2436840"/>
            <a:ext cx="6554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8506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acces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dad de servicio en el extremo de la 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ificación de tráfico según su t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dad asignada según su clas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5" descr="Slide19-sc"/>
          <p:cNvPicPr/>
          <p:nvPr/>
        </p:nvPicPr>
        <p:blipFill>
          <a:blip r:embed="rId1"/>
          <a:stretch/>
        </p:blipFill>
        <p:spPr>
          <a:xfrm>
            <a:off x="1252440" y="3252960"/>
            <a:ext cx="66391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8506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acces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iesgos de seguridad en el extremo de la 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nt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guridad de l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misión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alámb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r seguridad al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uario final, ya qu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es un punto d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ada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eniería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5" descr="Slide20-sc"/>
          <p:cNvPicPr/>
          <p:nvPr/>
        </p:nvPicPr>
        <p:blipFill>
          <a:blip r:embed="rId1"/>
          <a:stretch/>
        </p:blipFill>
        <p:spPr>
          <a:xfrm>
            <a:off x="4319640" y="2538360"/>
            <a:ext cx="34956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Práctica de Laboratorio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55560" y="1336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boratorio 1.4.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S Site: </a:t>
            </a:r>
            <a:r>
              <a:rPr b="0" lang="es-ES" sz="2400" spc="-1" strike="noStrike" u="sng">
                <a:solidFill>
                  <a:srgbClr val="83a2cf"/>
                </a:solidFill>
                <a:uFillTx/>
                <a:latin typeface="Arial"/>
                <a:hlinkClick r:id="rId1"/>
              </a:rPr>
              <a:t>http://www.sans.org/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4" descr=""/>
          <p:cNvPicPr/>
          <p:nvPr/>
        </p:nvPicPr>
        <p:blipFill>
          <a:blip r:embed="rId2"/>
          <a:stretch/>
        </p:blipFill>
        <p:spPr>
          <a:xfrm>
            <a:off x="378000" y="3294000"/>
            <a:ext cx="823752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5" descr="Slide21-sc"/>
          <p:cNvPicPr/>
          <p:nvPr/>
        </p:nvPicPr>
        <p:blipFill>
          <a:blip r:embed="rId1"/>
          <a:stretch/>
        </p:blipFill>
        <p:spPr>
          <a:xfrm>
            <a:off x="2905200" y="2389320"/>
            <a:ext cx="5924520" cy="401004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8506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de acces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idas de seguridad en la capa de acc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ridad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eñas seg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habilitación d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puertos no us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de segu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55200" y="24084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Práctica de Laboratorio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55560" y="10620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boratorios 1.4.6.2 y 1.4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sword recovery sequences:</a:t>
            </a:r>
            <a:br>
              <a:rPr sz="2400"/>
            </a:br>
            <a:r>
              <a:rPr b="0" lang="es-ES" sz="2400" spc="-1" strike="noStrike" u="sng">
                <a:solidFill>
                  <a:srgbClr val="83a2cf"/>
                </a:solidFill>
                <a:uFillTx/>
                <a:latin typeface="Arial"/>
                <a:hlinkClick r:id="rId1"/>
              </a:rPr>
              <a:t>http://www.cisco.com/warp/public/701/61.pdf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195120" y="2427120"/>
            <a:ext cx="4859640" cy="24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1" name="Picture 6" descr=""/>
          <p:cNvPicPr/>
          <p:nvPr/>
        </p:nvPicPr>
        <p:blipFill>
          <a:blip r:embed="rId3"/>
          <a:stretch/>
        </p:blipFill>
        <p:spPr>
          <a:xfrm>
            <a:off x="3813120" y="3475080"/>
            <a:ext cx="516564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2520" y="365040"/>
            <a:ext cx="87282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Descripción de las ventajas e implicaciones de seguridad de la creación de granjas de servidor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45840" y="1257120"/>
            <a:ext cx="7940520" cy="2377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granja de servidores es una 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ntos de entrada y salida definidos para el tráfico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aces de alta capacidad redund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o de carga y recuperación tras 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nor costo al brindar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6" descr="Slide22-sc"/>
          <p:cNvPicPr/>
          <p:nvPr/>
        </p:nvPicPr>
        <p:blipFill>
          <a:blip r:embed="rId1"/>
          <a:stretch/>
        </p:blipFill>
        <p:spPr>
          <a:xfrm>
            <a:off x="2122560" y="3625920"/>
            <a:ext cx="51148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5" descr="Slide23-sc"/>
          <p:cNvPicPr/>
          <p:nvPr/>
        </p:nvPicPr>
        <p:blipFill>
          <a:blip r:embed="rId1"/>
          <a:stretch/>
        </p:blipFill>
        <p:spPr>
          <a:xfrm>
            <a:off x="2498760" y="3684600"/>
            <a:ext cx="4400640" cy="29178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72520" y="365040"/>
            <a:ext cx="874404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Descripción de las ventajas e implicaciones de seguridad de la creación de granjas de servidor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45840" y="1247400"/>
            <a:ext cx="7940520" cy="4762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ones de seguridad del switch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s de prevención y detección de intr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adores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ositivos de administración y análisis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y en día la DMZ también tiene restricciones, antes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5" descr="Slide24-sc"/>
          <p:cNvPicPr/>
          <p:nvPr/>
        </p:nvPicPr>
        <p:blipFill>
          <a:blip r:embed="rId1"/>
          <a:stretch/>
        </p:blipFill>
        <p:spPr>
          <a:xfrm>
            <a:off x="3854520" y="2828880"/>
            <a:ext cx="4562280" cy="375300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72520" y="365040"/>
            <a:ext cx="8850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Descripción de las ventajas e implicaciones de seguridad de la creación de granjas de servidor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79080" y="1257120"/>
            <a:ext cx="7940520" cy="327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granja de servi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de redundancia para una alta dispon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ización: múltip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es en u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o equipo 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5" descr="Slide25-sc"/>
          <p:cNvPicPr/>
          <p:nvPr/>
        </p:nvPicPr>
        <p:blipFill>
          <a:blip r:embed="rId1"/>
          <a:stretch/>
        </p:blipFill>
        <p:spPr>
          <a:xfrm>
            <a:off x="4094280" y="2514600"/>
            <a:ext cx="4921200" cy="347976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72520" y="365040"/>
            <a:ext cx="8850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Descripción de las consideraciones de la implementación de un diseño de red inalámbrico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41080" y="154944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 deben estudiar muy bien los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erimientos del cliente, entre los que pueden est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nt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os y apl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ip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bertura y cantidad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72880" y="364680"/>
            <a:ext cx="8793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cómo un diseño de red jerárquico crea una red escalable, confiable  y estab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45840" y="1372680"/>
            <a:ext cx="794052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la 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dad de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peración ráp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 de respuesta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ción rápida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11" descr=""/>
          <p:cNvPicPr/>
          <p:nvPr/>
        </p:nvPicPr>
        <p:blipFill>
          <a:blip r:embed="rId1"/>
          <a:stretch/>
        </p:blipFill>
        <p:spPr>
          <a:xfrm>
            <a:off x="2259000" y="3773520"/>
            <a:ext cx="54943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5" descr="Slide26-sc"/>
          <p:cNvPicPr/>
          <p:nvPr/>
        </p:nvPicPr>
        <p:blipFill>
          <a:blip r:embed="rId1"/>
          <a:stretch/>
        </p:blipFill>
        <p:spPr>
          <a:xfrm>
            <a:off x="4630680" y="3473280"/>
            <a:ext cx="4124520" cy="319572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72520" y="365040"/>
            <a:ext cx="885060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Descripción de las consideraciones de la implementación de un diseño de red inalámbrico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45840" y="1612800"/>
            <a:ext cx="7940520" cy="499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 WLAN físico: usualmente el más senc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ón del diseño de la topologí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 WLAN lógico: usualmente más compl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lmente hay acceso abierto de invitados y acceso seguro de emple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caso seguro no s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estra el SSID, s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ripta, autentica, s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 VPNs y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es en VLAN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5" descr="Slide27-sc"/>
          <p:cNvPicPr/>
          <p:nvPr/>
        </p:nvPicPr>
        <p:blipFill>
          <a:blip r:embed="rId1"/>
          <a:stretch/>
        </p:blipFill>
        <p:spPr>
          <a:xfrm>
            <a:off x="3348000" y="2664000"/>
            <a:ext cx="5635800" cy="366372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8506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Descripción de los factores que afectan la implementación de VP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os aspectos a considerar respecto al acceso remoto de la re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l ancho de 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o re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8506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Descripción de los factores que afectan la implementación de VP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45840" y="123516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ciones de interconex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cnologías WAN tradicion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íneas dedicadas, circuit &amp; packet switched, Frame relay,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cnologías WAN más moder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xDSL, Metro Ethernet, C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, WiMaX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5" descr="Slide28-sc"/>
          <p:cNvPicPr/>
          <p:nvPr/>
        </p:nvPicPr>
        <p:blipFill>
          <a:blip r:embed="rId1"/>
          <a:stretch/>
        </p:blipFill>
        <p:spPr>
          <a:xfrm>
            <a:off x="3740040" y="3100320"/>
            <a:ext cx="47754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4" descr=""/>
          <p:cNvPicPr/>
          <p:nvPr/>
        </p:nvPicPr>
        <p:blipFill>
          <a:blip r:embed="rId1"/>
          <a:stretch/>
        </p:blipFill>
        <p:spPr>
          <a:xfrm>
            <a:off x="1685880" y="2046240"/>
            <a:ext cx="5646960" cy="446076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8506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Descripción de los factores que afectan la implementación de VP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45840" y="124776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y en día la forma más popular de proporcionar conectividad remota es mediante VP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72520" y="1033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Resume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90400" y="1160640"/>
            <a:ext cx="7940880" cy="5054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uatro requerimientos técnicos clave del diseño de red son: escalabilidad, disponibilidad, seguridad y capacidad de admin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proyectos de red implican identificar los requerimientos, caracterizar la red existente y diseñar topología de red y solu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redundancia en la capa núcleo mantiene la red funcionando, incluso cuando un dispositivo o enlace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ficacia del enrutamiento en la capa de distribución aísla el núcleo de las fallas de la capa de ac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subredes IP y VLAN son el método más común para separar grupos de usuarios y tráfico dentro de la capa de acceso de la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Object 11"/>
          <p:cNvGraphicFramePr/>
          <p:nvPr/>
        </p:nvGraphicFramePr>
        <p:xfrm>
          <a:off x="2844720" y="2220840"/>
          <a:ext cx="59500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720" y="2220840"/>
                    <a:ext cx="59500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55200" y="6980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cómo un diseño de red jerárquico crea una red escalable, confiable  y estab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55200" y="178128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tro objetivos de diseño de red c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55200" y="6980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icación de cómo un diseño de red jerárquico crea una red escalable, confiable  y estab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55560" y="1628640"/>
            <a:ext cx="80596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62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diseño jerárquico es mejor que uno horizontal o plano, porque divide la red en segmentos lógicos más manej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62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pa núcle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onecta dispositivos de la capa de distrib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62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pa de distrib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 interconecta LAN pequeñ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62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pa de acce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oporciona conexiones para hosts y dispositivos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9" name="Object 8"/>
          <p:cNvGraphicFramePr/>
          <p:nvPr/>
        </p:nvGraphicFramePr>
        <p:xfrm>
          <a:off x="2050920" y="3675240"/>
          <a:ext cx="52102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675240"/>
                    <a:ext cx="52102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72880" y="364680"/>
            <a:ext cx="84837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icación de cómo un diseño de red jerárquico crea una red escalable, confiable  y estab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17400" y="1447920"/>
            <a:ext cx="7940880" cy="5032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división del modelo de tres capas en áreas modul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mpus empresa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quipo de red de operación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anja de servid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ímetro empresa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unto de entrada y salida de la empresa y conexión con el ex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í se crea una 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ística, expandibl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y e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Slide5-sc"/>
          <p:cNvPicPr/>
          <p:nvPr/>
        </p:nvPicPr>
        <p:blipFill>
          <a:blip r:embed="rId1"/>
          <a:stretch/>
        </p:blipFill>
        <p:spPr>
          <a:xfrm>
            <a:off x="3930480" y="3579840"/>
            <a:ext cx="4897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72880" y="352440"/>
            <a:ext cx="887112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marL="6516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cómo un diseño de red jerárquico crea una red escalable, confiable  y estab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45840" y="124776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s de los proyectos de diseño de 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requerimientos de la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izar la red exist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eñar la topología de red y solu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nfoque usual e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diseño de arrib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importante analizar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modificacione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n modificar so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parte de la red 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 la red e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5" descr="Slide7-sc"/>
          <p:cNvPicPr/>
          <p:nvPr/>
        </p:nvPicPr>
        <p:blipFill>
          <a:blip r:embed="rId1"/>
          <a:stretch/>
        </p:blipFill>
        <p:spPr>
          <a:xfrm>
            <a:off x="4043520" y="3452760"/>
            <a:ext cx="4895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5" descr="Slide8-sc"/>
          <p:cNvPicPr/>
          <p:nvPr/>
        </p:nvPicPr>
        <p:blipFill>
          <a:blip r:embed="rId1"/>
          <a:stretch/>
        </p:blipFill>
        <p:spPr>
          <a:xfrm>
            <a:off x="4195800" y="2314440"/>
            <a:ext cx="4505400" cy="412452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72520" y="365040"/>
            <a:ext cx="8488440" cy="851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núcle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45840" y="15271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troncal que permite la comunicación entre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de la capa núcl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orcionar un tiempo d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 del 1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ar la producción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ilitar el crecimiento de la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recomienda utilizar enlac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ndantes y topologí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5" descr="Slide9-sc"/>
          <p:cNvPicPr/>
          <p:nvPr/>
        </p:nvPicPr>
        <p:blipFill>
          <a:blip r:embed="rId1"/>
          <a:stretch/>
        </p:blipFill>
        <p:spPr>
          <a:xfrm>
            <a:off x="3576600" y="2895480"/>
            <a:ext cx="5353200" cy="372456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72520" y="364680"/>
            <a:ext cx="848844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0183b7"/>
                </a:solidFill>
                <a:latin typeface="Arial"/>
              </a:rPr>
              <a:t>Explicación de los factores que se deben tener en cuenta al diseñar la capa núcleo de la red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0720" y="1527120"/>
            <a:ext cx="81360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binación de enrutamiento y conmutación en el mismo dispositivo dependiendo de los enlace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ndancia y balance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a velocidad y enlace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gre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ia rápi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vergencia: cuan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los enrutad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n info completa 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de la 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Pablo Turmero</dc:creator>
  <dc:description/>
  <cp:keywords/>
  <dc:language>en-US</dc:language>
  <cp:lastModifiedBy>Pablo</cp:lastModifiedBy>
  <cp:lastPrinted>1999-01-27T00:54:54Z</cp:lastPrinted>
  <dcterms:modified xsi:type="dcterms:W3CDTF">2015-11-10T20:50:32Z</dcterms:modified>
  <cp:revision>3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