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358D-8E55-44D0-8C8E-E7F9FD1A54A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DB26-E811-4462-A996-BFAA594B04AF}" type="slidenum">
              <a:rPr b="0" lang="ca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D78-9295-4BE3-9D43-D3FA2AA16B4B}" type="slidenum">
              <a:rPr b="0" lang="ca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F9A2-046A-48A6-A346-918AFC458340}" type="slidenum">
              <a:rPr b="0" lang="ca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FDC-C4A0-4BB0-9DBA-AA01E866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C2F-37A1-4466-8368-A25AB9FD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4EC97-F96F-47A4-8B19-84DFD911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29150-40E7-4C70-9D1B-20E4430E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57A82-B11A-4ADB-8666-D0C28FB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EE33-FA89-49DB-A45A-5D8C51D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ECE7E-3581-4FAD-B1C8-AE26F9A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20D1E-8647-42A7-9A41-F80B072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31AE1-4904-43DD-8709-913D910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1CCD1-A7CE-4B50-888E-EF6C0A93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47E38-CA46-484C-91C1-9C91FB39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06AF3-E8E0-4F89-A8FA-10FA3640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F8C-6740-4FBB-8BFD-7F41792A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A6973-C59D-4CD1-815E-640A208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2E796-5452-42FC-BC2B-D8A0DC21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30AA0-0AF1-458C-88BE-1187075F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4C8ED-760D-443A-835C-51CC845B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0377E-2D98-4DB9-A71A-2B4FA166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ACA34-AD82-42D4-B3D4-955525F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AE43F-47F0-41E9-ABDB-F34EC6E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71903-6872-4ECF-9B6A-01B4423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023CF-42B7-499A-A083-E10930B3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6525D-80A1-464D-85DA-FE2D08E5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774-5597-4488-BDC4-552C83C7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02CBF-B5DF-4975-9632-1FF25CC2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2B74D-44E0-4C65-A707-DD216544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6F0DC-8306-4C34-9F2B-8C2CD510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9D109-94AC-44F1-9C8C-9E69DE0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92861-3F5C-4560-A0C7-CEECDB3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0E470-A952-418E-93D0-6F7606B6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FF63-094E-4B47-8BC8-476C3DF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CF622-735D-498F-83D8-91DB064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D287F-9F8D-4E18-8393-253E2FB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31229-EBD0-4589-A19F-F77B9B0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67A9-E575-40C2-B88E-D51045B4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82876-6A3A-48DC-9435-56A97127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4952D-5009-4A08-814E-9068EF47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7ACC7-1E37-4605-A053-0F49CD58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F7394-2034-4E9C-A694-87A98FE3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EE1F2-CCF0-4296-96FB-5FDE1021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2D654-BDE2-4883-9747-8615F543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C80B6-4125-4EB5-B7D1-E2607DBC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C77CC-AD99-4882-8DDA-3B2B4362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FB88A-2CEB-414B-BB97-63BAE427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6CFB4-2A3D-4AA8-B5EE-65FBA446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864C-9AF7-45CB-887B-856119C4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6E485-A37F-4585-8E49-5A39D8ED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3F139-AEEF-4C23-A15E-DA523EBF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F2214-AE3E-4C32-A806-8DE340CC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89460-6BE6-44D0-8A1F-8395840F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E1C4B-3368-4936-B2F6-F1B44E19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E44F-1522-4192-B3A9-09A3CBF3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9E9-8A29-41E7-9E37-0F8BB5CE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DF9E-5523-40CF-B696-E1F2806F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C4FC-0B9B-47BB-8058-B26D8835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1532-DEAD-446B-ACCA-EA699AA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EFA-3D83-43D4-963F-A7A39F0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F021-F214-47ED-B123-8FB6C63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5365-1029-46C1-AA28-DE11EE44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49C7-080D-4955-85B6-760274AE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2EB6-3F41-464D-BEB7-65EAA8D2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E130-35A0-40FF-A35B-9B4C4CCC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BA14-CEC5-4226-91A8-98E0F336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E2072-D8F1-43B1-A6EE-5F6373B8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2EC5-D8D9-475A-9D39-FEDD1BB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2A2E-7673-4736-8475-383216EC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2576-3116-4A3B-A930-34AF561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1F0-6C0E-4B11-B4A3-89852481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79B8-6BE1-402C-8181-6681A616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7C53-DC85-41FB-8F82-28B8AA16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C8ED-D023-4C27-8183-F6FE632F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FBAF-0609-4F75-9154-88A3FA8E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3BCA-9D7B-4FDE-84B9-0D9BBB1F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FD3A-F270-475C-89C7-9FC6CD04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0D5E-F0AE-492B-8519-64C0F4BF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3805-E3DC-426A-8300-BF8AB3FC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B69C6-CE34-48EF-A280-35834E2C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92FE5-8739-4ADA-80DD-F297BBA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C6B-476F-4649-AD09-E76B6A73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00B1-80AF-451B-85CC-33584EF1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A189B-7D0F-4C21-97CA-7A5AE3E4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3B5F-35FC-4205-8E4B-6CE263E9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112AF-4800-48A5-888B-45018AE0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F769-3C4A-499F-8FFE-C4C4FD8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EBE7-EDCC-473F-914B-F89AC75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DE73-1BCC-4E5F-9145-530C3F6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ADA0-A23D-4277-8B2D-05CDD78B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C9429-7658-4017-9F41-67F1597D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CF52-A6D9-4DE1-825D-7FCF262D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F6D-C51E-4B06-9DF5-B6964062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8F83-61D6-4F79-8E34-C26CBF13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4ADF-4AEB-4B99-BFB3-CF19D5C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A3A8-72F9-4995-80B5-BF0AE2E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594A5-4CBD-4E58-8612-FAC510FE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0FBF1-2E05-467E-AD26-67859106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B043-47CB-415B-9155-980C93A1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18093-5792-4546-9EFF-6D1EAB42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1156-B4A5-4120-8E9C-68B8BD4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05F7-833E-480B-9BE9-99C588F8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0601-7482-489A-A16B-3B4AE49B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1C0-4E80-4A11-98B5-3A73E2AA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8096-F8A8-4764-8FCA-B4AF2166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86F6-BCE3-4AE3-9449-CD4D0630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FC8C-A3A9-4442-95E2-ED197238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7057-3546-43D8-BA48-DBE0BF6C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5027-E5A6-4519-8249-49AB129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4E38-24A1-4BCE-B499-1DC61C35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3771C-C340-4284-BC95-0642EA1F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332C4-A6CA-4607-8954-92A5DEE3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E002-7B51-4FDF-BDBD-068D25F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0BE1-64A5-4D6F-A254-A3207A10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64B-F66D-48BA-AD0C-19F31425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667E-ECB3-49E0-8C98-95C6949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EC21-E6EA-4FA8-BA55-104235EE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B0C00-A2A6-4BCC-B8A7-263FCEF9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9151E-CB7C-42BC-BE1D-39576A73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55611-5D54-4726-B269-74AD3434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6BF5C-90F9-4381-8336-D5D35A69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6AF17-B204-4ECE-9711-8F3883E4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C18D5-C814-4651-8C74-9090568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0A87-7288-4078-BDAA-E1B6C61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3EBE9-4337-4D3E-BD99-A7F85507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D9B-C35B-4E63-9059-D7346E9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0A3D3-EB3B-4F25-9DFD-A56137A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58D95-AE02-494E-B97B-2870C033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3F8CA-0114-43F2-AA70-78CF7DBA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684BC-C0C3-4DA9-93C1-7FFE0193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524F-DFAB-448A-AC04-0CD4F22A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A658-15BD-4B89-BDC7-4F0B75BA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7A533-B258-42DA-A4D6-12349B4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0ABE2-B403-4FB6-AEA6-54C9C3CE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47F3-51BF-49FB-9A6F-19072F1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D2770-897B-4B44-B320-719EB037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A90-CA87-47A9-B230-F26450E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85A62-A109-444F-A9C9-5FEFB148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2781-16B0-40F5-855D-1C0BE034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1F6AD-9DD0-4DE1-8338-F4699E2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D42A-26EA-45D7-ABFE-91C859BC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5399C-2528-4F80-9085-96300BC3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F9AC-E872-440E-A0F0-A3C5219A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55ABE-9894-4158-8FD4-EBB57AD7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33E80-E783-4C92-86A3-B6437423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38A23-37C5-4CA8-B010-F57D4085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FF6E7-55A2-439E-957D-A2EB6AD8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E7BB-25FB-401A-8809-E6C4887B0A95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D021-B627-42DA-B26F-92D5FD5051B0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44A-D40D-43C8-9844-A4BC1E17B57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B44B-620C-4D01-831F-071D8D21F912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ED3-099A-4290-A792-ED37B09A4767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3D15-B21A-43B4-B124-D642D8FD1B99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941E-B339-460A-A339-52592D94C36D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F6C1-8803-478C-89ED-E73FEC5FBF61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574-ECEC-454F-9BB8-37AB2D39305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8614-25E9-4F78-844B-FD5FF798507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0526-D68A-47C9-A1ED-E3620710C11E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818-C153-45E2-9171-92DD0F0409C0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85600" y="1569960"/>
            <a:ext cx="7358040" cy="1571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e60d"/>
                </a:solidFill>
                <a:latin typeface="Comic Sans MS"/>
              </a:rPr>
              <a:t>Mapas conceptual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857240" y="14256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071800" y="2071440"/>
            <a:ext cx="6310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Araña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Jerárquic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Diagrama de flujo algorítm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Sistema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4 CuadroTexto"/>
          <p:cNvSpPr/>
          <p:nvPr/>
        </p:nvSpPr>
        <p:spPr>
          <a:xfrm>
            <a:off x="4714920" y="6858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73040" y="-6433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Ara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685800" y="1828800"/>
            <a:ext cx="7695720" cy="3657240"/>
            <a:chOff x="685800" y="1828800"/>
            <a:chExt cx="7695720" cy="3657240"/>
          </a:xfrm>
        </p:grpSpPr>
        <p:sp>
          <p:nvSpPr>
            <p:cNvPr id="591" name="Text Box 5"/>
            <p:cNvSpPr/>
            <p:nvPr/>
          </p:nvSpPr>
          <p:spPr>
            <a:xfrm>
              <a:off x="3730320" y="3395160"/>
              <a:ext cx="302580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</a:rPr>
                <a:t>La manzan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6"/>
            <p:cNvSpPr/>
            <p:nvPr/>
          </p:nvSpPr>
          <p:spPr>
            <a:xfrm>
              <a:off x="685800" y="4834080"/>
              <a:ext cx="2873880" cy="39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</a:rPr>
                <a:t>Fruta dulc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7"/>
            <p:cNvSpPr/>
            <p:nvPr/>
          </p:nvSpPr>
          <p:spPr>
            <a:xfrm flipV="1">
              <a:off x="1875960" y="4179600"/>
              <a:ext cx="185436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Text Box 8"/>
            <p:cNvSpPr/>
            <p:nvPr/>
          </p:nvSpPr>
          <p:spPr>
            <a:xfrm>
              <a:off x="1875960" y="3919680"/>
              <a:ext cx="907920" cy="5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es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6112800" y="4834080"/>
              <a:ext cx="2268720" cy="65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</a:rPr>
                <a:t>Clasific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0"/>
            <p:cNvSpPr/>
            <p:nvPr/>
          </p:nvSpPr>
          <p:spPr>
            <a:xfrm>
              <a:off x="5848200" y="4049280"/>
              <a:ext cx="92916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Text Box 11"/>
            <p:cNvSpPr/>
            <p:nvPr/>
          </p:nvSpPr>
          <p:spPr>
            <a:xfrm>
              <a:off x="6907320" y="4179960"/>
              <a:ext cx="907920" cy="39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s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Text Box 12"/>
            <p:cNvSpPr/>
            <p:nvPr/>
          </p:nvSpPr>
          <p:spPr>
            <a:xfrm>
              <a:off x="3995280" y="1828800"/>
              <a:ext cx="2117520" cy="5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</a:rPr>
                <a:t>Part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Text Box 13"/>
            <p:cNvSpPr/>
            <p:nvPr/>
          </p:nvSpPr>
          <p:spPr>
            <a:xfrm>
              <a:off x="5186160" y="2612520"/>
              <a:ext cx="105876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sus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4"/>
            <p:cNvSpPr/>
            <p:nvPr/>
          </p:nvSpPr>
          <p:spPr>
            <a:xfrm flipV="1">
              <a:off x="4789080" y="2350800"/>
              <a:ext cx="0" cy="10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571680" y="499680"/>
            <a:ext cx="68709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Jerárqu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685800" y="1828800"/>
            <a:ext cx="7696080" cy="4171680"/>
            <a:chOff x="685800" y="1828800"/>
            <a:chExt cx="7696080" cy="4171680"/>
          </a:xfrm>
        </p:grpSpPr>
        <p:sp>
          <p:nvSpPr>
            <p:cNvPr id="603" name="Text Box 5"/>
            <p:cNvSpPr/>
            <p:nvPr/>
          </p:nvSpPr>
          <p:spPr>
            <a:xfrm>
              <a:off x="2630880" y="2157840"/>
              <a:ext cx="169128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manzan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685800" y="3365640"/>
              <a:ext cx="1606680" cy="3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ruta dulc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1446840" y="2487240"/>
              <a:ext cx="0" cy="8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8"/>
            <p:cNvSpPr/>
            <p:nvPr/>
          </p:nvSpPr>
          <p:spPr>
            <a:xfrm>
              <a:off x="1446840" y="2487240"/>
              <a:ext cx="118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1277640" y="1828800"/>
              <a:ext cx="507240" cy="4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s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690600" y="4683240"/>
              <a:ext cx="1606680" cy="4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rd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Text Box 11"/>
            <p:cNvSpPr/>
            <p:nvPr/>
          </p:nvSpPr>
          <p:spPr>
            <a:xfrm>
              <a:off x="6690600" y="5342040"/>
              <a:ext cx="169128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Roj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2"/>
            <p:cNvSpPr/>
            <p:nvPr/>
          </p:nvSpPr>
          <p:spPr>
            <a:xfrm>
              <a:off x="6267600" y="4793040"/>
              <a:ext cx="0" cy="9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"/>
            <p:cNvSpPr/>
            <p:nvPr/>
          </p:nvSpPr>
          <p:spPr>
            <a:xfrm>
              <a:off x="6098400" y="4793040"/>
              <a:ext cx="50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"/>
            <p:cNvSpPr/>
            <p:nvPr/>
          </p:nvSpPr>
          <p:spPr>
            <a:xfrm>
              <a:off x="6267600" y="578124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Text Box 15"/>
            <p:cNvSpPr/>
            <p:nvPr/>
          </p:nvSpPr>
          <p:spPr>
            <a:xfrm>
              <a:off x="4068720" y="3365640"/>
              <a:ext cx="126828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lasific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Text Box 16"/>
            <p:cNvSpPr/>
            <p:nvPr/>
          </p:nvSpPr>
          <p:spPr>
            <a:xfrm>
              <a:off x="4660560" y="4463640"/>
              <a:ext cx="1437480" cy="65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lo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7"/>
            <p:cNvSpPr/>
            <p:nvPr/>
          </p:nvSpPr>
          <p:spPr>
            <a:xfrm>
              <a:off x="4322520" y="2487240"/>
              <a:ext cx="2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8"/>
            <p:cNvSpPr/>
            <p:nvPr/>
          </p:nvSpPr>
          <p:spPr>
            <a:xfrm>
              <a:off x="4575960" y="2487240"/>
              <a:ext cx="0" cy="8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Text Box 19"/>
            <p:cNvSpPr/>
            <p:nvPr/>
          </p:nvSpPr>
          <p:spPr>
            <a:xfrm>
              <a:off x="4745160" y="2597040"/>
              <a:ext cx="507240" cy="3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 Box 20"/>
            <p:cNvSpPr/>
            <p:nvPr/>
          </p:nvSpPr>
          <p:spPr>
            <a:xfrm>
              <a:off x="4660560" y="5342040"/>
              <a:ext cx="1437480" cy="65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amañ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>
              <a:off x="3222720" y="2707200"/>
              <a:ext cx="0" cy="13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Text Box 22"/>
            <p:cNvSpPr/>
            <p:nvPr/>
          </p:nvSpPr>
          <p:spPr>
            <a:xfrm>
              <a:off x="2630880" y="4024440"/>
              <a:ext cx="1353240" cy="4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art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 Box 23"/>
            <p:cNvSpPr/>
            <p:nvPr/>
          </p:nvSpPr>
          <p:spPr>
            <a:xfrm>
              <a:off x="3307320" y="3036240"/>
              <a:ext cx="5918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us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24"/>
            <p:cNvSpPr/>
            <p:nvPr/>
          </p:nvSpPr>
          <p:spPr>
            <a:xfrm>
              <a:off x="4237920" y="3915000"/>
              <a:ext cx="0" cy="175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>
              <a:off x="4237920" y="457344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26"/>
            <p:cNvSpPr/>
            <p:nvPr/>
          </p:nvSpPr>
          <p:spPr>
            <a:xfrm>
              <a:off x="4237920" y="567144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Text Box 27"/>
            <p:cNvSpPr/>
            <p:nvPr/>
          </p:nvSpPr>
          <p:spPr>
            <a:xfrm>
              <a:off x="4407120" y="4024440"/>
              <a:ext cx="929880" cy="32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egún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5243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Mentefac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285840" y="2571840"/>
            <a:ext cx="7696080" cy="3657600"/>
            <a:chOff x="285840" y="2571840"/>
            <a:chExt cx="7696080" cy="3657600"/>
          </a:xfrm>
        </p:grpSpPr>
        <p:sp>
          <p:nvSpPr>
            <p:cNvPr id="628" name="Text Box 5"/>
            <p:cNvSpPr/>
            <p:nvPr/>
          </p:nvSpPr>
          <p:spPr>
            <a:xfrm>
              <a:off x="3305880" y="3552840"/>
              <a:ext cx="1948320" cy="44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manzan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3403080" y="2571840"/>
              <a:ext cx="2240640" cy="35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1. Fruta dulc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3890160" y="5872680"/>
              <a:ext cx="1948320" cy="35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8. Roj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5059080" y="4891320"/>
              <a:ext cx="1656000" cy="5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7. Colo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5254200" y="3820680"/>
              <a:ext cx="6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Text Box 10"/>
            <p:cNvSpPr/>
            <p:nvPr/>
          </p:nvSpPr>
          <p:spPr>
            <a:xfrm>
              <a:off x="2136600" y="4891320"/>
              <a:ext cx="1656000" cy="5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6. Tamañ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Text Box 11"/>
            <p:cNvSpPr/>
            <p:nvPr/>
          </p:nvSpPr>
          <p:spPr>
            <a:xfrm>
              <a:off x="285840" y="3196080"/>
              <a:ext cx="2435400" cy="35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2. Part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4377240" y="2928240"/>
              <a:ext cx="0" cy="6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Text Box 13"/>
            <p:cNvSpPr/>
            <p:nvPr/>
          </p:nvSpPr>
          <p:spPr>
            <a:xfrm>
              <a:off x="285840" y="3731400"/>
              <a:ext cx="2435400" cy="53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3. Característica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3013560" y="3374640"/>
              <a:ext cx="0" cy="71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 flipH="1">
              <a:off x="2720880" y="337464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"/>
            <p:cNvSpPr/>
            <p:nvPr/>
          </p:nvSpPr>
          <p:spPr>
            <a:xfrm flipH="1">
              <a:off x="2720880" y="40881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>
              <a:off x="3013560" y="38206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 Box 18"/>
            <p:cNvSpPr/>
            <p:nvPr/>
          </p:nvSpPr>
          <p:spPr>
            <a:xfrm>
              <a:off x="5838840" y="3285360"/>
              <a:ext cx="155880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4. </a:t>
              </a: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anan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Text Box 19"/>
            <p:cNvSpPr/>
            <p:nvPr/>
          </p:nvSpPr>
          <p:spPr>
            <a:xfrm>
              <a:off x="5936040" y="3731400"/>
              <a:ext cx="155844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5. Per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5936040" y="4177440"/>
              <a:ext cx="155844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6. Piñ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21"/>
            <p:cNvSpPr/>
            <p:nvPr/>
          </p:nvSpPr>
          <p:spPr>
            <a:xfrm>
              <a:off x="5546520" y="3374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22"/>
            <p:cNvSpPr/>
            <p:nvPr/>
          </p:nvSpPr>
          <p:spPr>
            <a:xfrm>
              <a:off x="5546520" y="337464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23"/>
            <p:cNvSpPr/>
            <p:nvPr/>
          </p:nvSpPr>
          <p:spPr>
            <a:xfrm>
              <a:off x="5546520" y="4356000"/>
              <a:ext cx="38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24"/>
            <p:cNvSpPr/>
            <p:nvPr/>
          </p:nvSpPr>
          <p:spPr>
            <a:xfrm>
              <a:off x="4377240" y="3998880"/>
              <a:ext cx="0" cy="6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25"/>
            <p:cNvSpPr/>
            <p:nvPr/>
          </p:nvSpPr>
          <p:spPr>
            <a:xfrm>
              <a:off x="5838840" y="542664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26"/>
            <p:cNvSpPr/>
            <p:nvPr/>
          </p:nvSpPr>
          <p:spPr>
            <a:xfrm>
              <a:off x="2916000" y="4623480"/>
              <a:ext cx="282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2916000" y="462348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28"/>
            <p:cNvSpPr/>
            <p:nvPr/>
          </p:nvSpPr>
          <p:spPr>
            <a:xfrm>
              <a:off x="5741280" y="462348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29"/>
            <p:cNvSpPr/>
            <p:nvPr/>
          </p:nvSpPr>
          <p:spPr>
            <a:xfrm>
              <a:off x="4767120" y="5694120"/>
              <a:ext cx="32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30"/>
            <p:cNvSpPr/>
            <p:nvPr/>
          </p:nvSpPr>
          <p:spPr>
            <a:xfrm>
              <a:off x="4767120" y="5694120"/>
              <a:ext cx="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>
              <a:off x="7981920" y="5694120"/>
              <a:ext cx="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1DEAC3-4450-41A3-A220-5D1E64589377}" type="slidenum">
              <a:rPr b="0" lang="es-ES_tradn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Oval 6"/>
          <p:cNvSpPr/>
          <p:nvPr/>
        </p:nvSpPr>
        <p:spPr>
          <a:xfrm>
            <a:off x="3657600" y="2438280"/>
            <a:ext cx="1193760" cy="58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2116440" y="285840"/>
            <a:ext cx="4277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114ffb"/>
                </a:solidFill>
                <a:latin typeface="Comic Sans MS"/>
              </a:rPr>
              <a:t>MAPAS CONCEPTU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2576160" y="990720"/>
            <a:ext cx="446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IVELES Y RUTAS JERARQUIZ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9"/>
          <p:cNvSpPr/>
          <p:nvPr/>
        </p:nvSpPr>
        <p:spPr>
          <a:xfrm>
            <a:off x="1440" y="3124080"/>
            <a:ext cx="8304480" cy="0"/>
          </a:xfrm>
          <a:prstGeom prst="line">
            <a:avLst/>
          </a:prstGeom>
          <a:ln w="50760">
            <a:solidFill>
              <a:srgbClr val="dc0081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82680" y="4387680"/>
            <a:ext cx="8304120" cy="0"/>
          </a:xfrm>
          <a:prstGeom prst="line">
            <a:avLst/>
          </a:prstGeom>
          <a:ln w="50760">
            <a:solidFill>
              <a:srgbClr val="dc0081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11"/>
          <p:cNvSpPr/>
          <p:nvPr/>
        </p:nvSpPr>
        <p:spPr>
          <a:xfrm>
            <a:off x="458640" y="5911920"/>
            <a:ext cx="8304480" cy="0"/>
          </a:xfrm>
          <a:prstGeom prst="line">
            <a:avLst/>
          </a:prstGeom>
          <a:ln w="50760">
            <a:solidFill>
              <a:srgbClr val="dc0081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12"/>
          <p:cNvSpPr/>
          <p:nvPr/>
        </p:nvSpPr>
        <p:spPr>
          <a:xfrm>
            <a:off x="382680" y="2330280"/>
            <a:ext cx="8304120" cy="0"/>
          </a:xfrm>
          <a:prstGeom prst="line">
            <a:avLst/>
          </a:prstGeom>
          <a:ln w="50760">
            <a:solidFill>
              <a:srgbClr val="114ffb"/>
            </a:solidFill>
            <a:prstDash val="dashDot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13"/>
          <p:cNvSpPr/>
          <p:nvPr/>
        </p:nvSpPr>
        <p:spPr>
          <a:xfrm>
            <a:off x="838080" y="1830240"/>
            <a:ext cx="0" cy="4951440"/>
          </a:xfrm>
          <a:prstGeom prst="line">
            <a:avLst/>
          </a:prstGeom>
          <a:ln w="12600">
            <a:solidFill>
              <a:srgbClr val="114ffb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Rectangle 14"/>
          <p:cNvSpPr/>
          <p:nvPr/>
        </p:nvSpPr>
        <p:spPr>
          <a:xfrm>
            <a:off x="7395840" y="2514600"/>
            <a:ext cx="105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b200"/>
                </a:solidFill>
                <a:latin typeface="Comic Sans MS"/>
                <a:ea typeface="Arial"/>
              </a:rPr>
              <a:t>1er ni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7439040" y="388476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b200"/>
                </a:solidFill>
                <a:latin typeface="Comic Sans MS"/>
                <a:ea typeface="Arial"/>
              </a:rPr>
              <a:t>2o ni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7395840" y="4875120"/>
            <a:ext cx="105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b200"/>
                </a:solidFill>
                <a:latin typeface="Comic Sans MS"/>
                <a:ea typeface="Arial"/>
              </a:rPr>
              <a:t>3er ni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555120" y="3198960"/>
            <a:ext cx="3312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Rectangle 18"/>
          <p:cNvSpPr/>
          <p:nvPr/>
        </p:nvSpPr>
        <p:spPr>
          <a:xfrm>
            <a:off x="781560" y="2286000"/>
            <a:ext cx="1713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ruta horizont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Oval 19"/>
          <p:cNvSpPr/>
          <p:nvPr/>
        </p:nvSpPr>
        <p:spPr>
          <a:xfrm>
            <a:off x="1523880" y="3429000"/>
            <a:ext cx="1193760" cy="58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Oval 20"/>
          <p:cNvSpPr/>
          <p:nvPr/>
        </p:nvSpPr>
        <p:spPr>
          <a:xfrm>
            <a:off x="3733920" y="3581280"/>
            <a:ext cx="1193760" cy="58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Oval 21"/>
          <p:cNvSpPr/>
          <p:nvPr/>
        </p:nvSpPr>
        <p:spPr>
          <a:xfrm>
            <a:off x="6248520" y="3505320"/>
            <a:ext cx="1193760" cy="58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Oval 22"/>
          <p:cNvSpPr/>
          <p:nvPr/>
        </p:nvSpPr>
        <p:spPr>
          <a:xfrm>
            <a:off x="2362320" y="4800600"/>
            <a:ext cx="1193760" cy="58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Oval 23"/>
          <p:cNvSpPr/>
          <p:nvPr/>
        </p:nvSpPr>
        <p:spPr>
          <a:xfrm>
            <a:off x="4648320" y="4952880"/>
            <a:ext cx="119376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Line 24"/>
          <p:cNvSpPr/>
          <p:nvPr/>
        </p:nvSpPr>
        <p:spPr>
          <a:xfrm flipH="1">
            <a:off x="2058480" y="3049560"/>
            <a:ext cx="197964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25"/>
          <p:cNvSpPr/>
          <p:nvPr/>
        </p:nvSpPr>
        <p:spPr>
          <a:xfrm>
            <a:off x="4726080" y="3049560"/>
            <a:ext cx="1674720" cy="4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26"/>
          <p:cNvSpPr/>
          <p:nvPr/>
        </p:nvSpPr>
        <p:spPr>
          <a:xfrm>
            <a:off x="4267080" y="30495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27"/>
          <p:cNvSpPr/>
          <p:nvPr/>
        </p:nvSpPr>
        <p:spPr>
          <a:xfrm flipH="1">
            <a:off x="3201840" y="4268880"/>
            <a:ext cx="989280" cy="53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28"/>
          <p:cNvSpPr/>
          <p:nvPr/>
        </p:nvSpPr>
        <p:spPr>
          <a:xfrm>
            <a:off x="4268880" y="4192560"/>
            <a:ext cx="912600" cy="6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Oval 2"/>
          <p:cNvSpPr/>
          <p:nvPr/>
        </p:nvSpPr>
        <p:spPr>
          <a:xfrm>
            <a:off x="387360" y="2901960"/>
            <a:ext cx="2273400" cy="825480"/>
          </a:xfrm>
          <a:prstGeom prst="ellipse">
            <a:avLst/>
          </a:prstGeom>
          <a:solidFill>
            <a:srgbClr val="703d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Oval 3"/>
          <p:cNvSpPr/>
          <p:nvPr/>
        </p:nvSpPr>
        <p:spPr>
          <a:xfrm>
            <a:off x="1879560" y="546120"/>
            <a:ext cx="5384880" cy="1117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257560" y="855720"/>
            <a:ext cx="437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114ffb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114ffb"/>
                </a:solidFill>
                <a:latin typeface="Comic Sans MS"/>
              </a:rPr>
              <a:t>MAPAS CONCEPTU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404280" y="3110040"/>
            <a:ext cx="209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mpr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6"/>
          <p:cNvSpPr/>
          <p:nvPr/>
        </p:nvSpPr>
        <p:spPr>
          <a:xfrm flipH="1">
            <a:off x="1601280" y="1754280"/>
            <a:ext cx="2970360" cy="11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Oval 7"/>
          <p:cNvSpPr/>
          <p:nvPr/>
        </p:nvSpPr>
        <p:spPr>
          <a:xfrm>
            <a:off x="463680" y="4883040"/>
            <a:ext cx="2273040" cy="825480"/>
          </a:xfrm>
          <a:prstGeom prst="ellipse">
            <a:avLst/>
          </a:prstGeom>
          <a:solidFill>
            <a:srgbClr val="703d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640800" y="5013360"/>
            <a:ext cx="177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Rectangle 9"/>
          <p:cNvSpPr/>
          <p:nvPr/>
        </p:nvSpPr>
        <p:spPr>
          <a:xfrm>
            <a:off x="2619000" y="2546280"/>
            <a:ext cx="135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yudan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10"/>
          <p:cNvSpPr/>
          <p:nvPr/>
        </p:nvSpPr>
        <p:spPr>
          <a:xfrm>
            <a:off x="1523880" y="3735360"/>
            <a:ext cx="0" cy="11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0759F5-AA4D-4636-A522-AA595FC97E96}" type="slidenum">
              <a:rPr b="0" lang="es-ES_tradnl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Oval 2"/>
          <p:cNvSpPr/>
          <p:nvPr/>
        </p:nvSpPr>
        <p:spPr>
          <a:xfrm>
            <a:off x="6324480" y="4800600"/>
            <a:ext cx="2425680" cy="135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387360" y="2901960"/>
            <a:ext cx="2273400" cy="825480"/>
          </a:xfrm>
          <a:prstGeom prst="ellipse">
            <a:avLst/>
          </a:prstGeom>
          <a:solidFill>
            <a:srgbClr val="703d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1879560" y="546120"/>
            <a:ext cx="5384880" cy="1117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2036520" y="928800"/>
            <a:ext cx="44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114ffb"/>
                </a:solidFill>
                <a:latin typeface="Comic Sans MS"/>
              </a:rPr>
              <a:t>  </a:t>
            </a:r>
            <a:r>
              <a:rPr b="1" lang="es-ES_tradnl" sz="2800" spc="-1" strike="noStrike">
                <a:solidFill>
                  <a:srgbClr val="114ffb"/>
                </a:solidFill>
                <a:latin typeface="Comic Sans MS"/>
              </a:rPr>
              <a:t>MAPAS CONCEPTU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3429000" y="4572000"/>
            <a:ext cx="2425680" cy="135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Line 7"/>
          <p:cNvSpPr/>
          <p:nvPr/>
        </p:nvSpPr>
        <p:spPr>
          <a:xfrm>
            <a:off x="4613400" y="1754280"/>
            <a:ext cx="0" cy="11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404280" y="3110040"/>
            <a:ext cx="209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mpr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Oval 9"/>
          <p:cNvSpPr/>
          <p:nvPr/>
        </p:nvSpPr>
        <p:spPr>
          <a:xfrm>
            <a:off x="3435480" y="2901960"/>
            <a:ext cx="227304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Oval 10"/>
          <p:cNvSpPr/>
          <p:nvPr/>
        </p:nvSpPr>
        <p:spPr>
          <a:xfrm>
            <a:off x="6330960" y="2901960"/>
            <a:ext cx="2273400" cy="825480"/>
          </a:xfrm>
          <a:prstGeom prst="ellipse">
            <a:avLst/>
          </a:prstGeom>
          <a:solidFill>
            <a:srgbClr val="703d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Rectangle 11"/>
          <p:cNvSpPr/>
          <p:nvPr/>
        </p:nvSpPr>
        <p:spPr>
          <a:xfrm>
            <a:off x="3999600" y="31100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ubic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6774840" y="311004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fro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1601280" y="1754280"/>
            <a:ext cx="2970360" cy="11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Oval 14"/>
          <p:cNvSpPr/>
          <p:nvPr/>
        </p:nvSpPr>
        <p:spPr>
          <a:xfrm>
            <a:off x="463680" y="4883040"/>
            <a:ext cx="2273040" cy="825480"/>
          </a:xfrm>
          <a:prstGeom prst="ellipse">
            <a:avLst/>
          </a:prstGeom>
          <a:solidFill>
            <a:srgbClr val="703d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15"/>
          <p:cNvSpPr/>
          <p:nvPr/>
        </p:nvSpPr>
        <p:spPr>
          <a:xfrm>
            <a:off x="4573440" y="1754280"/>
            <a:ext cx="3046680" cy="11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Rectangle 16"/>
          <p:cNvSpPr/>
          <p:nvPr/>
        </p:nvSpPr>
        <p:spPr>
          <a:xfrm>
            <a:off x="640800" y="5013360"/>
            <a:ext cx="177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Rectangle 17"/>
          <p:cNvSpPr/>
          <p:nvPr/>
        </p:nvSpPr>
        <p:spPr>
          <a:xfrm>
            <a:off x="4114800" y="4572000"/>
            <a:ext cx="98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Rectangle 18"/>
          <p:cNvSpPr/>
          <p:nvPr/>
        </p:nvSpPr>
        <p:spPr>
          <a:xfrm>
            <a:off x="3771720" y="5318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2619000" y="2546280"/>
            <a:ext cx="135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yudan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Rectangle 20"/>
          <p:cNvSpPr/>
          <p:nvPr/>
        </p:nvSpPr>
        <p:spPr>
          <a:xfrm>
            <a:off x="5208120" y="2546280"/>
            <a:ext cx="135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yudan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21"/>
          <p:cNvSpPr/>
          <p:nvPr/>
        </p:nvSpPr>
        <p:spPr>
          <a:xfrm>
            <a:off x="1523880" y="3735360"/>
            <a:ext cx="0" cy="11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4648320" y="373536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23"/>
          <p:cNvSpPr/>
          <p:nvPr/>
        </p:nvSpPr>
        <p:spPr>
          <a:xfrm>
            <a:off x="7620120" y="37353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6867000" y="4876920"/>
            <a:ext cx="143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abe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vi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nuevo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Rectangle 25"/>
          <p:cNvSpPr/>
          <p:nvPr/>
        </p:nvSpPr>
        <p:spPr>
          <a:xfrm>
            <a:off x="3809880" y="4952880"/>
            <a:ext cx="175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b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6870600" cy="12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ef66"/>
                </a:solidFill>
                <a:latin typeface="Comic Sans MS"/>
              </a:rPr>
              <a:t>Tecnologí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2920" y="1928880"/>
            <a:ext cx="6315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Podemos indicar diferentes herramientas con prestaciones muy diver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spiration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(posibilidades gráficas y didáctic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HMC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(posibilidades avanzadas de trabajo en grup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XON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(alto contenido de abstracción y virtu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Belved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Knowledge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anag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"/>
          <p:cNvPicPr/>
          <p:nvPr/>
        </p:nvPicPr>
        <p:blipFill>
          <a:blip r:embed="rId1"/>
          <a:stretch/>
        </p:blipFill>
        <p:spPr>
          <a:xfrm>
            <a:off x="2143080" y="0"/>
            <a:ext cx="700092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7"/>
          <p:cNvSpPr/>
          <p:nvPr/>
        </p:nvSpPr>
        <p:spPr>
          <a:xfrm>
            <a:off x="0" y="333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NSPI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0" y="1785960"/>
            <a:ext cx="5792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28440" y="642960"/>
            <a:ext cx="68706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e60d"/>
                </a:solidFill>
                <a:latin typeface="Comic Sans MS"/>
              </a:rPr>
              <a:t>Concept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7696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ción abstracta, id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Imagen mental, formada por una Generalizació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nidad de pensamien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Modelo mental,  creación mental, idea de una clase de objet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gularidad en los acontecimientos o en los objetos, que se designa mediante algún término (Nova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>
            <a:off x="0" y="3786120"/>
            <a:ext cx="9144000" cy="307188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7"/>
          <p:cNvSpPr/>
          <p:nvPr/>
        </p:nvSpPr>
        <p:spPr>
          <a:xfrm>
            <a:off x="357120" y="428760"/>
            <a:ext cx="4714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ef66"/>
                </a:solidFill>
                <a:latin typeface="Comic Sans MS"/>
                <a:ea typeface="Arial"/>
              </a:rPr>
              <a:t>IHM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Ejemplo de una mapa y sus posibilidad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800680" cy="23241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"/>
          <p:cNvPicPr/>
          <p:nvPr/>
        </p:nvPicPr>
        <p:blipFill>
          <a:blip r:embed="rId2"/>
          <a:stretch/>
        </p:blipFill>
        <p:spPr>
          <a:xfrm>
            <a:off x="2411280" y="2781360"/>
            <a:ext cx="5915160" cy="3686040"/>
          </a:xfrm>
          <a:prstGeom prst="rect">
            <a:avLst/>
          </a:prstGeom>
          <a:ln w="0">
            <a:noFill/>
          </a:ln>
        </p:spPr>
      </p:pic>
      <p:sp>
        <p:nvSpPr>
          <p:cNvPr id="726" name="Line 8"/>
          <p:cNvSpPr/>
          <p:nvPr/>
        </p:nvSpPr>
        <p:spPr>
          <a:xfrm>
            <a:off x="1908000" y="2421000"/>
            <a:ext cx="172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714240" y="28576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Vi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6" descr=""/>
          <p:cNvPicPr/>
          <p:nvPr/>
        </p:nvPicPr>
        <p:blipFill>
          <a:blip r:embed="rId1"/>
          <a:stretch/>
        </p:blipFill>
        <p:spPr>
          <a:xfrm>
            <a:off x="642960" y="2928960"/>
            <a:ext cx="4971960" cy="157176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7"/>
          <p:cNvSpPr/>
          <p:nvPr/>
        </p:nvSpPr>
        <p:spPr>
          <a:xfrm>
            <a:off x="1332000" y="150012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hipermap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667040" cy="482940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3"/>
          <p:cNvSpPr/>
          <p:nvPr/>
        </p:nvSpPr>
        <p:spPr>
          <a:xfrm>
            <a:off x="1258920" y="40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rupo de 2º de F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3995640" y="1125360"/>
            <a:ext cx="4667400" cy="482940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5"/>
          <p:cNvSpPr/>
          <p:nvPr/>
        </p:nvSpPr>
        <p:spPr>
          <a:xfrm>
            <a:off x="4000680" y="35712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de un alum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Line 6"/>
          <p:cNvSpPr/>
          <p:nvPr/>
        </p:nvSpPr>
        <p:spPr>
          <a:xfrm flipH="1">
            <a:off x="7092720" y="2565360"/>
            <a:ext cx="718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7"/>
          <p:cNvSpPr/>
          <p:nvPr/>
        </p:nvSpPr>
        <p:spPr>
          <a:xfrm flipH="1" flipV="1">
            <a:off x="7524720" y="479736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Line 8"/>
          <p:cNvSpPr/>
          <p:nvPr/>
        </p:nvSpPr>
        <p:spPr>
          <a:xfrm flipV="1">
            <a:off x="5435640" y="2421000"/>
            <a:ext cx="64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Tabaco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3"/>
          <p:cNvSpPr/>
          <p:nvPr/>
        </p:nvSpPr>
        <p:spPr>
          <a:xfrm>
            <a:off x="142920" y="-1843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º DE CM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Tasca 1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2284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514836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  <a:ea typeface="Arial"/>
              </a:rPr>
              <a:t>2º de E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3"/>
          <p:cNvSpPr/>
          <p:nvPr/>
        </p:nvSpPr>
        <p:spPr>
          <a:xfrm>
            <a:off x="1908000" y="260280"/>
            <a:ext cx="259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ELVEDE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3"/>
          <p:cNvSpPr/>
          <p:nvPr/>
        </p:nvSpPr>
        <p:spPr>
          <a:xfrm>
            <a:off x="1547640" y="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  <a:ea typeface="Arial"/>
              </a:rPr>
              <a:t>Knowledge Mana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6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75520" cy="566892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7"/>
          <p:cNvSpPr/>
          <p:nvPr/>
        </p:nvSpPr>
        <p:spPr>
          <a:xfrm>
            <a:off x="324000" y="260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1640" y="-357120"/>
            <a:ext cx="407196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786040" y="1285920"/>
            <a:ext cx="5595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Ausubel, D. (1978) Psicología Educativa. México, Trilla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Novak J. y Gowin (1988) Aprendiendo a aprender. Barceona, Martínez Roca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Novak op cit; Ontoria, A. (1993) Los mapas conceptuales: una técnica para aprender. Madrid, Narcea; Pérez, M (1995) "Los mapas conceptuales" en Cuadernos de Pedagogía Núm. 237; Horton, P et al (1993) "An investigation of the efectiveness of Concept Mapping as an Instructional Tool" en Science Education Núm 77 (1); González, G (1992) "Los mapas conceptuales de J D Novak como instrumentos para la investigación didáctica de las ciencias experimentales" en Enseñanza de las ciencias Vol 10 Núm 2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Díaz-Barriga, F. y Hernández, G. (1998) Estrategias docentes para un aprendizaje significativo. Una interpretación constructivista. México: McGraw-Hill. En esta obra podemos encontrar diversas estrategias de aprendizaje, sus principales características, criterios de elaboración y ejemplo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Novak, J. D. y Gowin, D. B. (1988) Aprendiendo a aprender. Barcelona: Martínez Roca. Libro básico y clásico en la formación teórico-práctica para el diseño y aplicación de mapas conceptuales en el aula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071440" y="21420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ef66"/>
                </a:solidFill>
                <a:latin typeface="Comic Sans MS"/>
              </a:rPr>
              <a:t>síntesi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28560" y="1285920"/>
            <a:ext cx="6553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Ilustración que muestra una relación entre concep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Forma de expresión y exploración del conocimien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Representación de conceptos de manera jerárquica y organizada.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68706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ef66"/>
                </a:solidFill>
                <a:latin typeface="Comic Sans MS"/>
              </a:rPr>
              <a:t>Mapas en formato digit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6760" y="2143080"/>
            <a:ext cx="76964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Permit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Crear hipervínculo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Compartir recurso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Usos diversos según el programa que estemos usand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42720" y="357120"/>
            <a:ext cx="68706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ef66"/>
                </a:solidFill>
                <a:latin typeface="Comic Sans MS"/>
              </a:rPr>
              <a:t>Como se desarro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571840" y="1828800"/>
            <a:ext cx="657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desarrollaron en 197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royecto de investigación en la Universidad de Corn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métodos usuales para evaluar los cambios en la comprensión de conceptos en los niños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bases teóricas en la psicología cognitiva de Ausubel (196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571680" y="214200"/>
            <a:ext cx="795816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ef66"/>
                </a:solidFill>
                <a:latin typeface="Comic Sans MS"/>
              </a:rPr>
              <a:t>Elementos que lo compone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n concep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alabras de en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roposi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íneas y Flechas de En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Conexiones Cruz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28520" y="428400"/>
            <a:ext cx="6870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La elipse u ova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0" name="3 Marcador de contenido" descr="http://www.monografias.com/trabajos10/mema/Image3258.gif"/>
          <p:cNvPicPr/>
          <p:nvPr/>
        </p:nvPicPr>
        <p:blipFill>
          <a:blip r:embed="rId1"/>
          <a:stretch/>
        </p:blipFill>
        <p:spPr>
          <a:xfrm>
            <a:off x="2143080" y="5929200"/>
            <a:ext cx="7000920" cy="928800"/>
          </a:xfrm>
          <a:prstGeom prst="rect">
            <a:avLst/>
          </a:prstGeom>
          <a:ln w="0">
            <a:noFill/>
          </a:ln>
        </p:spPr>
      </p:pic>
      <p:sp>
        <p:nvSpPr>
          <p:cNvPr id="581" name="4 CuadroTexto"/>
          <p:cNvSpPr/>
          <p:nvPr/>
        </p:nvSpPr>
        <p:spPr>
          <a:xfrm>
            <a:off x="1785960" y="157176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Escri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Variabilidad según autor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simbologí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42680" y="-286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mapas conceptuales permiten al estudi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357280" y="1714680"/>
            <a:ext cx="678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Facilit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Interpret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Integr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Desarro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Inserta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Organiz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Expres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d466"/>
                </a:solidFill>
                <a:latin typeface="Comic Sans MS"/>
              </a:rPr>
              <a:t>Organiz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d4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00160" y="7138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¿Cómo elaborar un mapa conceptual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000160" y="2143080"/>
            <a:ext cx="6786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ef66"/>
                </a:solidFill>
                <a:latin typeface="Comic Sans MS"/>
              </a:rPr>
              <a:t>Identific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ef66"/>
                </a:solidFill>
                <a:latin typeface="Comic Sans MS"/>
              </a:rPr>
              <a:t>Colocar el concep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ef66"/>
                </a:solidFill>
                <a:latin typeface="Comic Sans MS"/>
              </a:rPr>
              <a:t>Conectar los concepto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ef66"/>
                </a:solidFill>
                <a:latin typeface="Comic Sans MS"/>
              </a:rPr>
              <a:t>Incluir ejemplos *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ef66"/>
                </a:solidFill>
                <a:latin typeface="Comic Sans MS"/>
              </a:rPr>
              <a:t>relaciones cruzad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7:10:08Z</dcterms:created>
  <dc:creator>Pablo Turmero</dc:creator>
  <dc:description/>
  <dc:language>en-US</dc:language>
  <cp:lastModifiedBy>Pablo</cp:lastModifiedBy>
  <dcterms:modified xsi:type="dcterms:W3CDTF">2015-11-08T14:48:13Z</dcterms:modified>
  <cp:revision>37</cp:revision>
  <dc:subject/>
  <dc:title/>
</cp:coreProperties>
</file>