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6C62-071F-48A3-B44F-7F0D4603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D365-2541-4621-AFA3-4EB23E53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162CF-2388-44BB-8E35-C3331507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BC549-F0C3-4054-965F-9341FF3C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01C86-A0B9-4FFB-9C98-1FB7A3F6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4B5D8-9724-428A-BBE7-33BF0A80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61811-768F-4376-9FC1-FC925C45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90791-92DC-44EE-8CB2-C914E337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42690-2206-4AC5-903A-6F4A5D15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17919-6C5E-42B7-991A-4275350B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31247-D3C8-4A92-A0D9-04C45920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3CC06-E988-450C-A3D6-B725FE04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74E-BDE3-47C0-ADFC-C48407D9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2B9CF-DFBA-4036-A3F0-41AD5393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55B89-98EB-41C7-8C56-005DD79A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E88BB-CFE0-45CC-9A01-4BDDB6B2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0A52D-BC7D-4BA4-AE0A-A6D810FB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321FB-C010-4FFE-AB22-34D073A5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3E350-6CB4-4741-B98A-1AC1BFFA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102D9-BCEC-4098-BFBB-F3F46E98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60F72-D2B3-48AE-9DA7-59A61BF2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14358-5A2F-47E0-86A6-AC5BAD97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51AE5-3E57-4788-B5BD-512D4617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471-F288-4621-8EF9-501EB9A8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98819-00A1-4332-A091-735381FB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4C4A0-8AC0-4544-BEEA-1E3296CF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32D1E-CCE4-48DB-9A35-71E9D158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14C58-686A-43FB-8F17-167EB99D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6126A-F777-44E2-96C3-ACFB2AE2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23E31-6717-4FE9-B239-B5AFB5A8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9BA50-E281-4548-B163-0A7A5CAF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F2334-C7FA-4F5A-AC40-9DB3D7E2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860B5-EBC2-48A1-A690-DBBD5E31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2129B-A2A5-4F3B-852F-CD7B63A4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DAAF-07E9-47B7-AA43-08506E12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53B63-A92B-4C97-AC11-8FD0D9A7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87339-10E9-4BFB-8D71-575AA66B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35AF8-B986-4BAB-8240-8DF058BA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CD0F0-8847-4F6B-9C22-7FC73612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5255A-FC06-4D43-9FEF-21EA8941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78A61-11A7-499A-9BC9-27AF488E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E9920-9C77-47E3-811E-F0D63AC3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A096B-F7AD-44C0-85FF-3D90C8B7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E0DFA-8D00-4F30-B774-8AADBAE3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9D233-8CB8-404A-A9BB-ADBE1879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0FA1-F387-454C-BABF-7A90234E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E78A8-AE06-44A4-8E32-B7705552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5F521-3078-4E0E-B409-0A843EB8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4E8FF-6D47-41A4-B033-0B5A9602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F1828-2F9D-49A9-9078-431DAAF2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9113F-7A6F-4860-8E59-5BD9EFF1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10CC-8BD8-4847-A0DE-EB219A1F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A86C-DC1F-424F-9BE3-D2405E4F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414F-988F-4B4F-B5E9-A43E8527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A03E-ED57-434E-83FC-65944175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4704-C471-43BB-98DD-7F936ACE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9B8-FDDD-4F34-B235-48C7485E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0E71-AFB7-4CFB-93B9-87703404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BC5C-ED51-4CC3-A634-136965EF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9D30-42DF-4C4A-BB47-3F5787C5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829D-6C37-47BA-B9FD-28DA36C6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D071-8BAF-4925-8CFF-BE7C0433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D7FB9-E903-460B-8D47-AB87749D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00785-8046-46A2-9808-A0F582BA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64B7E-933F-4D75-B544-CDB2F20D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104BC-35A3-43C7-8F36-9FC2EBED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D2374-7122-4375-9682-396C5F19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D3A-5FBC-47AD-8A1F-9A8698D4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0D381-04AB-46DC-A431-0CCC7A99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D433F-19BA-40D8-9FC7-10F2ED11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3F560-5AEC-490E-BB2B-F3C1C943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D1BF9-2F93-4039-8C06-2EBDB11E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7EE2A-0CCD-44B4-A632-CF040B5C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14EDE-2B86-4CE2-9B51-51595A62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A9A14-01B1-4760-BCA1-618320F2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40398-C372-46C2-8B03-98C28783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4DA27-B623-48DD-B3C5-BDDF1760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8C212-044C-4054-AC4F-8C7083AA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D1A2-411B-4489-BCFB-232253A8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9B6A3-DECB-45F4-81B8-5F73E552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035DE-CA05-4512-AFDA-132324FC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6C35C-500C-4C7A-867B-68E5A384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67DC1-8F9B-4103-B22D-335425AD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18F4A-45C4-40E3-BEA3-055FDB74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F952C-D808-45E0-A24D-253676C2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258A2-10CA-492C-AD8A-ADD9F5BD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8AB55-E491-44C3-8133-863C6ADB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FB834-15D2-436E-9514-33777186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42326-C7C7-4E5A-BAA1-23104224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657-1CDF-4620-B49A-5FB9FAEE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3287C-6C29-488C-A6F2-6DBFA10B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1669A-CF10-4A30-B82B-02CE75CC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F35F1-C5AE-4473-AC68-134253B7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41317-CAC8-409C-8282-5C92A878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057FA-5C82-4689-9D2F-1295C768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CE267-15E9-40F9-8491-B6FC8E9E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B6C2A-B598-43B5-804F-FFFCB120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0FDA3-432B-4487-AC41-C297CE3B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A1F38-6052-4721-B6C7-DEA01AF3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00C96-2440-4155-AC98-AC01E3FD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047-47E3-474E-97B3-FD71F59A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F3C75-6A6A-461C-8776-FA91F7FA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017D0-3F30-4341-A371-303CDF2E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5199F-AB11-4E97-A540-4257B908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70E52-8D3B-4E6B-9C66-BB73D257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898D9-2218-4F66-8B6B-88E5C047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41DD5-8006-4A3D-8866-A3080B92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525D2-4321-42C5-A7C8-44D6BD2D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1810A-677F-4291-9AFE-FE69E673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6AEC3-5CB5-46EE-B96D-D29DAA9C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10339-345D-462D-B35F-BC89F25A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0E3A-54F0-47CE-9FE3-89754EF4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C2A47-A6CC-45D0-AC69-15E59E24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1ED9A-71A4-4F38-9437-27410A40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61F5C-1620-4D23-BEFA-076C49BB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C2B05-7942-4FB3-BA86-B279B1D6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5C5E3-6356-4D93-97C9-FF835CE9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54E5C-2DD6-4D96-8EA1-581411EC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11789-314B-452C-A5C2-29037FDD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AE9AA-EEB6-4DDE-A389-2F20FDB2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449BE-1835-4C99-91B6-4491586B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5A19A-BE73-40E7-BED5-6794DBAD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2F50-511A-479F-9208-3036058B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E65AC-2944-4530-8D34-02E9829D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B14F4-E089-48B7-A7EC-9F153172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01526-0656-461C-BD0E-B092E542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5B912-5533-43ED-A09D-2A2AC2FB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8EF86-8018-461A-8ACF-C66C1341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3026D-41A8-46E6-9821-19611F56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4369F-E584-4B8D-848A-4D95FF2F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E91E7-2A2B-4E4C-B4BA-80DCB4E8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EC938-A1ED-4B31-9913-1ED47869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EC795-5A39-4DCE-9911-E1A44060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9E8-B863-42F5-A6A0-166A2E4D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39875-B7F5-487D-A5BC-15AFFFA0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BDD57-6B7C-4968-B0E2-0C2E8C9E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11E48-B7E2-4CB7-8A56-9B05B113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275CB-626C-4AC5-85ED-2697A278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4B7AA-722C-4B6B-B154-020039D5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6E684-F13D-4ED9-A4C2-ED94C76B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05F5C-413F-41D5-A7B3-74D2754E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0995F-9A17-424C-AE5E-07B63383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42883-C458-4B3E-8EF4-1578BB4A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4EE13-C719-41B7-A8A2-F8F1CB8C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7f2"/>
            </a:gs>
            <a:gs pos="100000">
              <a:srgbClr val="ffd1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9D8D-D465-4B2A-9D44-AFF2884387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7f2"/>
            </a:gs>
            <a:gs pos="100000">
              <a:srgbClr val="ffd1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258D-49F0-4B38-8793-D8C5611E29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7f2"/>
            </a:gs>
            <a:gs pos="100000">
              <a:srgbClr val="ffd1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6836-ECA2-456B-8951-D70057CA57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7f2"/>
            </a:gs>
            <a:gs pos="100000">
              <a:srgbClr val="ffd1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73DF-2C3A-427B-907D-D66AF72D1F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7f2"/>
            </a:gs>
            <a:gs pos="100000">
              <a:srgbClr val="ffd1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:\paint.GIF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CCB8-4A62-42B5-8DF2-FB4281FF0F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7f2"/>
            </a:gs>
            <a:gs pos="100000">
              <a:srgbClr val="ffd1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A669-42BE-4453-849E-034333FDD3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7f2"/>
            </a:gs>
            <a:gs pos="100000">
              <a:srgbClr val="ffd1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3D49-E8E0-46E3-89D7-4BF8A17818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7f2"/>
            </a:gs>
            <a:gs pos="100000">
              <a:srgbClr val="ffd1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3C7B-01FF-40E6-B18E-A0E93DA23D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7f2"/>
            </a:gs>
            <a:gs pos="100000">
              <a:srgbClr val="ffd1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C4CB-1DF5-4E81-AD20-044BE34C27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7f2"/>
            </a:gs>
            <a:gs pos="100000">
              <a:srgbClr val="ffd1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51C1-61FB-4425-80A7-E9F211FC9D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7f2"/>
            </a:gs>
            <a:gs pos="100000">
              <a:srgbClr val="ffd1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F339-9179-43B8-808D-61F1C46906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7f2"/>
            </a:gs>
            <a:gs pos="100000">
              <a:srgbClr val="ffd1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31ED-3828-4270-9ED3-285CF15878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000" y="269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Sistemas Distribui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1403280" y="1844640"/>
            <a:ext cx="64008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Segur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Métodos de ataqu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457200" y="1828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685800" y="1828800"/>
            <a:ext cx="8458200" cy="57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nmascar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nición: Envío o recepción de mensajes usando  la identidad de otro principal, sin su autor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dia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tención y uso de la identidad y password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tro princip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ando capacidad de acceso al sistema después que la autorización para hacerlo ha expirado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Métodos de ataqu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380880" y="1828800"/>
            <a:ext cx="84582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Alteración de mensaj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nición: Interceptación de mensajes 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teración de los mismos antes de pasarlos a l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ceptores espe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fícil en Ethernet (aunque se ha hech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lativamente simple en Internet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Métodos de ataqu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457200" y="1828800"/>
            <a:ext cx="8381880" cy="59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Rep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nición: Almacenamiento de mensajes y enví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 los mismos un tiempo despué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or ejemplo: Después que la autorización par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ar un recurso ha sido revoc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usada para robo de recursos 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andalismo aún cuando los mensaj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producidos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 puedan ser interpretados p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au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Infiltració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57200" y="1905120"/>
            <a:ext cx="8153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Viru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 programa que se autoreproduce 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que (típicamente) infecta otros progra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Gusan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 programa que se autoreproduce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paga en forma independ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Caballo de Troy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 ataque oculto dentro de 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grama benign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Amenazas en sistemas cliente-servid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Oval 3"/>
          <p:cNvSpPr/>
          <p:nvPr/>
        </p:nvSpPr>
        <p:spPr>
          <a:xfrm>
            <a:off x="304920" y="2590920"/>
            <a:ext cx="2819160" cy="2743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762120" y="28195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Do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Oval 6"/>
          <p:cNvSpPr/>
          <p:nvPr/>
        </p:nvSpPr>
        <p:spPr>
          <a:xfrm>
            <a:off x="1523880" y="3479760"/>
            <a:ext cx="763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Oval 7"/>
          <p:cNvSpPr/>
          <p:nvPr/>
        </p:nvSpPr>
        <p:spPr>
          <a:xfrm>
            <a:off x="1523880" y="3784680"/>
            <a:ext cx="763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11430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Oval 10"/>
          <p:cNvSpPr/>
          <p:nvPr/>
        </p:nvSpPr>
        <p:spPr>
          <a:xfrm>
            <a:off x="1523880" y="4317840"/>
            <a:ext cx="76320" cy="101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Oval 11"/>
          <p:cNvSpPr/>
          <p:nvPr/>
        </p:nvSpPr>
        <p:spPr>
          <a:xfrm>
            <a:off x="1523880" y="4622760"/>
            <a:ext cx="763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13"/>
          <p:cNvSpPr/>
          <p:nvPr/>
        </p:nvSpPr>
        <p:spPr>
          <a:xfrm>
            <a:off x="685800" y="46483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continuac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838080" y="18288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Text Box 15"/>
          <p:cNvSpPr/>
          <p:nvPr/>
        </p:nvSpPr>
        <p:spPr>
          <a:xfrm>
            <a:off x="457200" y="5715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liente impostor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Oval 16"/>
          <p:cNvSpPr/>
          <p:nvPr/>
        </p:nvSpPr>
        <p:spPr>
          <a:xfrm>
            <a:off x="6248520" y="2590920"/>
            <a:ext cx="2895480" cy="3200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 Box 17"/>
          <p:cNvSpPr/>
          <p:nvPr/>
        </p:nvSpPr>
        <p:spPr>
          <a:xfrm>
            <a:off x="6629400" y="2895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Get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 Box 18"/>
          <p:cNvSpPr/>
          <p:nvPr/>
        </p:nvSpPr>
        <p:spPr>
          <a:xfrm>
            <a:off x="678168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ec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 Box 19"/>
          <p:cNvSpPr/>
          <p:nvPr/>
        </p:nvSpPr>
        <p:spPr>
          <a:xfrm>
            <a:off x="6858000" y="3962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Text Box 20"/>
          <p:cNvSpPr/>
          <p:nvPr/>
        </p:nvSpPr>
        <p:spPr>
          <a:xfrm>
            <a:off x="6629400" y="4572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SendRep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Text Box 22"/>
          <p:cNvSpPr/>
          <p:nvPr/>
        </p:nvSpPr>
        <p:spPr>
          <a:xfrm>
            <a:off x="72388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Text Box 23"/>
          <p:cNvSpPr/>
          <p:nvPr/>
        </p:nvSpPr>
        <p:spPr>
          <a:xfrm>
            <a:off x="6400800" y="6019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dor imposto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63" name="AutoShape 26"/>
          <p:cNvCxnSpPr>
            <a:stCxn id="547" idx="3"/>
            <a:endCxn id="557" idx="1"/>
          </p:cNvCxnSpPr>
          <p:nvPr/>
        </p:nvCxnSpPr>
        <p:spPr>
          <a:xfrm>
            <a:off x="2666520" y="3047760"/>
            <a:ext cx="3963240" cy="766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564" name="Freeform 29"/>
          <p:cNvSpPr/>
          <p:nvPr/>
        </p:nvSpPr>
        <p:spPr>
          <a:xfrm>
            <a:off x="1828800" y="4724280"/>
            <a:ext cx="4800600" cy="76320"/>
          </a:xfrm>
          <a:custGeom>
            <a:avLst/>
            <a:gdLst/>
            <a:ahLst/>
            <a:rect l="l" t="t" r="r" b="b"/>
            <a:pathLst>
              <a:path w="3024" h="48">
                <a:moveTo>
                  <a:pt x="3024" y="48"/>
                </a:moveTo>
                <a:lnTo>
                  <a:pt x="2638" y="24"/>
                </a:lnTo>
                <a:lnTo>
                  <a:pt x="1979" y="24"/>
                </a:lnTo>
                <a:cubicBezTo>
                  <a:pt x="1539" y="20"/>
                  <a:pt x="412" y="5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0"/>
          <p:cNvSpPr/>
          <p:nvPr/>
        </p:nvSpPr>
        <p:spPr>
          <a:xfrm>
            <a:off x="3124080" y="2514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Text Box 31"/>
          <p:cNvSpPr/>
          <p:nvPr/>
        </p:nvSpPr>
        <p:spPr>
          <a:xfrm>
            <a:off x="2971800" y="3200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Text Box 32"/>
          <p:cNvSpPr/>
          <p:nvPr/>
        </p:nvSpPr>
        <p:spPr>
          <a:xfrm>
            <a:off x="3733920" y="4267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 Box 33"/>
          <p:cNvSpPr/>
          <p:nvPr/>
        </p:nvSpPr>
        <p:spPr>
          <a:xfrm>
            <a:off x="3657600" y="4800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Oval 34"/>
          <p:cNvSpPr/>
          <p:nvPr/>
        </p:nvSpPr>
        <p:spPr>
          <a:xfrm>
            <a:off x="5791320" y="2971800"/>
            <a:ext cx="228600" cy="2286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Oval 35"/>
          <p:cNvSpPr/>
          <p:nvPr/>
        </p:nvSpPr>
        <p:spPr>
          <a:xfrm>
            <a:off x="3048120" y="2895480"/>
            <a:ext cx="228600" cy="2286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Oval 36"/>
          <p:cNvSpPr/>
          <p:nvPr/>
        </p:nvSpPr>
        <p:spPr>
          <a:xfrm>
            <a:off x="5562720" y="4648320"/>
            <a:ext cx="228600" cy="2286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Oval 37"/>
          <p:cNvSpPr/>
          <p:nvPr/>
        </p:nvSpPr>
        <p:spPr>
          <a:xfrm>
            <a:off x="2666880" y="1676520"/>
            <a:ext cx="213372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ext Box 38"/>
          <p:cNvSpPr/>
          <p:nvPr/>
        </p:nvSpPr>
        <p:spPr>
          <a:xfrm>
            <a:off x="3048120" y="1752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Arc 40"/>
          <p:cNvSpPr/>
          <p:nvPr/>
        </p:nvSpPr>
        <p:spPr>
          <a:xfrm>
            <a:off x="3048120" y="2209680"/>
            <a:ext cx="15228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41"/>
          <p:cNvSpPr/>
          <p:nvPr/>
        </p:nvSpPr>
        <p:spPr>
          <a:xfrm>
            <a:off x="4724280" y="1981080"/>
            <a:ext cx="2971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Oval 42"/>
          <p:cNvSpPr/>
          <p:nvPr/>
        </p:nvSpPr>
        <p:spPr>
          <a:xfrm>
            <a:off x="3276720" y="5638680"/>
            <a:ext cx="236196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Text Box 43"/>
          <p:cNvSpPr/>
          <p:nvPr/>
        </p:nvSpPr>
        <p:spPr>
          <a:xfrm>
            <a:off x="3733920" y="5867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cuch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Arc 46"/>
          <p:cNvSpPr/>
          <p:nvPr/>
        </p:nvSpPr>
        <p:spPr>
          <a:xfrm flipV="1">
            <a:off x="5638680" y="3200400"/>
            <a:ext cx="228600" cy="2743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Arc 47"/>
          <p:cNvSpPr/>
          <p:nvPr/>
        </p:nvSpPr>
        <p:spPr>
          <a:xfrm flipV="1">
            <a:off x="4800600" y="4876920"/>
            <a:ext cx="838080" cy="7617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Oval 48"/>
          <p:cNvSpPr/>
          <p:nvPr/>
        </p:nvSpPr>
        <p:spPr>
          <a:xfrm>
            <a:off x="4191120" y="2819520"/>
            <a:ext cx="1371600" cy="53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Text Box 49"/>
          <p:cNvSpPr/>
          <p:nvPr/>
        </p:nvSpPr>
        <p:spPr>
          <a:xfrm>
            <a:off x="4191120" y="28954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e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Sistemas cliente-servidor(I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533520" y="1676520"/>
            <a:ext cx="861048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Requerimientos de segur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segurar los canales de comunicación cont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cuchas no autoriz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señar clientes y servidores de mane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“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desconfiad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”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servidores deben ser satisfechos que l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ientes actúen en nombre de los princip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que proclaman 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clientes deben garantizar que los servidores sean quienes dicen 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Sistemas cliente-servidor(II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304920" y="1828800"/>
            <a:ext cx="853416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segurarse que la comunicación es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fres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evitar la reproducción de mensaj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mponer políticas de segur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olíticas a nivel de compañía/nacional/leg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trol de acce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uditorías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Implementación de políticas de segurid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1295280" y="2590920"/>
            <a:ext cx="655344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Line 4"/>
          <p:cNvSpPr/>
          <p:nvPr/>
        </p:nvSpPr>
        <p:spPr>
          <a:xfrm>
            <a:off x="1295280" y="3505320"/>
            <a:ext cx="655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Line 5"/>
          <p:cNvSpPr/>
          <p:nvPr/>
        </p:nvSpPr>
        <p:spPr>
          <a:xfrm>
            <a:off x="1295280" y="4495680"/>
            <a:ext cx="655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Line 7"/>
          <p:cNvSpPr/>
          <p:nvPr/>
        </p:nvSpPr>
        <p:spPr>
          <a:xfrm>
            <a:off x="4267080" y="3505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2666880" y="281952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olíticas de segur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5181480" y="365760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crip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144792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trol acce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1523880" y="44197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rvicios autenticación y distribución de cl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Criptografí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609480" y="1639800"/>
            <a:ext cx="8534520" cy="53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crip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aplican reglas para transformar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texto plan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texto cifr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nida con una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función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F y una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clav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n mensaje M encriptado con K se no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(M) = {M}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encrip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una función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invers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({M}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=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simétric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(basada en clave secre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ocida por ambas part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asimétric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(basada en clave públic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Clave secret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457200" y="1828800"/>
            <a:ext cx="807732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encriptación y desencriptación usan la misma clave secre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clave debe ser secre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prevenir escuchas no autoriz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prevenir enmascar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funciones de encriptación y esencrip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 necesitan ser secretas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sto que los resultados dependen de cuales la clave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Segurid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914400" y="188604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querimientos, amenazas, ata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riptograf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ave priv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ave públ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utenticación y distribución de cla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de estudio: Kerb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irmas digit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Clave secret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685800" y="1752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Comunicación segura con encriptación de clave secre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6"/>
          <p:cNvSpPr/>
          <p:nvPr/>
        </p:nvSpPr>
        <p:spPr>
          <a:xfrm>
            <a:off x="762120" y="2895480"/>
            <a:ext cx="3504960" cy="3505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7"/>
          <p:cNvSpPr/>
          <p:nvPr/>
        </p:nvSpPr>
        <p:spPr>
          <a:xfrm>
            <a:off x="5334120" y="3048120"/>
            <a:ext cx="3504960" cy="3504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457200" y="2362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misor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7162920" y="243828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ceptor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Text Box 10"/>
          <p:cNvSpPr/>
          <p:nvPr/>
        </p:nvSpPr>
        <p:spPr>
          <a:xfrm>
            <a:off x="1295280" y="3809880"/>
            <a:ext cx="2743200" cy="15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 Adquiere 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 f(K,M)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{M}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 Envía {M}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Text Box 11"/>
          <p:cNvSpPr/>
          <p:nvPr/>
        </p:nvSpPr>
        <p:spPr>
          <a:xfrm>
            <a:off x="5791320" y="3886200"/>
            <a:ext cx="2819160" cy="15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 Adquiere 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 Recibe {M}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 f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(K,{M}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07" name="AutoShape 19"/>
          <p:cNvCxnSpPr/>
          <p:nvPr/>
        </p:nvCxnSpPr>
        <p:spPr>
          <a:xfrm flipV="1">
            <a:off x="2819520" y="4800240"/>
            <a:ext cx="3124800" cy="653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08" name="Text Box 20"/>
          <p:cNvSpPr/>
          <p:nvPr/>
        </p:nvSpPr>
        <p:spPr>
          <a:xfrm>
            <a:off x="4267080" y="426708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{M}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Algoritmo 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533520" y="1676520"/>
            <a:ext cx="8001000" cy="54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arrollado por IBM en 19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optado en USA como un estándar par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plicaciones gubernamentales y comerci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unción de encrip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pea texto plano de 64 bits en 64 bits de texto encrip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a una clave de 56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ompe en 2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ahoma"/>
              </a:rPr>
              <a:t>55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intentos (hecho en 199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implementa en hardware VLSI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Clave públ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685800" y="1676520"/>
            <a:ext cx="807732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problema de clave privada: cómo proteger 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ave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da principal tiene 2 claves: pública y priv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clave pública del receptor la usa el emi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receptor usa clave privada para desencrip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3" name="Object 5"/>
          <p:cNvGraphicFramePr/>
          <p:nvPr/>
        </p:nvGraphicFramePr>
        <p:xfrm>
          <a:off x="2819520" y="4191120"/>
          <a:ext cx="343836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191120"/>
                    <a:ext cx="343836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Text Box 7"/>
          <p:cNvSpPr/>
          <p:nvPr/>
        </p:nvSpPr>
        <p:spPr>
          <a:xfrm>
            <a:off x="3124080" y="59436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ública           Priv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Algoritmos de encriptación asimétr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609480" y="18288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odos dependen del uso de funciones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trap-door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8"/>
          <p:cNvSpPr/>
          <p:nvPr/>
        </p:nvSpPr>
        <p:spPr>
          <a:xfrm>
            <a:off x="533520" y="2895480"/>
            <a:ext cx="327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na trap-door provee una vía  secreta en una habitación: para salir es obvio, pero si quiere entrar, debe conocer esta entrada secre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9" name="Group 9"/>
          <p:cNvGrpSpPr/>
          <p:nvPr/>
        </p:nvGrpSpPr>
        <p:grpSpPr>
          <a:xfrm>
            <a:off x="1295280" y="3657600"/>
            <a:ext cx="7404120" cy="2166840"/>
            <a:chOff x="1295280" y="3657600"/>
            <a:chExt cx="7404120" cy="2166840"/>
          </a:xfrm>
        </p:grpSpPr>
        <p:pic>
          <p:nvPicPr>
            <p:cNvPr id="620" name="Picture 10" descr="_x000c_trapdoor.jpg                                                   0002A60E_x000c_Powerbook HD                   B191BFFC:"/>
            <p:cNvPicPr/>
            <p:nvPr/>
          </p:nvPicPr>
          <p:blipFill>
            <a:blip r:embed="rId1"/>
            <a:stretch/>
          </p:blipFill>
          <p:spPr>
            <a:xfrm>
              <a:off x="6245280" y="3922560"/>
              <a:ext cx="2454120" cy="18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11" descr="_x0007_td3.jpg                                                        0002A60E_x000c_Powerbook HD                   B191BFFC:"/>
            <p:cNvPicPr/>
            <p:nvPr/>
          </p:nvPicPr>
          <p:blipFill>
            <a:blip r:embed="rId2"/>
            <a:stretch/>
          </p:blipFill>
          <p:spPr>
            <a:xfrm>
              <a:off x="3927240" y="3657600"/>
              <a:ext cx="2167200" cy="21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Text Box 12"/>
            <p:cNvSpPr/>
            <p:nvPr/>
          </p:nvSpPr>
          <p:spPr>
            <a:xfrm>
              <a:off x="1295280" y="4268520"/>
              <a:ext cx="2575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Clave públ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0" y="2819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misor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7162920" y="23623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ceptor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762120" y="3962520"/>
            <a:ext cx="3276360" cy="163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 Adquiere 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 E(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M)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{M}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 Envía {M}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Oval 7"/>
          <p:cNvSpPr/>
          <p:nvPr/>
        </p:nvSpPr>
        <p:spPr>
          <a:xfrm>
            <a:off x="5257800" y="3048120"/>
            <a:ext cx="3505320" cy="3504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Oval 8"/>
          <p:cNvSpPr/>
          <p:nvPr/>
        </p:nvSpPr>
        <p:spPr>
          <a:xfrm>
            <a:off x="533520" y="3200400"/>
            <a:ext cx="3504960" cy="350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5410080" y="3809880"/>
            <a:ext cx="3353040" cy="21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 Adquiere 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 Publica 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 Recibe {M}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 D(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d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{M}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K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12"/>
          <p:cNvSpPr/>
          <p:nvPr/>
        </p:nvSpPr>
        <p:spPr>
          <a:xfrm flipV="1">
            <a:off x="2819520" y="5028840"/>
            <a:ext cx="24382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Text Box 13"/>
          <p:cNvSpPr/>
          <p:nvPr/>
        </p:nvSpPr>
        <p:spPr>
          <a:xfrm>
            <a:off x="3962520" y="5562720"/>
            <a:ext cx="121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{M}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3429000" y="2057400"/>
            <a:ext cx="25146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ase de da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ave públ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Oval 15"/>
          <p:cNvSpPr/>
          <p:nvPr/>
        </p:nvSpPr>
        <p:spPr>
          <a:xfrm>
            <a:off x="3276720" y="1752480"/>
            <a:ext cx="259056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Line 16"/>
          <p:cNvSpPr/>
          <p:nvPr/>
        </p:nvSpPr>
        <p:spPr>
          <a:xfrm flipH="1" flipV="1">
            <a:off x="5105520" y="3124080"/>
            <a:ext cx="38088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7"/>
          <p:cNvSpPr/>
          <p:nvPr/>
        </p:nvSpPr>
        <p:spPr>
          <a:xfrm>
            <a:off x="5181480" y="320040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8"/>
          <p:cNvSpPr/>
          <p:nvPr/>
        </p:nvSpPr>
        <p:spPr>
          <a:xfrm>
            <a:off x="3809880" y="365760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Line 19"/>
          <p:cNvSpPr/>
          <p:nvPr/>
        </p:nvSpPr>
        <p:spPr>
          <a:xfrm flipH="1">
            <a:off x="3048120" y="3200400"/>
            <a:ext cx="12189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Line 20"/>
          <p:cNvSpPr/>
          <p:nvPr/>
        </p:nvSpPr>
        <p:spPr>
          <a:xfrm flipV="1">
            <a:off x="2895480" y="3200400"/>
            <a:ext cx="11430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21"/>
          <p:cNvSpPr/>
          <p:nvPr/>
        </p:nvSpPr>
        <p:spPr>
          <a:xfrm>
            <a:off x="0" y="190512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quiere 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40" name="AutoShape 23"/>
          <p:cNvCxnSpPr/>
          <p:nvPr/>
        </p:nvCxnSpPr>
        <p:spPr>
          <a:xfrm>
            <a:off x="1752480" y="2285640"/>
            <a:ext cx="1828080" cy="1321200"/>
          </a:xfrm>
          <a:prstGeom prst="curvedConnector2">
            <a:avLst/>
          </a:prstGeom>
          <a:ln w="25560">
            <a:solidFill>
              <a:srgbClr val="00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RS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380880" y="1752480"/>
            <a:ext cx="876312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reado por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vest,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amir y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lman en 197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asado en el problema de factorización (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trap-door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formación priva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, primo grande (&gt;10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ahoma"/>
              </a:rPr>
              <a:t>20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q, primo grande (&gt;10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ahoma"/>
              </a:rPr>
              <a:t>20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(n)=(p-1)(q-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, entero primo con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formación públ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=p*q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, inverso de d módul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(n)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RS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44" name="Object 3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RSA: pasado, presente y futur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7" name="Text Box 3"/>
          <p:cNvSpPr/>
          <p:nvPr/>
        </p:nvSpPr>
        <p:spPr>
          <a:xfrm>
            <a:off x="228600" y="1255680"/>
            <a:ext cx="8534520" cy="56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197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pensó que la factorización de númer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imos &gt;10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ahoma"/>
              </a:rPr>
              <a:t>200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omaría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4 billone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de añ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el 2000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utadoras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más rápida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mejore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méto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úmeros con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155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ígitos decimales (=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50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bits) han sido factoriz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aves de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512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bits son inseguras!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el futuro?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comiendan claves con 230 dígitos(768 b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ar 2048 bits en algunos casos (ej.: defensa)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Comparación de perform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457200" y="1828800"/>
            <a:ext cx="830592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hard RSA es unas 1000 veces más lento 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que D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SE           1 Gbit/seg (clave 56 b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SA           1 Mbit/seg (clave 512 b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soft  RSA es unas 100 veces más lento 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que D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SE           1Mbit/s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SA           10 Kbit/s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or tanto, cuando sea seguro use clave secreta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 usar algoritmos híbr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Autenticació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0" y="1724040"/>
            <a:ext cx="914400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tocolo para asegurar la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autenticidad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nsmi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tocolo con clave secreta (Needham-Schroeder 78’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asado en un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servidor de claves segur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que em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aves secret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mplementado en Kerb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tocolo con clave pública (Needham-Schroeder 78’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 requiere un servidor de claves segu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ado en comercio electrón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Requerimientos de segurid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762120" y="1523880"/>
            <a:ext cx="8381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nales de comunicación con prote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tr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escuchas no autoriz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alteracione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erificación de la </a:t>
            </a:r>
            <a:r>
              <a:rPr b="0" i="1" lang="es-ES_tradnl" sz="3200" spc="-1" strike="noStrike">
                <a:solidFill>
                  <a:srgbClr val="000000"/>
                </a:solidFill>
                <a:latin typeface="Tahoma"/>
              </a:rPr>
              <a:t>identidad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y/o </a:t>
            </a:r>
            <a:r>
              <a:rPr b="0" i="1" lang="es-ES_tradnl" sz="3200" spc="-1" strike="noStrike">
                <a:solidFill>
                  <a:srgbClr val="000000"/>
                </a:solidFill>
                <a:latin typeface="Tahoma"/>
              </a:rPr>
              <a:t>autenticidad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ientes (por los servidor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rvidores (por los client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utor de un mensaje (por los receptor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Needham y Schroeder con clave secret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380880" y="1371600"/>
            <a:ext cx="85345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 Nombre del principal que inicia la comunic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 Nombre del principal, socio de A en 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unicación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A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ave secreta de A (passwo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B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ave secreta de B (passwo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AB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Clave secreta para comunicarse A 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Testigo generado por A (es un entero, por ej.  generado leyendo el clock del sistema  en 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mento del envío del mensaj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{M}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K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Mensaje M encriptado con clave 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Needham y Schroeder con clave secret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5" name="Line 5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0" y="1905120"/>
            <a:ext cx="914400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Encabezado           Mensaje                      No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 A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:                 A, B, N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A pide a S u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ave pa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unicarse con 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 S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:                {N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A,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, 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AB,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 retorna 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{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AB,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}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KB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KA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nsaje encrip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 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A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tenien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na nueva cl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AB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y un “ticke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criptado con 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Line 9"/>
          <p:cNvSpPr/>
          <p:nvPr/>
        </p:nvSpPr>
        <p:spPr>
          <a:xfrm>
            <a:off x="0" y="243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Needham y Schroeder con clave secret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0" y="1905120"/>
            <a:ext cx="9144000" cy="50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Encabezado           Mensaje                      No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 A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: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{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AB,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}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KB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 envía el “ticket” a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 B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:                {N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B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KAB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 desencripta el ticket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a la clave nueva 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            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encriptar ot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estigo N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 A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:                {N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B</a:t>
            </a:r>
            <a:r>
              <a:rPr b="0" lang="es-ES_tradnl" sz="2800" spc="-1" strike="noStrike" baseline="10000">
                <a:solidFill>
                  <a:srgbClr val="000000"/>
                </a:solidFill>
                <a:latin typeface="Tahoma"/>
              </a:rPr>
              <a:t>-1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KAB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 demuestra a B que f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emisor del mensa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vio, retornando u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nsformación acord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 N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Line 4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Line 5"/>
          <p:cNvSpPr/>
          <p:nvPr/>
        </p:nvSpPr>
        <p:spPr>
          <a:xfrm>
            <a:off x="0" y="243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Needham y Schroeder con clave secreta - Debilida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380880" y="1828800"/>
            <a:ext cx="82296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mensaje 3 podría no ser “fresco”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n viejo valor de 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AB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odría estar comprometi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su almacenamiento en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Kerberos trata esta debilidad añadiendo 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nsaje 3 un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timestamp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({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AB,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,t}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KB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) o 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estig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Needham y Schroeder con clave públ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5" name="Text Box 5"/>
          <p:cNvSpPr/>
          <p:nvPr/>
        </p:nvSpPr>
        <p:spPr>
          <a:xfrm>
            <a:off x="914400" y="1849320"/>
            <a:ext cx="792468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claves públicas deben distribuirse mediante  un servidor de distribución de claves seguro  para evitar la intrusión por impost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 adicion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clave pública de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B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clave pública de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clave pública del servid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S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clave secreta del servi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Needham y Schroeder con clave públ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7" name="Line 3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27000" y="1828800"/>
            <a:ext cx="92822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Encabezado           Mensaje                      No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 A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:                 A, B, N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A pide a S l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ave pública de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 S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:                {P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B,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}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SKS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 envía a A la cl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ública de B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criptada usan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 clave secre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 pue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encriptarlo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ando P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S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Line 5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Needham y Schroeder con clave públ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1" name="Line 3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0" y="1851120"/>
            <a:ext cx="91440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Encabezado           Mensaje                      No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 A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: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{N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A,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}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PKB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 envía un mensaje a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teniendo un testig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criptado con P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B.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ó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 puede desencriptarlo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obtener el nomb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 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 B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:                B, A           B pide a S la cl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ública de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Line 6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Needham y Schroeder con clave públ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5" name="Line 3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0" y="1851120"/>
            <a:ext cx="91440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Encabezado           Mensaje                      No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 S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: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{P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A,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}S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S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 envía a B la P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criptada usando s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ave secreta S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 B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:             {N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A,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B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PK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B envía a A un par 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estigos encriptados 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7. A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:             {N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B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PKB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 envía a B el testigo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ando “frescura”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que “habla” con A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Line 5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Needham y Schroeder con clave pública - Debilida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457200" y="1828800"/>
            <a:ext cx="83059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 y B deben creer que las claves públicas 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ciben de S son “fresca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 hay protección contra la reproducción 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nsajes viej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o puede remediarse añadiendo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timesta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 los mensajes 2 y 5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Caso de estudio: Kerbe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1" name="Picture 3" descr="_x000b_dog-big.gif                                                    0005FC46_x0008_Cheetara                       B8C4E6B5:"/>
          <p:cNvPicPr/>
          <p:nvPr/>
        </p:nvPicPr>
        <p:blipFill>
          <a:blip r:embed="rId1"/>
          <a:stretch/>
        </p:blipFill>
        <p:spPr>
          <a:xfrm>
            <a:off x="6172200" y="1981080"/>
            <a:ext cx="2666880" cy="41148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4"/>
          <p:cNvSpPr/>
          <p:nvPr/>
        </p:nvSpPr>
        <p:spPr>
          <a:xfrm>
            <a:off x="457200" y="1905120"/>
            <a:ext cx="487692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asado en el protocolo 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 Needham-Schroeder 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ave secre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arrollado en el 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(1988) y usado en AFS, N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 Unix, RPC de Sun 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Windows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Amenazas y ataq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380880" y="1676520"/>
            <a:ext cx="8763120" cy="67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as amenazas son obvias. En la mayoría de l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des locales es fácil construir un programa pa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tener copias de los mensajes transmitidos ent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utador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tras amenazas pueden ser mas sutiles: si l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ientes fallan en autenticar un servidor de archivo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pueden instalar programas que actúen como l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rvidores de archivos auténticos y obtengan cop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 información confid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Kerberos - Objetos de segurid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457200" y="1600200"/>
            <a:ext cx="8381880" cy="65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cke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gistro que el cliente incluye en un mensa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y que permite al servidor verificar su ident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á cifrado con clave del servidor e incluy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tre otr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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dentidad del cliente, clave para la sesió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lazo de expir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utenticad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gistro que el cliente incluye en un mensaje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que asegura que el mismo se ha gener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cientemente y no ha sido modifi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Kerberos - Objetos de segurid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609480" y="1600200"/>
            <a:ext cx="8534520" cy="55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utenticador(continuación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usarse una sóla vez. Contiene el nomb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l cliente, un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timestamp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y está encripta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 la clave de sesión apropi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ave para la ses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ave secreta generada aleatoriamente p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Kerberos y enviada al cliente para usarse en l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unicación con un servidor particul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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encriptado no es obligato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Arquitectura del sistema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Kerbe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8" name="Rectangle 138"/>
          <p:cNvSpPr/>
          <p:nvPr/>
        </p:nvSpPr>
        <p:spPr>
          <a:xfrm>
            <a:off x="1044720" y="3986280"/>
            <a:ext cx="1912680" cy="24717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Rectangle 139"/>
          <p:cNvSpPr/>
          <p:nvPr/>
        </p:nvSpPr>
        <p:spPr>
          <a:xfrm>
            <a:off x="1044720" y="3986280"/>
            <a:ext cx="1935000" cy="2495520"/>
          </a:xfrm>
          <a:prstGeom prst="rect">
            <a:avLst/>
          </a:prstGeom>
          <a:noFill/>
          <a:ln w="237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Rectangle 140"/>
          <p:cNvSpPr/>
          <p:nvPr/>
        </p:nvSpPr>
        <p:spPr>
          <a:xfrm>
            <a:off x="8372520" y="5068800"/>
            <a:ext cx="77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idor 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Rectangle 141"/>
          <p:cNvSpPr/>
          <p:nvPr/>
        </p:nvSpPr>
        <p:spPr>
          <a:xfrm>
            <a:off x="297000" y="5022720"/>
            <a:ext cx="728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iente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Oval 142"/>
          <p:cNvSpPr/>
          <p:nvPr/>
        </p:nvSpPr>
        <p:spPr>
          <a:xfrm>
            <a:off x="1208160" y="4195800"/>
            <a:ext cx="1631880" cy="2052720"/>
          </a:xfrm>
          <a:prstGeom prst="ellipse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Rectangle 143"/>
          <p:cNvSpPr/>
          <p:nvPr/>
        </p:nvSpPr>
        <p:spPr>
          <a:xfrm>
            <a:off x="1281960" y="5324400"/>
            <a:ext cx="139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acerOperació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Rectangle 144"/>
          <p:cNvSpPr/>
          <p:nvPr/>
        </p:nvSpPr>
        <p:spPr>
          <a:xfrm>
            <a:off x="6362640" y="3986280"/>
            <a:ext cx="1913040" cy="24717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Rectangle 145"/>
          <p:cNvSpPr/>
          <p:nvPr/>
        </p:nvSpPr>
        <p:spPr>
          <a:xfrm>
            <a:off x="6362640" y="3986280"/>
            <a:ext cx="1936800" cy="2495520"/>
          </a:xfrm>
          <a:prstGeom prst="rect">
            <a:avLst/>
          </a:prstGeom>
          <a:noFill/>
          <a:ln w="237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Oval 146"/>
          <p:cNvSpPr/>
          <p:nvPr/>
        </p:nvSpPr>
        <p:spPr>
          <a:xfrm>
            <a:off x="6478560" y="4195800"/>
            <a:ext cx="1657440" cy="2052720"/>
          </a:xfrm>
          <a:prstGeom prst="ellipse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Rectangle 147"/>
          <p:cNvSpPr/>
          <p:nvPr/>
        </p:nvSpPr>
        <p:spPr>
          <a:xfrm>
            <a:off x="2233440" y="2003400"/>
            <a:ext cx="4805640" cy="17017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Rectangle 148"/>
          <p:cNvSpPr/>
          <p:nvPr/>
        </p:nvSpPr>
        <p:spPr>
          <a:xfrm>
            <a:off x="2233440" y="2003400"/>
            <a:ext cx="4829400" cy="1725480"/>
          </a:xfrm>
          <a:prstGeom prst="rect">
            <a:avLst/>
          </a:prstGeom>
          <a:noFill/>
          <a:ln w="237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Oval 149"/>
          <p:cNvSpPr/>
          <p:nvPr/>
        </p:nvSpPr>
        <p:spPr>
          <a:xfrm>
            <a:off x="2536920" y="2143080"/>
            <a:ext cx="4174920" cy="1422360"/>
          </a:xfrm>
          <a:prstGeom prst="ellipse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Rectangle 150"/>
          <p:cNvSpPr/>
          <p:nvPr/>
        </p:nvSpPr>
        <p:spPr>
          <a:xfrm>
            <a:off x="4067640" y="2224080"/>
            <a:ext cx="1480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se de dat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 autentic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Rectangle 151"/>
          <p:cNvSpPr/>
          <p:nvPr/>
        </p:nvSpPr>
        <p:spPr>
          <a:xfrm>
            <a:off x="1538280" y="4335480"/>
            <a:ext cx="9684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mienzo de sesió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Line 152"/>
          <p:cNvSpPr/>
          <p:nvPr/>
        </p:nvSpPr>
        <p:spPr>
          <a:xfrm>
            <a:off x="1393920" y="4802040"/>
            <a:ext cx="111924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Line 153"/>
          <p:cNvSpPr/>
          <p:nvPr/>
        </p:nvSpPr>
        <p:spPr>
          <a:xfrm>
            <a:off x="1370160" y="4802040"/>
            <a:ext cx="21096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Line 154"/>
          <p:cNvSpPr/>
          <p:nvPr/>
        </p:nvSpPr>
        <p:spPr>
          <a:xfrm>
            <a:off x="1790640" y="4802040"/>
            <a:ext cx="20952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155"/>
          <p:cNvSpPr/>
          <p:nvPr/>
        </p:nvSpPr>
        <p:spPr>
          <a:xfrm>
            <a:off x="2209680" y="4802040"/>
            <a:ext cx="21132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Rectangle 156"/>
          <p:cNvSpPr/>
          <p:nvPr/>
        </p:nvSpPr>
        <p:spPr>
          <a:xfrm>
            <a:off x="5629320" y="2517840"/>
            <a:ext cx="892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rvicio de concesión de ticke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Rectangle 157"/>
          <p:cNvSpPr/>
          <p:nvPr/>
        </p:nvSpPr>
        <p:spPr>
          <a:xfrm>
            <a:off x="2244240" y="1752480"/>
            <a:ext cx="377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ntro de distribución de claves Kerber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Line 158"/>
          <p:cNvSpPr/>
          <p:nvPr/>
        </p:nvSpPr>
        <p:spPr>
          <a:xfrm>
            <a:off x="1347840" y="5292720"/>
            <a:ext cx="12128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Line 159"/>
          <p:cNvSpPr/>
          <p:nvPr/>
        </p:nvSpPr>
        <p:spPr>
          <a:xfrm>
            <a:off x="1673280" y="5292720"/>
            <a:ext cx="2109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Line 160"/>
          <p:cNvSpPr/>
          <p:nvPr/>
        </p:nvSpPr>
        <p:spPr>
          <a:xfrm>
            <a:off x="2093760" y="5292720"/>
            <a:ext cx="2098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Rectangle 161"/>
          <p:cNvSpPr/>
          <p:nvPr/>
        </p:nvSpPr>
        <p:spPr>
          <a:xfrm>
            <a:off x="1268640" y="4859280"/>
            <a:ext cx="1559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ecimiento d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sión del servid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Rectangle 162"/>
          <p:cNvSpPr/>
          <p:nvPr/>
        </p:nvSpPr>
        <p:spPr>
          <a:xfrm>
            <a:off x="2997360" y="2513160"/>
            <a:ext cx="10522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rvicio de autentic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Rectangle 163"/>
          <p:cNvSpPr/>
          <p:nvPr/>
        </p:nvSpPr>
        <p:spPr>
          <a:xfrm>
            <a:off x="847800" y="2717640"/>
            <a:ext cx="1407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. Solicitud d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icket al TG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Line 164"/>
          <p:cNvSpPr/>
          <p:nvPr/>
        </p:nvSpPr>
        <p:spPr>
          <a:xfrm flipH="1" flipV="1">
            <a:off x="1697040" y="3122640"/>
            <a:ext cx="396720" cy="3031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Rectangle 165"/>
          <p:cNvSpPr/>
          <p:nvPr/>
        </p:nvSpPr>
        <p:spPr>
          <a:xfrm>
            <a:off x="835200" y="3243240"/>
            <a:ext cx="780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. Ticket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G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Rectangle 166"/>
          <p:cNvSpPr/>
          <p:nvPr/>
        </p:nvSpPr>
        <p:spPr>
          <a:xfrm>
            <a:off x="3387600" y="4019400"/>
            <a:ext cx="16527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3. Petición de u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icket de servido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Rectangle 167"/>
          <p:cNvSpPr/>
          <p:nvPr/>
        </p:nvSpPr>
        <p:spPr>
          <a:xfrm>
            <a:off x="3040200" y="4448160"/>
            <a:ext cx="11062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. Ticket d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Rectangle 168"/>
          <p:cNvSpPr/>
          <p:nvPr/>
        </p:nvSpPr>
        <p:spPr>
          <a:xfrm>
            <a:off x="5182200" y="46958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Rectangle 169"/>
          <p:cNvSpPr/>
          <p:nvPr/>
        </p:nvSpPr>
        <p:spPr>
          <a:xfrm>
            <a:off x="5346000" y="464976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Rectangle 170"/>
          <p:cNvSpPr/>
          <p:nvPr/>
        </p:nvSpPr>
        <p:spPr>
          <a:xfrm>
            <a:off x="5367240" y="4695840"/>
            <a:ext cx="99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licitud d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ervicio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Rectangle 171"/>
          <p:cNvSpPr/>
          <p:nvPr/>
        </p:nvSpPr>
        <p:spPr>
          <a:xfrm>
            <a:off x="5182560" y="48355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Line 172"/>
          <p:cNvSpPr/>
          <p:nvPr/>
        </p:nvSpPr>
        <p:spPr>
          <a:xfrm flipV="1">
            <a:off x="4916520" y="4847760"/>
            <a:ext cx="233280" cy="2113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Arc 173"/>
          <p:cNvSpPr/>
          <p:nvPr/>
        </p:nvSpPr>
        <p:spPr>
          <a:xfrm>
            <a:off x="6638760" y="5311800"/>
            <a:ext cx="168480" cy="168120"/>
          </a:xfrm>
          <a:custGeom>
            <a:avLst/>
            <a:gdLst/>
            <a:ahLst/>
            <a:rect l="l" t="t" r="r" b="b"/>
            <a:pathLst>
              <a:path fill="none" w="19568" h="19568">
                <a:moveTo>
                  <a:pt x="-1" y="10423"/>
                </a:moveTo>
                <a:cubicBezTo>
                  <a:pt x="2143" y="5833"/>
                  <a:pt x="5833" y="2143"/>
                  <a:pt x="10423" y="-1"/>
                </a:cubicBezTo>
              </a:path>
              <a:path stroke="0" w="19568" h="19568">
                <a:moveTo>
                  <a:pt x="-1" y="10423"/>
                </a:moveTo>
                <a:cubicBezTo>
                  <a:pt x="2143" y="5833"/>
                  <a:pt x="5833" y="2143"/>
                  <a:pt x="10423" y="-1"/>
                </a:cubicBezTo>
                <a:lnTo>
                  <a:pt x="19568" y="19568"/>
                </a:lnTo>
                <a:lnTo>
                  <a:pt x="-1" y="10423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Arc 174"/>
          <p:cNvSpPr/>
          <p:nvPr/>
        </p:nvSpPr>
        <p:spPr>
          <a:xfrm>
            <a:off x="2639880" y="5129280"/>
            <a:ext cx="4095720" cy="396720"/>
          </a:xfrm>
          <a:custGeom>
            <a:avLst/>
            <a:gdLst/>
            <a:ahLst/>
            <a:rect l="l" t="t" r="r" b="b"/>
            <a:pathLst>
              <a:path fill="none" w="41430" h="21600">
                <a:moveTo>
                  <a:pt x="-1" y="16667"/>
                </a:moveTo>
                <a:cubicBezTo>
                  <a:pt x="2289" y="6903"/>
                  <a:pt x="10999" y="0"/>
                  <a:pt x="21029" y="0"/>
                </a:cubicBezTo>
                <a:cubicBezTo>
                  <a:pt x="30223" y="0"/>
                  <a:pt x="38410" y="5820"/>
                  <a:pt x="41430" y="14504"/>
                </a:cubicBezTo>
              </a:path>
              <a:path stroke="0" w="41430" h="21600">
                <a:moveTo>
                  <a:pt x="-1" y="16667"/>
                </a:moveTo>
                <a:cubicBezTo>
                  <a:pt x="2289" y="6903"/>
                  <a:pt x="10999" y="0"/>
                  <a:pt x="21029" y="0"/>
                </a:cubicBezTo>
                <a:cubicBezTo>
                  <a:pt x="30223" y="0"/>
                  <a:pt x="38410" y="5820"/>
                  <a:pt x="41430" y="14504"/>
                </a:cubicBezTo>
                <a:lnTo>
                  <a:pt x="21029" y="21600"/>
                </a:lnTo>
                <a:lnTo>
                  <a:pt x="-1" y="16667"/>
                </a:lnTo>
                <a:close/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Arc 175"/>
          <p:cNvSpPr/>
          <p:nvPr/>
        </p:nvSpPr>
        <p:spPr>
          <a:xfrm>
            <a:off x="2665440" y="5502240"/>
            <a:ext cx="165240" cy="179280"/>
          </a:xfrm>
          <a:custGeom>
            <a:avLst/>
            <a:gdLst/>
            <a:ahLst/>
            <a:rect l="l" t="t" r="r" b="b"/>
            <a:pathLst>
              <a:path fill="none" w="18019" h="20770">
                <a:moveTo>
                  <a:pt x="18019" y="11910"/>
                </a:moveTo>
                <a:cubicBezTo>
                  <a:pt x="15175" y="16212"/>
                  <a:pt x="10886" y="19355"/>
                  <a:pt x="5927" y="20770"/>
                </a:cubicBezTo>
              </a:path>
              <a:path stroke="0" w="18019" h="20770">
                <a:moveTo>
                  <a:pt x="18019" y="11910"/>
                </a:moveTo>
                <a:cubicBezTo>
                  <a:pt x="15175" y="16212"/>
                  <a:pt x="10886" y="19355"/>
                  <a:pt x="5927" y="20770"/>
                </a:cubicBezTo>
                <a:lnTo>
                  <a:pt x="0" y="0"/>
                </a:lnTo>
                <a:lnTo>
                  <a:pt x="18019" y="11910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Arc 176"/>
          <p:cNvSpPr/>
          <p:nvPr/>
        </p:nvSpPr>
        <p:spPr>
          <a:xfrm>
            <a:off x="2747880" y="5537160"/>
            <a:ext cx="4156200" cy="938160"/>
          </a:xfrm>
          <a:custGeom>
            <a:avLst/>
            <a:gdLst/>
            <a:ahLst/>
            <a:rect l="l" t="t" r="r" b="b"/>
            <a:pathLst>
              <a:path fill="none" w="42278" h="21600">
                <a:moveTo>
                  <a:pt x="42278" y="2946"/>
                </a:moveTo>
                <a:cubicBezTo>
                  <a:pt x="40806" y="13636"/>
                  <a:pt x="31670" y="21600"/>
                  <a:pt x="20880" y="21600"/>
                </a:cubicBezTo>
                <a:cubicBezTo>
                  <a:pt x="11079" y="21600"/>
                  <a:pt x="2506" y="15001"/>
                  <a:pt x="-2" y="5526"/>
                </a:cubicBezTo>
              </a:path>
              <a:path stroke="0" w="42278" h="21600">
                <a:moveTo>
                  <a:pt x="42278" y="2946"/>
                </a:moveTo>
                <a:cubicBezTo>
                  <a:pt x="40806" y="13636"/>
                  <a:pt x="31670" y="21600"/>
                  <a:pt x="20880" y="21600"/>
                </a:cubicBezTo>
                <a:cubicBezTo>
                  <a:pt x="11079" y="21600"/>
                  <a:pt x="2506" y="15001"/>
                  <a:pt x="-2" y="5526"/>
                </a:cubicBezTo>
                <a:lnTo>
                  <a:pt x="20880" y="0"/>
                </a:lnTo>
                <a:lnTo>
                  <a:pt x="42278" y="2946"/>
                </a:lnTo>
                <a:close/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Rectangle 177"/>
          <p:cNvSpPr/>
          <p:nvPr/>
        </p:nvSpPr>
        <p:spPr>
          <a:xfrm>
            <a:off x="2738520" y="5332320"/>
            <a:ext cx="391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licitu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ncriptada con la clave de ses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Rectangle 178"/>
          <p:cNvSpPr/>
          <p:nvPr/>
        </p:nvSpPr>
        <p:spPr>
          <a:xfrm>
            <a:off x="2747880" y="5638680"/>
            <a:ext cx="419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spuesta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ncriptada con la clave de sesión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Rectangle 179"/>
          <p:cNvSpPr/>
          <p:nvPr/>
        </p:nvSpPr>
        <p:spPr>
          <a:xfrm>
            <a:off x="6952320" y="4881600"/>
            <a:ext cx="918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unción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e servicio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Arc 180"/>
          <p:cNvSpPr/>
          <p:nvPr/>
        </p:nvSpPr>
        <p:spPr>
          <a:xfrm>
            <a:off x="6958080" y="5432400"/>
            <a:ext cx="139680" cy="128520"/>
          </a:xfrm>
          <a:custGeom>
            <a:avLst/>
            <a:gdLst/>
            <a:ahLst/>
            <a:rect l="l" t="t" r="r" b="b"/>
            <a:pathLst>
              <a:path fill="none" w="19850" h="19952">
                <a:moveTo>
                  <a:pt x="19850" y="8516"/>
                </a:moveTo>
                <a:cubicBezTo>
                  <a:pt x="17629" y="13691"/>
                  <a:pt x="13475" y="17795"/>
                  <a:pt x="8273" y="19952"/>
                </a:cubicBezTo>
              </a:path>
              <a:path stroke="0" w="19850" h="19952">
                <a:moveTo>
                  <a:pt x="19850" y="8516"/>
                </a:moveTo>
                <a:cubicBezTo>
                  <a:pt x="17629" y="13691"/>
                  <a:pt x="13475" y="17795"/>
                  <a:pt x="8273" y="19952"/>
                </a:cubicBezTo>
                <a:lnTo>
                  <a:pt x="0" y="0"/>
                </a:lnTo>
                <a:lnTo>
                  <a:pt x="19850" y="8516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Arc 181"/>
          <p:cNvSpPr/>
          <p:nvPr/>
        </p:nvSpPr>
        <p:spPr>
          <a:xfrm>
            <a:off x="6913440" y="4657680"/>
            <a:ext cx="1003320" cy="984240"/>
          </a:xfrm>
          <a:custGeom>
            <a:avLst/>
            <a:gdLst/>
            <a:ahLst/>
            <a:rect l="l" t="t" r="r" b="b"/>
            <a:pathLst>
              <a:path fill="none" w="43199" h="43200">
                <a:moveTo>
                  <a:pt x="-1" y="21518"/>
                </a:moveTo>
                <a:cubicBezTo>
                  <a:pt x="43" y="9621"/>
                  <a:pt x="9701" y="0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  <a:cubicBezTo>
                  <a:pt x="43199" y="33529"/>
                  <a:pt x="33528" y="43200"/>
                  <a:pt x="21599" y="43200"/>
                </a:cubicBezTo>
                <a:cubicBezTo>
                  <a:pt x="15844" y="43200"/>
                  <a:pt x="10327" y="40903"/>
                  <a:pt x="6272" y="36820"/>
                </a:cubicBezTo>
              </a:path>
              <a:path stroke="0" w="43199" h="43200">
                <a:moveTo>
                  <a:pt x="-1" y="21518"/>
                </a:moveTo>
                <a:cubicBezTo>
                  <a:pt x="43" y="9621"/>
                  <a:pt x="9701" y="0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  <a:cubicBezTo>
                  <a:pt x="43199" y="33529"/>
                  <a:pt x="33528" y="43200"/>
                  <a:pt x="21599" y="43200"/>
                </a:cubicBezTo>
                <a:cubicBezTo>
                  <a:pt x="15844" y="43200"/>
                  <a:pt x="10327" y="40903"/>
                  <a:pt x="6272" y="36820"/>
                </a:cubicBezTo>
                <a:lnTo>
                  <a:pt x="21599" y="21600"/>
                </a:lnTo>
                <a:lnTo>
                  <a:pt x="-1" y="21518"/>
                </a:lnTo>
                <a:close/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Arc 182"/>
          <p:cNvSpPr/>
          <p:nvPr/>
        </p:nvSpPr>
        <p:spPr>
          <a:xfrm>
            <a:off x="5648400" y="3027240"/>
            <a:ext cx="139680" cy="139680"/>
          </a:xfrm>
          <a:custGeom>
            <a:avLst/>
            <a:gdLst/>
            <a:ahLst/>
            <a:rect l="l" t="t" r="r" b="b"/>
            <a:pathLst>
              <a:path fill="none" w="19924" h="19924">
                <a:moveTo>
                  <a:pt x="19924" y="8340"/>
                </a:moveTo>
                <a:cubicBezTo>
                  <a:pt x="17734" y="13573"/>
                  <a:pt x="13573" y="17734"/>
                  <a:pt x="8340" y="19924"/>
                </a:cubicBezTo>
              </a:path>
              <a:path stroke="0" w="19924" h="19924">
                <a:moveTo>
                  <a:pt x="19924" y="8340"/>
                </a:moveTo>
                <a:cubicBezTo>
                  <a:pt x="17734" y="13573"/>
                  <a:pt x="13573" y="17734"/>
                  <a:pt x="8340" y="19924"/>
                </a:cubicBezTo>
                <a:lnTo>
                  <a:pt x="0" y="0"/>
                </a:lnTo>
                <a:lnTo>
                  <a:pt x="19924" y="8340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Arc 183"/>
          <p:cNvSpPr/>
          <p:nvPr/>
        </p:nvSpPr>
        <p:spPr>
          <a:xfrm>
            <a:off x="5521320" y="2351160"/>
            <a:ext cx="1065240" cy="965160"/>
          </a:xfrm>
          <a:custGeom>
            <a:avLst/>
            <a:gdLst/>
            <a:ahLst/>
            <a:rect l="l" t="t" r="r" b="b"/>
            <a:pathLst>
              <a:path fill="none" w="43199" h="43200">
                <a:moveTo>
                  <a:pt x="-1" y="21518"/>
                </a:moveTo>
                <a:cubicBezTo>
                  <a:pt x="43" y="9621"/>
                  <a:pt x="9701" y="0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  <a:cubicBezTo>
                  <a:pt x="43199" y="33529"/>
                  <a:pt x="33528" y="43200"/>
                  <a:pt x="21599" y="43200"/>
                </a:cubicBezTo>
                <a:cubicBezTo>
                  <a:pt x="15831" y="43200"/>
                  <a:pt x="10302" y="40893"/>
                  <a:pt x="6245" y="36793"/>
                </a:cubicBezTo>
              </a:path>
              <a:path stroke="0" w="43199" h="43200">
                <a:moveTo>
                  <a:pt x="-1" y="21518"/>
                </a:moveTo>
                <a:cubicBezTo>
                  <a:pt x="43" y="9621"/>
                  <a:pt x="9701" y="0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  <a:cubicBezTo>
                  <a:pt x="43199" y="33529"/>
                  <a:pt x="33528" y="43200"/>
                  <a:pt x="21599" y="43200"/>
                </a:cubicBezTo>
                <a:cubicBezTo>
                  <a:pt x="15831" y="43200"/>
                  <a:pt x="10302" y="40893"/>
                  <a:pt x="6245" y="36793"/>
                </a:cubicBezTo>
                <a:lnTo>
                  <a:pt x="21599" y="21600"/>
                </a:lnTo>
                <a:lnTo>
                  <a:pt x="-1" y="21518"/>
                </a:lnTo>
                <a:close/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Arc 184"/>
          <p:cNvSpPr/>
          <p:nvPr/>
        </p:nvSpPr>
        <p:spPr>
          <a:xfrm>
            <a:off x="3086280" y="3065400"/>
            <a:ext cx="139680" cy="139680"/>
          </a:xfrm>
          <a:custGeom>
            <a:avLst/>
            <a:gdLst/>
            <a:ahLst/>
            <a:rect l="l" t="t" r="r" b="b"/>
            <a:pathLst>
              <a:path fill="none" w="19924" h="19924">
                <a:moveTo>
                  <a:pt x="19924" y="8340"/>
                </a:moveTo>
                <a:cubicBezTo>
                  <a:pt x="17734" y="13573"/>
                  <a:pt x="13573" y="17734"/>
                  <a:pt x="8340" y="19924"/>
                </a:cubicBezTo>
              </a:path>
              <a:path stroke="0" w="19924" h="19924">
                <a:moveTo>
                  <a:pt x="19924" y="8340"/>
                </a:moveTo>
                <a:cubicBezTo>
                  <a:pt x="17734" y="13573"/>
                  <a:pt x="13573" y="17734"/>
                  <a:pt x="8340" y="19924"/>
                </a:cubicBezTo>
                <a:lnTo>
                  <a:pt x="0" y="0"/>
                </a:lnTo>
                <a:lnTo>
                  <a:pt x="19924" y="8340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Arc 185"/>
          <p:cNvSpPr/>
          <p:nvPr/>
        </p:nvSpPr>
        <p:spPr>
          <a:xfrm>
            <a:off x="2962440" y="2374920"/>
            <a:ext cx="1134720" cy="911160"/>
          </a:xfrm>
          <a:custGeom>
            <a:avLst/>
            <a:gdLst/>
            <a:ahLst/>
            <a:rect l="l" t="t" r="r" b="b"/>
            <a:pathLst>
              <a:path fill="none" w="43199" h="43200">
                <a:moveTo>
                  <a:pt x="-1" y="21518"/>
                </a:moveTo>
                <a:cubicBezTo>
                  <a:pt x="43" y="9621"/>
                  <a:pt x="9701" y="0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  <a:cubicBezTo>
                  <a:pt x="43199" y="33529"/>
                  <a:pt x="33528" y="43200"/>
                  <a:pt x="21599" y="43200"/>
                </a:cubicBezTo>
                <a:cubicBezTo>
                  <a:pt x="15845" y="43200"/>
                  <a:pt x="10330" y="40904"/>
                  <a:pt x="6275" y="36823"/>
                </a:cubicBezTo>
              </a:path>
              <a:path stroke="0" w="43199" h="43200">
                <a:moveTo>
                  <a:pt x="-1" y="21518"/>
                </a:moveTo>
                <a:cubicBezTo>
                  <a:pt x="43" y="9621"/>
                  <a:pt x="9701" y="0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  <a:cubicBezTo>
                  <a:pt x="43199" y="33529"/>
                  <a:pt x="33528" y="43200"/>
                  <a:pt x="21599" y="43200"/>
                </a:cubicBezTo>
                <a:cubicBezTo>
                  <a:pt x="15845" y="43200"/>
                  <a:pt x="10330" y="40904"/>
                  <a:pt x="6275" y="36823"/>
                </a:cubicBezTo>
                <a:lnTo>
                  <a:pt x="21599" y="21600"/>
                </a:lnTo>
                <a:lnTo>
                  <a:pt x="-1" y="21518"/>
                </a:lnTo>
                <a:close/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Arc 186"/>
          <p:cNvSpPr/>
          <p:nvPr/>
        </p:nvSpPr>
        <p:spPr>
          <a:xfrm>
            <a:off x="2724120" y="2873520"/>
            <a:ext cx="187200" cy="123840"/>
          </a:xfrm>
          <a:custGeom>
            <a:avLst/>
            <a:gdLst/>
            <a:ahLst/>
            <a:rect l="l" t="t" r="r" b="b"/>
            <a:pathLst>
              <a:path fill="none" w="21600" h="14395">
                <a:moveTo>
                  <a:pt x="2354" y="14395"/>
                </a:moveTo>
                <a:cubicBezTo>
                  <a:pt x="806" y="11357"/>
                  <a:pt x="0" y="7997"/>
                  <a:pt x="0" y="4588"/>
                </a:cubicBezTo>
                <a:cubicBezTo>
                  <a:pt x="0" y="3045"/>
                  <a:pt x="165" y="1507"/>
                  <a:pt x="492" y="-1"/>
                </a:cubicBezTo>
              </a:path>
              <a:path stroke="0" w="21600" h="14395">
                <a:moveTo>
                  <a:pt x="2354" y="14395"/>
                </a:moveTo>
                <a:cubicBezTo>
                  <a:pt x="806" y="11357"/>
                  <a:pt x="0" y="7997"/>
                  <a:pt x="0" y="4588"/>
                </a:cubicBezTo>
                <a:cubicBezTo>
                  <a:pt x="0" y="3045"/>
                  <a:pt x="165" y="1507"/>
                  <a:pt x="492" y="-1"/>
                </a:cubicBezTo>
                <a:lnTo>
                  <a:pt x="21600" y="4588"/>
                </a:lnTo>
                <a:lnTo>
                  <a:pt x="2354" y="14395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Arc 187"/>
          <p:cNvSpPr/>
          <p:nvPr/>
        </p:nvSpPr>
        <p:spPr>
          <a:xfrm>
            <a:off x="1932120" y="2927520"/>
            <a:ext cx="990360" cy="1350720"/>
          </a:xfrm>
          <a:custGeom>
            <a:avLst/>
            <a:gdLst/>
            <a:ahLst/>
            <a:rect l="l" t="t" r="r" b="b"/>
            <a:pathLst>
              <a:path fill="none" w="21599" h="21388">
                <a:moveTo>
                  <a:pt x="-1" y="21362"/>
                </a:moveTo>
                <a:cubicBezTo>
                  <a:pt x="11" y="10607"/>
                  <a:pt x="7935" y="1499"/>
                  <a:pt x="18585" y="-1"/>
                </a:cubicBezTo>
              </a:path>
              <a:path stroke="0" w="21599" h="21388">
                <a:moveTo>
                  <a:pt x="-1" y="21362"/>
                </a:moveTo>
                <a:cubicBezTo>
                  <a:pt x="11" y="10607"/>
                  <a:pt x="7935" y="1499"/>
                  <a:pt x="18585" y="-1"/>
                </a:cubicBezTo>
                <a:lnTo>
                  <a:pt x="21599" y="21388"/>
                </a:lnTo>
                <a:lnTo>
                  <a:pt x="-1" y="21362"/>
                </a:lnTo>
                <a:close/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Arc 188"/>
          <p:cNvSpPr/>
          <p:nvPr/>
        </p:nvSpPr>
        <p:spPr>
          <a:xfrm>
            <a:off x="2117880" y="4237200"/>
            <a:ext cx="187200" cy="134640"/>
          </a:xfrm>
          <a:custGeom>
            <a:avLst/>
            <a:gdLst/>
            <a:ahLst/>
            <a:rect l="l" t="t" r="r" b="b"/>
            <a:pathLst>
              <a:path fill="none" w="21600" h="14747">
                <a:moveTo>
                  <a:pt x="19411" y="-1"/>
                </a:moveTo>
                <a:cubicBezTo>
                  <a:pt x="20851" y="2950"/>
                  <a:pt x="21600" y="6190"/>
                  <a:pt x="21600" y="9474"/>
                </a:cubicBezTo>
                <a:cubicBezTo>
                  <a:pt x="21600" y="11251"/>
                  <a:pt x="21380" y="13023"/>
                  <a:pt x="20946" y="14747"/>
                </a:cubicBezTo>
              </a:path>
              <a:path stroke="0" w="21600" h="14747">
                <a:moveTo>
                  <a:pt x="19411" y="-1"/>
                </a:moveTo>
                <a:cubicBezTo>
                  <a:pt x="20851" y="2950"/>
                  <a:pt x="21600" y="6190"/>
                  <a:pt x="21600" y="9474"/>
                </a:cubicBezTo>
                <a:cubicBezTo>
                  <a:pt x="21600" y="11251"/>
                  <a:pt x="21380" y="13023"/>
                  <a:pt x="20946" y="14747"/>
                </a:cubicBezTo>
                <a:lnTo>
                  <a:pt x="0" y="9474"/>
                </a:lnTo>
                <a:lnTo>
                  <a:pt x="19411" y="-1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Arc 189"/>
          <p:cNvSpPr/>
          <p:nvPr/>
        </p:nvSpPr>
        <p:spPr>
          <a:xfrm>
            <a:off x="2117880" y="3075120"/>
            <a:ext cx="863280" cy="1242720"/>
          </a:xfrm>
          <a:custGeom>
            <a:avLst/>
            <a:gdLst/>
            <a:ahLst/>
            <a:rect l="l" t="t" r="r" b="b"/>
            <a:pathLst>
              <a:path fill="none" w="21600" h="21306">
                <a:moveTo>
                  <a:pt x="21599" y="-1"/>
                </a:moveTo>
                <a:cubicBezTo>
                  <a:pt x="21599" y="8"/>
                  <a:pt x="21600" y="17"/>
                  <a:pt x="21600" y="27"/>
                </a:cubicBezTo>
                <a:cubicBezTo>
                  <a:pt x="21600" y="10525"/>
                  <a:pt x="14050" y="19504"/>
                  <a:pt x="3708" y="21306"/>
                </a:cubicBezTo>
              </a:path>
              <a:path stroke="0" w="21600" h="21306">
                <a:moveTo>
                  <a:pt x="21599" y="-1"/>
                </a:moveTo>
                <a:cubicBezTo>
                  <a:pt x="21599" y="8"/>
                  <a:pt x="21600" y="17"/>
                  <a:pt x="21600" y="27"/>
                </a:cubicBezTo>
                <a:cubicBezTo>
                  <a:pt x="21600" y="10525"/>
                  <a:pt x="14050" y="19504"/>
                  <a:pt x="3708" y="21306"/>
                </a:cubicBezTo>
                <a:lnTo>
                  <a:pt x="0" y="27"/>
                </a:lnTo>
                <a:lnTo>
                  <a:pt x="21599" y="-1"/>
                </a:lnTo>
                <a:close/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Arc 190"/>
          <p:cNvSpPr/>
          <p:nvPr/>
        </p:nvSpPr>
        <p:spPr>
          <a:xfrm>
            <a:off x="2584440" y="4968720"/>
            <a:ext cx="187200" cy="130320"/>
          </a:xfrm>
          <a:custGeom>
            <a:avLst/>
            <a:gdLst/>
            <a:ahLst/>
            <a:rect l="l" t="t" r="r" b="b"/>
            <a:pathLst>
              <a:path fill="none" w="21600" h="15002">
                <a:moveTo>
                  <a:pt x="20193" y="-1"/>
                </a:moveTo>
                <a:cubicBezTo>
                  <a:pt x="21123" y="2448"/>
                  <a:pt x="21600" y="5046"/>
                  <a:pt x="21600" y="7666"/>
                </a:cubicBezTo>
                <a:cubicBezTo>
                  <a:pt x="21600" y="10167"/>
                  <a:pt x="21165" y="12649"/>
                  <a:pt x="20315" y="15002"/>
                </a:cubicBezTo>
              </a:path>
              <a:path stroke="0" w="21600" h="15002">
                <a:moveTo>
                  <a:pt x="20193" y="-1"/>
                </a:moveTo>
                <a:cubicBezTo>
                  <a:pt x="21123" y="2448"/>
                  <a:pt x="21600" y="5046"/>
                  <a:pt x="21600" y="7666"/>
                </a:cubicBezTo>
                <a:cubicBezTo>
                  <a:pt x="21600" y="10167"/>
                  <a:pt x="21165" y="12649"/>
                  <a:pt x="20315" y="15002"/>
                </a:cubicBezTo>
                <a:lnTo>
                  <a:pt x="0" y="7666"/>
                </a:lnTo>
                <a:lnTo>
                  <a:pt x="20193" y="-1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Arc 191"/>
          <p:cNvSpPr/>
          <p:nvPr/>
        </p:nvSpPr>
        <p:spPr>
          <a:xfrm>
            <a:off x="2560680" y="3087720"/>
            <a:ext cx="3103560" cy="1946160"/>
          </a:xfrm>
          <a:custGeom>
            <a:avLst/>
            <a:gdLst/>
            <a:ahLst/>
            <a:rect l="l" t="t" r="r" b="b"/>
            <a:pathLst>
              <a:path fill="none" w="21600" h="21587">
                <a:moveTo>
                  <a:pt x="21600" y="0"/>
                </a:moveTo>
                <a:cubicBezTo>
                  <a:pt x="21600" y="11640"/>
                  <a:pt x="12375" y="21187"/>
                  <a:pt x="741" y="21587"/>
                </a:cubicBezTo>
              </a:path>
              <a:path stroke="0" w="21600" h="21587">
                <a:moveTo>
                  <a:pt x="21600" y="0"/>
                </a:moveTo>
                <a:cubicBezTo>
                  <a:pt x="21600" y="11640"/>
                  <a:pt x="12375" y="21187"/>
                  <a:pt x="741" y="21587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Arc 192"/>
          <p:cNvSpPr/>
          <p:nvPr/>
        </p:nvSpPr>
        <p:spPr>
          <a:xfrm>
            <a:off x="5429160" y="2919240"/>
            <a:ext cx="198360" cy="125640"/>
          </a:xfrm>
          <a:custGeom>
            <a:avLst/>
            <a:gdLst/>
            <a:ahLst/>
            <a:rect l="l" t="t" r="r" b="b"/>
            <a:pathLst>
              <a:path fill="none" w="21600" h="14435">
                <a:moveTo>
                  <a:pt x="1184" y="14435"/>
                </a:moveTo>
                <a:cubicBezTo>
                  <a:pt x="400" y="12166"/>
                  <a:pt x="0" y="9782"/>
                  <a:pt x="0" y="7382"/>
                </a:cubicBezTo>
                <a:cubicBezTo>
                  <a:pt x="0" y="4864"/>
                  <a:pt x="440" y="2365"/>
                  <a:pt x="1300" y="-1"/>
                </a:cubicBezTo>
              </a:path>
              <a:path stroke="0" w="21600" h="14435">
                <a:moveTo>
                  <a:pt x="1184" y="14435"/>
                </a:moveTo>
                <a:cubicBezTo>
                  <a:pt x="400" y="12166"/>
                  <a:pt x="0" y="9782"/>
                  <a:pt x="0" y="7382"/>
                </a:cubicBezTo>
                <a:cubicBezTo>
                  <a:pt x="0" y="4864"/>
                  <a:pt x="440" y="2365"/>
                  <a:pt x="1300" y="-1"/>
                </a:cubicBezTo>
                <a:lnTo>
                  <a:pt x="21600" y="7382"/>
                </a:lnTo>
                <a:lnTo>
                  <a:pt x="1184" y="14435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Arc 193"/>
          <p:cNvSpPr/>
          <p:nvPr/>
        </p:nvSpPr>
        <p:spPr>
          <a:xfrm>
            <a:off x="2583000" y="2984400"/>
            <a:ext cx="3044520" cy="1946520"/>
          </a:xfrm>
          <a:custGeom>
            <a:avLst/>
            <a:gdLst/>
            <a:ahLst/>
            <a:rect l="l" t="t" r="r" b="b"/>
            <a:pathLst>
              <a:path fill="none" w="21600" h="21587">
                <a:moveTo>
                  <a:pt x="0" y="21587"/>
                </a:moveTo>
                <a:cubicBezTo>
                  <a:pt x="0" y="9946"/>
                  <a:pt x="9223" y="400"/>
                  <a:pt x="20856" y="-1"/>
                </a:cubicBezTo>
              </a:path>
              <a:path stroke="0" w="21600" h="21587">
                <a:moveTo>
                  <a:pt x="0" y="21587"/>
                </a:moveTo>
                <a:cubicBezTo>
                  <a:pt x="0" y="9946"/>
                  <a:pt x="9223" y="400"/>
                  <a:pt x="20856" y="-1"/>
                </a:cubicBezTo>
                <a:lnTo>
                  <a:pt x="21600" y="21587"/>
                </a:lnTo>
                <a:lnTo>
                  <a:pt x="0" y="21587"/>
                </a:lnTo>
                <a:close/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Line 194"/>
          <p:cNvSpPr/>
          <p:nvPr/>
        </p:nvSpPr>
        <p:spPr>
          <a:xfrm flipH="1" flipV="1">
            <a:off x="1603080" y="3449520"/>
            <a:ext cx="1143000" cy="3492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Line 195"/>
          <p:cNvSpPr/>
          <p:nvPr/>
        </p:nvSpPr>
        <p:spPr>
          <a:xfrm flipH="1">
            <a:off x="4309920" y="4545000"/>
            <a:ext cx="20952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AutoShape 196"/>
          <p:cNvSpPr/>
          <p:nvPr/>
        </p:nvSpPr>
        <p:spPr>
          <a:xfrm>
            <a:off x="4846680" y="5081760"/>
            <a:ext cx="115920" cy="117360"/>
          </a:xfrm>
          <a:custGeom>
            <a:avLst/>
            <a:gdLst>
              <a:gd name="textAreaLeft" fmla="*/ 13680 w 115920"/>
              <a:gd name="textAreaRight" fmla="*/ 102240 w 115920"/>
              <a:gd name="textAreaTop" fmla="*/ 13680 h 117360"/>
              <a:gd name="textAreaBottom" fmla="*/ 103680 h 117360"/>
            </a:gdLst>
            <a:ahLst/>
            <a:rect l="textAreaLeft" t="textAreaTop" r="textAreaRight" b="textAreaBottom"/>
            <a:pathLst>
              <a:path w="21600" h="21867">
                <a:moveTo>
                  <a:pt x="8729" y="0"/>
                </a:moveTo>
                <a:arcTo wR="8729" hR="8729" stAng="16200000" swAng="-5400000"/>
                <a:lnTo>
                  <a:pt x="0" y="13138"/>
                </a:lnTo>
                <a:arcTo wR="8729" hR="8729" stAng="10800000" swAng="-5400000"/>
                <a:lnTo>
                  <a:pt x="12871" y="21867"/>
                </a:lnTo>
                <a:arcTo wR="8729" hR="8729" stAng="5400000" swAng="-5400000"/>
                <a:lnTo>
                  <a:pt x="21600" y="8729"/>
                </a:lnTo>
                <a:arcTo wR="8729" hR="8729" stAng="0" swAng="-5400000"/>
                <a:close/>
              </a:path>
            </a:pathLst>
          </a:cu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AutoShape 197"/>
          <p:cNvSpPr/>
          <p:nvPr/>
        </p:nvSpPr>
        <p:spPr>
          <a:xfrm>
            <a:off x="4500720" y="4498920"/>
            <a:ext cx="117360" cy="115920"/>
          </a:xfrm>
          <a:prstGeom prst="roundRect">
            <a:avLst>
              <a:gd name="adj" fmla="val 40412"/>
            </a:avLst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Line 198"/>
          <p:cNvSpPr/>
          <p:nvPr/>
        </p:nvSpPr>
        <p:spPr>
          <a:xfrm>
            <a:off x="2957400" y="4078440"/>
            <a:ext cx="37332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AutoShape 199"/>
          <p:cNvSpPr/>
          <p:nvPr/>
        </p:nvSpPr>
        <p:spPr>
          <a:xfrm>
            <a:off x="2863800" y="4032360"/>
            <a:ext cx="115920" cy="117360"/>
          </a:xfrm>
          <a:custGeom>
            <a:avLst/>
            <a:gdLst>
              <a:gd name="textAreaLeft" fmla="*/ 13680 w 115920"/>
              <a:gd name="textAreaRight" fmla="*/ 102240 w 115920"/>
              <a:gd name="textAreaTop" fmla="*/ 13680 h 117360"/>
              <a:gd name="textAreaBottom" fmla="*/ 103680 h 117360"/>
            </a:gdLst>
            <a:ahLst/>
            <a:rect l="textAreaLeft" t="textAreaTop" r="textAreaRight" b="textAreaBottom"/>
            <a:pathLst>
              <a:path w="21600" h="21867">
                <a:moveTo>
                  <a:pt x="8729" y="0"/>
                </a:moveTo>
                <a:arcTo wR="8729" hR="8729" stAng="16200000" swAng="-5400000"/>
                <a:lnTo>
                  <a:pt x="0" y="13138"/>
                </a:lnTo>
                <a:arcTo wR="8729" hR="8729" stAng="10800000" swAng="-5400000"/>
                <a:lnTo>
                  <a:pt x="12871" y="21867"/>
                </a:lnTo>
                <a:arcTo wR="8729" hR="8729" stAng="5400000" swAng="-5400000"/>
                <a:lnTo>
                  <a:pt x="21600" y="8729"/>
                </a:lnTo>
                <a:arcTo wR="8729" hR="8729" stAng="0" swAng="-5400000"/>
                <a:close/>
              </a:path>
            </a:pathLst>
          </a:cu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AutoShape 200"/>
          <p:cNvSpPr/>
          <p:nvPr/>
        </p:nvSpPr>
        <p:spPr>
          <a:xfrm>
            <a:off x="2070000" y="3379680"/>
            <a:ext cx="117720" cy="115920"/>
          </a:xfrm>
          <a:prstGeom prst="roundRect">
            <a:avLst>
              <a:gd name="adj" fmla="val 40412"/>
            </a:avLst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AutoShape 201"/>
          <p:cNvSpPr/>
          <p:nvPr/>
        </p:nvSpPr>
        <p:spPr>
          <a:xfrm>
            <a:off x="2746440" y="3753000"/>
            <a:ext cx="117360" cy="115560"/>
          </a:xfrm>
          <a:prstGeom prst="roundRect">
            <a:avLst>
              <a:gd name="adj" fmla="val 40412"/>
            </a:avLst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Rectangle 202"/>
          <p:cNvSpPr/>
          <p:nvPr/>
        </p:nvSpPr>
        <p:spPr>
          <a:xfrm>
            <a:off x="3384360" y="3786120"/>
            <a:ext cx="68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so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Rectangle 203"/>
          <p:cNvSpPr/>
          <p:nvPr/>
        </p:nvSpPr>
        <p:spPr>
          <a:xfrm>
            <a:off x="925200" y="2438280"/>
            <a:ext cx="68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so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Rectangle 204"/>
          <p:cNvSpPr/>
          <p:nvPr/>
        </p:nvSpPr>
        <p:spPr>
          <a:xfrm>
            <a:off x="5192640" y="4440240"/>
            <a:ext cx="68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so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Oval 205"/>
          <p:cNvSpPr/>
          <p:nvPr/>
        </p:nvSpPr>
        <p:spPr>
          <a:xfrm>
            <a:off x="1954080" y="575316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Oval 206"/>
          <p:cNvSpPr/>
          <p:nvPr/>
        </p:nvSpPr>
        <p:spPr>
          <a:xfrm>
            <a:off x="1949400" y="59403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Oval 207"/>
          <p:cNvSpPr/>
          <p:nvPr/>
        </p:nvSpPr>
        <p:spPr>
          <a:xfrm>
            <a:off x="1949400" y="559764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Kerbe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9" name="Text Box 3"/>
          <p:cNvSpPr/>
          <p:nvPr/>
        </p:nvSpPr>
        <p:spPr>
          <a:xfrm>
            <a:off x="457200" y="1639800"/>
            <a:ext cx="86868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   nombre del servidor de autenticación (A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   nombre del servidor de concesión de ti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(TGS)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   nombre de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   un test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   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timestamp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tiempo de comienzo de la validez del ti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tiempo de finalización de validez del ti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n ticket Kerberos para que un cliente C acceda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: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{C, S, t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C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}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{ticket(C,S)}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Secuencia de mensajes en Kerbero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685800" y="18288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aves de encriptación usado en el esqu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Rectangle 5"/>
          <p:cNvSpPr/>
          <p:nvPr/>
        </p:nvSpPr>
        <p:spPr>
          <a:xfrm>
            <a:off x="838080" y="2590920"/>
            <a:ext cx="3812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Rectangle 6"/>
          <p:cNvSpPr/>
          <p:nvPr/>
        </p:nvSpPr>
        <p:spPr>
          <a:xfrm>
            <a:off x="838080" y="3429000"/>
            <a:ext cx="38124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Rectangle 7"/>
          <p:cNvSpPr/>
          <p:nvPr/>
        </p:nvSpPr>
        <p:spPr>
          <a:xfrm>
            <a:off x="8380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Rectangle 8"/>
          <p:cNvSpPr/>
          <p:nvPr/>
        </p:nvSpPr>
        <p:spPr>
          <a:xfrm>
            <a:off x="838080" y="5257800"/>
            <a:ext cx="38124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Rectangle 9"/>
          <p:cNvSpPr/>
          <p:nvPr/>
        </p:nvSpPr>
        <p:spPr>
          <a:xfrm>
            <a:off x="838080" y="6172200"/>
            <a:ext cx="381240" cy="380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Text Box 12"/>
          <p:cNvSpPr/>
          <p:nvPr/>
        </p:nvSpPr>
        <p:spPr>
          <a:xfrm>
            <a:off x="1523880" y="2579760"/>
            <a:ext cx="762012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C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ave privada de C (Password de usuar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clave privada de 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C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clave de sesión de T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clave privada del servi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CS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ave de se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Secuencia de mensajes en Kerbe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9" name="Text Box 3"/>
          <p:cNvSpPr/>
          <p:nvPr/>
        </p:nvSpPr>
        <p:spPr>
          <a:xfrm>
            <a:off x="533520" y="1676520"/>
            <a:ext cx="8305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tener una clave de sesión, una vez por login de sesió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Rectangle 4"/>
          <p:cNvSpPr/>
          <p:nvPr/>
        </p:nvSpPr>
        <p:spPr>
          <a:xfrm>
            <a:off x="794160" y="243828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 C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Rectangle 5"/>
          <p:cNvSpPr/>
          <p:nvPr/>
        </p:nvSpPr>
        <p:spPr>
          <a:xfrm>
            <a:off x="2438280" y="2362320"/>
            <a:ext cx="541044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Text Box 6"/>
          <p:cNvSpPr/>
          <p:nvPr/>
        </p:nvSpPr>
        <p:spPr>
          <a:xfrm>
            <a:off x="3886200" y="2438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, T,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Rectangle 7"/>
          <p:cNvSpPr/>
          <p:nvPr/>
        </p:nvSpPr>
        <p:spPr>
          <a:xfrm>
            <a:off x="794160" y="358128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 A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Rectangle 8"/>
          <p:cNvSpPr/>
          <p:nvPr/>
        </p:nvSpPr>
        <p:spPr>
          <a:xfrm>
            <a:off x="2438280" y="3276720"/>
            <a:ext cx="2819520" cy="761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Text Box 9"/>
          <p:cNvSpPr/>
          <p:nvPr/>
        </p:nvSpPr>
        <p:spPr>
          <a:xfrm>
            <a:off x="2590920" y="3429000"/>
            <a:ext cx="2438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lave sesión TGS, 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Rectangle 10"/>
          <p:cNvSpPr/>
          <p:nvPr/>
        </p:nvSpPr>
        <p:spPr>
          <a:xfrm>
            <a:off x="5257800" y="3276720"/>
            <a:ext cx="2590920" cy="761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Text Box 11"/>
          <p:cNvSpPr/>
          <p:nvPr/>
        </p:nvSpPr>
        <p:spPr>
          <a:xfrm>
            <a:off x="5486400" y="3429000"/>
            <a:ext cx="1676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cket (C, 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Text Box 12"/>
          <p:cNvSpPr/>
          <p:nvPr/>
        </p:nvSpPr>
        <p:spPr>
          <a:xfrm>
            <a:off x="533520" y="4191120"/>
            <a:ext cx="8610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tener ticket del server, una vez por sesión cliente-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Rectangle 13"/>
          <p:cNvSpPr/>
          <p:nvPr/>
        </p:nvSpPr>
        <p:spPr>
          <a:xfrm>
            <a:off x="730440" y="495288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 C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Rectangle 14"/>
          <p:cNvSpPr/>
          <p:nvPr/>
        </p:nvSpPr>
        <p:spPr>
          <a:xfrm>
            <a:off x="2438280" y="4800600"/>
            <a:ext cx="1600200" cy="76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Text Box 17"/>
          <p:cNvSpPr/>
          <p:nvPr/>
        </p:nvSpPr>
        <p:spPr>
          <a:xfrm>
            <a:off x="2666880" y="4952880"/>
            <a:ext cx="1143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h(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Rectangle 18"/>
          <p:cNvSpPr/>
          <p:nvPr/>
        </p:nvSpPr>
        <p:spPr>
          <a:xfrm>
            <a:off x="4038480" y="4800600"/>
            <a:ext cx="221004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Text Box 19"/>
          <p:cNvSpPr/>
          <p:nvPr/>
        </p:nvSpPr>
        <p:spPr>
          <a:xfrm>
            <a:off x="4267080" y="4952880"/>
            <a:ext cx="1676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cket (C, 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Rectangle 20"/>
          <p:cNvSpPr/>
          <p:nvPr/>
        </p:nvSpPr>
        <p:spPr>
          <a:xfrm>
            <a:off x="6248520" y="4800600"/>
            <a:ext cx="16002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Text Box 21"/>
          <p:cNvSpPr/>
          <p:nvPr/>
        </p:nvSpPr>
        <p:spPr>
          <a:xfrm>
            <a:off x="6400800" y="4952880"/>
            <a:ext cx="12193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er, 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Rectangle 22"/>
          <p:cNvSpPr/>
          <p:nvPr/>
        </p:nvSpPr>
        <p:spPr>
          <a:xfrm>
            <a:off x="730440" y="60199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 T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Rectangle 23"/>
          <p:cNvSpPr/>
          <p:nvPr/>
        </p:nvSpPr>
        <p:spPr>
          <a:xfrm>
            <a:off x="2438280" y="5791320"/>
            <a:ext cx="2590920" cy="7617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Text Box 24"/>
          <p:cNvSpPr/>
          <p:nvPr/>
        </p:nvSpPr>
        <p:spPr>
          <a:xfrm>
            <a:off x="2590920" y="5943600"/>
            <a:ext cx="2286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lave sesión CS, 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Rectangle 25"/>
          <p:cNvSpPr/>
          <p:nvPr/>
        </p:nvSpPr>
        <p:spPr>
          <a:xfrm>
            <a:off x="5029200" y="5791320"/>
            <a:ext cx="2819520" cy="761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Text Box 26"/>
          <p:cNvSpPr/>
          <p:nvPr/>
        </p:nvSpPr>
        <p:spPr>
          <a:xfrm>
            <a:off x="5562720" y="5943600"/>
            <a:ext cx="16761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cket (C, 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Secuencia de mensajes en Kerbe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533520" y="16765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mitir requerimientos al servidor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Rectangle 4"/>
          <p:cNvSpPr/>
          <p:nvPr/>
        </p:nvSpPr>
        <p:spPr>
          <a:xfrm>
            <a:off x="650520" y="251460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 C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Rectangle 10"/>
          <p:cNvSpPr/>
          <p:nvPr/>
        </p:nvSpPr>
        <p:spPr>
          <a:xfrm>
            <a:off x="609480" y="3276720"/>
            <a:ext cx="2590920" cy="761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200400" y="3276720"/>
            <a:ext cx="2819520" cy="761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Text Box 13"/>
          <p:cNvSpPr/>
          <p:nvPr/>
        </p:nvSpPr>
        <p:spPr>
          <a:xfrm>
            <a:off x="3733920" y="3429000"/>
            <a:ext cx="16761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cket (C, 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Text Box 14"/>
          <p:cNvSpPr/>
          <p:nvPr/>
        </p:nvSpPr>
        <p:spPr>
          <a:xfrm>
            <a:off x="1371600" y="3429000"/>
            <a:ext cx="1143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h(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Rectangle 16"/>
          <p:cNvSpPr/>
          <p:nvPr/>
        </p:nvSpPr>
        <p:spPr>
          <a:xfrm>
            <a:off x="6019920" y="3276720"/>
            <a:ext cx="2819160" cy="761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6248520" y="3429000"/>
            <a:ext cx="2361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e request, 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Text Box 19"/>
          <p:cNvSpPr/>
          <p:nvPr/>
        </p:nvSpPr>
        <p:spPr>
          <a:xfrm>
            <a:off x="457200" y="43434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utenticación del servidor (opcional)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Rectangle 20"/>
          <p:cNvSpPr/>
          <p:nvPr/>
        </p:nvSpPr>
        <p:spPr>
          <a:xfrm>
            <a:off x="6019920" y="5715000"/>
            <a:ext cx="281916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Rectangle 21"/>
          <p:cNvSpPr/>
          <p:nvPr/>
        </p:nvSpPr>
        <p:spPr>
          <a:xfrm>
            <a:off x="609480" y="5715000"/>
            <a:ext cx="541044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Rectangle 22"/>
          <p:cNvSpPr/>
          <p:nvPr/>
        </p:nvSpPr>
        <p:spPr>
          <a:xfrm>
            <a:off x="574560" y="487692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 S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Text Box 23"/>
          <p:cNvSpPr/>
          <p:nvPr/>
        </p:nvSpPr>
        <p:spPr>
          <a:xfrm>
            <a:off x="6781680" y="58672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pue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Text Box 24"/>
          <p:cNvSpPr/>
          <p:nvPr/>
        </p:nvSpPr>
        <p:spPr>
          <a:xfrm>
            <a:off x="2438280" y="5943600"/>
            <a:ext cx="1905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Firmas digita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7" name="Text Box 3"/>
          <p:cNvSpPr/>
          <p:nvPr/>
        </p:nvSpPr>
        <p:spPr>
          <a:xfrm>
            <a:off x="533520" y="1434960"/>
            <a:ext cx="8610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or qué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smo finalidad que una firma escrita en 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ocumento en pap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auténtica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 difíciles de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falsificar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irrefu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ómo funciona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entan con funciones seguras que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comprim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mensaje en el llamado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digest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(resumen=D(M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emisor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encripta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digest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y lo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añad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nsaje como una firma 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receptor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verific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la firma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eneralmente se usa criptografía de cl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ública, aunque es posible usar clave priv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Firma digital con clave públ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9" name="Text Box 3"/>
          <p:cNvSpPr/>
          <p:nvPr/>
        </p:nvSpPr>
        <p:spPr>
          <a:xfrm>
            <a:off x="609480" y="1447920"/>
            <a:ext cx="853452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emisor envía Kpub y Kpri; Kpub se h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úblic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vío del mensaje firmado 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emisor envía una función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digest acord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y segur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 h, para calcular el resumen h(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(M) es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encriptad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con Kpri para producir 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irma: S = {h(M)}Kpri; se envía M y 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rificación del mensaje firm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firma S es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desencriptad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usando Kpub, 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calcul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h(M), y se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compar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con la fir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encript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Firma digital con clave públ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3198960" y="2144880"/>
            <a:ext cx="68724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Rectangle 6"/>
          <p:cNvSpPr/>
          <p:nvPr/>
        </p:nvSpPr>
        <p:spPr>
          <a:xfrm>
            <a:off x="3209760" y="2155680"/>
            <a:ext cx="687600" cy="11239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Rectangle 7"/>
          <p:cNvSpPr/>
          <p:nvPr/>
        </p:nvSpPr>
        <p:spPr>
          <a:xfrm>
            <a:off x="3243240" y="2190600"/>
            <a:ext cx="687240" cy="11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Rectangle 8"/>
          <p:cNvSpPr/>
          <p:nvPr/>
        </p:nvSpPr>
        <p:spPr>
          <a:xfrm>
            <a:off x="3254400" y="2201760"/>
            <a:ext cx="689040" cy="11019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Line 9"/>
          <p:cNvSpPr/>
          <p:nvPr/>
        </p:nvSpPr>
        <p:spPr>
          <a:xfrm>
            <a:off x="3770280" y="2236680"/>
            <a:ext cx="9216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Freeform 10"/>
          <p:cNvSpPr/>
          <p:nvPr/>
        </p:nvSpPr>
        <p:spPr>
          <a:xfrm>
            <a:off x="3770280" y="2236680"/>
            <a:ext cx="92160" cy="23760"/>
          </a:xfrm>
          <a:custGeom>
            <a:avLst/>
            <a:gdLst/>
            <a:ahLst/>
            <a:rect l="l" t="t" r="r" b="b"/>
            <a:pathLst>
              <a:path w="58" h="15">
                <a:moveTo>
                  <a:pt x="0" y="0"/>
                </a:moveTo>
                <a:lnTo>
                  <a:pt x="58" y="0"/>
                </a:lnTo>
                <a:lnTo>
                  <a:pt x="5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Line 11"/>
          <p:cNvSpPr/>
          <p:nvPr/>
        </p:nvSpPr>
        <p:spPr>
          <a:xfrm>
            <a:off x="3770280" y="2282760"/>
            <a:ext cx="9216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Freeform 12"/>
          <p:cNvSpPr/>
          <p:nvPr/>
        </p:nvSpPr>
        <p:spPr>
          <a:xfrm>
            <a:off x="3770280" y="2260440"/>
            <a:ext cx="92160" cy="22320"/>
          </a:xfrm>
          <a:custGeom>
            <a:avLst/>
            <a:gdLst/>
            <a:ahLst/>
            <a:rect l="l" t="t" r="r" b="b"/>
            <a:pathLst>
              <a:path w="58" h="14">
                <a:moveTo>
                  <a:pt x="0" y="0"/>
                </a:moveTo>
                <a:lnTo>
                  <a:pt x="58" y="0"/>
                </a:lnTo>
                <a:lnTo>
                  <a:pt x="58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Line 13"/>
          <p:cNvSpPr/>
          <p:nvPr/>
        </p:nvSpPr>
        <p:spPr>
          <a:xfrm>
            <a:off x="3770280" y="2305080"/>
            <a:ext cx="921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Freeform 14"/>
          <p:cNvSpPr/>
          <p:nvPr/>
        </p:nvSpPr>
        <p:spPr>
          <a:xfrm>
            <a:off x="3770280" y="2282760"/>
            <a:ext cx="92160" cy="22320"/>
          </a:xfrm>
          <a:custGeom>
            <a:avLst/>
            <a:gdLst/>
            <a:ahLst/>
            <a:rect l="l" t="t" r="r" b="b"/>
            <a:pathLst>
              <a:path w="58" h="14">
                <a:moveTo>
                  <a:pt x="0" y="0"/>
                </a:moveTo>
                <a:lnTo>
                  <a:pt x="58" y="0"/>
                </a:lnTo>
                <a:lnTo>
                  <a:pt x="58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Line 15"/>
          <p:cNvSpPr/>
          <p:nvPr/>
        </p:nvSpPr>
        <p:spPr>
          <a:xfrm>
            <a:off x="3359160" y="2489040"/>
            <a:ext cx="4348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Line 16"/>
          <p:cNvSpPr/>
          <p:nvPr/>
        </p:nvSpPr>
        <p:spPr>
          <a:xfrm>
            <a:off x="3359160" y="2535120"/>
            <a:ext cx="4348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Line 17"/>
          <p:cNvSpPr/>
          <p:nvPr/>
        </p:nvSpPr>
        <p:spPr>
          <a:xfrm>
            <a:off x="3359160" y="2581200"/>
            <a:ext cx="4348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Line 18"/>
          <p:cNvSpPr/>
          <p:nvPr/>
        </p:nvSpPr>
        <p:spPr>
          <a:xfrm>
            <a:off x="3359160" y="2627280"/>
            <a:ext cx="4348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19"/>
          <p:cNvSpPr/>
          <p:nvPr/>
        </p:nvSpPr>
        <p:spPr>
          <a:xfrm>
            <a:off x="3359160" y="2671920"/>
            <a:ext cx="4348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Line 20"/>
          <p:cNvSpPr/>
          <p:nvPr/>
        </p:nvSpPr>
        <p:spPr>
          <a:xfrm>
            <a:off x="3359160" y="2717640"/>
            <a:ext cx="4348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Line 21"/>
          <p:cNvSpPr/>
          <p:nvPr/>
        </p:nvSpPr>
        <p:spPr>
          <a:xfrm>
            <a:off x="3359160" y="2763720"/>
            <a:ext cx="4348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Line 22"/>
          <p:cNvSpPr/>
          <p:nvPr/>
        </p:nvSpPr>
        <p:spPr>
          <a:xfrm>
            <a:off x="3359160" y="2832120"/>
            <a:ext cx="4348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Line 23"/>
          <p:cNvSpPr/>
          <p:nvPr/>
        </p:nvSpPr>
        <p:spPr>
          <a:xfrm>
            <a:off x="3359160" y="2878200"/>
            <a:ext cx="4348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Line 24"/>
          <p:cNvSpPr/>
          <p:nvPr/>
        </p:nvSpPr>
        <p:spPr>
          <a:xfrm>
            <a:off x="3359160" y="2924280"/>
            <a:ext cx="4348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Line 25"/>
          <p:cNvSpPr/>
          <p:nvPr/>
        </p:nvSpPr>
        <p:spPr>
          <a:xfrm>
            <a:off x="3359160" y="2970360"/>
            <a:ext cx="4348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Freeform 26"/>
          <p:cNvSpPr/>
          <p:nvPr/>
        </p:nvSpPr>
        <p:spPr>
          <a:xfrm>
            <a:off x="4595760" y="2627280"/>
            <a:ext cx="114480" cy="136440"/>
          </a:xfrm>
          <a:custGeom>
            <a:avLst/>
            <a:gdLst/>
            <a:ahLst/>
            <a:rect l="l" t="t" r="r" b="b"/>
            <a:pathLst>
              <a:path w="72" h="86">
                <a:moveTo>
                  <a:pt x="0" y="43"/>
                </a:moveTo>
                <a:lnTo>
                  <a:pt x="0" y="0"/>
                </a:lnTo>
                <a:lnTo>
                  <a:pt x="72" y="43"/>
                </a:lnTo>
                <a:lnTo>
                  <a:pt x="0" y="86"/>
                </a:lnTo>
                <a:lnTo>
                  <a:pt x="0" y="43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Freeform 27"/>
          <p:cNvSpPr/>
          <p:nvPr/>
        </p:nvSpPr>
        <p:spPr>
          <a:xfrm>
            <a:off x="4595760" y="2627280"/>
            <a:ext cx="114480" cy="136440"/>
          </a:xfrm>
          <a:custGeom>
            <a:avLst/>
            <a:gdLst/>
            <a:ahLst/>
            <a:rect l="l" t="t" r="r" b="b"/>
            <a:pathLst>
              <a:path w="72" h="86">
                <a:moveTo>
                  <a:pt x="0" y="43"/>
                </a:moveTo>
                <a:lnTo>
                  <a:pt x="0" y="0"/>
                </a:lnTo>
                <a:lnTo>
                  <a:pt x="72" y="43"/>
                </a:lnTo>
                <a:lnTo>
                  <a:pt x="0" y="86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Line 28"/>
          <p:cNvSpPr/>
          <p:nvPr/>
        </p:nvSpPr>
        <p:spPr>
          <a:xfrm>
            <a:off x="3930480" y="2695680"/>
            <a:ext cx="6652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Rectangle 29"/>
          <p:cNvSpPr/>
          <p:nvPr/>
        </p:nvSpPr>
        <p:spPr>
          <a:xfrm>
            <a:off x="6223680" y="2352600"/>
            <a:ext cx="24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30"/>
          <p:cNvSpPr/>
          <p:nvPr/>
        </p:nvSpPr>
        <p:spPr>
          <a:xfrm>
            <a:off x="6451560" y="2467080"/>
            <a:ext cx="249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Arial"/>
              </a:rPr>
              <a:t>Kpri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31"/>
          <p:cNvSpPr/>
          <p:nvPr/>
        </p:nvSpPr>
        <p:spPr>
          <a:xfrm>
            <a:off x="3403440" y="1916280"/>
            <a:ext cx="246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32"/>
          <p:cNvSpPr/>
          <p:nvPr/>
        </p:nvSpPr>
        <p:spPr>
          <a:xfrm>
            <a:off x="2259000" y="2489040"/>
            <a:ext cx="74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irmad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33"/>
          <p:cNvSpPr/>
          <p:nvPr/>
        </p:nvSpPr>
        <p:spPr>
          <a:xfrm>
            <a:off x="2164680" y="5126040"/>
            <a:ext cx="10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erific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34"/>
          <p:cNvSpPr/>
          <p:nvPr/>
        </p:nvSpPr>
        <p:spPr>
          <a:xfrm>
            <a:off x="5277600" y="2421000"/>
            <a:ext cx="27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E(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5581440" y="25351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Arial"/>
              </a:rPr>
              <a:t>pri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36"/>
          <p:cNvSpPr/>
          <p:nvPr/>
        </p:nvSpPr>
        <p:spPr>
          <a:xfrm>
            <a:off x="5741280" y="2421000"/>
            <a:ext cx="28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h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37"/>
          <p:cNvSpPr/>
          <p:nvPr/>
        </p:nvSpPr>
        <p:spPr>
          <a:xfrm>
            <a:off x="4734000" y="2603520"/>
            <a:ext cx="434880" cy="1839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Rectangle 38"/>
          <p:cNvSpPr/>
          <p:nvPr/>
        </p:nvSpPr>
        <p:spPr>
          <a:xfrm>
            <a:off x="4745160" y="2614680"/>
            <a:ext cx="434880" cy="18396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Rectangle 39"/>
          <p:cNvSpPr/>
          <p:nvPr/>
        </p:nvSpPr>
        <p:spPr>
          <a:xfrm>
            <a:off x="4687920" y="3016080"/>
            <a:ext cx="84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128 bi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Line 40"/>
          <p:cNvSpPr/>
          <p:nvPr/>
        </p:nvSpPr>
        <p:spPr>
          <a:xfrm>
            <a:off x="4940280" y="2741760"/>
            <a:ext cx="144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Rectangle 41"/>
          <p:cNvSpPr/>
          <p:nvPr/>
        </p:nvSpPr>
        <p:spPr>
          <a:xfrm>
            <a:off x="6199200" y="2603520"/>
            <a:ext cx="412560" cy="206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Rectangle 42"/>
          <p:cNvSpPr/>
          <p:nvPr/>
        </p:nvSpPr>
        <p:spPr>
          <a:xfrm>
            <a:off x="6210360" y="2614680"/>
            <a:ext cx="414360" cy="206280"/>
          </a:xfrm>
          <a:prstGeom prst="rect">
            <a:avLst/>
          </a:prstGeom>
          <a:noFill/>
          <a:ln w="223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Rectangle 43"/>
          <p:cNvSpPr/>
          <p:nvPr/>
        </p:nvSpPr>
        <p:spPr>
          <a:xfrm>
            <a:off x="4023720" y="2374920"/>
            <a:ext cx="45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H(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Freeform 44"/>
          <p:cNvSpPr/>
          <p:nvPr/>
        </p:nvSpPr>
        <p:spPr>
          <a:xfrm>
            <a:off x="6039000" y="2627280"/>
            <a:ext cx="115560" cy="136440"/>
          </a:xfrm>
          <a:custGeom>
            <a:avLst/>
            <a:gdLst/>
            <a:ahLst/>
            <a:rect l="l" t="t" r="r" b="b"/>
            <a:pathLst>
              <a:path w="73" h="86">
                <a:moveTo>
                  <a:pt x="0" y="43"/>
                </a:moveTo>
                <a:lnTo>
                  <a:pt x="0" y="0"/>
                </a:lnTo>
                <a:lnTo>
                  <a:pt x="73" y="43"/>
                </a:lnTo>
                <a:lnTo>
                  <a:pt x="0" y="86"/>
                </a:lnTo>
                <a:lnTo>
                  <a:pt x="0" y="43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Freeform 45"/>
          <p:cNvSpPr/>
          <p:nvPr/>
        </p:nvSpPr>
        <p:spPr>
          <a:xfrm>
            <a:off x="6039000" y="2627280"/>
            <a:ext cx="115560" cy="136440"/>
          </a:xfrm>
          <a:custGeom>
            <a:avLst/>
            <a:gdLst/>
            <a:ahLst/>
            <a:rect l="l" t="t" r="r" b="b"/>
            <a:pathLst>
              <a:path w="73" h="86">
                <a:moveTo>
                  <a:pt x="0" y="43"/>
                </a:moveTo>
                <a:lnTo>
                  <a:pt x="0" y="0"/>
                </a:lnTo>
                <a:lnTo>
                  <a:pt x="73" y="43"/>
                </a:lnTo>
                <a:lnTo>
                  <a:pt x="0" y="86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Line 46"/>
          <p:cNvSpPr/>
          <p:nvPr/>
        </p:nvSpPr>
        <p:spPr>
          <a:xfrm>
            <a:off x="5191200" y="2695680"/>
            <a:ext cx="847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Rectangle 47"/>
          <p:cNvSpPr/>
          <p:nvPr/>
        </p:nvSpPr>
        <p:spPr>
          <a:xfrm>
            <a:off x="4916160" y="2398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Rectangle 48"/>
          <p:cNvSpPr/>
          <p:nvPr/>
        </p:nvSpPr>
        <p:spPr>
          <a:xfrm>
            <a:off x="3220920" y="5398920"/>
            <a:ext cx="665280" cy="11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Rectangle 49"/>
          <p:cNvSpPr/>
          <p:nvPr/>
        </p:nvSpPr>
        <p:spPr>
          <a:xfrm>
            <a:off x="3232080" y="5410080"/>
            <a:ext cx="665280" cy="11239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Rectangle 50"/>
          <p:cNvSpPr/>
          <p:nvPr/>
        </p:nvSpPr>
        <p:spPr>
          <a:xfrm>
            <a:off x="3267000" y="5445000"/>
            <a:ext cx="6876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Rectangle 51"/>
          <p:cNvSpPr/>
          <p:nvPr/>
        </p:nvSpPr>
        <p:spPr>
          <a:xfrm>
            <a:off x="3278160" y="5456160"/>
            <a:ext cx="687240" cy="11239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Line 52"/>
          <p:cNvSpPr/>
          <p:nvPr/>
        </p:nvSpPr>
        <p:spPr>
          <a:xfrm>
            <a:off x="3770280" y="5513400"/>
            <a:ext cx="1159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Rectangle 53"/>
          <p:cNvSpPr/>
          <p:nvPr/>
        </p:nvSpPr>
        <p:spPr>
          <a:xfrm>
            <a:off x="3770280" y="5513400"/>
            <a:ext cx="115920" cy="3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Line 54"/>
          <p:cNvSpPr/>
          <p:nvPr/>
        </p:nvSpPr>
        <p:spPr>
          <a:xfrm>
            <a:off x="3770280" y="5537160"/>
            <a:ext cx="1159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Rectangle 55"/>
          <p:cNvSpPr/>
          <p:nvPr/>
        </p:nvSpPr>
        <p:spPr>
          <a:xfrm>
            <a:off x="3770280" y="5537160"/>
            <a:ext cx="115920" cy="3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Line 56"/>
          <p:cNvSpPr/>
          <p:nvPr/>
        </p:nvSpPr>
        <p:spPr>
          <a:xfrm>
            <a:off x="3770280" y="5559480"/>
            <a:ext cx="1159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Freeform 57"/>
          <p:cNvSpPr/>
          <p:nvPr/>
        </p:nvSpPr>
        <p:spPr>
          <a:xfrm>
            <a:off x="3770280" y="5559480"/>
            <a:ext cx="115920" cy="23760"/>
          </a:xfrm>
          <a:custGeom>
            <a:avLst/>
            <a:gdLst/>
            <a:ahLst/>
            <a:rect l="l" t="t" r="r" b="b"/>
            <a:pathLst>
              <a:path w="73" h="15">
                <a:moveTo>
                  <a:pt x="0" y="0"/>
                </a:moveTo>
                <a:lnTo>
                  <a:pt x="73" y="0"/>
                </a:lnTo>
                <a:lnTo>
                  <a:pt x="73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Line 58"/>
          <p:cNvSpPr/>
          <p:nvPr/>
        </p:nvSpPr>
        <p:spPr>
          <a:xfrm>
            <a:off x="3381480" y="5743440"/>
            <a:ext cx="4348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Line 59"/>
          <p:cNvSpPr/>
          <p:nvPr/>
        </p:nvSpPr>
        <p:spPr>
          <a:xfrm>
            <a:off x="3381480" y="5811840"/>
            <a:ext cx="4348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Line 60"/>
          <p:cNvSpPr/>
          <p:nvPr/>
        </p:nvSpPr>
        <p:spPr>
          <a:xfrm>
            <a:off x="3381480" y="5857920"/>
            <a:ext cx="4348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Line 61"/>
          <p:cNvSpPr/>
          <p:nvPr/>
        </p:nvSpPr>
        <p:spPr>
          <a:xfrm>
            <a:off x="3381480" y="5904000"/>
            <a:ext cx="4348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Line 62"/>
          <p:cNvSpPr/>
          <p:nvPr/>
        </p:nvSpPr>
        <p:spPr>
          <a:xfrm>
            <a:off x="3381480" y="5950080"/>
            <a:ext cx="4348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Line 63"/>
          <p:cNvSpPr/>
          <p:nvPr/>
        </p:nvSpPr>
        <p:spPr>
          <a:xfrm>
            <a:off x="3381480" y="5996160"/>
            <a:ext cx="4348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Line 64"/>
          <p:cNvSpPr/>
          <p:nvPr/>
        </p:nvSpPr>
        <p:spPr>
          <a:xfrm>
            <a:off x="3381480" y="6041880"/>
            <a:ext cx="4348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Line 65"/>
          <p:cNvSpPr/>
          <p:nvPr/>
        </p:nvSpPr>
        <p:spPr>
          <a:xfrm>
            <a:off x="3381480" y="6086520"/>
            <a:ext cx="4348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Line 66"/>
          <p:cNvSpPr/>
          <p:nvPr/>
        </p:nvSpPr>
        <p:spPr>
          <a:xfrm>
            <a:off x="3381480" y="6132600"/>
            <a:ext cx="4348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Line 67"/>
          <p:cNvSpPr/>
          <p:nvPr/>
        </p:nvSpPr>
        <p:spPr>
          <a:xfrm>
            <a:off x="3381480" y="6178680"/>
            <a:ext cx="4348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Line 68"/>
          <p:cNvSpPr/>
          <p:nvPr/>
        </p:nvSpPr>
        <p:spPr>
          <a:xfrm>
            <a:off x="3381480" y="6224760"/>
            <a:ext cx="4348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Freeform 69"/>
          <p:cNvSpPr/>
          <p:nvPr/>
        </p:nvSpPr>
        <p:spPr>
          <a:xfrm>
            <a:off x="5649840" y="5880240"/>
            <a:ext cx="114480" cy="137880"/>
          </a:xfrm>
          <a:custGeom>
            <a:avLst/>
            <a:gdLst/>
            <a:ahLst/>
            <a:rect l="l" t="t" r="r" b="b"/>
            <a:pathLst>
              <a:path w="72" h="87">
                <a:moveTo>
                  <a:pt x="0" y="44"/>
                </a:moveTo>
                <a:lnTo>
                  <a:pt x="0" y="0"/>
                </a:lnTo>
                <a:lnTo>
                  <a:pt x="72" y="44"/>
                </a:lnTo>
                <a:lnTo>
                  <a:pt x="0" y="87"/>
                </a:lnTo>
                <a:lnTo>
                  <a:pt x="0" y="44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Freeform 70"/>
          <p:cNvSpPr/>
          <p:nvPr/>
        </p:nvSpPr>
        <p:spPr>
          <a:xfrm>
            <a:off x="5649840" y="5880240"/>
            <a:ext cx="114480" cy="137880"/>
          </a:xfrm>
          <a:custGeom>
            <a:avLst/>
            <a:gdLst/>
            <a:ahLst/>
            <a:rect l="l" t="t" r="r" b="b"/>
            <a:pathLst>
              <a:path w="72" h="87">
                <a:moveTo>
                  <a:pt x="0" y="44"/>
                </a:moveTo>
                <a:lnTo>
                  <a:pt x="0" y="0"/>
                </a:lnTo>
                <a:lnTo>
                  <a:pt x="72" y="44"/>
                </a:lnTo>
                <a:lnTo>
                  <a:pt x="0" y="87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Line 71"/>
          <p:cNvSpPr/>
          <p:nvPr/>
        </p:nvSpPr>
        <p:spPr>
          <a:xfrm>
            <a:off x="3954600" y="5950080"/>
            <a:ext cx="16952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Rectangle 72"/>
          <p:cNvSpPr/>
          <p:nvPr/>
        </p:nvSpPr>
        <p:spPr>
          <a:xfrm>
            <a:off x="3403440" y="51944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Rectangle 73"/>
          <p:cNvSpPr/>
          <p:nvPr/>
        </p:nvSpPr>
        <p:spPr>
          <a:xfrm>
            <a:off x="5810400" y="5857920"/>
            <a:ext cx="434880" cy="2062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Rectangle 74"/>
          <p:cNvSpPr/>
          <p:nvPr/>
        </p:nvSpPr>
        <p:spPr>
          <a:xfrm>
            <a:off x="5821200" y="5869080"/>
            <a:ext cx="436680" cy="20628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Rectangle 75"/>
          <p:cNvSpPr/>
          <p:nvPr/>
        </p:nvSpPr>
        <p:spPr>
          <a:xfrm>
            <a:off x="5994000" y="5653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Rectangle 76"/>
          <p:cNvSpPr/>
          <p:nvPr/>
        </p:nvSpPr>
        <p:spPr>
          <a:xfrm>
            <a:off x="4573800" y="5721480"/>
            <a:ext cx="60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H(doc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Rectangle 77"/>
          <p:cNvSpPr/>
          <p:nvPr/>
        </p:nvSpPr>
        <p:spPr>
          <a:xfrm>
            <a:off x="4275000" y="459900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Rectangle 78"/>
          <p:cNvSpPr/>
          <p:nvPr/>
        </p:nvSpPr>
        <p:spPr>
          <a:xfrm>
            <a:off x="4595400" y="47116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ub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Rectangle 79"/>
          <p:cNvSpPr/>
          <p:nvPr/>
        </p:nvSpPr>
        <p:spPr>
          <a:xfrm>
            <a:off x="4849200" y="4599000"/>
            <a:ext cx="42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{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})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Rectangle 80"/>
          <p:cNvSpPr/>
          <p:nvPr/>
        </p:nvSpPr>
        <p:spPr>
          <a:xfrm>
            <a:off x="3336120" y="4483080"/>
            <a:ext cx="24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Rectangle 81"/>
          <p:cNvSpPr/>
          <p:nvPr/>
        </p:nvSpPr>
        <p:spPr>
          <a:xfrm>
            <a:off x="3565440" y="4597560"/>
            <a:ext cx="249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Arial"/>
              </a:rPr>
              <a:t>Kpri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Rectangle 82"/>
          <p:cNvSpPr/>
          <p:nvPr/>
        </p:nvSpPr>
        <p:spPr>
          <a:xfrm>
            <a:off x="3359160" y="4757760"/>
            <a:ext cx="434880" cy="18396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Rectangle 83"/>
          <p:cNvSpPr/>
          <p:nvPr/>
        </p:nvSpPr>
        <p:spPr>
          <a:xfrm>
            <a:off x="3370320" y="4768920"/>
            <a:ext cx="434880" cy="183960"/>
          </a:xfrm>
          <a:prstGeom prst="rect">
            <a:avLst/>
          </a:prstGeom>
          <a:noFill/>
          <a:ln w="223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Freeform 84"/>
          <p:cNvSpPr/>
          <p:nvPr/>
        </p:nvSpPr>
        <p:spPr>
          <a:xfrm>
            <a:off x="5649840" y="4781520"/>
            <a:ext cx="114480" cy="136440"/>
          </a:xfrm>
          <a:custGeom>
            <a:avLst/>
            <a:gdLst/>
            <a:ahLst/>
            <a:rect l="l" t="t" r="r" b="b"/>
            <a:pathLst>
              <a:path w="72" h="86">
                <a:moveTo>
                  <a:pt x="0" y="43"/>
                </a:moveTo>
                <a:lnTo>
                  <a:pt x="0" y="0"/>
                </a:lnTo>
                <a:lnTo>
                  <a:pt x="72" y="43"/>
                </a:lnTo>
                <a:lnTo>
                  <a:pt x="0" y="86"/>
                </a:lnTo>
                <a:lnTo>
                  <a:pt x="0" y="43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Freeform 85"/>
          <p:cNvSpPr/>
          <p:nvPr/>
        </p:nvSpPr>
        <p:spPr>
          <a:xfrm>
            <a:off x="5649840" y="4781520"/>
            <a:ext cx="114480" cy="136440"/>
          </a:xfrm>
          <a:custGeom>
            <a:avLst/>
            <a:gdLst/>
            <a:ahLst/>
            <a:rect l="l" t="t" r="r" b="b"/>
            <a:pathLst>
              <a:path w="72" h="86">
                <a:moveTo>
                  <a:pt x="0" y="43"/>
                </a:moveTo>
                <a:lnTo>
                  <a:pt x="0" y="0"/>
                </a:lnTo>
                <a:lnTo>
                  <a:pt x="72" y="43"/>
                </a:lnTo>
                <a:lnTo>
                  <a:pt x="0" y="86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Line 86"/>
          <p:cNvSpPr/>
          <p:nvPr/>
        </p:nvSpPr>
        <p:spPr>
          <a:xfrm>
            <a:off x="3816360" y="4849920"/>
            <a:ext cx="18111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Rectangle 87"/>
          <p:cNvSpPr/>
          <p:nvPr/>
        </p:nvSpPr>
        <p:spPr>
          <a:xfrm>
            <a:off x="5810400" y="4757760"/>
            <a:ext cx="434880" cy="2062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Rectangle 88"/>
          <p:cNvSpPr/>
          <p:nvPr/>
        </p:nvSpPr>
        <p:spPr>
          <a:xfrm>
            <a:off x="5821200" y="4768920"/>
            <a:ext cx="436680" cy="20628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Rectangle 89"/>
          <p:cNvSpPr/>
          <p:nvPr/>
        </p:nvSpPr>
        <p:spPr>
          <a:xfrm>
            <a:off x="5947920" y="4552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Line 90"/>
          <p:cNvSpPr/>
          <p:nvPr/>
        </p:nvSpPr>
        <p:spPr>
          <a:xfrm>
            <a:off x="6269040" y="4849920"/>
            <a:ext cx="136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Line 91"/>
          <p:cNvSpPr/>
          <p:nvPr/>
        </p:nvSpPr>
        <p:spPr>
          <a:xfrm>
            <a:off x="6405480" y="4849920"/>
            <a:ext cx="1800" cy="1100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Line 92"/>
          <p:cNvSpPr/>
          <p:nvPr/>
        </p:nvSpPr>
        <p:spPr>
          <a:xfrm flipH="1">
            <a:off x="6244920" y="5950080"/>
            <a:ext cx="160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Line 93"/>
          <p:cNvSpPr/>
          <p:nvPr/>
        </p:nvSpPr>
        <p:spPr>
          <a:xfrm>
            <a:off x="6245280" y="5950080"/>
            <a:ext cx="23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Freeform 94"/>
          <p:cNvSpPr/>
          <p:nvPr/>
        </p:nvSpPr>
        <p:spPr>
          <a:xfrm>
            <a:off x="6886440" y="5308560"/>
            <a:ext cx="115920" cy="136440"/>
          </a:xfrm>
          <a:custGeom>
            <a:avLst/>
            <a:gdLst/>
            <a:ahLst/>
            <a:rect l="l" t="t" r="r" b="b"/>
            <a:pathLst>
              <a:path w="73" h="86">
                <a:moveTo>
                  <a:pt x="0" y="43"/>
                </a:moveTo>
                <a:lnTo>
                  <a:pt x="0" y="0"/>
                </a:lnTo>
                <a:lnTo>
                  <a:pt x="73" y="43"/>
                </a:lnTo>
                <a:lnTo>
                  <a:pt x="0" y="86"/>
                </a:lnTo>
                <a:lnTo>
                  <a:pt x="0" y="43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Freeform 95"/>
          <p:cNvSpPr/>
          <p:nvPr/>
        </p:nvSpPr>
        <p:spPr>
          <a:xfrm>
            <a:off x="6886440" y="5308560"/>
            <a:ext cx="115920" cy="136440"/>
          </a:xfrm>
          <a:custGeom>
            <a:avLst/>
            <a:gdLst/>
            <a:ahLst/>
            <a:rect l="l" t="t" r="r" b="b"/>
            <a:pathLst>
              <a:path w="73" h="86">
                <a:moveTo>
                  <a:pt x="0" y="43"/>
                </a:moveTo>
                <a:lnTo>
                  <a:pt x="0" y="0"/>
                </a:lnTo>
                <a:lnTo>
                  <a:pt x="73" y="43"/>
                </a:lnTo>
                <a:lnTo>
                  <a:pt x="0" y="86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Line 96"/>
          <p:cNvSpPr/>
          <p:nvPr/>
        </p:nvSpPr>
        <p:spPr>
          <a:xfrm>
            <a:off x="6405480" y="5376960"/>
            <a:ext cx="4809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Rectangle 97"/>
          <p:cNvSpPr/>
          <p:nvPr/>
        </p:nvSpPr>
        <p:spPr>
          <a:xfrm>
            <a:off x="7164000" y="5286240"/>
            <a:ext cx="78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'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Rectangle 98"/>
          <p:cNvSpPr/>
          <p:nvPr/>
        </p:nvSpPr>
        <p:spPr>
          <a:xfrm>
            <a:off x="6130800" y="3198960"/>
            <a:ext cx="641520" cy="10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Rectangle 99"/>
          <p:cNvSpPr/>
          <p:nvPr/>
        </p:nvSpPr>
        <p:spPr>
          <a:xfrm>
            <a:off x="6141960" y="3209760"/>
            <a:ext cx="642960" cy="1078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Rectangle 100"/>
          <p:cNvSpPr/>
          <p:nvPr/>
        </p:nvSpPr>
        <p:spPr>
          <a:xfrm>
            <a:off x="6176880" y="3244680"/>
            <a:ext cx="641520" cy="105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Rectangle 101"/>
          <p:cNvSpPr/>
          <p:nvPr/>
        </p:nvSpPr>
        <p:spPr>
          <a:xfrm>
            <a:off x="6188040" y="3255840"/>
            <a:ext cx="642960" cy="1055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Line 102"/>
          <p:cNvSpPr/>
          <p:nvPr/>
        </p:nvSpPr>
        <p:spPr>
          <a:xfrm>
            <a:off x="6681960" y="3290760"/>
            <a:ext cx="9036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Rectangle 103"/>
          <p:cNvSpPr/>
          <p:nvPr/>
        </p:nvSpPr>
        <p:spPr>
          <a:xfrm>
            <a:off x="6681960" y="3290760"/>
            <a:ext cx="90360" cy="3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Line 104"/>
          <p:cNvSpPr/>
          <p:nvPr/>
        </p:nvSpPr>
        <p:spPr>
          <a:xfrm>
            <a:off x="6681960" y="3314880"/>
            <a:ext cx="903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Freeform 105"/>
          <p:cNvSpPr/>
          <p:nvPr/>
        </p:nvSpPr>
        <p:spPr>
          <a:xfrm>
            <a:off x="6681960" y="3314880"/>
            <a:ext cx="90360" cy="21960"/>
          </a:xfrm>
          <a:custGeom>
            <a:avLst/>
            <a:gdLst/>
            <a:ahLst/>
            <a:rect l="l" t="t" r="r" b="b"/>
            <a:pathLst>
              <a:path w="57" h="14">
                <a:moveTo>
                  <a:pt x="0" y="0"/>
                </a:moveTo>
                <a:lnTo>
                  <a:pt x="57" y="0"/>
                </a:lnTo>
                <a:lnTo>
                  <a:pt x="57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Line 106"/>
          <p:cNvSpPr/>
          <p:nvPr/>
        </p:nvSpPr>
        <p:spPr>
          <a:xfrm>
            <a:off x="6681960" y="3336840"/>
            <a:ext cx="9036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Freeform 107"/>
          <p:cNvSpPr/>
          <p:nvPr/>
        </p:nvSpPr>
        <p:spPr>
          <a:xfrm>
            <a:off x="6681960" y="3336840"/>
            <a:ext cx="90360" cy="22320"/>
          </a:xfrm>
          <a:custGeom>
            <a:avLst/>
            <a:gdLst/>
            <a:ahLst/>
            <a:rect l="l" t="t" r="r" b="b"/>
            <a:pathLst>
              <a:path w="57" h="14">
                <a:moveTo>
                  <a:pt x="0" y="0"/>
                </a:moveTo>
                <a:lnTo>
                  <a:pt x="57" y="0"/>
                </a:lnTo>
                <a:lnTo>
                  <a:pt x="57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Line 108"/>
          <p:cNvSpPr/>
          <p:nvPr/>
        </p:nvSpPr>
        <p:spPr>
          <a:xfrm>
            <a:off x="6291360" y="3521160"/>
            <a:ext cx="412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Line 109"/>
          <p:cNvSpPr/>
          <p:nvPr/>
        </p:nvSpPr>
        <p:spPr>
          <a:xfrm>
            <a:off x="6291360" y="3565440"/>
            <a:ext cx="41256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Line 110"/>
          <p:cNvSpPr/>
          <p:nvPr/>
        </p:nvSpPr>
        <p:spPr>
          <a:xfrm>
            <a:off x="6291360" y="3611520"/>
            <a:ext cx="41256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Line 111"/>
          <p:cNvSpPr/>
          <p:nvPr/>
        </p:nvSpPr>
        <p:spPr>
          <a:xfrm>
            <a:off x="6291360" y="3657600"/>
            <a:ext cx="412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Line 112"/>
          <p:cNvSpPr/>
          <p:nvPr/>
        </p:nvSpPr>
        <p:spPr>
          <a:xfrm>
            <a:off x="6291360" y="3703680"/>
            <a:ext cx="412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Line 113"/>
          <p:cNvSpPr/>
          <p:nvPr/>
        </p:nvSpPr>
        <p:spPr>
          <a:xfrm>
            <a:off x="6291360" y="3749760"/>
            <a:ext cx="412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Line 114"/>
          <p:cNvSpPr/>
          <p:nvPr/>
        </p:nvSpPr>
        <p:spPr>
          <a:xfrm>
            <a:off x="6291360" y="3795840"/>
            <a:ext cx="412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Line 115"/>
          <p:cNvSpPr/>
          <p:nvPr/>
        </p:nvSpPr>
        <p:spPr>
          <a:xfrm>
            <a:off x="6291360" y="3841920"/>
            <a:ext cx="412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Line 116"/>
          <p:cNvSpPr/>
          <p:nvPr/>
        </p:nvSpPr>
        <p:spPr>
          <a:xfrm>
            <a:off x="6291360" y="3887640"/>
            <a:ext cx="41256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Line 117"/>
          <p:cNvSpPr/>
          <p:nvPr/>
        </p:nvSpPr>
        <p:spPr>
          <a:xfrm>
            <a:off x="6291360" y="3932280"/>
            <a:ext cx="412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Line 118"/>
          <p:cNvSpPr/>
          <p:nvPr/>
        </p:nvSpPr>
        <p:spPr>
          <a:xfrm>
            <a:off x="6291360" y="3978360"/>
            <a:ext cx="412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Rectangle 119"/>
          <p:cNvSpPr/>
          <p:nvPr/>
        </p:nvSpPr>
        <p:spPr>
          <a:xfrm>
            <a:off x="6337440" y="2948040"/>
            <a:ext cx="26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Rectangle 120"/>
          <p:cNvSpPr/>
          <p:nvPr/>
        </p:nvSpPr>
        <p:spPr>
          <a:xfrm>
            <a:off x="5867280" y="1752480"/>
            <a:ext cx="131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ocumento firmad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Freeform 121"/>
          <p:cNvSpPr/>
          <p:nvPr/>
        </p:nvSpPr>
        <p:spPr>
          <a:xfrm>
            <a:off x="6016680" y="2282760"/>
            <a:ext cx="92160" cy="68400"/>
          </a:xfrm>
          <a:custGeom>
            <a:avLst/>
            <a:gdLst/>
            <a:ahLst/>
            <a:rect l="l" t="t" r="r" b="b"/>
            <a:pathLst>
              <a:path w="58" h="43">
                <a:moveTo>
                  <a:pt x="0" y="43"/>
                </a:moveTo>
                <a:lnTo>
                  <a:pt x="0" y="0"/>
                </a:lnTo>
                <a:lnTo>
                  <a:pt x="58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Line 122"/>
          <p:cNvSpPr/>
          <p:nvPr/>
        </p:nvSpPr>
        <p:spPr>
          <a:xfrm>
            <a:off x="6245280" y="2282760"/>
            <a:ext cx="18396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Line 123"/>
          <p:cNvSpPr/>
          <p:nvPr/>
        </p:nvSpPr>
        <p:spPr>
          <a:xfrm>
            <a:off x="6566040" y="2282760"/>
            <a:ext cx="18396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Freeform 124"/>
          <p:cNvSpPr/>
          <p:nvPr/>
        </p:nvSpPr>
        <p:spPr>
          <a:xfrm>
            <a:off x="6886440" y="2282760"/>
            <a:ext cx="92160" cy="68400"/>
          </a:xfrm>
          <a:custGeom>
            <a:avLst/>
            <a:gdLst/>
            <a:ahLst/>
            <a:rect l="l" t="t" r="r" b="b"/>
            <a:pathLst>
              <a:path w="58" h="43">
                <a:moveTo>
                  <a:pt x="0" y="0"/>
                </a:moveTo>
                <a:lnTo>
                  <a:pt x="58" y="0"/>
                </a:lnTo>
                <a:lnTo>
                  <a:pt x="58" y="43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Line 125"/>
          <p:cNvSpPr/>
          <p:nvPr/>
        </p:nvSpPr>
        <p:spPr>
          <a:xfrm>
            <a:off x="6978600" y="2489040"/>
            <a:ext cx="1800" cy="160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Line 126"/>
          <p:cNvSpPr/>
          <p:nvPr/>
        </p:nvSpPr>
        <p:spPr>
          <a:xfrm>
            <a:off x="6978600" y="2787480"/>
            <a:ext cx="1800" cy="160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Line 127"/>
          <p:cNvSpPr/>
          <p:nvPr/>
        </p:nvSpPr>
        <p:spPr>
          <a:xfrm>
            <a:off x="6978600" y="3084480"/>
            <a:ext cx="1800" cy="16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Line 128"/>
          <p:cNvSpPr/>
          <p:nvPr/>
        </p:nvSpPr>
        <p:spPr>
          <a:xfrm>
            <a:off x="6978600" y="3382920"/>
            <a:ext cx="1800" cy="160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Line 129"/>
          <p:cNvSpPr/>
          <p:nvPr/>
        </p:nvSpPr>
        <p:spPr>
          <a:xfrm>
            <a:off x="6978600" y="3681360"/>
            <a:ext cx="1800" cy="160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Line 130"/>
          <p:cNvSpPr/>
          <p:nvPr/>
        </p:nvSpPr>
        <p:spPr>
          <a:xfrm>
            <a:off x="6978600" y="3978360"/>
            <a:ext cx="1800" cy="16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Freeform 131"/>
          <p:cNvSpPr/>
          <p:nvPr/>
        </p:nvSpPr>
        <p:spPr>
          <a:xfrm>
            <a:off x="6886440" y="427680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0"/>
                </a:moveTo>
                <a:lnTo>
                  <a:pt x="58" y="58"/>
                </a:lnTo>
                <a:lnTo>
                  <a:pt x="0" y="58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Line 132"/>
          <p:cNvSpPr/>
          <p:nvPr/>
        </p:nvSpPr>
        <p:spPr>
          <a:xfrm flipH="1">
            <a:off x="6565680" y="4368960"/>
            <a:ext cx="1839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Line 133"/>
          <p:cNvSpPr/>
          <p:nvPr/>
        </p:nvSpPr>
        <p:spPr>
          <a:xfrm flipH="1">
            <a:off x="6244920" y="4368960"/>
            <a:ext cx="1839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Freeform 134"/>
          <p:cNvSpPr/>
          <p:nvPr/>
        </p:nvSpPr>
        <p:spPr>
          <a:xfrm>
            <a:off x="6016680" y="427680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58"/>
                </a:moveTo>
                <a:lnTo>
                  <a:pt x="0" y="58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Line 135"/>
          <p:cNvSpPr/>
          <p:nvPr/>
        </p:nvSpPr>
        <p:spPr>
          <a:xfrm flipV="1">
            <a:off x="6016680" y="3978000"/>
            <a:ext cx="1440" cy="16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Line 136"/>
          <p:cNvSpPr/>
          <p:nvPr/>
        </p:nvSpPr>
        <p:spPr>
          <a:xfrm flipV="1">
            <a:off x="6016680" y="3681360"/>
            <a:ext cx="1440" cy="160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Line 137"/>
          <p:cNvSpPr/>
          <p:nvPr/>
        </p:nvSpPr>
        <p:spPr>
          <a:xfrm flipV="1">
            <a:off x="6016680" y="3382920"/>
            <a:ext cx="1440" cy="160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Line 138"/>
          <p:cNvSpPr/>
          <p:nvPr/>
        </p:nvSpPr>
        <p:spPr>
          <a:xfrm flipV="1">
            <a:off x="6016680" y="3084120"/>
            <a:ext cx="1440" cy="16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Line 139"/>
          <p:cNvSpPr/>
          <p:nvPr/>
        </p:nvSpPr>
        <p:spPr>
          <a:xfrm flipV="1">
            <a:off x="6016680" y="2787480"/>
            <a:ext cx="1440" cy="160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Line 140"/>
          <p:cNvSpPr/>
          <p:nvPr/>
        </p:nvSpPr>
        <p:spPr>
          <a:xfrm flipV="1">
            <a:off x="6016680" y="2489040"/>
            <a:ext cx="1440" cy="160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Amenazas y ataq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0" y="1523880"/>
            <a:ext cx="9144000" cy="54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protegerse de tales amenazas deben adopta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políticas de seguridad,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cuales son implement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ando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mecanismos de segur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distinción entre políticas y mecanismos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guridad resulta importante; sin ellas no se pue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r que el sistema sea segu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políticas de seguridad son independientes de la tecnología us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mecanismos de seguridad no aseguran por s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smos la seguridad del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Firma digital con clave secreta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8" name="Line 3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Rectangle 4"/>
          <p:cNvSpPr/>
          <p:nvPr/>
        </p:nvSpPr>
        <p:spPr>
          <a:xfrm>
            <a:off x="0" y="1636560"/>
            <a:ext cx="9144000" cy="47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Encabezado           Mensaje                      No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 A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:              A, {D(M)}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K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A calcula D(M), 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gest del mensa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y lo encripta 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A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y lo envía 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rver 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utentic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Line 6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Firma digital con clave secreta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2" name="Line 3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Rectangle 4"/>
          <p:cNvSpPr/>
          <p:nvPr/>
        </p:nvSpPr>
        <p:spPr>
          <a:xfrm>
            <a:off x="0" y="1636560"/>
            <a:ext cx="9144000" cy="56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Encabezado           Mensaje                      No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 S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:            {A, {D(M),t}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K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El server hace u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irmado y certific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l fechado de la fir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 A en el documento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rma un tex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uesto por 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mbre de A, D(M)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n timestamp t,  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cripta con 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y 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vía a A.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Line 5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Firma digital con clave secreta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6" name="Line 3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Rectangle 4"/>
          <p:cNvSpPr/>
          <p:nvPr/>
        </p:nvSpPr>
        <p:spPr>
          <a:xfrm>
            <a:off x="0" y="1636560"/>
            <a:ext cx="914400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Encabezado           Mensaje                      No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 A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:            M, {A, D(M), t}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S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 envía el mensa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riginal y 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ertificado en u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nsaje a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 B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:            B, {A, D(M), t}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S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 guarda una cop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l mensaje y 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ertificado y env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éste al server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utenticación pa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encriptar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Line 5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Firma digital con clave secreta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0" name="Line 3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Rectangle 4"/>
          <p:cNvSpPr/>
          <p:nvPr/>
        </p:nvSpPr>
        <p:spPr>
          <a:xfrm>
            <a:off x="0" y="1636560"/>
            <a:ext cx="914400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Encabezado           Mensaje                      No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 S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:            {A, D(M), t}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B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server desencrip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certificado, usa 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                 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encriptar el tex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lano resultante y 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vía a B y éste l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encrip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Line 5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Firma digital con clave secret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4" name="Text Box 4"/>
          <p:cNvSpPr/>
          <p:nvPr/>
        </p:nvSpPr>
        <p:spPr>
          <a:xfrm>
            <a:off x="685800" y="1676520"/>
            <a:ext cx="8077320" cy="77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 partir de 5, B tiene M, puede recalcular D(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y compararlo con lo recibido del server. S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inciden, B puede confiar que el mensaje es 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ido originalmente por A y que A no ser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pudiado p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 (B confía en S) verificó la firma de A en 2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ría difícil para A reclamar que su firma f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lsificada, B tiene una copia de un certifi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que puede chequearse con S. A no pue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clamar que B falsificó el certificado ya 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 no conoce K</a:t>
            </a:r>
            <a:r>
              <a:rPr b="0" lang="es-ES_tradnl" sz="2800" spc="-1" strike="noStrike" baseline="-10000">
                <a:solidFill>
                  <a:srgbClr val="000000"/>
                </a:solidFill>
                <a:latin typeface="Tahoma"/>
              </a:rPr>
              <a:t>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Modelo de segurid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304920" y="1981080"/>
            <a:ext cx="88390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jeto (o recurso):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Destinado a ser usado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ferentes clientes, vía invocación remo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: mailbox, sistema de archivos, parte de 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web site comer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incipal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uario o proceso que tiene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autoridad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(derechos) para realizar ac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identidad del principal es importante    </a:t>
            </a:r>
            <a:r>
              <a:rPr b="0" lang="es-ES_tradnl" sz="2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Modelo de segurid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7" name="Oval 7"/>
          <p:cNvSpPr/>
          <p:nvPr/>
        </p:nvSpPr>
        <p:spPr>
          <a:xfrm>
            <a:off x="380880" y="2209680"/>
            <a:ext cx="2286000" cy="2159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Oval 8"/>
          <p:cNvSpPr/>
          <p:nvPr/>
        </p:nvSpPr>
        <p:spPr>
          <a:xfrm>
            <a:off x="685800" y="2692440"/>
            <a:ext cx="1600200" cy="12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914400" y="308916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Line 10"/>
          <p:cNvSpPr/>
          <p:nvPr/>
        </p:nvSpPr>
        <p:spPr>
          <a:xfrm>
            <a:off x="1523880" y="3981600"/>
            <a:ext cx="1800" cy="99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11"/>
          <p:cNvSpPr/>
          <p:nvPr/>
        </p:nvSpPr>
        <p:spPr>
          <a:xfrm>
            <a:off x="-76320" y="5089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ncipal (Usuari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Freeform 16"/>
          <p:cNvSpPr/>
          <p:nvPr/>
        </p:nvSpPr>
        <p:spPr>
          <a:xfrm>
            <a:off x="2819520" y="2362320"/>
            <a:ext cx="3376440" cy="2049480"/>
          </a:xfrm>
          <a:custGeom>
            <a:avLst/>
            <a:gdLst/>
            <a:ahLst/>
            <a:rect l="l" t="t" r="r" b="b"/>
            <a:pathLst>
              <a:path w="2127" h="1291">
                <a:moveTo>
                  <a:pt x="308" y="59"/>
                </a:moveTo>
                <a:cubicBezTo>
                  <a:pt x="430" y="54"/>
                  <a:pt x="552" y="53"/>
                  <a:pt x="674" y="44"/>
                </a:cubicBezTo>
                <a:cubicBezTo>
                  <a:pt x="689" y="43"/>
                  <a:pt x="703" y="33"/>
                  <a:pt x="718" y="29"/>
                </a:cubicBezTo>
                <a:cubicBezTo>
                  <a:pt x="742" y="23"/>
                  <a:pt x="766" y="16"/>
                  <a:pt x="791" y="15"/>
                </a:cubicBezTo>
                <a:cubicBezTo>
                  <a:pt x="991" y="6"/>
                  <a:pt x="1191" y="5"/>
                  <a:pt x="1391" y="0"/>
                </a:cubicBezTo>
                <a:cubicBezTo>
                  <a:pt x="1605" y="27"/>
                  <a:pt x="1820" y="47"/>
                  <a:pt x="2035" y="73"/>
                </a:cubicBezTo>
                <a:cubicBezTo>
                  <a:pt x="2050" y="78"/>
                  <a:pt x="2068" y="77"/>
                  <a:pt x="2079" y="88"/>
                </a:cubicBezTo>
                <a:cubicBezTo>
                  <a:pt x="2090" y="99"/>
                  <a:pt x="2091" y="117"/>
                  <a:pt x="2093" y="132"/>
                </a:cubicBezTo>
                <a:cubicBezTo>
                  <a:pt x="2127" y="425"/>
                  <a:pt x="2086" y="251"/>
                  <a:pt x="2123" y="395"/>
                </a:cubicBezTo>
                <a:cubicBezTo>
                  <a:pt x="2118" y="585"/>
                  <a:pt x="2115" y="776"/>
                  <a:pt x="2108" y="966"/>
                </a:cubicBezTo>
                <a:cubicBezTo>
                  <a:pt x="2099" y="1209"/>
                  <a:pt x="2120" y="1265"/>
                  <a:pt x="1874" y="1273"/>
                </a:cubicBezTo>
                <a:cubicBezTo>
                  <a:pt x="1620" y="1281"/>
                  <a:pt x="1367" y="1283"/>
                  <a:pt x="1113" y="1288"/>
                </a:cubicBezTo>
                <a:cubicBezTo>
                  <a:pt x="934" y="1281"/>
                  <a:pt x="747" y="1289"/>
                  <a:pt x="572" y="1244"/>
                </a:cubicBezTo>
                <a:cubicBezTo>
                  <a:pt x="539" y="1212"/>
                  <a:pt x="410" y="1291"/>
                  <a:pt x="384" y="1245"/>
                </a:cubicBezTo>
                <a:cubicBezTo>
                  <a:pt x="363" y="1207"/>
                  <a:pt x="136" y="1195"/>
                  <a:pt x="91" y="1172"/>
                </a:cubicBezTo>
                <a:cubicBezTo>
                  <a:pt x="4" y="1128"/>
                  <a:pt x="112" y="1007"/>
                  <a:pt x="18" y="996"/>
                </a:cubicBezTo>
                <a:cubicBezTo>
                  <a:pt x="0" y="958"/>
                  <a:pt x="30" y="971"/>
                  <a:pt x="47" y="908"/>
                </a:cubicBezTo>
                <a:cubicBezTo>
                  <a:pt x="64" y="845"/>
                  <a:pt x="94" y="744"/>
                  <a:pt x="118" y="615"/>
                </a:cubicBezTo>
                <a:cubicBezTo>
                  <a:pt x="125" y="496"/>
                  <a:pt x="121" y="244"/>
                  <a:pt x="191" y="132"/>
                </a:cubicBezTo>
                <a:cubicBezTo>
                  <a:pt x="213" y="96"/>
                  <a:pt x="277" y="90"/>
                  <a:pt x="308" y="59"/>
                </a:cubicBezTo>
                <a:close/>
              </a:path>
            </a:pathLst>
          </a:custGeom>
          <a:solidFill>
            <a:srgbClr val="ffcc00"/>
          </a:solidFill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17"/>
          <p:cNvSpPr/>
          <p:nvPr/>
        </p:nvSpPr>
        <p:spPr>
          <a:xfrm>
            <a:off x="4724280" y="4267080"/>
            <a:ext cx="1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Text Box 18"/>
          <p:cNvSpPr/>
          <p:nvPr/>
        </p:nvSpPr>
        <p:spPr>
          <a:xfrm>
            <a:off x="4648320" y="5334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Text Box 19"/>
          <p:cNvSpPr/>
          <p:nvPr/>
        </p:nvSpPr>
        <p:spPr>
          <a:xfrm>
            <a:off x="3733920" y="25909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o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3809880" y="3505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ult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Oval 21"/>
          <p:cNvSpPr/>
          <p:nvPr/>
        </p:nvSpPr>
        <p:spPr>
          <a:xfrm>
            <a:off x="6477120" y="2362320"/>
            <a:ext cx="2666880" cy="2590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Oval 22"/>
          <p:cNvSpPr/>
          <p:nvPr/>
        </p:nvSpPr>
        <p:spPr>
          <a:xfrm>
            <a:off x="6629400" y="2666880"/>
            <a:ext cx="2209680" cy="1981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Text Box 23"/>
          <p:cNvSpPr/>
          <p:nvPr/>
        </p:nvSpPr>
        <p:spPr>
          <a:xfrm>
            <a:off x="6477120" y="5410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ncipal (Serv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Rectangle 24"/>
          <p:cNvSpPr/>
          <p:nvPr/>
        </p:nvSpPr>
        <p:spPr>
          <a:xfrm>
            <a:off x="7238880" y="2895480"/>
            <a:ext cx="304920" cy="609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Line 25"/>
          <p:cNvSpPr/>
          <p:nvPr/>
        </p:nvSpPr>
        <p:spPr>
          <a:xfrm flipH="1" flipV="1">
            <a:off x="6629040" y="2209320"/>
            <a:ext cx="7621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 Box 26"/>
          <p:cNvSpPr/>
          <p:nvPr/>
        </p:nvSpPr>
        <p:spPr>
          <a:xfrm>
            <a:off x="4419720" y="1828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rechos de acc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 Box 29"/>
          <p:cNvSpPr/>
          <p:nvPr/>
        </p:nvSpPr>
        <p:spPr>
          <a:xfrm>
            <a:off x="7467480" y="40384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24" name="Object 30"/>
          <p:cNvGraphicFramePr/>
          <p:nvPr/>
        </p:nvGraphicFramePr>
        <p:xfrm>
          <a:off x="7772400" y="2971800"/>
          <a:ext cx="609480" cy="68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5" name="Object 3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72400" y="2971800"/>
                    <a:ext cx="609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Object 32"/>
          <p:cNvGraphicFramePr/>
          <p:nvPr/>
        </p:nvGraphicFramePr>
        <p:xfrm>
          <a:off x="6934320" y="3581280"/>
          <a:ext cx="60948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7" name="Object 3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34320" y="3581280"/>
                    <a:ext cx="609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Line 33"/>
          <p:cNvSpPr/>
          <p:nvPr/>
        </p:nvSpPr>
        <p:spPr>
          <a:xfrm flipV="1">
            <a:off x="8077320" y="1981080"/>
            <a:ext cx="45720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Text Box 34"/>
          <p:cNvSpPr/>
          <p:nvPr/>
        </p:nvSpPr>
        <p:spPr>
          <a:xfrm>
            <a:off x="8001000" y="16002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30" name="AutoShape 38"/>
          <p:cNvCxnSpPr/>
          <p:nvPr/>
        </p:nvCxnSpPr>
        <p:spPr>
          <a:xfrm flipV="1">
            <a:off x="2133360" y="3123360"/>
            <a:ext cx="563940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1" name="AutoShape 40"/>
          <p:cNvCxnSpPr/>
          <p:nvPr/>
        </p:nvCxnSpPr>
        <p:spPr>
          <a:xfrm flipH="1">
            <a:off x="2056680" y="3276720"/>
            <a:ext cx="563940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Amenaz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33520" y="1600200"/>
            <a:ext cx="8610480" cy="63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principal objetivo de la seguridad es restringir 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ceso a la información y recursos, sólo a aquell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incipales que están autoriz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amenazas caen en cuatro cl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Fuga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 adquisición de información por receptores no autoriz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Alteración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 no autorizada de inform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Robo de recurso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 uso sin autor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Vandalism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 Interferencia con la operación 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stema sin ganancia para el autor de la amena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Métodos de ataqu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533520" y="2286000"/>
            <a:ext cx="861048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scucha no autoriz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nición: Obtención de copias de mensajes s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ener autor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tención de mensaj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rectamente de la red o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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 información almacenada en forma inadecuada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8T12:52:53Z</dcterms:created>
  <dc:creator>Pablo Turmero</dc:creator>
  <dc:description/>
  <dc:language>en-US</dc:language>
  <cp:lastModifiedBy>Pablo</cp:lastModifiedBy>
  <dcterms:modified xsi:type="dcterms:W3CDTF">2015-11-04T22:28:11Z</dcterms:modified>
  <cp:revision>209</cp:revision>
  <dc:subject/>
  <dc:title/>
</cp:coreProperties>
</file>