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156518-9CFD-4784-8DDD-4E827DAD3C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BA9852-6AFC-4B3A-899B-2DE007465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51"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2"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BF0CB3-9CE7-452D-BB7B-7D156561F8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B728D4-DDC0-42BB-87FE-0D95858098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FE9DA83-81E2-4572-905E-13FE14A7F6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5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7"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8"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0F84A8-10B6-415A-848E-15FCBF83C9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6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2"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D0EA24-42D6-4E77-B143-97A2B4D4E4D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6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6"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38D858-2C10-4ADD-B6FF-F063183EA7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68"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69"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240203-FD68-405D-B0D1-670722498B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3"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4"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0037A18-23A3-4CD3-94B9-D25885F6C38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6"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7"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8"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9"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0"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1"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3B30998-883C-446D-94AA-2E48C6EAAC5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62BC78E-C3A5-42F6-9E67-61E3404F3C5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C85BC9-C266-4C13-85EB-82509A536F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88"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3FCC315-49E2-4795-946E-989852333FB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54996BD-FC12-4B31-8F33-B89691E6C54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C8D54B1-34F9-483B-BB74-D95CD3E0A28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51ED9AF-9FC7-4292-91A8-0B09371FA90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F4CCB5B-A518-48CE-86FA-33F926CC5A2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59B1168-1945-42DD-BAFB-7EBE4B3E252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01"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3"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10AA9A1-39A0-4FE0-A92E-A322241E9D1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0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7"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94DFCCF-A11D-46E0-9C34-A00701EE902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09"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0"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1049313-58A4-4C09-BC48-4FF742AD9A0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1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5"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7ABEC3C-E9BD-4BF6-AAE7-A95F8F31F4B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B07E5B-D1F3-4F66-B6EF-3CABA722DF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17"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8"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9"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0"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1"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2"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BD9C192-96EE-4788-B5E0-BAFDF52A498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317EEC8-A1A9-45EA-890B-93E6020111E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F1E0848-310D-4185-88C1-6B695B6C971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3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06DB2C7-A73F-48C8-BE34-6C08B000CE7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3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8E192C3-D5F9-46DD-9FB8-7AD3C057563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FDC57C9-EA18-481A-8538-C10ACDE3198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EA31239-F467-47F6-863E-E55FCCF1D77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3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FDA9CC7-967F-4C46-B49F-21A9E0FB247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4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1D3397C-704C-4BE9-A559-5F01CEED97C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4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E840099-7FD7-4E3D-9AB1-36B5E7283B3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7E8BED-6D94-46E9-B6E6-E798F8807D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5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E7391E4-86FE-447D-855E-2E5CB0927DB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5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7CC669F-0C0C-4C4B-BE5F-110CA1DFD5A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5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52FADB7-68B7-4C43-A8B8-E761D1C66DE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75D2464-20C8-415F-8588-EE82EFCFA0A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7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7DD0775-F6A9-435A-865F-F29762C1281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7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9FE5244-63C9-499F-9AA3-E02A51085F3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7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BF60703-0F23-49A5-B291-DBE4B03B509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76A04ED-CC7B-48A3-8B9C-94F5D454F1D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C0B3592-FD90-4037-B746-E5A08118B97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7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8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8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3CF2695-5548-4060-9FB4-3B80E37D0C6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22575D-3234-44C9-8581-AEF425896F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8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8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FF64D3C-BE0B-4041-9D01-19E2C4AB64D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8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8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8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DE8E749-D48E-4021-B407-75F1519FA70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9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9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E63C4CC-BDDF-46A4-B9F3-AFFC02B304E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9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9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9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9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31C8FF9-11D6-4C41-9012-3BE62DCCDB2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9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0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0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0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0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0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3142D1F1-DFB6-4F53-8A6C-482FB37996E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060BFAA-BA3F-4259-9CAC-20D96B69A9F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11"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1AA4EAD-92A4-4BA8-94A4-1CBCE8B4875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1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B87F561-419C-4BB2-AFD5-A793F3442E3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1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1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8D9BCD6-DCA1-456F-B74F-CC310B37DB2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C8D672A-9C1A-4991-A422-F8865C331F3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A9C7A1-35F1-4F60-87B2-998D35AAF7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EEAB6AB-DA28-4D9A-AE6C-79B80D4F72A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2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2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2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C0D0418-6EEE-4125-A309-B21B76500D1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2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2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26"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B2D254B-7408-4E79-98A3-0FD7538BC42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2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2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30"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09DECB5-4A60-4CAB-970B-592E6909849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32"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33"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A111FB1-E5BC-488F-BBE9-CC331412CDB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3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3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3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38"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6AFAC0D-023F-4308-8850-29CE343A3A8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40"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41"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42"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43"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44"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45"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E89B075-8EF4-49CE-8D73-A540C703EE1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BC9637-DCC5-44B7-B3B8-33F894F959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285B5C-4F7A-4D8A-973B-FDAFBCCD3D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2C2658-F6F4-48BD-A799-BF5F32E1BB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7F8848-B6BC-4AD6-9F77-1A27A26A27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C77A6-3BAA-4584-9D85-8C453A674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D9DC4D-A833-4E73-83B3-76AA761DD4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8AD837-C95B-4E52-95BB-DFB85A64D7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0126CD-3524-495D-9F60-61D7181FBF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BFCB46-E749-47F9-81B8-3795DC4307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5557D1-19C8-43B3-958C-3DD1884E10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13F001-9F0F-4133-8B11-38DFD6E2C9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1"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B2931C-CFD3-40B2-AAB0-74A2A8CEBE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B49829-8FDE-4E03-9354-5041201EFC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0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D1EFB0-A3B5-42E2-B6D6-3E4927DA64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BFF934-30D7-408B-B16E-D071094625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0D67C-0A38-4558-B84B-32CF9B37B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6C233B-8218-4892-9478-7006B786BD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DF25EC-07C5-4BB9-A7EE-75A1C53A55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6"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984C3A-F5DD-4E67-8154-0EDC5733B3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1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0"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FDACF1-D546-47D7-BE45-71C0230B42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2"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3"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5D0289-A7AF-44DB-B5B9-B8DD893EF7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2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28"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E78CC3-0F88-4758-91A2-96D82FEC51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0"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1"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2"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3"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4"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35"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03A1DC2-F43E-4105-8EFE-CE63FC745D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7BA1F6-B538-44BD-8A62-F12F0657D1C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2"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189BA2-0F6E-44B4-933D-A97D26BB49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AF14B7-F2E8-4EAB-883F-A8AD9C36A3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AB00B-FE31-46C5-932B-D0F8F672B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4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47"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9C2118-888D-41D8-B417-95CCEFC8A7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88F4F5-C14F-46E0-9BFB-845259D931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89E9D0-DAA9-44CA-88D4-C3E0527CDF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2"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3"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D21F42-17E7-46D2-8344-36B648A8E2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5"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6"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57"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403226-EA11-49E5-A5CC-ED7436AF9C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1"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0DBC9D-7BCD-4460-ACDE-D1FA2DE201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3"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4"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0032FF-E35B-4506-B8CC-15D94E0D68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6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8"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69"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276919-28EB-466A-81AA-3107D2EBE9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1"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2"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3"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4"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5"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76"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2AC176F-795C-49F1-96CF-7D62965DC2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87F5AD9-DD50-4E6C-B924-B359E04B5E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A9A0C-F9F7-4778-B300-8C9A12995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4DC625-BF19-436C-A38E-4D89A8C7DC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A7114C-8F76-4387-8994-55A265E608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8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175407-4A27-4564-BFEE-B6B01B6736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DB67C3-A787-4CA1-BF8B-787EBA0139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014EBA-010F-4638-8112-AE0F435D51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0DD06A-558F-4A84-9586-6942BBA803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9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A25FD9-F63E-4B00-963F-E49CEEC190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4B11A5-2691-405E-B606-7F76A5D74E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6C9E65-1804-4848-A4CC-C9E471105E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0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E5700F9-7788-444C-A160-6215F28A292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196614-E0ED-42AC-A208-9337E09110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1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1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3746C1-B762-4BEF-B434-F9BD4D48F6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723D3AD-BB02-4B0B-BBEE-9EF3F5ABF23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4"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85F0BF-34B1-4F72-9C5E-4333C15C0A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3ACEF4-263D-4BC7-A0C3-C2B2F66BE2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2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08A48C-A94B-43A2-8D82-61603B87DE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CA4D9B-4CF6-49D1-8046-8603977072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9EFB8B-80C3-4ABE-AB01-8A6BF8BDDF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198EF6-6274-481F-8173-1EEBC7DE62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3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9"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18738E-5741-407D-B0B1-DC575B9981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41"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2"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3"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5B2AF6-9321-43FF-9EA4-32F5D95470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F6DA4-C3B4-41B0-AC41-D1FDCD008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45"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6"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8CBDC9-316D-490E-9375-C1D5419170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4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1"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2AB111B-FA51-4FED-8F4D-2F873DA5586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53"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4"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5"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6"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7"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8"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C5DA501-8172-4C57-AB2B-539BCEDFFED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651C757-D57A-4BA9-84CB-955621DF7CF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5"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4FDACCF-1F1F-4614-8668-2F991A6DA7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A87D5B-8DD8-4AB7-A632-5BB5BC8366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814585-E5F8-4C1E-A767-089AB677A5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C8F9AF-F633-458C-B1DD-5BCF75FD38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120819-E4C2-488C-B577-469A515E77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4D1CAB-A980-4D2B-95D3-76007AE3A1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F6838-AB64-48AF-8999-7C9296538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78"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9"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0"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3640E1-D6AD-4697-A714-7BD4E7C976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8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4"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53CA25-ADFE-4442-BC2B-507CC9305D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86"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7"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EA7B0A-20C0-42E1-B0E6-1277D7CC6A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8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2"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6831B6-DC23-4C89-80C7-00DE3C2E317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94"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5"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6"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7"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8"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9"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AB9400B-DDFC-417C-B89A-20FCF38061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453212B-1683-409D-A728-4C9B8F8D721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6"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4C3404-48BD-4661-A019-3B552F0F681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28369E-3A1F-4400-8143-9A4390F748D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0"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1"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1F807A-10EA-4ACE-8AB0-0AF4A04A5C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4C814A-3748-456F-89AD-4C36209097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50FDA-E228-4017-B3A7-91AF40BF4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1868C8-80FA-4809-94B1-0D7C0BA9C0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5"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6"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7"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076F74-138C-47BD-8C64-3B64DFF4D7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19"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0"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1"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C8EA22-3F2E-4BC3-B496-1448AD8A08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2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5"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7F6210-5D2E-4E4A-8BB1-CD34DD0F11C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27"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8"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B836AE4-CF19-4433-A70D-26B8C23CF0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2"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3"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94BA386-AA9B-4C2F-9A85-A66DA9BA85A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35"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6"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7"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8"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9"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0"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8C95FAA-E94E-4431-9C70-416F05D3B59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11E0735-D470-40B4-AD2E-6CA406DF810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7"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7069A2-5321-42E6-92C1-147BC27ACE6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3BA5ED1-8E1C-4C2B-927E-05553710891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cfc"/>
            </a:gs>
            <a:gs pos="100000">
              <a:srgbClr val="c2f0f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36E7A-281A-46F7-9DAC-4D60FF82929F}" type="slidenum">
              <a:rPr b="1" lang="es-E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cfc"/>
            </a:gs>
            <a:gs pos="100000">
              <a:srgbClr val="c2f0f0"/>
            </a:gs>
          </a:gsLst>
          <a:lin ang="5400000"/>
        </a:gra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383"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384" name="PlaceHolder 3"/>
          <p:cNvSpPr>
            <a:spLocks noGrp="1"/>
          </p:cNvSpPr>
          <p:nvPr>
            <p:ph type="dt" idx="28"/>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5" name="PlaceHolder 4"/>
          <p:cNvSpPr>
            <a:spLocks noGrp="1"/>
          </p:cNvSpPr>
          <p:nvPr>
            <p:ph type="ftr" idx="29"/>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86" name="PlaceHolder 5"/>
          <p:cNvSpPr>
            <a:spLocks noGrp="1"/>
          </p:cNvSpPr>
          <p:nvPr>
            <p:ph type="sldNum" idx="30"/>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6F9E7-0DA3-4271-BA89-3E7A652502E7}" type="slidenum">
              <a:rPr b="1" lang="es-E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cfc"/>
            </a:gs>
            <a:gs pos="100000">
              <a:srgbClr val="c2f0f0"/>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424"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425" name="PlaceHolder 3"/>
          <p:cNvSpPr>
            <a:spLocks noGrp="1"/>
          </p:cNvSpPr>
          <p:nvPr>
            <p:ph type="dt" idx="3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6" name="PlaceHolder 4"/>
          <p:cNvSpPr>
            <a:spLocks noGrp="1"/>
          </p:cNvSpPr>
          <p:nvPr>
            <p:ph type="ftr" idx="3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27" name="PlaceHolder 5"/>
          <p:cNvSpPr>
            <a:spLocks noGrp="1"/>
          </p:cNvSpPr>
          <p:nvPr>
            <p:ph type="sldNum" idx="3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44BC3-9886-4285-89DF-848E44BFA4D6}" type="slidenum">
              <a:rPr b="1" lang="es-E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cfc"/>
            </a:gs>
            <a:gs pos="100000">
              <a:srgbClr val="c2f0f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46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466" name="PlaceHolder 3"/>
          <p:cNvSpPr>
            <a:spLocks noGrp="1"/>
          </p:cNvSpPr>
          <p:nvPr>
            <p:ph type="dt" idx="3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67" name="PlaceHolder 4"/>
          <p:cNvSpPr>
            <a:spLocks noGrp="1"/>
          </p:cNvSpPr>
          <p:nvPr>
            <p:ph type="ftr" idx="3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468" name="PlaceHolder 5"/>
          <p:cNvSpPr>
            <a:spLocks noGrp="1"/>
          </p:cNvSpPr>
          <p:nvPr>
            <p:ph type="sldNum" idx="36"/>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A8FB3-7A14-45F1-8F2F-1F74768AA555}" type="slidenum">
              <a:rPr b="1" lang="es-E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cfc"/>
            </a:gs>
            <a:gs pos="100000">
              <a:srgbClr val="c2f0f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06"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07" name="PlaceHolder 3"/>
          <p:cNvSpPr>
            <a:spLocks noGrp="1"/>
          </p:cNvSpPr>
          <p:nvPr>
            <p:ph type="dt" idx="37"/>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8" name="PlaceHolder 4"/>
          <p:cNvSpPr>
            <a:spLocks noGrp="1"/>
          </p:cNvSpPr>
          <p:nvPr>
            <p:ph type="ftr" idx="3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9" name="PlaceHolder 5"/>
          <p:cNvSpPr>
            <a:spLocks noGrp="1"/>
          </p:cNvSpPr>
          <p:nvPr>
            <p:ph type="sldNum" idx="3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055D4-E326-4EDC-AAB8-A7352ED5A395}" type="slidenum">
              <a:rPr b="1" lang="es-E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cfc"/>
            </a:gs>
            <a:gs pos="100000">
              <a:srgbClr val="c2f0f0"/>
            </a:gs>
          </a:gsLst>
          <a:lin ang="5400000"/>
        </a:gra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F7819-9DBE-4F0F-AC70-13100034194C}" type="slidenum">
              <a:rPr b="1" lang="es-E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cfc"/>
            </a:gs>
            <a:gs pos="100000">
              <a:srgbClr val="c2f0f0"/>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96"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7" name="PlaceHolder 3"/>
          <p:cNvSpPr>
            <a:spLocks noGrp="1"/>
          </p:cNvSpPr>
          <p:nvPr>
            <p:ph type="dt" idx="7"/>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8" name="PlaceHolder 4"/>
          <p:cNvSpPr>
            <a:spLocks noGrp="1"/>
          </p:cNvSpPr>
          <p:nvPr>
            <p:ph type="ftr" idx="8"/>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9" name="PlaceHolder 5"/>
          <p:cNvSpPr>
            <a:spLocks noGrp="1"/>
          </p:cNvSpPr>
          <p:nvPr>
            <p:ph type="sldNum" idx="9"/>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52805-AD67-4ECE-9735-F25CF526E3E0}" type="slidenum">
              <a:rPr b="1" lang="es-E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cfc"/>
            </a:gs>
            <a:gs pos="100000">
              <a:srgbClr val="c2f0f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37"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38" name="PlaceHolder 3"/>
          <p:cNvSpPr>
            <a:spLocks noGrp="1"/>
          </p:cNvSpPr>
          <p:nvPr>
            <p:ph type="dt" idx="10"/>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39" name="PlaceHolder 4"/>
          <p:cNvSpPr>
            <a:spLocks noGrp="1"/>
          </p:cNvSpPr>
          <p:nvPr>
            <p:ph type="ftr" idx="11"/>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40" name="PlaceHolder 5"/>
          <p:cNvSpPr>
            <a:spLocks noGrp="1"/>
          </p:cNvSpPr>
          <p:nvPr>
            <p:ph type="sldNum" idx="12"/>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25BF1-E3DD-497C-86F8-29179A48F6E7}" type="slidenum">
              <a:rPr b="1" lang="es-E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cfc"/>
            </a:gs>
            <a:gs pos="100000">
              <a:srgbClr val="c2f0f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17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179" name="PlaceHolder 3"/>
          <p:cNvSpPr>
            <a:spLocks noGrp="1"/>
          </p:cNvSpPr>
          <p:nvPr>
            <p:ph type="dt" idx="13"/>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0" name="PlaceHolder 4"/>
          <p:cNvSpPr>
            <a:spLocks noGrp="1"/>
          </p:cNvSpPr>
          <p:nvPr>
            <p:ph type="ftr" idx="14"/>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1" name="PlaceHolder 5"/>
          <p:cNvSpPr>
            <a:spLocks noGrp="1"/>
          </p:cNvSpPr>
          <p:nvPr>
            <p:ph type="sldNum" idx="15"/>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88B52-CC9A-4310-81C4-6598D656A41E}" type="slidenum">
              <a:rPr b="1" lang="es-E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cfc"/>
            </a:gs>
            <a:gs pos="100000">
              <a:srgbClr val="c2f0f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219"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220" name="PlaceHolder 3"/>
          <p:cNvSpPr>
            <a:spLocks noGrp="1"/>
          </p:cNvSpPr>
          <p:nvPr>
            <p:ph type="dt" idx="16"/>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1" name="PlaceHolder 4"/>
          <p:cNvSpPr>
            <a:spLocks noGrp="1"/>
          </p:cNvSpPr>
          <p:nvPr>
            <p:ph type="ftr" idx="17"/>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22" name="PlaceHolder 5"/>
          <p:cNvSpPr>
            <a:spLocks noGrp="1"/>
          </p:cNvSpPr>
          <p:nvPr>
            <p:ph type="sldNum" idx="18"/>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78802-0C6B-4D53-B0E4-E81C10C13CC2}" type="slidenum">
              <a:rPr b="1" lang="es-E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cfc"/>
            </a:gs>
            <a:gs pos="100000">
              <a:srgbClr val="c2f0f0"/>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260"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261" name="PlaceHolder 3"/>
          <p:cNvSpPr>
            <a:spLocks noGrp="1"/>
          </p:cNvSpPr>
          <p:nvPr>
            <p:ph type="dt" idx="19"/>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62" name="PlaceHolder 4"/>
          <p:cNvSpPr>
            <a:spLocks noGrp="1"/>
          </p:cNvSpPr>
          <p:nvPr>
            <p:ph type="ftr" idx="20"/>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263" name="PlaceHolder 5"/>
          <p:cNvSpPr>
            <a:spLocks noGrp="1"/>
          </p:cNvSpPr>
          <p:nvPr>
            <p:ph type="sldNum" idx="21"/>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B5EA1-17BC-47CB-A5BB-BFA6CEF48E0F}" type="slidenum">
              <a:rPr b="1" lang="es-E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cfc"/>
            </a:gs>
            <a:gs pos="100000">
              <a:srgbClr val="c2f0f0"/>
            </a:gs>
          </a:gsLst>
          <a:lin ang="54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301"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302" name="PlaceHolder 3"/>
          <p:cNvSpPr>
            <a:spLocks noGrp="1"/>
          </p:cNvSpPr>
          <p:nvPr>
            <p:ph type="dt" idx="22"/>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03" name="PlaceHolder 4"/>
          <p:cNvSpPr>
            <a:spLocks noGrp="1"/>
          </p:cNvSpPr>
          <p:nvPr>
            <p:ph type="ftr" idx="23"/>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04" name="PlaceHolder 5"/>
          <p:cNvSpPr>
            <a:spLocks noGrp="1"/>
          </p:cNvSpPr>
          <p:nvPr>
            <p:ph type="sldNum" idx="24"/>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50B1F-D3DF-4957-A3E9-0B8CD30B97F1}" type="slidenum">
              <a:rPr b="1" lang="es-E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5fcfc"/>
            </a:gs>
            <a:gs pos="100000">
              <a:srgbClr val="c2f0f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342"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343" name="PlaceHolder 3"/>
          <p:cNvSpPr>
            <a:spLocks noGrp="1"/>
          </p:cNvSpPr>
          <p:nvPr>
            <p:ph type="dt" idx="25"/>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4" name="PlaceHolder 4"/>
          <p:cNvSpPr>
            <a:spLocks noGrp="1"/>
          </p:cNvSpPr>
          <p:nvPr>
            <p:ph type="ftr" idx="26"/>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45" name="PlaceHolder 5"/>
          <p:cNvSpPr>
            <a:spLocks noGrp="1"/>
          </p:cNvSpPr>
          <p:nvPr>
            <p:ph type="sldNum" idx="27"/>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43A03-C2A2-4740-B41E-3782CBAB9422}" type="slidenum">
              <a:rPr b="1" lang="es-E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5.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5.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5.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png"/><Relationship Id="rId3"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45.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6" name=""/>
          <p:cNvSpPr txBox="1"/>
          <p:nvPr/>
        </p:nvSpPr>
        <p:spPr>
          <a:xfrm>
            <a:off x="74736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003366"/>
                </a:solidFill>
                <a:latin typeface="Arial"/>
              </a:rPr>
              <a:t>Introducción a Wavelets (Onditas)</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006666"/>
                </a:solidFill>
                <a:latin typeface="Arial"/>
              </a:rPr>
              <a:t>Algo de Historia</a:t>
            </a:r>
            <a:endParaRPr b="1" lang="en-US" sz="3600" spc="-1" strike="noStrike">
              <a:solidFill>
                <a:srgbClr val="006666"/>
              </a:solidFill>
              <a:latin typeface="Arial"/>
            </a:endParaRPr>
          </a:p>
        </p:txBody>
      </p:sp>
      <p:sp>
        <p:nvSpPr>
          <p:cNvPr id="56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3366"/>
                </a:solidFill>
                <a:latin typeface="Arial"/>
              </a:rPr>
              <a:t>El análisis de Fourier se venía usando practicamente para el manejo de cualquier tipo de señales, sin embargo, produce dificultades a la hora de analizar señales fugaces o cambios abruptos como la palabra hablad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3366"/>
                </a:solidFill>
                <a:latin typeface="Arial"/>
              </a:rPr>
              <a:t>Como ejemplo, los sintetizadores de música, se basan en Fourier, pero por bien diseñados que esten, no logran reproducir un instrumento real, pues la interpretación de un instrumento esta llena de cambios y picos abrupto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006666"/>
                </a:solidFill>
                <a:latin typeface="Arial"/>
              </a:rPr>
              <a:t>Algo de Historia</a:t>
            </a:r>
            <a:endParaRPr b="1" lang="en-US" sz="3600" spc="-1" strike="noStrike">
              <a:solidFill>
                <a:srgbClr val="006666"/>
              </a:solidFill>
              <a:latin typeface="Arial"/>
            </a:endParaRPr>
          </a:p>
        </p:txBody>
      </p:sp>
      <p:sp>
        <p:nvSpPr>
          <p:cNvPr id="56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3366"/>
                </a:solidFill>
                <a:latin typeface="Arial"/>
              </a:rPr>
              <a:t>El principio de éste problema se puede resumir en la “indeterminación de Heisenberg”</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3366"/>
                </a:solidFill>
                <a:latin typeface="Arial"/>
              </a:rPr>
              <a:t>	</a:t>
            </a:r>
            <a:r>
              <a:rPr b="0" lang="es-CO" sz="2800" spc="-1" strike="noStrike">
                <a:solidFill>
                  <a:srgbClr val="003366"/>
                </a:solidFill>
                <a:latin typeface="Arial"/>
              </a:rPr>
              <a:t>“</a:t>
            </a:r>
            <a:r>
              <a:rPr b="0" lang="es-CO" sz="2800" spc="-1" strike="noStrike">
                <a:solidFill>
                  <a:srgbClr val="003366"/>
                </a:solidFill>
                <a:latin typeface="Arial"/>
              </a:rPr>
              <a:t>L</a:t>
            </a:r>
            <a:r>
              <a:rPr b="0" lang="es-ES" sz="2800" spc="-1" strike="noStrike">
                <a:solidFill>
                  <a:srgbClr val="003366"/>
                </a:solidFill>
                <a:latin typeface="Arial"/>
              </a:rPr>
              <a:t>a posición y la velocidad de un objeto no se pueden medir exactamente al mismo tiempo, ni siquiera en teorí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006666"/>
                </a:solidFill>
                <a:latin typeface="Arial"/>
              </a:rPr>
              <a:t>Algo de Historia</a:t>
            </a:r>
            <a:endParaRPr b="1" lang="en-US" sz="3600" spc="-1" strike="noStrike">
              <a:solidFill>
                <a:srgbClr val="006666"/>
              </a:solidFill>
              <a:latin typeface="Arial"/>
            </a:endParaRPr>
          </a:p>
        </p:txBody>
      </p:sp>
      <p:sp>
        <p:nvSpPr>
          <p:cNvPr id="56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Es imposible conocer de forma simultánea la frecuencia exacta y el momento exacto en que ocurre esta frecuencia en una señal. Para poder conocer la frecuencia, la señal se debe dilatar en el tiempo, o viceversa.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Cualquier señal de duración corta debe tener un complejo espectro de frecuencias formado por una gran variedad de ondas sinusoidales,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Cualquier señal formada por una combinación simple de unas pocas ondas sinusoidales debe tener una apariencia compleja en el dominio del tiempo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3366"/>
                </a:solidFill>
                <a:latin typeface="Arial"/>
              </a:rPr>
              <a:t>En otras palabras, no podemos esperar reproducir el sonido de un tambor, con una orquesta de diapasone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006666"/>
                </a:solidFill>
                <a:latin typeface="Arial"/>
              </a:rPr>
              <a:t>Algo de Historia</a:t>
            </a:r>
            <a:endParaRPr b="1" lang="en-US" sz="3600" spc="-1" strike="noStrike">
              <a:solidFill>
                <a:srgbClr val="006666"/>
              </a:solidFill>
              <a:latin typeface="Arial"/>
            </a:endParaRPr>
          </a:p>
        </p:txBody>
      </p:sp>
      <p:sp>
        <p:nvSpPr>
          <p:cNvPr id="57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3366"/>
                </a:solidFill>
                <a:latin typeface="Arial"/>
              </a:rPr>
              <a:t>Ante este problema, se buscó una solución que permitiera trabajar con una señal tanto a baja como a alta resolución, en diferentes ámbitos, llegando a la conclusión, de que era algo que no se iba a lograr con fourier</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Quizás al dividir una señal en componentes que no fueran ondas sinusoidales puras sería posible condensar la información tanto en el dominio del tiempo como en el de la frecuencia?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La Carrera de las Wavelets</a:t>
            </a:r>
            <a:endParaRPr b="1" lang="en-US" sz="3600" spc="-1" strike="noStrike">
              <a:solidFill>
                <a:srgbClr val="006666"/>
              </a:solidFill>
              <a:latin typeface="Arial"/>
            </a:endParaRPr>
          </a:p>
        </p:txBody>
      </p:sp>
      <p:sp>
        <p:nvSpPr>
          <p:cNvPr id="57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Alfred Haar, introdujo en 1909 las funciones que actualmente se denominan "wavelets de Haar" que consisten en un breve impulso positivo seguido de uno negativo, producen picos y no suavidad</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La Carrera de las Wavelets</a:t>
            </a:r>
            <a:endParaRPr b="1" lang="en-US" sz="3600" spc="-1" strike="noStrike">
              <a:solidFill>
                <a:srgbClr val="006666"/>
              </a:solidFill>
              <a:latin typeface="Arial"/>
            </a:endParaRPr>
          </a:p>
        </p:txBody>
      </p:sp>
      <p:sp>
        <p:nvSpPr>
          <p:cNvPr id="57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En la década de 1930, John Littlewood y R.E.A.C. Paley desarrollaron un método de agrupación de frecuencias por octavas, creando de esta forma una señal con una frecuencia bien localizada (su espectro se encuentra dentro de una octava) y también relativamente bien localizada en el tiempo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La Carrera de las Wavelets</a:t>
            </a:r>
            <a:endParaRPr b="1" lang="en-US" sz="3600" spc="-1" strike="noStrike">
              <a:solidFill>
                <a:srgbClr val="006666"/>
              </a:solidFill>
              <a:latin typeface="Arial"/>
            </a:endParaRPr>
          </a:p>
        </p:txBody>
      </p:sp>
      <p:sp>
        <p:nvSpPr>
          <p:cNvPr id="57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1946, Dennis Gabor, presentó la transformación de Gabor, análoga a la transformación de Fourier, que separa una onda en "paquetes de tiempo-frecuencia" o "estados coherentes" que tienen la mayor localización simultánea posible tanto en tiempo como en frecuencia.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La Carrera de las Wavelets</a:t>
            </a:r>
            <a:endParaRPr b="1" lang="en-US" sz="3600" spc="-1" strike="noStrike">
              <a:solidFill>
                <a:srgbClr val="006666"/>
              </a:solidFill>
              <a:latin typeface="Arial"/>
            </a:endParaRPr>
          </a:p>
        </p:txBody>
      </p:sp>
      <p:sp>
        <p:nvSpPr>
          <p:cNvPr id="57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En las décadas de 1970 y 1980, las comunidades de procesamiento de señales y procesamiento de imágenes presentaron sus propias versiones del análisis de wavelets con nombres tales como "codificación de subbandas", "filtros de duplicación de cuadratura" y "algoritmo piramida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La Carrera de las Wavelets</a:t>
            </a:r>
            <a:endParaRPr b="1" lang="en-US" sz="3600" spc="-1" strike="noStrike">
              <a:solidFill>
                <a:srgbClr val="006666"/>
              </a:solidFill>
              <a:latin typeface="Arial"/>
            </a:endParaRPr>
          </a:p>
        </p:txBody>
      </p:sp>
      <p:sp>
        <p:nvSpPr>
          <p:cNvPr id="58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Todas estas técnicas tenían características similares. Descomponían o transformaban señales en partes que se podían localizar en cualquier intervalo de tiempo y que también se podían dilatar o contraer para analizar la señal a distintas escalas de resolución.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En 1984, la teoría de las wavelets adoptó finalmente su carácter propio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La Carrera de las Wavelets</a:t>
            </a:r>
            <a:endParaRPr b="1" lang="en-US" sz="3600" spc="-1" strike="noStrike">
              <a:solidFill>
                <a:srgbClr val="006666"/>
              </a:solidFill>
              <a:latin typeface="Arial"/>
            </a:endParaRPr>
          </a:p>
        </p:txBody>
      </p:sp>
      <p:sp>
        <p:nvSpPr>
          <p:cNvPr id="58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3366"/>
                </a:solidFill>
                <a:latin typeface="Arial"/>
              </a:rPr>
              <a:t>Morlet buscaba una mejor forma de buscar petroleo </a:t>
            </a:r>
            <a:r>
              <a:rPr b="0" lang="es-ES" sz="2800" spc="-1" strike="noStrike">
                <a:solidFill>
                  <a:srgbClr val="003366"/>
                </a:solidFill>
                <a:latin typeface="Arial"/>
              </a:rPr>
              <a:t>desarrolló su propia forma de analizar las señales sísmicas para crear componentes que estuvieran localizados en el espacio, a los que denominó "wavelets de forma constant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006666"/>
                </a:solidFill>
                <a:latin typeface="Arial"/>
              </a:rPr>
              <a:t>Introducción</a:t>
            </a:r>
            <a:endParaRPr b="1" lang="en-US" sz="3600" spc="-1" strike="noStrike">
              <a:solidFill>
                <a:srgbClr val="006666"/>
              </a:solidFill>
              <a:latin typeface="Arial"/>
            </a:endParaRPr>
          </a:p>
        </p:txBody>
      </p:sp>
      <p:sp>
        <p:nvSpPr>
          <p:cNvPr id="54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3366"/>
                </a:solidFill>
                <a:latin typeface="Arial"/>
              </a:rPr>
              <a:t>   </a:t>
            </a:r>
            <a:r>
              <a:rPr b="0" lang="es-CO" sz="2800" spc="-1" strike="noStrike">
                <a:solidFill>
                  <a:srgbClr val="003366"/>
                </a:solidFill>
                <a:latin typeface="Arial"/>
              </a:rPr>
              <a:t>Esta presentación busca realizar una introducción de una forma sencilla al concepto de wavelet y básicamente es una recopilación de artículos y tesis que hablan del tema. Las Fuentes son citadas al final de la presentació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La Carrera de las Wavelets</a:t>
            </a:r>
            <a:endParaRPr b="1" lang="en-US" sz="3600" spc="-1" strike="noStrike">
              <a:solidFill>
                <a:srgbClr val="006666"/>
              </a:solidFill>
              <a:latin typeface="Arial"/>
            </a:endParaRPr>
          </a:p>
        </p:txBody>
      </p:sp>
      <p:sp>
        <p:nvSpPr>
          <p:cNvPr id="58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Se pueden construir familias de wavelets adoptando una forma diferente, denominada wavelet madre, y dilatándola, comprimiéndola o desplazándola en el tiempo.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La wavelet madre afecta enormemente a las propiedades de compresión y precisión de la aproximación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La Carrera de las Wavelets</a:t>
            </a:r>
            <a:endParaRPr b="1" lang="en-US" sz="3600" spc="-1" strike="noStrike">
              <a:solidFill>
                <a:srgbClr val="006666"/>
              </a:solidFill>
              <a:latin typeface="Arial"/>
            </a:endParaRPr>
          </a:p>
        </p:txBody>
      </p:sp>
      <p:sp>
        <p:nvSpPr>
          <p:cNvPr id="58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Meyer, despues de descubrir diversas formas de wavelets ,descubrió una  con la propiedad de ortogonalidad que hacía que manipular y trabajar con la transformación de wavelets resultara tan fácil como con una transformación de Fourier.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Mallat, en colaboración con Meyer, demostró que las wavelets están implícitas en el procesos del análisis multiresolución.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La Carrera de las Wavelets</a:t>
            </a:r>
            <a:endParaRPr b="1" lang="en-US" sz="3600" spc="-1" strike="noStrike">
              <a:solidFill>
                <a:srgbClr val="006666"/>
              </a:solidFill>
              <a:latin typeface="Arial"/>
            </a:endParaRPr>
          </a:p>
        </p:txBody>
      </p:sp>
      <p:sp>
        <p:nvSpPr>
          <p:cNvPr id="58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Gracias al trabajo de Mallat, en el campo del procesamiento de imágenes, las wavelets se convirtieron en algo mucho más sencillo. Ya se podía hacer un análisis de wavelets sin necesidad de conocer la fórmula de una wavelet madr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6666"/>
                </a:solidFill>
                <a:latin typeface="Arial"/>
              </a:rPr>
              <a:t>La Carrera de las Wavelets</a:t>
            </a:r>
            <a:endParaRPr b="1" lang="en-US" sz="3600" spc="-1" strike="noStrike">
              <a:solidFill>
                <a:srgbClr val="006666"/>
              </a:solidFill>
              <a:latin typeface="Arial"/>
            </a:endParaRPr>
          </a:p>
        </p:txBody>
      </p:sp>
      <p:sp>
        <p:nvSpPr>
          <p:cNvPr id="59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Ingrid Daubechies, descubrió una clase completamente nueva de wavelets, que no sólo eran ortogonales (como las de Meyer) sino que también se podían implementar mediante sencillas ideas de filtrado digital, de hecho, mediante cortos filtros digitales.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Los procesadores de señales disponían ahora de una herramienta de ensueño: una manera de descomponer datos digitales en contribuciones de diversas escalas.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006666"/>
                </a:solidFill>
                <a:latin typeface="Arial"/>
              </a:rPr>
              <a:t>Ahora si, Wavelets!</a:t>
            </a:r>
            <a:endParaRPr b="1" lang="en-US" sz="3600" spc="-1" strike="noStrike">
              <a:solidFill>
                <a:srgbClr val="006666"/>
              </a:solidFill>
              <a:latin typeface="Arial"/>
            </a:endParaRPr>
          </a:p>
        </p:txBody>
      </p:sp>
      <p:sp>
        <p:nvSpPr>
          <p:cNvPr id="593"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3366"/>
                </a:solidFill>
                <a:latin typeface="Arial"/>
              </a:rPr>
              <a:t>Gráficos de varios tipos distintos de wavelets. (a) Wavelet de Haar, (b) Wavelet de Daubechies, (c) Wavelet de Morlet. </a:t>
            </a:r>
            <a:endParaRPr b="0" lang="en-US" sz="2400" spc="-1" strike="noStrike">
              <a:solidFill>
                <a:srgbClr val="003366"/>
              </a:solidFill>
              <a:latin typeface="Arial"/>
            </a:endParaRPr>
          </a:p>
        </p:txBody>
      </p:sp>
      <p:pic>
        <p:nvPicPr>
          <p:cNvPr id="594" name="Picture 4" descr=""/>
          <p:cNvPicPr/>
          <p:nvPr/>
        </p:nvPicPr>
        <p:blipFill>
          <a:blip r:embed="rId1"/>
          <a:stretch/>
        </p:blipFill>
        <p:spPr>
          <a:xfrm>
            <a:off x="4572000" y="3357720"/>
            <a:ext cx="3532320" cy="2484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006666"/>
                </a:solidFill>
                <a:latin typeface="Arial"/>
              </a:rPr>
              <a:t>Ahora si, Wavelets!</a:t>
            </a:r>
            <a:endParaRPr b="1" lang="en-US" sz="3600" spc="-1" strike="noStrike">
              <a:solidFill>
                <a:srgbClr val="006666"/>
              </a:solidFill>
              <a:latin typeface="Arial"/>
            </a:endParaRPr>
          </a:p>
        </p:txBody>
      </p:sp>
      <p:sp>
        <p:nvSpPr>
          <p:cNvPr id="596"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3366"/>
                </a:solidFill>
                <a:latin typeface="Arial"/>
              </a:rPr>
              <a:t>(a) Las imágenes superiores muestran la señal original, que presenta saltos y tramos suaves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3366"/>
                </a:solidFill>
                <a:latin typeface="Arial"/>
              </a:rPr>
              <a:t>(b) una versión con ruido de la señal, de la que se desearía "eliminar el ruido"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3366"/>
                </a:solidFill>
                <a:latin typeface="Arial"/>
              </a:rPr>
              <a:t>(c) En la parte inferior, el resultado de la eliminación de ruido mediante las wavelets de Haar produce una línea irregular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3366"/>
                </a:solidFill>
                <a:latin typeface="Arial"/>
              </a:rPr>
              <a:t>(d) en contraste, si se utilizan las wavelets de Daubechies producen una curva más suave</a:t>
            </a:r>
            <a:endParaRPr b="0" lang="en-US" sz="1800" spc="-1" strike="noStrike">
              <a:solidFill>
                <a:srgbClr val="003366"/>
              </a:solidFill>
              <a:latin typeface="Arial"/>
            </a:endParaRPr>
          </a:p>
        </p:txBody>
      </p:sp>
      <p:pic>
        <p:nvPicPr>
          <p:cNvPr id="597" name="Picture 4" descr=""/>
          <p:cNvPicPr/>
          <p:nvPr/>
        </p:nvPicPr>
        <p:blipFill>
          <a:blip r:embed="rId1"/>
          <a:stretch/>
        </p:blipFill>
        <p:spPr>
          <a:xfrm>
            <a:off x="4643280" y="2781360"/>
            <a:ext cx="4176720" cy="3114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006666"/>
                </a:solidFill>
                <a:latin typeface="Arial"/>
              </a:rPr>
              <a:t>Una Explicación más detallada</a:t>
            </a:r>
            <a:endParaRPr b="1" lang="en-US" sz="3600" spc="-1" strike="noStrike">
              <a:solidFill>
                <a:srgbClr val="006666"/>
              </a:solidFill>
              <a:latin typeface="Arial"/>
            </a:endParaRPr>
          </a:p>
        </p:txBody>
      </p:sp>
      <p:sp>
        <p:nvSpPr>
          <p:cNvPr id="599" name="PlaceHolder 1"/>
          <p:cNvSpPr>
            <a:spLocks noGrp="1"/>
          </p:cNvSpPr>
          <p:nvPr>
            <p:ph/>
          </p:nvPr>
        </p:nvSpPr>
        <p:spPr>
          <a:xfrm>
            <a:off x="837720" y="2361960"/>
            <a:ext cx="3770280" cy="3724200"/>
          </a:xfrm>
          <a:prstGeom prst="rect">
            <a:avLst/>
          </a:prstGeom>
          <a:noFill/>
          <a:ln w="0">
            <a:noFill/>
          </a:ln>
        </p:spPr>
        <p:txBody>
          <a:bodyPr anchor="t">
            <a:normAutofit fontScale="99000"/>
          </a:bodyPr>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3366"/>
                </a:solidFill>
                <a:latin typeface="Arial"/>
              </a:rPr>
              <a:t>El problema que plantea el análisis de una señal con Fourier se resume en la nula resolución en el dominio del tiempo, a pesar a su resolución perfecta en el dominio de la frecuencia.</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3366"/>
                </a:solidFill>
                <a:latin typeface="Arial"/>
              </a:rPr>
              <a:t>Como solución a este problema, se planteo el análisis de Fourier por ventanas o STFT Transformada de Fourier Corta</a:t>
            </a:r>
            <a:endParaRPr b="0" lang="en-US" sz="2000" spc="-1" strike="noStrike">
              <a:solidFill>
                <a:srgbClr val="003366"/>
              </a:solidFill>
              <a:latin typeface="Arial"/>
            </a:endParaRPr>
          </a:p>
        </p:txBody>
      </p:sp>
      <p:pic>
        <p:nvPicPr>
          <p:cNvPr id="600" name="Picture 4" descr=""/>
          <p:cNvPicPr/>
          <p:nvPr/>
        </p:nvPicPr>
        <p:blipFill>
          <a:blip r:embed="rId1"/>
          <a:stretch/>
        </p:blipFill>
        <p:spPr>
          <a:xfrm>
            <a:off x="4427640" y="3500280"/>
            <a:ext cx="4383000" cy="2249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006666"/>
                </a:solidFill>
                <a:latin typeface="Arial"/>
              </a:rPr>
              <a:t>Una Explicación más detallada – Transformada de Fourier</a:t>
            </a:r>
            <a:endParaRPr b="1" lang="en-US" sz="3200" spc="-1" strike="noStrike">
              <a:solidFill>
                <a:srgbClr val="006666"/>
              </a:solidFill>
              <a:latin typeface="Arial"/>
            </a:endParaRPr>
          </a:p>
        </p:txBody>
      </p:sp>
      <p:sp>
        <p:nvSpPr>
          <p:cNvPr id="602" name="PlaceHolder 1"/>
          <p:cNvSpPr>
            <a:spLocks noGrp="1"/>
          </p:cNvSpPr>
          <p:nvPr>
            <p:ph/>
          </p:nvPr>
        </p:nvSpPr>
        <p:spPr>
          <a:xfrm>
            <a:off x="837720" y="2361960"/>
            <a:ext cx="315756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3366"/>
                </a:solidFill>
                <a:latin typeface="Arial"/>
              </a:rPr>
              <a:t>a. Señal</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3366"/>
                </a:solidFill>
                <a:latin typeface="Arial"/>
              </a:rPr>
              <a:t>b. Contenido Espectral obtenido con la transformada de Fourier</a:t>
            </a:r>
            <a:endParaRPr b="0" lang="en-US" sz="2400" spc="-1" strike="noStrike">
              <a:solidFill>
                <a:srgbClr val="003366"/>
              </a:solidFill>
              <a:latin typeface="Arial"/>
            </a:endParaRPr>
          </a:p>
        </p:txBody>
      </p:sp>
      <p:pic>
        <p:nvPicPr>
          <p:cNvPr id="603" name="Picture 4" descr=""/>
          <p:cNvPicPr/>
          <p:nvPr/>
        </p:nvPicPr>
        <p:blipFill>
          <a:blip r:embed="rId1"/>
          <a:stretch/>
        </p:blipFill>
        <p:spPr>
          <a:xfrm>
            <a:off x="3708360" y="2421000"/>
            <a:ext cx="5004000" cy="3990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006666"/>
                </a:solidFill>
                <a:latin typeface="Arial"/>
              </a:rPr>
              <a:t>Una Explicación más detallada Transformada de Fourier</a:t>
            </a:r>
            <a:endParaRPr b="1" lang="en-US" sz="3200" spc="-1" strike="noStrike">
              <a:solidFill>
                <a:srgbClr val="006666"/>
              </a:solidFill>
              <a:latin typeface="Arial"/>
            </a:endParaRPr>
          </a:p>
        </p:txBody>
      </p:sp>
      <p:pic>
        <p:nvPicPr>
          <p:cNvPr id="605" name="Picture 4" descr=""/>
          <p:cNvPicPr/>
          <p:nvPr/>
        </p:nvPicPr>
        <p:blipFill>
          <a:blip r:embed="rId1"/>
          <a:stretch/>
        </p:blipFill>
        <p:spPr>
          <a:xfrm>
            <a:off x="5076720" y="2492280"/>
            <a:ext cx="3672000" cy="855720"/>
          </a:xfrm>
          <a:prstGeom prst="rect">
            <a:avLst/>
          </a:prstGeom>
          <a:ln w="0">
            <a:noFill/>
          </a:ln>
        </p:spPr>
      </p:pic>
      <p:pic>
        <p:nvPicPr>
          <p:cNvPr id="606" name="Picture 7" descr=""/>
          <p:cNvPicPr/>
          <p:nvPr/>
        </p:nvPicPr>
        <p:blipFill>
          <a:blip r:embed="rId2"/>
          <a:stretch/>
        </p:blipFill>
        <p:spPr>
          <a:xfrm>
            <a:off x="4788000" y="3327480"/>
            <a:ext cx="4249800" cy="3414600"/>
          </a:xfrm>
          <a:prstGeom prst="rect">
            <a:avLst/>
          </a:prstGeom>
          <a:ln w="0">
            <a:noFill/>
          </a:ln>
        </p:spPr>
      </p:pic>
      <p:sp>
        <p:nvSpPr>
          <p:cNvPr id="607" name="Rectangle 11"/>
          <p:cNvSpPr/>
          <p:nvPr/>
        </p:nvSpPr>
        <p:spPr>
          <a:xfrm>
            <a:off x="838080" y="2362320"/>
            <a:ext cx="3770280" cy="3724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3366"/>
                </a:solidFill>
                <a:latin typeface="Arial"/>
              </a:rPr>
              <a:t>En este caso, la transformada muestra un espectro correcto pero con la amplitud disminuida a la mitad, debido a que cada componente solo se encuentra la mitad del tiempo y no se puede saber en que momento estuvo cual componente de frecuencia</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006666"/>
                </a:solidFill>
                <a:latin typeface="Arial"/>
              </a:rPr>
              <a:t>Una Explicación más detallada Transformada de Fourier - Ventaneado</a:t>
            </a:r>
            <a:endParaRPr b="1" lang="en-US" sz="3200" spc="-1" strike="noStrike">
              <a:solidFill>
                <a:srgbClr val="006666"/>
              </a:solidFill>
              <a:latin typeface="Arial"/>
            </a:endParaRPr>
          </a:p>
        </p:txBody>
      </p:sp>
      <p:pic>
        <p:nvPicPr>
          <p:cNvPr id="609" name="Picture 4" descr=""/>
          <p:cNvPicPr/>
          <p:nvPr/>
        </p:nvPicPr>
        <p:blipFill>
          <a:blip r:embed="rId1"/>
          <a:stretch/>
        </p:blipFill>
        <p:spPr>
          <a:xfrm>
            <a:off x="1547640" y="3645000"/>
            <a:ext cx="2391120" cy="399960"/>
          </a:xfrm>
          <a:prstGeom prst="rect">
            <a:avLst/>
          </a:prstGeom>
          <a:ln w="0">
            <a:noFill/>
          </a:ln>
        </p:spPr>
      </p:pic>
      <p:sp>
        <p:nvSpPr>
          <p:cNvPr id="610" name="Rectangle 7"/>
          <p:cNvSpPr/>
          <p:nvPr/>
        </p:nvSpPr>
        <p:spPr>
          <a:xfrm>
            <a:off x="1116000" y="2637000"/>
            <a:ext cx="6985080" cy="107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3366"/>
                </a:solidFill>
                <a:latin typeface="Arial"/>
              </a:rPr>
              <a:t>Ahora se tratará la misma señal pero aplicando el “ventaneado”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3366"/>
                </a:solidFill>
                <a:latin typeface="Arial"/>
              </a:rPr>
              <a:t>Usaremos una ventana angosta con alfa=20</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611" name="Picture 9" descr=""/>
          <p:cNvPicPr/>
          <p:nvPr/>
        </p:nvPicPr>
        <p:blipFill>
          <a:blip r:embed="rId2"/>
          <a:stretch/>
        </p:blipFill>
        <p:spPr>
          <a:xfrm>
            <a:off x="2050920" y="4149720"/>
            <a:ext cx="5905800" cy="2506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006666"/>
                </a:solidFill>
                <a:latin typeface="Arial"/>
              </a:rPr>
              <a:t>Introducción</a:t>
            </a:r>
            <a:endParaRPr b="1" lang="en-US" sz="3600" spc="-1" strike="noStrike">
              <a:solidFill>
                <a:srgbClr val="006666"/>
              </a:solidFill>
              <a:latin typeface="Arial"/>
            </a:endParaRPr>
          </a:p>
        </p:txBody>
      </p:sp>
      <p:sp>
        <p:nvSpPr>
          <p:cNvPr id="55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3366"/>
                </a:solidFill>
                <a:latin typeface="Arial"/>
              </a:rPr>
              <a:t>Las necesidades actuales en procesamiento de señales requieren “nuevos” mecanismos y tecnicas de análisi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3366"/>
                </a:solidFill>
                <a:latin typeface="Arial"/>
              </a:rPr>
              <a:t>El manejo de señales con discontinuidades y cambios abruptos no pueden ser manejadas adecuadamente con tecnicas de Fourier</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006666"/>
                </a:solidFill>
                <a:latin typeface="Arial"/>
              </a:rPr>
              <a:t>Una Explicación más detallada Transformada de Fourier - Ventaneado</a:t>
            </a:r>
            <a:endParaRPr b="1" lang="en-US" sz="3200" spc="-1" strike="noStrike">
              <a:solidFill>
                <a:srgbClr val="006666"/>
              </a:solidFill>
              <a:latin typeface="Arial"/>
            </a:endParaRPr>
          </a:p>
        </p:txBody>
      </p:sp>
      <p:pic>
        <p:nvPicPr>
          <p:cNvPr id="613" name="Picture 3" descr=""/>
          <p:cNvPicPr/>
          <p:nvPr/>
        </p:nvPicPr>
        <p:blipFill>
          <a:blip r:embed="rId1"/>
          <a:stretch/>
        </p:blipFill>
        <p:spPr>
          <a:xfrm>
            <a:off x="1547640" y="3645000"/>
            <a:ext cx="2391120" cy="399960"/>
          </a:xfrm>
          <a:prstGeom prst="rect">
            <a:avLst/>
          </a:prstGeom>
          <a:ln w="0">
            <a:noFill/>
          </a:ln>
        </p:spPr>
      </p:pic>
      <p:sp>
        <p:nvSpPr>
          <p:cNvPr id="614" name="Rectangle 4"/>
          <p:cNvSpPr/>
          <p:nvPr/>
        </p:nvSpPr>
        <p:spPr>
          <a:xfrm>
            <a:off x="1116000" y="2637000"/>
            <a:ext cx="6985080" cy="107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3366"/>
                </a:solidFill>
                <a:latin typeface="Arial"/>
              </a:rPr>
              <a:t>Ahora se tratara de aumentar la resolución en frecuencia</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003366"/>
                </a:solidFill>
                <a:latin typeface="Arial"/>
              </a:rPr>
              <a:t>Usaremos una ventana amplia con alfa=250</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615" name="Picture 7" descr=""/>
          <p:cNvPicPr/>
          <p:nvPr/>
        </p:nvPicPr>
        <p:blipFill>
          <a:blip r:embed="rId2"/>
          <a:stretch/>
        </p:blipFill>
        <p:spPr>
          <a:xfrm>
            <a:off x="2124000" y="4221000"/>
            <a:ext cx="5761080" cy="2287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006666"/>
                </a:solidFill>
                <a:latin typeface="Arial"/>
              </a:rPr>
              <a:t>Una Explicación más detallada Wavelets</a:t>
            </a:r>
            <a:endParaRPr b="1" lang="en-US" sz="3200" spc="-1" strike="noStrike">
              <a:solidFill>
                <a:srgbClr val="006666"/>
              </a:solidFill>
              <a:latin typeface="Arial"/>
            </a:endParaRPr>
          </a:p>
        </p:txBody>
      </p:sp>
      <p:sp>
        <p:nvSpPr>
          <p:cNvPr id="61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La transformada wavelet constituye una técnica para el análisis del comportamiento local de una señal. Al igual que la STFT, esta transformada utiliza una función ventana que encuadra una señal dentro de un intervalo y focaliza el análisis sólo en ese segmento de la señal.</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La transformada continua wavelet intenta expresar una señal x(t)continua en el tiempo, mediante una expansión de términos o coeficientes proporcionales al producto interno entre la señal y diferentes versiones escaladas y trasladadas de una función prototipo  Y(t) más conocida como wavelet madre</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006666"/>
                </a:solidFill>
                <a:latin typeface="Arial"/>
              </a:rPr>
              <a:t>Una Explicación más detallada Wavelets</a:t>
            </a:r>
            <a:endParaRPr b="1" lang="en-US" sz="3200" spc="-1" strike="noStrike">
              <a:solidFill>
                <a:srgbClr val="006666"/>
              </a:solidFill>
              <a:latin typeface="Arial"/>
            </a:endParaRPr>
          </a:p>
        </p:txBody>
      </p:sp>
      <p:pic>
        <p:nvPicPr>
          <p:cNvPr id="619" name="Picture 4" descr=""/>
          <p:cNvPicPr/>
          <p:nvPr/>
        </p:nvPicPr>
        <p:blipFill>
          <a:blip r:embed="rId1"/>
          <a:stretch/>
        </p:blipFill>
        <p:spPr>
          <a:xfrm>
            <a:off x="4716360" y="3068640"/>
            <a:ext cx="3770280" cy="684360"/>
          </a:xfrm>
          <a:prstGeom prst="rect">
            <a:avLst/>
          </a:prstGeom>
          <a:ln w="0">
            <a:noFill/>
          </a:ln>
        </p:spPr>
      </p:pic>
      <p:pic>
        <p:nvPicPr>
          <p:cNvPr id="620" name="Picture 6" descr=""/>
          <p:cNvPicPr/>
          <p:nvPr/>
        </p:nvPicPr>
        <p:blipFill>
          <a:blip r:embed="rId2"/>
          <a:stretch/>
        </p:blipFill>
        <p:spPr>
          <a:xfrm>
            <a:off x="4788000" y="4508640"/>
            <a:ext cx="3770280" cy="601560"/>
          </a:xfrm>
          <a:prstGeom prst="rect">
            <a:avLst/>
          </a:prstGeom>
          <a:ln w="0">
            <a:noFill/>
          </a:ln>
        </p:spPr>
      </p:pic>
      <p:sp>
        <p:nvSpPr>
          <p:cNvPr id="621" name="Rectangle 8"/>
          <p:cNvSpPr/>
          <p:nvPr/>
        </p:nvSpPr>
        <p:spPr>
          <a:xfrm>
            <a:off x="838080" y="2362320"/>
            <a:ext cx="3770280" cy="3724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3366"/>
                </a:solidFill>
                <a:latin typeface="Arial"/>
              </a:rPr>
              <a:t>Transformada continua wavele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a controla el ancho o soporte efectivo de la función  , y la variable b da la ubicación en el dominio del tiempo de Y</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006666"/>
                </a:solidFill>
                <a:latin typeface="Arial"/>
              </a:rPr>
              <a:t>Una Explicación más detallada Wavelets</a:t>
            </a:r>
            <a:endParaRPr b="1" lang="en-US" sz="3200" spc="-1" strike="noStrike">
              <a:solidFill>
                <a:srgbClr val="006666"/>
              </a:solidFill>
              <a:latin typeface="Arial"/>
            </a:endParaRPr>
          </a:p>
        </p:txBody>
      </p:sp>
      <p:sp>
        <p:nvSpPr>
          <p:cNvPr id="62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3366"/>
                </a:solidFill>
                <a:latin typeface="Arial"/>
                <a:ea typeface="Arial"/>
              </a:rPr>
              <a:t>ψ</a:t>
            </a:r>
            <a:r>
              <a:rPr b="0" lang="es-CO" sz="2800" spc="-1" strike="noStrike">
                <a:solidFill>
                  <a:srgbClr val="003366"/>
                </a:solidFill>
                <a:latin typeface="Arial"/>
              </a:rPr>
              <a:t>(0)=0, significa que el valor medio de </a:t>
            </a:r>
            <a:r>
              <a:rPr b="0" lang="el-GR" sz="2800" spc="-1" strike="noStrike">
                <a:solidFill>
                  <a:srgbClr val="003366"/>
                </a:solidFill>
                <a:latin typeface="Arial"/>
                <a:ea typeface="Arial"/>
              </a:rPr>
              <a:t>φ</a:t>
            </a:r>
            <a:r>
              <a:rPr b="0" lang="es-CO" sz="2800" spc="-1" strike="noStrike">
                <a:solidFill>
                  <a:srgbClr val="003366"/>
                </a:solidFill>
                <a:latin typeface="Arial"/>
              </a:rPr>
              <a:t>=0 por lo que </a:t>
            </a:r>
            <a:r>
              <a:rPr b="0" lang="el-GR" sz="2800" spc="-1" strike="noStrike">
                <a:solidFill>
                  <a:srgbClr val="003366"/>
                </a:solidFill>
                <a:latin typeface="Arial"/>
                <a:ea typeface="Arial"/>
              </a:rPr>
              <a:t>φ</a:t>
            </a:r>
            <a:r>
              <a:rPr b="0" lang="es-CO" sz="2800" spc="-1" strike="noStrike">
                <a:solidFill>
                  <a:srgbClr val="003366"/>
                </a:solidFill>
                <a:latin typeface="Arial"/>
                <a:ea typeface="Arial"/>
              </a:rPr>
              <a:t> debe tener valores positivos y negativos, de modo que </a:t>
            </a:r>
            <a:r>
              <a:rPr b="0" lang="el-GR" sz="2800" spc="-1" strike="noStrike">
                <a:solidFill>
                  <a:srgbClr val="003366"/>
                </a:solidFill>
                <a:latin typeface="Arial"/>
                <a:ea typeface="Arial"/>
              </a:rPr>
              <a:t>φ</a:t>
            </a:r>
            <a:r>
              <a:rPr b="0" lang="es-CO" sz="2800" spc="-1" strike="noStrike">
                <a:solidFill>
                  <a:srgbClr val="003366"/>
                </a:solidFill>
                <a:latin typeface="Arial"/>
                <a:ea typeface="Arial"/>
              </a:rPr>
              <a:t> debe ser una onda, además como esta definida por a y b en un intervalo de tiempo, la onda es compacta. </a:t>
            </a:r>
            <a:r>
              <a:rPr b="0" lang="el-GR" sz="2800" spc="-1" strike="noStrike">
                <a:solidFill>
                  <a:srgbClr val="003366"/>
                </a:solidFill>
                <a:latin typeface="Arial"/>
                <a:ea typeface="Arial"/>
              </a:rPr>
              <a:t>φ</a:t>
            </a:r>
            <a:r>
              <a:rPr b="0" lang="es-CO" sz="2800" spc="-1" strike="noStrike">
                <a:solidFill>
                  <a:srgbClr val="003366"/>
                </a:solidFill>
                <a:latin typeface="Arial"/>
                <a:ea typeface="Arial"/>
              </a:rPr>
              <a:t> decae cuando w=0, y puede ser considerada como un filtro pasaband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006666"/>
                </a:solidFill>
                <a:latin typeface="Arial"/>
              </a:rPr>
              <a:t>Una Explicación más detallada Wavelets – Variables de escala a y traslación b</a:t>
            </a:r>
            <a:endParaRPr b="1" lang="en-US" sz="3200" spc="-1" strike="noStrike">
              <a:solidFill>
                <a:srgbClr val="006666"/>
              </a:solidFill>
              <a:latin typeface="Arial"/>
            </a:endParaRPr>
          </a:p>
        </p:txBody>
      </p:sp>
      <p:sp>
        <p:nvSpPr>
          <p:cNvPr id="62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3366"/>
                </a:solidFill>
                <a:latin typeface="Arial"/>
              </a:rPr>
              <a:t>Mediante la variable de escala nosotros podemos comprimir (</a:t>
            </a:r>
            <a:r>
              <a:rPr b="0" lang="es-CO" sz="2000" spc="-1" strike="noStrike">
                <a:solidFill>
                  <a:srgbClr val="003366"/>
                </a:solidFill>
                <a:latin typeface="Arial"/>
              </a:rPr>
              <a:t>!</a:t>
            </a:r>
            <a:r>
              <a:rPr b="0" lang="el-GR" sz="2000" spc="-1" strike="noStrike">
                <a:solidFill>
                  <a:srgbClr val="003366"/>
                </a:solidFill>
                <a:latin typeface="Arial"/>
              </a:rPr>
              <a:t>a</a:t>
            </a:r>
            <a:r>
              <a:rPr b="0" lang="es-CO" sz="2000" spc="-1" strike="noStrike">
                <a:solidFill>
                  <a:srgbClr val="003366"/>
                </a:solidFill>
                <a:latin typeface="Arial"/>
              </a:rPr>
              <a:t>!</a:t>
            </a:r>
            <a:r>
              <a:rPr b="0" lang="el-GR" sz="2000" spc="-1" strike="noStrike">
                <a:solidFill>
                  <a:srgbClr val="003366"/>
                </a:solidFill>
                <a:latin typeface="Arial"/>
              </a:rPr>
              <a:t> &lt; 1) o dilatar (</a:t>
            </a:r>
            <a:r>
              <a:rPr b="0" lang="es-CO" sz="2000" spc="-1" strike="noStrike">
                <a:solidFill>
                  <a:srgbClr val="003366"/>
                </a:solidFill>
                <a:latin typeface="Arial"/>
              </a:rPr>
              <a:t>!</a:t>
            </a:r>
            <a:r>
              <a:rPr b="0" lang="el-GR" sz="2000" spc="-1" strike="noStrike">
                <a:solidFill>
                  <a:srgbClr val="003366"/>
                </a:solidFill>
                <a:latin typeface="Arial"/>
              </a:rPr>
              <a:t>a</a:t>
            </a:r>
            <a:r>
              <a:rPr b="0" lang="es-CO" sz="2000" spc="-1" strike="noStrike">
                <a:solidFill>
                  <a:srgbClr val="003366"/>
                </a:solidFill>
                <a:latin typeface="Arial"/>
              </a:rPr>
              <a:t>!</a:t>
            </a:r>
            <a:r>
              <a:rPr b="0" lang="el-GR" sz="2000" spc="-1" strike="noStrike">
                <a:solidFill>
                  <a:srgbClr val="003366"/>
                </a:solidFill>
                <a:latin typeface="Arial"/>
              </a:rPr>
              <a:t> &gt; 1) la función</a:t>
            </a:r>
            <a:r>
              <a:rPr b="0" lang="es-CO" sz="2000" spc="-1" strike="noStrike">
                <a:solidFill>
                  <a:srgbClr val="003366"/>
                </a:solidFill>
                <a:latin typeface="Arial"/>
              </a:rPr>
              <a:t> </a:t>
            </a:r>
            <a:r>
              <a:rPr b="0" lang="el-GR" sz="2000" spc="-1" strike="noStrike">
                <a:solidFill>
                  <a:srgbClr val="003366"/>
                </a:solidFill>
                <a:latin typeface="Arial"/>
              </a:rPr>
              <a:t>(t), lo que dará el grado de resolución con el cual</a:t>
            </a:r>
            <a:r>
              <a:rPr b="0" lang="es-CO" sz="2000" spc="-1" strike="noStrike">
                <a:solidFill>
                  <a:srgbClr val="003366"/>
                </a:solidFill>
                <a:latin typeface="Arial"/>
              </a:rPr>
              <a:t> se está</a:t>
            </a:r>
            <a:r>
              <a:rPr b="0" lang="el-GR" sz="2000" spc="-1" strike="noStrike">
                <a:solidFill>
                  <a:srgbClr val="003366"/>
                </a:solidFill>
                <a:latin typeface="Arial"/>
              </a:rPr>
              <a:t> analizando la señal. Por definición</a:t>
            </a:r>
            <a:r>
              <a:rPr b="0" lang="es-CO" sz="2000" spc="-1" strike="noStrike">
                <a:solidFill>
                  <a:srgbClr val="003366"/>
                </a:solidFill>
                <a:latin typeface="Arial"/>
              </a:rPr>
              <a:t> </a:t>
            </a:r>
            <a:r>
              <a:rPr b="0" lang="el-GR" sz="2000" spc="-1" strike="noStrike">
                <a:solidFill>
                  <a:srgbClr val="003366"/>
                </a:solidFill>
                <a:latin typeface="Arial"/>
              </a:rPr>
              <a:t>la Transformada Continua Wavelet es mas una representación tiempo - escala que una representación</a:t>
            </a:r>
            <a:r>
              <a:rPr b="0" lang="es-CO" sz="2000" spc="-1" strike="noStrike">
                <a:solidFill>
                  <a:srgbClr val="003366"/>
                </a:solidFill>
                <a:latin typeface="Arial"/>
              </a:rPr>
              <a:t> </a:t>
            </a:r>
            <a:r>
              <a:rPr b="0" lang="el-GR" sz="2000" spc="-1" strike="noStrike">
                <a:solidFill>
                  <a:srgbClr val="003366"/>
                </a:solidFill>
                <a:latin typeface="Arial"/>
              </a:rPr>
              <a:t>tiempo - frecuencia.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3366"/>
                </a:solidFill>
                <a:latin typeface="Arial"/>
              </a:rPr>
              <a:t>para escalas pequeñas la CWT nos entrega una buena resolución en el dominio del tiempo mientras qu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3366"/>
                </a:solidFill>
                <a:latin typeface="Arial"/>
              </a:rPr>
              <a:t>para escalas grandes la CWT nos entrega una buena resolución en el dominio de la frecuencia.</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006666"/>
                </a:solidFill>
                <a:latin typeface="Arial"/>
              </a:rPr>
              <a:t>Una Explicación más detallada Wavelets</a:t>
            </a:r>
            <a:endParaRPr b="1" lang="en-US" sz="3200" spc="-1" strike="noStrike">
              <a:solidFill>
                <a:srgbClr val="006666"/>
              </a:solidFill>
              <a:latin typeface="Arial"/>
            </a:endParaRPr>
          </a:p>
        </p:txBody>
      </p:sp>
      <p:sp>
        <p:nvSpPr>
          <p:cNvPr id="62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Arial"/>
              </a:rPr>
              <a:t>La diferencia principal entre la CWT y la STFT, es que la primera ocupa ventanas de corta duración para altas frecuencias y ventanas de larga duración para bajas frecuencias mientras que la STFT ocupa una sola ventana con la misma duración tanto para altas frecuencias como para bajas frecuencia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006666"/>
                </a:solidFill>
                <a:latin typeface="Arial"/>
              </a:rPr>
              <a:t>Una Explicación más detallada Wavelets</a:t>
            </a:r>
            <a:endParaRPr b="1" lang="en-US" sz="3200" spc="-1" strike="noStrike">
              <a:solidFill>
                <a:srgbClr val="006666"/>
              </a:solidFill>
              <a:latin typeface="Arial"/>
            </a:endParaRPr>
          </a:p>
        </p:txBody>
      </p:sp>
      <p:pic>
        <p:nvPicPr>
          <p:cNvPr id="629" name="Picture 4" descr=""/>
          <p:cNvPicPr/>
          <p:nvPr/>
        </p:nvPicPr>
        <p:blipFill>
          <a:blip r:embed="rId1"/>
          <a:stretch/>
        </p:blipFill>
        <p:spPr>
          <a:xfrm>
            <a:off x="1187280" y="2362320"/>
            <a:ext cx="6731280" cy="4495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006666"/>
                </a:solidFill>
                <a:latin typeface="Arial"/>
              </a:rPr>
              <a:t>Una Explicación más detallada Wavelets</a:t>
            </a:r>
            <a:endParaRPr b="1" lang="en-US" sz="3200" spc="-1" strike="noStrike">
              <a:solidFill>
                <a:srgbClr val="006666"/>
              </a:solidFill>
              <a:latin typeface="Arial"/>
            </a:endParaRPr>
          </a:p>
        </p:txBody>
      </p:sp>
      <p:sp>
        <p:nvSpPr>
          <p:cNvPr id="631" name="PlaceHolder 1"/>
          <p:cNvSpPr>
            <a:spLocks noGrp="1"/>
          </p:cNvSpPr>
          <p:nvPr>
            <p:ph/>
          </p:nvPr>
        </p:nvSpPr>
        <p:spPr>
          <a:xfrm>
            <a:off x="1116000" y="2781000"/>
            <a:ext cx="747864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3366"/>
                </a:solidFill>
                <a:latin typeface="Arial"/>
              </a:rPr>
              <a:t>Los valores de a y b deben ser discretizados, por lo que es necesario hallar una transformada discreta </a:t>
            </a:r>
            <a:endParaRPr b="0" lang="en-US" sz="2400" spc="-1" strike="noStrike">
              <a:solidFill>
                <a:srgbClr val="003366"/>
              </a:solidFill>
              <a:latin typeface="Arial"/>
            </a:endParaRPr>
          </a:p>
        </p:txBody>
      </p:sp>
      <p:pic>
        <p:nvPicPr>
          <p:cNvPr id="632" name="Picture 4" descr=""/>
          <p:cNvPicPr/>
          <p:nvPr/>
        </p:nvPicPr>
        <p:blipFill>
          <a:blip r:embed="rId1"/>
          <a:stretch/>
        </p:blipFill>
        <p:spPr>
          <a:xfrm>
            <a:off x="2843280" y="4365720"/>
            <a:ext cx="3770280" cy="5810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006666"/>
                </a:solidFill>
                <a:latin typeface="Arial"/>
              </a:rPr>
              <a:t>Una Explicación más detallada Wavelets</a:t>
            </a:r>
            <a:endParaRPr b="1" lang="en-US" sz="3200" spc="-1" strike="noStrike">
              <a:solidFill>
                <a:srgbClr val="006666"/>
              </a:solidFill>
              <a:latin typeface="Arial"/>
            </a:endParaRPr>
          </a:p>
        </p:txBody>
      </p:sp>
      <p:pic>
        <p:nvPicPr>
          <p:cNvPr id="634" name="Picture 4" descr=""/>
          <p:cNvPicPr/>
          <p:nvPr/>
        </p:nvPicPr>
        <p:blipFill>
          <a:blip r:embed="rId1"/>
          <a:stretch/>
        </p:blipFill>
        <p:spPr>
          <a:xfrm>
            <a:off x="1325520" y="2362320"/>
            <a:ext cx="6718320" cy="3724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006666"/>
                </a:solidFill>
                <a:latin typeface="Arial"/>
              </a:rPr>
              <a:t>Ejemplo de compresión</a:t>
            </a:r>
            <a:endParaRPr b="1" lang="en-US" sz="3600" spc="-1" strike="noStrike">
              <a:solidFill>
                <a:srgbClr val="006666"/>
              </a:solidFill>
              <a:latin typeface="Arial"/>
            </a:endParaRPr>
          </a:p>
        </p:txBody>
      </p:sp>
      <p:sp>
        <p:nvSpPr>
          <p:cNvPr id="63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3366"/>
                </a:solidFill>
                <a:latin typeface="Arial"/>
              </a:rPr>
              <a:t>	</a:t>
            </a:r>
            <a:r>
              <a:rPr b="0" lang="es-CO" sz="1600" spc="-1" strike="noStrike">
                <a:solidFill>
                  <a:srgbClr val="003366"/>
                </a:solidFill>
                <a:latin typeface="Arial"/>
              </a:rPr>
              <a:t>Las wavelets NO comprimen por si mismas, pero son las componentes de la imagen.</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3366"/>
                </a:solidFill>
                <a:latin typeface="Arial"/>
              </a:rPr>
              <a:t>Tenemos una imagen de grises con los valores (1,3,7,9,8,8,6,2) donde 0 es blanco y 15 es negro, de modo que podria describir un objeto gris sobre un fondo claro</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3366"/>
                </a:solidFill>
                <a:latin typeface="Arial"/>
              </a:rPr>
              <a:t>Podemos calcular el promedio de pixeles adyacentes obteniendo (2,8,8,4), que mantendria el concepto de la imagen suavizado, de esta forma se realizaría compresión, obteniendo (2,2,8,8,8,8,4,4) que sería un degradé de la imagen original.</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003366"/>
                </a:solidFill>
                <a:latin typeface="Arial"/>
              </a:rPr>
              <a:t>Si queremos tener una mayor resolución, debemos tener mas información, en este caso (-1,-1,0,2) con lo que obtendriamos la imagen original. Si hacemos esto no obtenemos compresión alguna, pero ya descompusimos la imagen en un “fondo” de baja resolución y otra parte de mayor resolución, de modo que en una imagen real, donde las zonas son suaves, la información del detalle, será en su mayoría 0</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006666"/>
                </a:solidFill>
                <a:latin typeface="Arial"/>
              </a:rPr>
              <a:t>Introducción</a:t>
            </a:r>
            <a:endParaRPr b="1" lang="en-US" sz="3600" spc="-1" strike="noStrike">
              <a:solidFill>
                <a:srgbClr val="006666"/>
              </a:solidFill>
              <a:latin typeface="Arial"/>
            </a:endParaRPr>
          </a:p>
        </p:txBody>
      </p:sp>
      <p:sp>
        <p:nvSpPr>
          <p:cNvPr id="55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3366"/>
                </a:solidFill>
                <a:latin typeface="Arial"/>
              </a:rPr>
              <a:t>Buscar una forma más “humana” de análisis, los wavelets sintetizan información de la forma en que lo haría el cerebro</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006666"/>
                </a:solidFill>
                <a:latin typeface="Arial"/>
              </a:rPr>
              <a:t>Compresión - Wavelets</a:t>
            </a:r>
            <a:endParaRPr b="1" lang="en-US" sz="3600" spc="-1" strike="noStrike">
              <a:solidFill>
                <a:srgbClr val="006666"/>
              </a:solidFill>
              <a:latin typeface="Arial"/>
            </a:endParaRPr>
          </a:p>
        </p:txBody>
      </p:sp>
      <p:sp>
        <p:nvSpPr>
          <p:cNvPr id="63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Una propiedad fascinante de las wavelets es que eligen automáticamente las mismas características que nuestros ojos. Los coeficientes de las wavelets que quedan aún tras la cuantización corresponden a píxeles que son muy distintos a sus vecinos, en el borde de los objetos de una imagen. Por tanto, las wavelets recrean una imagen principalmente trazando bordes, que es exactamente lo que hacen los humanos cuando esbozan un dibujo.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006666"/>
                </a:solidFill>
                <a:latin typeface="Arial"/>
              </a:rPr>
              <a:t>Pertinencia Wavelets-Fourier</a:t>
            </a:r>
            <a:endParaRPr b="1" lang="en-US" sz="3600" spc="-1" strike="noStrike">
              <a:solidFill>
                <a:srgbClr val="006666"/>
              </a:solidFill>
              <a:latin typeface="Arial"/>
            </a:endParaRPr>
          </a:p>
        </p:txBody>
      </p:sp>
      <p:sp>
        <p:nvSpPr>
          <p:cNvPr id="64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Una señal de la forma de una onda de diente de sierra. La intensidad de la señal sube continuamente con el tiempo, y entonces baja abruptamente antes de comenzar otra rampa de nuevo. Esta forma simple puede ser representada como una suma de wavelets. Las wavelets de escala gruesa duran a grandes rasgos la duración de la rampa, la parte suave de subida de la onda, mientras que las wavelets de escala fina capturan el salto en la mitad. Ambas transformadas de Fourier y de wavelet nos muestran una descomposición de la señal en bloques de construcción únicos (sinusoides y wavelets). Donde difieren es en su eficiencia para un trabajo en concreto. La señal de diente de sierra, muestreada a 256 observaciones por segundo, es compactamente representada por 16 wavelets. Por otro lado, un análisis de Fourier de la misma señal de diente de sierra necesitaría 256 sinusoides completas debido a la dificultad de la técnica para representar la discontinuidad en la mitad de la señal (Bruce, 1996).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006666"/>
                </a:solidFill>
                <a:latin typeface="Arial"/>
              </a:rPr>
              <a:t>Pertinencia Wavelets-Fourier</a:t>
            </a:r>
            <a:endParaRPr b="1" lang="en-US" sz="3600" spc="-1" strike="noStrike">
              <a:solidFill>
                <a:srgbClr val="006666"/>
              </a:solidFill>
              <a:latin typeface="Arial"/>
            </a:endParaRPr>
          </a:p>
        </p:txBody>
      </p:sp>
      <p:sp>
        <p:nvSpPr>
          <p:cNvPr id="64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La eficiencia de las wavelets en representar señales e imágenes con discontinuidades es una clave para su utilidad con problemas como compresión de datos y eliminación de ruido. Singularidades y bordes, que son difíciles de discernir desde una transformada de Fourier, aparecen claramente en la transformada de wavelet. Por tanto, el análisis de wavelet puede ayudar a un ingeniero a identificar más rápidamente ocurrencias importantes localizadas en una image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006666"/>
                </a:solidFill>
                <a:latin typeface="Arial"/>
              </a:rPr>
              <a:t>Cálculo Matricial - Wavelets</a:t>
            </a:r>
            <a:endParaRPr b="1" lang="en-US" sz="3600" spc="-1" strike="noStrike">
              <a:solidFill>
                <a:srgbClr val="006666"/>
              </a:solidFill>
              <a:latin typeface="Arial"/>
            </a:endParaRPr>
          </a:p>
        </p:txBody>
      </p:sp>
      <p:sp>
        <p:nvSpPr>
          <p:cNvPr id="64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Arial"/>
              </a:rPr>
              <a:t>El análisis de wavelet ha probado ser potente en facilitar ciertos tipos de problemas computacionales. El álgebra matricial es uno de estos casos. Variadas integrales y ecuaciones diferenciales, cuando son expresadas en forma digitalizada para un ordenador, pueden ser resueltas usando el álgebra matricial. Desafortunadamente, la velocidad de estas operaciones matriciales es baja, típicamente del orden de </a:t>
            </a:r>
            <a:r>
              <a:rPr b="0" i="1" lang="es-ES" sz="1600" spc="-1" strike="noStrike">
                <a:solidFill>
                  <a:srgbClr val="003366"/>
                </a:solidFill>
                <a:latin typeface="Arial"/>
              </a:rPr>
              <a:t>n2</a:t>
            </a:r>
            <a:r>
              <a:rPr b="1" i="1" lang="es-ES" sz="1600" spc="-1" strike="noStrike">
                <a:solidFill>
                  <a:srgbClr val="003366"/>
                </a:solidFill>
                <a:latin typeface="Arial"/>
              </a:rPr>
              <a:t> </a:t>
            </a:r>
            <a:r>
              <a:rPr b="0" lang="es-ES" sz="1600" spc="-1" strike="noStrike">
                <a:solidFill>
                  <a:srgbClr val="003366"/>
                </a:solidFill>
                <a:latin typeface="Arial"/>
              </a:rPr>
              <a:t>ciclos de CPU para una matriz de n x n elementos. En 1990, la idea brillante de ver las matrices como imágenes se le ocurrió a </a:t>
            </a:r>
            <a:r>
              <a:rPr b="0" i="1" lang="es-ES" sz="1600" spc="-1" strike="noStrike">
                <a:solidFill>
                  <a:srgbClr val="003366"/>
                </a:solidFill>
                <a:latin typeface="Arial"/>
              </a:rPr>
              <a:t>Gregory Beylkin</a:t>
            </a:r>
            <a:r>
              <a:rPr b="0" lang="es-ES" sz="1600" spc="-1" strike="noStrike">
                <a:solidFill>
                  <a:srgbClr val="003366"/>
                </a:solidFill>
                <a:latin typeface="Arial"/>
              </a:rPr>
              <a:t>. Cuando la "imagen" de la matriz se manda a la transformada de wavelet, es necesariamente comprimida debido al esparcimiento de la transformada. Operaciones simples, como multiplicación de matrices, se convierten en un trabajo rápido en el "dominio wavelet" porque las operaciones pueden ser hechas directamente en los coeficientes wavelet. La transformada inversa es entonces aplicada para retornar al dominio del problema original, dando una solución aproximada a la ecuación diferencial o integral. Esta solución aproximada notablemente buena requiere sólo una fracción del esfuerzo computacional necesario para la solución exacta</a:t>
            </a:r>
            <a:r>
              <a:rPr b="0" i="1" lang="es-ES" sz="1600" spc="-1" strike="noStrike">
                <a:solidFill>
                  <a:srgbClr val="003366"/>
                </a:solidFill>
                <a:latin typeface="Arial"/>
              </a:rPr>
              <a:t> </a:t>
            </a:r>
            <a:r>
              <a:rPr b="0" lang="es-ES" sz="1600" spc="-1" strike="noStrike">
                <a:solidFill>
                  <a:srgbClr val="003366"/>
                </a:solidFill>
                <a:latin typeface="Arial"/>
              </a:rPr>
              <a:t>(Bruce, 1996).</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006666"/>
                </a:solidFill>
                <a:latin typeface="Arial"/>
              </a:rPr>
              <a:t>Limpiado de Señal - Wavelets</a:t>
            </a:r>
            <a:endParaRPr b="1" lang="en-US" sz="3600" spc="-1" strike="noStrike">
              <a:solidFill>
                <a:srgbClr val="006666"/>
              </a:solidFill>
              <a:latin typeface="Arial"/>
            </a:endParaRPr>
          </a:p>
        </p:txBody>
      </p:sp>
      <p:sp>
        <p:nvSpPr>
          <p:cNvPr id="64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Dejar a las señales e imágenes sin ruido es a menudo mucho más fácil en el dominio de wavelet que en el dominio original. Con wavelets, el ruido puede ser eliminado de un gran número de tipos de señal, incluyendo aquellas con saltos, picos y otras ocurrencias no demasiado suaves. La eliminación de ruido por wavelets es superior a las técnicas tradicionales, que eliminan el ruido por medio de filtrados paso bajo, emborronando las zonas abruptas de la señal.</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Arial"/>
              </a:rPr>
              <a:t>El procedimiento trabaja tomando la transformada de wavelet de la señal, poniendo a cero los coeficientes por debajo de un cierto límite e invirtiendo la transformada para reconstruir la señal original menos sin el ruido. El proceso de filtrar los coeficientes es bastante parecido a mantener sólo los coeficientes más importantes en los algoritmos de compresión de dato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006666"/>
                </a:solidFill>
                <a:latin typeface="Arial"/>
              </a:rPr>
              <a:t>Referencias</a:t>
            </a:r>
            <a:endParaRPr b="1" lang="en-US" sz="3600" spc="-1" strike="noStrike">
              <a:solidFill>
                <a:srgbClr val="006666"/>
              </a:solidFill>
              <a:latin typeface="Arial"/>
            </a:endParaRPr>
          </a:p>
        </p:txBody>
      </p:sp>
      <p:sp>
        <p:nvSpPr>
          <p:cNvPr id="64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3366"/>
                </a:solidFill>
                <a:latin typeface="Arial"/>
              </a:rPr>
              <a:t>Procesamiento digital de señales acústicas usando wavelets, Pablo Faundez</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3366"/>
                </a:solidFill>
                <a:latin typeface="Arial"/>
              </a:rPr>
              <a:t>Técnicas de compresión de la Información digital, Martín Nieves Baen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3366"/>
                </a:solidFill>
                <a:latin typeface="Arial"/>
              </a:rPr>
              <a:t>Wavelets: ver el bosque y los árboles, Dana Mackenzie</a:t>
            </a:r>
            <a:r>
              <a:rPr b="0" lang="es-ES" sz="2800" spc="-1" strike="noStrike">
                <a:solidFill>
                  <a:srgbClr val="003366"/>
                </a:solidFill>
                <a:latin typeface="Arial"/>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006666"/>
                </a:solidFill>
                <a:latin typeface="Arial"/>
              </a:rPr>
              <a:t>Introducción</a:t>
            </a:r>
            <a:endParaRPr b="1" lang="en-US" sz="3600" spc="-1" strike="noStrike">
              <a:solidFill>
                <a:srgbClr val="006666"/>
              </a:solidFill>
              <a:latin typeface="Arial"/>
            </a:endParaRPr>
          </a:p>
        </p:txBody>
      </p:sp>
      <p:sp>
        <p:nvSpPr>
          <p:cNvPr id="55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3366"/>
                </a:solidFill>
                <a:latin typeface="Arial"/>
              </a:rPr>
              <a:t>En la actualidad el mundo esta invadido de “wavelets” se usan multiples aplicaciones, como animación, procesamiento de imágenes, análisis y síntesis de audio, ingeniería minera, predicciones meteorológicas, estudios de astronomía, diagnóstico de enfermedades, etc</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006666"/>
                </a:solidFill>
                <a:latin typeface="Arial"/>
              </a:rPr>
              <a:t>Una Explicación Sencilla</a:t>
            </a:r>
            <a:endParaRPr b="1" lang="en-US" sz="3600" spc="-1" strike="noStrike">
              <a:solidFill>
                <a:srgbClr val="006666"/>
              </a:solidFill>
              <a:latin typeface="Arial"/>
            </a:endParaRPr>
          </a:p>
        </p:txBody>
      </p:sp>
      <p:sp>
        <p:nvSpPr>
          <p:cNvPr id="55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3366"/>
                </a:solidFill>
                <a:latin typeface="Arial"/>
              </a:rPr>
              <a:t>Como hace el cerebro para identificar entre un instrumento y otro en una banda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3366"/>
                </a:solidFill>
                <a:latin typeface="Arial"/>
              </a:rPr>
              <a:t>Como hace el cerebro para identificar entre un árbol y otro en un bosqu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3366"/>
                </a:solidFill>
                <a:latin typeface="Arial"/>
              </a:rPr>
              <a:t>Como lo hacen los wavelet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006666"/>
                </a:solidFill>
                <a:latin typeface="Arial"/>
              </a:rPr>
              <a:t>Una Explicación Sencilla</a:t>
            </a:r>
            <a:endParaRPr b="1" lang="en-US" sz="3600" spc="-1" strike="noStrike">
              <a:solidFill>
                <a:srgbClr val="006666"/>
              </a:solidFill>
              <a:latin typeface="Arial"/>
            </a:endParaRPr>
          </a:p>
        </p:txBody>
      </p:sp>
      <p:sp>
        <p:nvSpPr>
          <p:cNvPr id="558" name="PlaceHolder 1"/>
          <p:cNvSpPr>
            <a:spLocks noGrp="1"/>
          </p:cNvSpPr>
          <p:nvPr>
            <p:ph/>
          </p:nvPr>
        </p:nvSpPr>
        <p:spPr>
          <a:xfrm>
            <a:off x="838080" y="2361960"/>
            <a:ext cx="740592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3366"/>
                </a:solidFill>
                <a:latin typeface="Arial"/>
              </a:rPr>
              <a:t>Diapasón y Voz</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3366"/>
                </a:solidFill>
                <a:latin typeface="Arial"/>
              </a:rPr>
              <a:t>El Diapasón genera una frecuencia con un solo tono sin armónicos y tiene duración infinit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3366"/>
                </a:solidFill>
                <a:latin typeface="Arial"/>
              </a:rPr>
              <a:t>La Voz contiene picos agudos sin oscilaciones</a:t>
            </a:r>
            <a:endParaRPr b="0" lang="en-US" sz="2400" spc="-1" strike="noStrike">
              <a:solidFill>
                <a:srgbClr val="003366"/>
              </a:solidFill>
              <a:latin typeface="Arial"/>
            </a:endParaRPr>
          </a:p>
        </p:txBody>
      </p:sp>
      <p:pic>
        <p:nvPicPr>
          <p:cNvPr id="559" name="Picture 4" descr=""/>
          <p:cNvPicPr/>
          <p:nvPr/>
        </p:nvPicPr>
        <p:blipFill>
          <a:blip r:embed="rId1"/>
          <a:stretch/>
        </p:blipFill>
        <p:spPr>
          <a:xfrm>
            <a:off x="2627280" y="3068640"/>
            <a:ext cx="3770280" cy="1457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006666"/>
                </a:solidFill>
                <a:latin typeface="Arial"/>
              </a:rPr>
              <a:t>Una Explicación Sencilla</a:t>
            </a:r>
            <a:endParaRPr b="1" lang="en-US" sz="3600" spc="-1" strike="noStrike">
              <a:solidFill>
                <a:srgbClr val="006666"/>
              </a:solidFill>
              <a:latin typeface="Arial"/>
            </a:endParaRPr>
          </a:p>
        </p:txBody>
      </p:sp>
      <p:sp>
        <p:nvSpPr>
          <p:cNvPr id="56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3366"/>
                </a:solidFill>
                <a:latin typeface="Arial"/>
              </a:rPr>
              <a:t>Para el caso del diapasón, que genera una señal periódica, se puede realizar el análisis de la señal usando fourier de modo que se descompone la señal en componentes sinusoidales de diversas frecuencias y una frecuencia fundamental</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400" spc="-1" strike="noStrike">
                <a:solidFill>
                  <a:srgbClr val="003366"/>
                </a:solidFill>
                <a:latin typeface="Arial"/>
              </a:rPr>
              <a:t>Si tenemos dos instrumentos, como una flauta y un violín, aunque la nota de la frecuencia fundamental sea la misma, su sonido es distinto, esto se debe a los pesos de sus armónico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600" spc="-1" strike="noStrike">
                <a:solidFill>
                  <a:srgbClr val="006666"/>
                </a:solidFill>
                <a:latin typeface="Arial"/>
              </a:rPr>
              <a:t>Una Explicación Sencilla</a:t>
            </a:r>
            <a:endParaRPr b="1" lang="en-US" sz="3600" spc="-1" strike="noStrike">
              <a:solidFill>
                <a:srgbClr val="006666"/>
              </a:solidFill>
              <a:latin typeface="Arial"/>
            </a:endParaRPr>
          </a:p>
        </p:txBody>
      </p:sp>
      <p:sp>
        <p:nvSpPr>
          <p:cNvPr id="56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3366"/>
                </a:solidFill>
                <a:latin typeface="Arial"/>
              </a:rPr>
              <a:t>Para las señales no periódicas, tambien existe análisis de Fourier, en el cual se pueden clasificar la mayoría de señales existentes en el mundo real,como el ruido de un carro.</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2800" spc="-1" strike="noStrike">
                <a:solidFill>
                  <a:srgbClr val="003366"/>
                </a:solidFill>
                <a:latin typeface="Arial"/>
              </a:rPr>
              <a:t>Las características no repetitivas, pueden analizarse mediante la transformada de fourier, como ejemplo, un ruido del motor del carr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0T23:02:45Z</dcterms:created>
  <dc:creator>Pablo Turmero</dc:creator>
  <dc:description/>
  <dc:language>en-US</dc:language>
  <cp:lastModifiedBy>Pablo</cp:lastModifiedBy>
  <dcterms:modified xsi:type="dcterms:W3CDTF">2016-01-24T23:19:20Z</dcterms:modified>
  <cp:revision>6</cp:revision>
  <dc:subject/>
  <dc:title/>
</cp:coreProperties>
</file>