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89B9-16E3-4109-8F54-2EB701F6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437-0322-4183-859E-A30F3DFC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458-7F75-47AA-84FC-ABED150D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707-2E5B-4341-803B-C667138B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8A31-9EB7-440F-985F-8A0615AB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6C9-3832-4EE1-BF6F-22FDEEF2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E98-5BB5-4CE2-8908-9EDE3CDC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58D-F779-4676-9432-E5A9D892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26AD-2712-4B71-8C02-3EE7BB02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FE4-52D4-48AD-9A00-9AF2DBCF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08A-3B1D-4509-8DF5-E8EDC7C9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D53-50B1-4B4C-B6B9-6DB1048A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9ff"/>
            </a:gs>
            <a:gs pos="100000">
              <a:srgbClr val="d0dd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DA4B-E6BA-46CC-967D-E429138FDD7A}" type="slidenum">
              <a:rPr b="0" lang="es-ES_tradnl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7092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60033"/>
                </a:solidFill>
                <a:latin typeface="Arial"/>
              </a:rPr>
              <a:t>Redes y Telecomunicaciones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9"/>
          <p:cNvSpPr/>
          <p:nvPr/>
        </p:nvSpPr>
        <p:spPr>
          <a:xfrm>
            <a:off x="1116000" y="189000"/>
            <a:ext cx="6264360" cy="581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opología de Red I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4360" y="2276640"/>
            <a:ext cx="215892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d de Estrell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5508720" y="2781360"/>
            <a:ext cx="934920" cy="43164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4572000" y="2637000"/>
            <a:ext cx="936720" cy="3603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6443640" y="2637000"/>
            <a:ext cx="1152720" cy="43164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6012000" y="2349360"/>
            <a:ext cx="0" cy="432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ine 30"/>
          <p:cNvSpPr/>
          <p:nvPr/>
        </p:nvSpPr>
        <p:spPr>
          <a:xfrm flipV="1">
            <a:off x="4572000" y="3213000"/>
            <a:ext cx="1079640" cy="936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Line 31"/>
          <p:cNvSpPr/>
          <p:nvPr/>
        </p:nvSpPr>
        <p:spPr>
          <a:xfrm flipV="1">
            <a:off x="5796000" y="3213000"/>
            <a:ext cx="0" cy="1008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Line 32"/>
          <p:cNvSpPr/>
          <p:nvPr/>
        </p:nvSpPr>
        <p:spPr>
          <a:xfrm flipH="1" flipV="1">
            <a:off x="6372360" y="3213000"/>
            <a:ext cx="1224000" cy="936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Line 33"/>
          <p:cNvSpPr/>
          <p:nvPr/>
        </p:nvSpPr>
        <p:spPr>
          <a:xfrm flipH="1">
            <a:off x="5795640" y="4221000"/>
            <a:ext cx="144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Text Box 34"/>
          <p:cNvSpPr/>
          <p:nvPr/>
        </p:nvSpPr>
        <p:spPr>
          <a:xfrm>
            <a:off x="5435640" y="28670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PU HOST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35"/>
          <p:cNvSpPr/>
          <p:nvPr/>
        </p:nvSpPr>
        <p:spPr>
          <a:xfrm>
            <a:off x="3564000" y="2060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1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36"/>
          <p:cNvSpPr/>
          <p:nvPr/>
        </p:nvSpPr>
        <p:spPr>
          <a:xfrm>
            <a:off x="5508720" y="134136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2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Text Box 37"/>
          <p:cNvSpPr/>
          <p:nvPr/>
        </p:nvSpPr>
        <p:spPr>
          <a:xfrm>
            <a:off x="7164360" y="1773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3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Text Box 38"/>
          <p:cNvSpPr/>
          <p:nvPr/>
        </p:nvSpPr>
        <p:spPr>
          <a:xfrm>
            <a:off x="3924360" y="4149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Ordenador 1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39"/>
          <p:cNvSpPr/>
          <p:nvPr/>
        </p:nvSpPr>
        <p:spPr>
          <a:xfrm>
            <a:off x="5940360" y="414972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Ordenador 2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Text Box 41"/>
          <p:cNvSpPr/>
          <p:nvPr/>
        </p:nvSpPr>
        <p:spPr>
          <a:xfrm>
            <a:off x="7596360" y="4076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Impresora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laptop"/>
          <p:cNvSpPr/>
          <p:nvPr/>
        </p:nvSpPr>
        <p:spPr>
          <a:xfrm>
            <a:off x="3564000" y="2349360"/>
            <a:ext cx="1152360" cy="792360"/>
          </a:xfrm>
          <a:custGeom>
            <a:avLst/>
            <a:gdLst>
              <a:gd name="textAreaLeft" fmla="*/ 236880 w 1152360"/>
              <a:gd name="textAreaRight" fmla="*/ 923760 w 1152360"/>
              <a:gd name="textAreaTop" fmla="*/ 68040 h 792360"/>
              <a:gd name="textAreaBottom" fmla="*/ 452160 h 79236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laptop"/>
          <p:cNvSpPr/>
          <p:nvPr/>
        </p:nvSpPr>
        <p:spPr>
          <a:xfrm>
            <a:off x="5508720" y="1628640"/>
            <a:ext cx="1152360" cy="792360"/>
          </a:xfrm>
          <a:custGeom>
            <a:avLst/>
            <a:gdLst>
              <a:gd name="textAreaLeft" fmla="*/ 236880 w 1152360"/>
              <a:gd name="textAreaRight" fmla="*/ 923760 w 1152360"/>
              <a:gd name="textAreaTop" fmla="*/ 68040 h 792360"/>
              <a:gd name="textAreaBottom" fmla="*/ 452160 h 79236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laptop"/>
          <p:cNvSpPr/>
          <p:nvPr/>
        </p:nvSpPr>
        <p:spPr>
          <a:xfrm>
            <a:off x="7451640" y="2133720"/>
            <a:ext cx="1152720" cy="792000"/>
          </a:xfrm>
          <a:custGeom>
            <a:avLst/>
            <a:gdLst>
              <a:gd name="textAreaLeft" fmla="*/ 237240 w 1152720"/>
              <a:gd name="textAreaRight" fmla="*/ 923760 w 1152720"/>
              <a:gd name="textAreaTop" fmla="*/ 68040 h 792000"/>
              <a:gd name="textAreaBottom" fmla="*/ 451800 h 79200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computr3"/>
          <p:cNvSpPr/>
          <p:nvPr/>
        </p:nvSpPr>
        <p:spPr>
          <a:xfrm>
            <a:off x="3780000" y="4508640"/>
            <a:ext cx="1079280" cy="936360"/>
          </a:xfrm>
          <a:custGeom>
            <a:avLst/>
            <a:gdLst>
              <a:gd name="textAreaLeft" fmla="*/ 390240 w 1079280"/>
              <a:gd name="textAreaRight" fmla="*/ 817560 w 1079280"/>
              <a:gd name="textAreaTop" fmla="*/ 111960 h 936360"/>
              <a:gd name="textAreaBottom" fmla="*/ 510120 h 93636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computr3"/>
          <p:cNvSpPr/>
          <p:nvPr/>
        </p:nvSpPr>
        <p:spPr>
          <a:xfrm>
            <a:off x="5867280" y="4508640"/>
            <a:ext cx="1152720" cy="936360"/>
          </a:xfrm>
          <a:custGeom>
            <a:avLst/>
            <a:gdLst>
              <a:gd name="textAreaLeft" fmla="*/ 416880 w 1152720"/>
              <a:gd name="textAreaRight" fmla="*/ 873000 w 1152720"/>
              <a:gd name="textAreaTop" fmla="*/ 111960 h 936360"/>
              <a:gd name="textAreaBottom" fmla="*/ 510120 h 93636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rinter2"/>
          <p:cNvSpPr/>
          <p:nvPr/>
        </p:nvSpPr>
        <p:spPr>
          <a:xfrm>
            <a:off x="7451640" y="4581360"/>
            <a:ext cx="1368360" cy="576360"/>
          </a:xfrm>
          <a:custGeom>
            <a:avLst/>
            <a:gdLst>
              <a:gd name="textAreaLeft" fmla="*/ 88200 w 1368360"/>
              <a:gd name="textAreaRight" fmla="*/ 1284120 w 1368360"/>
              <a:gd name="textAreaTop" fmla="*/ 621720 h 576360"/>
              <a:gd name="textAreaBottom" fmla="*/ 831240 h 576360"/>
            </a:gdLst>
            <a:ahLst/>
            <a:rect l="textAreaLeft" t="textAreaTop" r="textAreaRight" b="textAreaBottom"/>
            <a:pathLst>
              <a:path w="21600" h="21600">
                <a:moveTo>
                  <a:pt x="10673" y="0"/>
                </a:moveTo>
                <a:lnTo>
                  <a:pt x="19186" y="0"/>
                </a:lnTo>
                <a:lnTo>
                  <a:pt x="21600" y="4703"/>
                </a:lnTo>
                <a:lnTo>
                  <a:pt x="21600" y="10800"/>
                </a:lnTo>
                <a:lnTo>
                  <a:pt x="21600" y="16548"/>
                </a:lnTo>
                <a:lnTo>
                  <a:pt x="18042" y="16548"/>
                </a:lnTo>
                <a:lnTo>
                  <a:pt x="18042" y="21600"/>
                </a:lnTo>
                <a:lnTo>
                  <a:pt x="10673" y="21600"/>
                </a:lnTo>
                <a:lnTo>
                  <a:pt x="3176" y="21600"/>
                </a:lnTo>
                <a:lnTo>
                  <a:pt x="3176" y="16548"/>
                </a:lnTo>
                <a:lnTo>
                  <a:pt x="0" y="16548"/>
                </a:lnTo>
                <a:lnTo>
                  <a:pt x="0" y="10800"/>
                </a:lnTo>
                <a:lnTo>
                  <a:pt x="0" y="4703"/>
                </a:lnTo>
                <a:lnTo>
                  <a:pt x="2414" y="0"/>
                </a:lnTo>
                <a:lnTo>
                  <a:pt x="10673" y="0"/>
                </a:lnTo>
                <a:close/>
              </a:path>
              <a:path w="21600" h="21600">
                <a:moveTo>
                  <a:pt x="0" y="4703"/>
                </a:moveTo>
                <a:lnTo>
                  <a:pt x="3558" y="4703"/>
                </a:lnTo>
                <a:lnTo>
                  <a:pt x="17026" y="4703"/>
                </a:lnTo>
                <a:lnTo>
                  <a:pt x="21600" y="4703"/>
                </a:lnTo>
                <a:lnTo>
                  <a:pt x="0" y="4703"/>
                </a:lnTo>
                <a:moveTo>
                  <a:pt x="16518" y="4703"/>
                </a:moveTo>
                <a:lnTo>
                  <a:pt x="16518" y="10452"/>
                </a:lnTo>
                <a:lnTo>
                  <a:pt x="0" y="10452"/>
                </a:lnTo>
                <a:moveTo>
                  <a:pt x="4320" y="16548"/>
                </a:moveTo>
                <a:lnTo>
                  <a:pt x="4320" y="17419"/>
                </a:lnTo>
                <a:lnTo>
                  <a:pt x="4320" y="20555"/>
                </a:lnTo>
                <a:lnTo>
                  <a:pt x="4320" y="21600"/>
                </a:lnTo>
                <a:lnTo>
                  <a:pt x="4320" y="16548"/>
                </a:lnTo>
                <a:moveTo>
                  <a:pt x="16899" y="16548"/>
                </a:moveTo>
                <a:lnTo>
                  <a:pt x="16899" y="17419"/>
                </a:lnTo>
                <a:lnTo>
                  <a:pt x="16899" y="20555"/>
                </a:lnTo>
                <a:lnTo>
                  <a:pt x="16899" y="21600"/>
                </a:lnTo>
                <a:lnTo>
                  <a:pt x="16899" y="16548"/>
                </a:lnTo>
                <a:moveTo>
                  <a:pt x="15247" y="14981"/>
                </a:moveTo>
                <a:lnTo>
                  <a:pt x="15247" y="10452"/>
                </a:lnTo>
                <a:lnTo>
                  <a:pt x="16899" y="16548"/>
                </a:lnTo>
                <a:lnTo>
                  <a:pt x="18042" y="16548"/>
                </a:lnTo>
                <a:lnTo>
                  <a:pt x="16518" y="10452"/>
                </a:lnTo>
                <a:moveTo>
                  <a:pt x="15247" y="14981"/>
                </a:moveTo>
                <a:lnTo>
                  <a:pt x="15247" y="14981"/>
                </a:lnTo>
                <a:lnTo>
                  <a:pt x="16772" y="17942"/>
                </a:lnTo>
                <a:lnTo>
                  <a:pt x="4447" y="17942"/>
                </a:lnTo>
                <a:lnTo>
                  <a:pt x="5972" y="14981"/>
                </a:lnTo>
                <a:lnTo>
                  <a:pt x="5972" y="10452"/>
                </a:lnTo>
                <a:lnTo>
                  <a:pt x="4320" y="16548"/>
                </a:lnTo>
                <a:lnTo>
                  <a:pt x="3176" y="16548"/>
                </a:lnTo>
                <a:lnTo>
                  <a:pt x="4701" y="10452"/>
                </a:lnTo>
                <a:moveTo>
                  <a:pt x="20202" y="5574"/>
                </a:moveTo>
                <a:lnTo>
                  <a:pt x="20711" y="5574"/>
                </a:lnTo>
                <a:lnTo>
                  <a:pt x="20711" y="7839"/>
                </a:lnTo>
                <a:lnTo>
                  <a:pt x="20202" y="7839"/>
                </a:lnTo>
                <a:lnTo>
                  <a:pt x="20202" y="5574"/>
                </a:lnTo>
                <a:moveTo>
                  <a:pt x="5972" y="14981"/>
                </a:moveTo>
                <a:lnTo>
                  <a:pt x="7496" y="14981"/>
                </a:lnTo>
                <a:lnTo>
                  <a:pt x="13341" y="14981"/>
                </a:lnTo>
                <a:lnTo>
                  <a:pt x="15247" y="14981"/>
                </a:lnTo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Text Box 49"/>
          <p:cNvSpPr/>
          <p:nvPr/>
        </p:nvSpPr>
        <p:spPr>
          <a:xfrm>
            <a:off x="611280" y="5877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UTILIDAD: cuando parte del procesamiento debe centralizarse y otra parte se efectúa localment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684360" y="2276640"/>
            <a:ext cx="215892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d de Bu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27"/>
          <p:cNvSpPr/>
          <p:nvPr/>
        </p:nvSpPr>
        <p:spPr>
          <a:xfrm>
            <a:off x="3851280" y="1844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1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Text Box 28"/>
          <p:cNvSpPr/>
          <p:nvPr/>
        </p:nvSpPr>
        <p:spPr>
          <a:xfrm>
            <a:off x="5508720" y="1844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2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29"/>
          <p:cNvSpPr/>
          <p:nvPr/>
        </p:nvSpPr>
        <p:spPr>
          <a:xfrm>
            <a:off x="7164360" y="177336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3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3780000" y="4508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Ordenador 1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Text Box 31"/>
          <p:cNvSpPr/>
          <p:nvPr/>
        </p:nvSpPr>
        <p:spPr>
          <a:xfrm>
            <a:off x="5508720" y="458136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Ordenador 2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Text Box 33"/>
          <p:cNvSpPr/>
          <p:nvPr/>
        </p:nvSpPr>
        <p:spPr>
          <a:xfrm>
            <a:off x="7380360" y="4437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Impresora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Line 34"/>
          <p:cNvSpPr/>
          <p:nvPr/>
        </p:nvSpPr>
        <p:spPr>
          <a:xfrm>
            <a:off x="3635280" y="3284640"/>
            <a:ext cx="468180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>
            <a:off x="4356000" y="2924280"/>
            <a:ext cx="0" cy="57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Line 36"/>
          <p:cNvSpPr/>
          <p:nvPr/>
        </p:nvSpPr>
        <p:spPr>
          <a:xfrm>
            <a:off x="6012000" y="2924280"/>
            <a:ext cx="0" cy="57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Line 37"/>
          <p:cNvSpPr/>
          <p:nvPr/>
        </p:nvSpPr>
        <p:spPr>
          <a:xfrm>
            <a:off x="7812000" y="2997360"/>
            <a:ext cx="0" cy="57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laptop"/>
          <p:cNvSpPr/>
          <p:nvPr/>
        </p:nvSpPr>
        <p:spPr>
          <a:xfrm>
            <a:off x="3851280" y="2205000"/>
            <a:ext cx="1152360" cy="792360"/>
          </a:xfrm>
          <a:custGeom>
            <a:avLst/>
            <a:gdLst>
              <a:gd name="textAreaLeft" fmla="*/ 236880 w 1152360"/>
              <a:gd name="textAreaRight" fmla="*/ 923760 w 1152360"/>
              <a:gd name="textAreaTop" fmla="*/ 68040 h 792360"/>
              <a:gd name="textAreaBottom" fmla="*/ 452160 h 79236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laptop"/>
          <p:cNvSpPr/>
          <p:nvPr/>
        </p:nvSpPr>
        <p:spPr>
          <a:xfrm>
            <a:off x="5508720" y="2205000"/>
            <a:ext cx="1152360" cy="792360"/>
          </a:xfrm>
          <a:custGeom>
            <a:avLst/>
            <a:gdLst>
              <a:gd name="textAreaLeft" fmla="*/ 236880 w 1152360"/>
              <a:gd name="textAreaRight" fmla="*/ 923760 w 1152360"/>
              <a:gd name="textAreaTop" fmla="*/ 68040 h 792360"/>
              <a:gd name="textAreaBottom" fmla="*/ 452160 h 79236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" name="laptop"/>
          <p:cNvSpPr/>
          <p:nvPr/>
        </p:nvSpPr>
        <p:spPr>
          <a:xfrm>
            <a:off x="7236000" y="2133720"/>
            <a:ext cx="1152360" cy="792000"/>
          </a:xfrm>
          <a:custGeom>
            <a:avLst/>
            <a:gdLst>
              <a:gd name="textAreaLeft" fmla="*/ 236880 w 1152360"/>
              <a:gd name="textAreaRight" fmla="*/ 923760 w 1152360"/>
              <a:gd name="textAreaTop" fmla="*/ 68040 h 792000"/>
              <a:gd name="textAreaBottom" fmla="*/ 451800 h 79200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computr3"/>
          <p:cNvSpPr/>
          <p:nvPr/>
        </p:nvSpPr>
        <p:spPr>
          <a:xfrm>
            <a:off x="3851280" y="3573360"/>
            <a:ext cx="1079640" cy="936720"/>
          </a:xfrm>
          <a:custGeom>
            <a:avLst/>
            <a:gdLst>
              <a:gd name="textAreaLeft" fmla="*/ 390240 w 1079640"/>
              <a:gd name="textAreaRight" fmla="*/ 817920 w 1079640"/>
              <a:gd name="textAreaTop" fmla="*/ 111960 h 936720"/>
              <a:gd name="textAreaBottom" fmla="*/ 510120 h 93672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computr3"/>
          <p:cNvSpPr/>
          <p:nvPr/>
        </p:nvSpPr>
        <p:spPr>
          <a:xfrm>
            <a:off x="5508720" y="3573360"/>
            <a:ext cx="1079280" cy="936720"/>
          </a:xfrm>
          <a:custGeom>
            <a:avLst/>
            <a:gdLst>
              <a:gd name="textAreaLeft" fmla="*/ 390240 w 1079280"/>
              <a:gd name="textAreaRight" fmla="*/ 817560 w 1079280"/>
              <a:gd name="textAreaTop" fmla="*/ 111960 h 936720"/>
              <a:gd name="textAreaBottom" fmla="*/ 510120 h 93672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printer2"/>
          <p:cNvSpPr/>
          <p:nvPr/>
        </p:nvSpPr>
        <p:spPr>
          <a:xfrm>
            <a:off x="7236000" y="3645000"/>
            <a:ext cx="1368360" cy="576000"/>
          </a:xfrm>
          <a:custGeom>
            <a:avLst/>
            <a:gdLst>
              <a:gd name="textAreaLeft" fmla="*/ 88200 w 1368360"/>
              <a:gd name="textAreaRight" fmla="*/ 1284120 w 1368360"/>
              <a:gd name="textAreaTop" fmla="*/ 621360 h 576000"/>
              <a:gd name="textAreaBottom" fmla="*/ 830520 h 576000"/>
            </a:gdLst>
            <a:ahLst/>
            <a:rect l="textAreaLeft" t="textAreaTop" r="textAreaRight" b="textAreaBottom"/>
            <a:pathLst>
              <a:path w="21600" h="21600">
                <a:moveTo>
                  <a:pt x="10673" y="0"/>
                </a:moveTo>
                <a:lnTo>
                  <a:pt x="19186" y="0"/>
                </a:lnTo>
                <a:lnTo>
                  <a:pt x="21600" y="4703"/>
                </a:lnTo>
                <a:lnTo>
                  <a:pt x="21600" y="10800"/>
                </a:lnTo>
                <a:lnTo>
                  <a:pt x="21600" y="16548"/>
                </a:lnTo>
                <a:lnTo>
                  <a:pt x="18042" y="16548"/>
                </a:lnTo>
                <a:lnTo>
                  <a:pt x="18042" y="21600"/>
                </a:lnTo>
                <a:lnTo>
                  <a:pt x="10673" y="21600"/>
                </a:lnTo>
                <a:lnTo>
                  <a:pt x="3176" y="21600"/>
                </a:lnTo>
                <a:lnTo>
                  <a:pt x="3176" y="16548"/>
                </a:lnTo>
                <a:lnTo>
                  <a:pt x="0" y="16548"/>
                </a:lnTo>
                <a:lnTo>
                  <a:pt x="0" y="10800"/>
                </a:lnTo>
                <a:lnTo>
                  <a:pt x="0" y="4703"/>
                </a:lnTo>
                <a:lnTo>
                  <a:pt x="2414" y="0"/>
                </a:lnTo>
                <a:lnTo>
                  <a:pt x="10673" y="0"/>
                </a:lnTo>
                <a:close/>
              </a:path>
              <a:path w="21600" h="21600">
                <a:moveTo>
                  <a:pt x="0" y="4703"/>
                </a:moveTo>
                <a:lnTo>
                  <a:pt x="3558" y="4703"/>
                </a:lnTo>
                <a:lnTo>
                  <a:pt x="17026" y="4703"/>
                </a:lnTo>
                <a:lnTo>
                  <a:pt x="21600" y="4703"/>
                </a:lnTo>
                <a:lnTo>
                  <a:pt x="0" y="4703"/>
                </a:lnTo>
                <a:moveTo>
                  <a:pt x="16518" y="4703"/>
                </a:moveTo>
                <a:lnTo>
                  <a:pt x="16518" y="10452"/>
                </a:lnTo>
                <a:lnTo>
                  <a:pt x="0" y="10452"/>
                </a:lnTo>
                <a:moveTo>
                  <a:pt x="4320" y="16548"/>
                </a:moveTo>
                <a:lnTo>
                  <a:pt x="4320" y="17419"/>
                </a:lnTo>
                <a:lnTo>
                  <a:pt x="4320" y="20555"/>
                </a:lnTo>
                <a:lnTo>
                  <a:pt x="4320" y="21600"/>
                </a:lnTo>
                <a:lnTo>
                  <a:pt x="4320" y="16548"/>
                </a:lnTo>
                <a:moveTo>
                  <a:pt x="16899" y="16548"/>
                </a:moveTo>
                <a:lnTo>
                  <a:pt x="16899" y="17419"/>
                </a:lnTo>
                <a:lnTo>
                  <a:pt x="16899" y="20555"/>
                </a:lnTo>
                <a:lnTo>
                  <a:pt x="16899" y="21600"/>
                </a:lnTo>
                <a:lnTo>
                  <a:pt x="16899" y="16548"/>
                </a:lnTo>
                <a:moveTo>
                  <a:pt x="15247" y="14981"/>
                </a:moveTo>
                <a:lnTo>
                  <a:pt x="15247" y="10452"/>
                </a:lnTo>
                <a:lnTo>
                  <a:pt x="16899" y="16548"/>
                </a:lnTo>
                <a:lnTo>
                  <a:pt x="18042" y="16548"/>
                </a:lnTo>
                <a:lnTo>
                  <a:pt x="16518" y="10452"/>
                </a:lnTo>
                <a:moveTo>
                  <a:pt x="15247" y="14981"/>
                </a:moveTo>
                <a:lnTo>
                  <a:pt x="15247" y="14981"/>
                </a:lnTo>
                <a:lnTo>
                  <a:pt x="16772" y="17942"/>
                </a:lnTo>
                <a:lnTo>
                  <a:pt x="4447" y="17942"/>
                </a:lnTo>
                <a:lnTo>
                  <a:pt x="5972" y="14981"/>
                </a:lnTo>
                <a:lnTo>
                  <a:pt x="5972" y="10452"/>
                </a:lnTo>
                <a:lnTo>
                  <a:pt x="4320" y="16548"/>
                </a:lnTo>
                <a:lnTo>
                  <a:pt x="3176" y="16548"/>
                </a:lnTo>
                <a:lnTo>
                  <a:pt x="4701" y="10452"/>
                </a:lnTo>
                <a:moveTo>
                  <a:pt x="20202" y="5574"/>
                </a:moveTo>
                <a:lnTo>
                  <a:pt x="20711" y="5574"/>
                </a:lnTo>
                <a:lnTo>
                  <a:pt x="20711" y="7839"/>
                </a:lnTo>
                <a:lnTo>
                  <a:pt x="20202" y="7839"/>
                </a:lnTo>
                <a:lnTo>
                  <a:pt x="20202" y="5574"/>
                </a:lnTo>
                <a:moveTo>
                  <a:pt x="5972" y="14981"/>
                </a:moveTo>
                <a:lnTo>
                  <a:pt x="7496" y="14981"/>
                </a:lnTo>
                <a:lnTo>
                  <a:pt x="13341" y="14981"/>
                </a:lnTo>
                <a:lnTo>
                  <a:pt x="15247" y="14981"/>
                </a:lnTo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Text Box 45"/>
          <p:cNvSpPr/>
          <p:nvPr/>
        </p:nvSpPr>
        <p:spPr>
          <a:xfrm>
            <a:off x="1116000" y="189000"/>
            <a:ext cx="6264360" cy="581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opología de Red II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Text Box 46"/>
          <p:cNvSpPr/>
          <p:nvPr/>
        </p:nvSpPr>
        <p:spPr>
          <a:xfrm>
            <a:off x="684360" y="5805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ESVENTAJA: el canal sólo puede manejar un mensaje a la vez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684360" y="2276640"/>
            <a:ext cx="215892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d de Anillo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5580000" y="2781360"/>
            <a:ext cx="792360" cy="71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4643280" y="2349360"/>
            <a:ext cx="1081080" cy="5032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6227280" y="2276640"/>
            <a:ext cx="1295640" cy="57456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>
            <a:off x="6012000" y="2349360"/>
            <a:ext cx="0" cy="432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V="1">
            <a:off x="4716360" y="3284640"/>
            <a:ext cx="936720" cy="57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6084720" y="3499920"/>
            <a:ext cx="0" cy="28908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6372360" y="3213000"/>
            <a:ext cx="1224000" cy="93672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3851280" y="1844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1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5580000" y="126828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2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7380360" y="1628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3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5508720" y="4941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5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7596360" y="3357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Terminal 4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3564000" y="47242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Impresora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rinter2"/>
          <p:cNvSpPr/>
          <p:nvPr/>
        </p:nvSpPr>
        <p:spPr>
          <a:xfrm>
            <a:off x="3492360" y="3860640"/>
            <a:ext cx="1368720" cy="576360"/>
          </a:xfrm>
          <a:custGeom>
            <a:avLst/>
            <a:gdLst>
              <a:gd name="textAreaLeft" fmla="*/ 88200 w 1368720"/>
              <a:gd name="textAreaRight" fmla="*/ 1284480 w 1368720"/>
              <a:gd name="textAreaTop" fmla="*/ 621720 h 576360"/>
              <a:gd name="textAreaBottom" fmla="*/ 831240 h 576360"/>
            </a:gdLst>
            <a:ahLst/>
            <a:rect l="textAreaLeft" t="textAreaTop" r="textAreaRight" b="textAreaBottom"/>
            <a:pathLst>
              <a:path w="21600" h="21600">
                <a:moveTo>
                  <a:pt x="10673" y="0"/>
                </a:moveTo>
                <a:lnTo>
                  <a:pt x="19186" y="0"/>
                </a:lnTo>
                <a:lnTo>
                  <a:pt x="21600" y="4703"/>
                </a:lnTo>
                <a:lnTo>
                  <a:pt x="21600" y="10800"/>
                </a:lnTo>
                <a:lnTo>
                  <a:pt x="21600" y="16548"/>
                </a:lnTo>
                <a:lnTo>
                  <a:pt x="18042" y="16548"/>
                </a:lnTo>
                <a:lnTo>
                  <a:pt x="18042" y="21600"/>
                </a:lnTo>
                <a:lnTo>
                  <a:pt x="10673" y="21600"/>
                </a:lnTo>
                <a:lnTo>
                  <a:pt x="3176" y="21600"/>
                </a:lnTo>
                <a:lnTo>
                  <a:pt x="3176" y="16548"/>
                </a:lnTo>
                <a:lnTo>
                  <a:pt x="0" y="16548"/>
                </a:lnTo>
                <a:lnTo>
                  <a:pt x="0" y="10800"/>
                </a:lnTo>
                <a:lnTo>
                  <a:pt x="0" y="4703"/>
                </a:lnTo>
                <a:lnTo>
                  <a:pt x="2414" y="0"/>
                </a:lnTo>
                <a:lnTo>
                  <a:pt x="10673" y="0"/>
                </a:lnTo>
                <a:close/>
              </a:path>
              <a:path w="21600" h="21600">
                <a:moveTo>
                  <a:pt x="0" y="4703"/>
                </a:moveTo>
                <a:lnTo>
                  <a:pt x="3558" y="4703"/>
                </a:lnTo>
                <a:lnTo>
                  <a:pt x="17026" y="4703"/>
                </a:lnTo>
                <a:lnTo>
                  <a:pt x="21600" y="4703"/>
                </a:lnTo>
                <a:lnTo>
                  <a:pt x="0" y="4703"/>
                </a:lnTo>
                <a:moveTo>
                  <a:pt x="16518" y="4703"/>
                </a:moveTo>
                <a:lnTo>
                  <a:pt x="16518" y="10452"/>
                </a:lnTo>
                <a:lnTo>
                  <a:pt x="0" y="10452"/>
                </a:lnTo>
                <a:moveTo>
                  <a:pt x="4320" y="16548"/>
                </a:moveTo>
                <a:lnTo>
                  <a:pt x="4320" y="17419"/>
                </a:lnTo>
                <a:lnTo>
                  <a:pt x="4320" y="20555"/>
                </a:lnTo>
                <a:lnTo>
                  <a:pt x="4320" y="21600"/>
                </a:lnTo>
                <a:lnTo>
                  <a:pt x="4320" y="16548"/>
                </a:lnTo>
                <a:moveTo>
                  <a:pt x="16899" y="16548"/>
                </a:moveTo>
                <a:lnTo>
                  <a:pt x="16899" y="17419"/>
                </a:lnTo>
                <a:lnTo>
                  <a:pt x="16899" y="20555"/>
                </a:lnTo>
                <a:lnTo>
                  <a:pt x="16899" y="21600"/>
                </a:lnTo>
                <a:lnTo>
                  <a:pt x="16899" y="16548"/>
                </a:lnTo>
                <a:moveTo>
                  <a:pt x="15247" y="14981"/>
                </a:moveTo>
                <a:lnTo>
                  <a:pt x="15247" y="10452"/>
                </a:lnTo>
                <a:lnTo>
                  <a:pt x="16899" y="16548"/>
                </a:lnTo>
                <a:lnTo>
                  <a:pt x="18042" y="16548"/>
                </a:lnTo>
                <a:lnTo>
                  <a:pt x="16518" y="10452"/>
                </a:lnTo>
                <a:moveTo>
                  <a:pt x="15247" y="14981"/>
                </a:moveTo>
                <a:lnTo>
                  <a:pt x="15247" y="14981"/>
                </a:lnTo>
                <a:lnTo>
                  <a:pt x="16772" y="17942"/>
                </a:lnTo>
                <a:lnTo>
                  <a:pt x="4447" y="17942"/>
                </a:lnTo>
                <a:lnTo>
                  <a:pt x="5972" y="14981"/>
                </a:lnTo>
                <a:lnTo>
                  <a:pt x="5972" y="10452"/>
                </a:lnTo>
                <a:lnTo>
                  <a:pt x="4320" y="16548"/>
                </a:lnTo>
                <a:lnTo>
                  <a:pt x="3176" y="16548"/>
                </a:lnTo>
                <a:lnTo>
                  <a:pt x="4701" y="10452"/>
                </a:lnTo>
                <a:moveTo>
                  <a:pt x="20202" y="5574"/>
                </a:moveTo>
                <a:lnTo>
                  <a:pt x="20711" y="5574"/>
                </a:lnTo>
                <a:lnTo>
                  <a:pt x="20711" y="7839"/>
                </a:lnTo>
                <a:lnTo>
                  <a:pt x="20202" y="7839"/>
                </a:lnTo>
                <a:lnTo>
                  <a:pt x="20202" y="5574"/>
                </a:lnTo>
                <a:moveTo>
                  <a:pt x="5972" y="14981"/>
                </a:moveTo>
                <a:lnTo>
                  <a:pt x="7496" y="14981"/>
                </a:lnTo>
                <a:lnTo>
                  <a:pt x="13341" y="14981"/>
                </a:lnTo>
                <a:lnTo>
                  <a:pt x="15247" y="14981"/>
                </a:lnTo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computr3"/>
          <p:cNvSpPr/>
          <p:nvPr/>
        </p:nvSpPr>
        <p:spPr>
          <a:xfrm>
            <a:off x="5508720" y="3789360"/>
            <a:ext cx="1079280" cy="936720"/>
          </a:xfrm>
          <a:custGeom>
            <a:avLst/>
            <a:gdLst>
              <a:gd name="textAreaLeft" fmla="*/ 390240 w 1079280"/>
              <a:gd name="textAreaRight" fmla="*/ 817560 w 1079280"/>
              <a:gd name="textAreaTop" fmla="*/ 111960 h 936720"/>
              <a:gd name="textAreaBottom" fmla="*/ 510120 h 93672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computr3"/>
          <p:cNvSpPr/>
          <p:nvPr/>
        </p:nvSpPr>
        <p:spPr>
          <a:xfrm>
            <a:off x="7596360" y="3716280"/>
            <a:ext cx="1079280" cy="936720"/>
          </a:xfrm>
          <a:custGeom>
            <a:avLst/>
            <a:gdLst>
              <a:gd name="textAreaLeft" fmla="*/ 390240 w 1079280"/>
              <a:gd name="textAreaRight" fmla="*/ 817560 w 1079280"/>
              <a:gd name="textAreaTop" fmla="*/ 111960 h 936720"/>
              <a:gd name="textAreaBottom" fmla="*/ 510120 h 93672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1" name="laptop"/>
          <p:cNvSpPr/>
          <p:nvPr/>
        </p:nvSpPr>
        <p:spPr>
          <a:xfrm>
            <a:off x="3851280" y="2205000"/>
            <a:ext cx="1152360" cy="792360"/>
          </a:xfrm>
          <a:custGeom>
            <a:avLst/>
            <a:gdLst>
              <a:gd name="textAreaLeft" fmla="*/ 236880 w 1152360"/>
              <a:gd name="textAreaRight" fmla="*/ 923760 w 1152360"/>
              <a:gd name="textAreaTop" fmla="*/ 68040 h 792360"/>
              <a:gd name="textAreaBottom" fmla="*/ 452160 h 79236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laptop"/>
          <p:cNvSpPr/>
          <p:nvPr/>
        </p:nvSpPr>
        <p:spPr>
          <a:xfrm>
            <a:off x="5580000" y="1557360"/>
            <a:ext cx="1152720" cy="792000"/>
          </a:xfrm>
          <a:custGeom>
            <a:avLst/>
            <a:gdLst>
              <a:gd name="textAreaLeft" fmla="*/ 237240 w 1152720"/>
              <a:gd name="textAreaRight" fmla="*/ 923760 w 1152720"/>
              <a:gd name="textAreaTop" fmla="*/ 68040 h 792000"/>
              <a:gd name="textAreaBottom" fmla="*/ 451800 h 79200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laptop"/>
          <p:cNvSpPr/>
          <p:nvPr/>
        </p:nvSpPr>
        <p:spPr>
          <a:xfrm>
            <a:off x="7308720" y="1989000"/>
            <a:ext cx="1152720" cy="792360"/>
          </a:xfrm>
          <a:custGeom>
            <a:avLst/>
            <a:gdLst>
              <a:gd name="textAreaLeft" fmla="*/ 237240 w 1152720"/>
              <a:gd name="textAreaRight" fmla="*/ 923760 w 1152720"/>
              <a:gd name="textAreaTop" fmla="*/ 68040 h 792360"/>
              <a:gd name="textAreaBottom" fmla="*/ 452160 h 792360"/>
            </a:gdLst>
            <a:ahLst/>
            <a:rect l="textAreaLeft" t="textAreaTop" r="textAreaRight" b="textAreaBottom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Line 40"/>
          <p:cNvSpPr/>
          <p:nvPr/>
        </p:nvSpPr>
        <p:spPr>
          <a:xfrm>
            <a:off x="8172360" y="4653000"/>
            <a:ext cx="0" cy="792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modem"/>
          <p:cNvSpPr/>
          <p:nvPr/>
        </p:nvSpPr>
        <p:spPr>
          <a:xfrm>
            <a:off x="7667640" y="5445000"/>
            <a:ext cx="1224000" cy="648000"/>
          </a:xfrm>
          <a:custGeom>
            <a:avLst/>
            <a:gdLst>
              <a:gd name="textAreaLeft" fmla="*/ 22320 w 1224000"/>
              <a:gd name="textAreaRight" fmla="*/ 1201680 w 1224000"/>
              <a:gd name="textAreaTop" fmla="*/ 672120 h 648000"/>
              <a:gd name="textAreaBottom" fmla="*/ 90036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152"/>
                </a:moveTo>
                <a:lnTo>
                  <a:pt x="2941" y="0"/>
                </a:lnTo>
                <a:lnTo>
                  <a:pt x="18625" y="0"/>
                </a:lnTo>
                <a:lnTo>
                  <a:pt x="21600" y="5152"/>
                </a:lnTo>
                <a:lnTo>
                  <a:pt x="21600" y="21600"/>
                </a:lnTo>
                <a:lnTo>
                  <a:pt x="0" y="21600"/>
                </a:lnTo>
                <a:lnTo>
                  <a:pt x="0" y="5152"/>
                </a:lnTo>
                <a:close/>
              </a:path>
              <a:path w="21600" h="21600">
                <a:moveTo>
                  <a:pt x="0" y="5251"/>
                </a:moveTo>
                <a:lnTo>
                  <a:pt x="21600" y="5251"/>
                </a:lnTo>
                <a:moveTo>
                  <a:pt x="1961" y="11791"/>
                </a:moveTo>
                <a:lnTo>
                  <a:pt x="1961" y="14268"/>
                </a:lnTo>
                <a:lnTo>
                  <a:pt x="2806" y="14268"/>
                </a:lnTo>
                <a:lnTo>
                  <a:pt x="2806" y="11791"/>
                </a:lnTo>
                <a:lnTo>
                  <a:pt x="1961" y="11791"/>
                </a:lnTo>
                <a:close/>
              </a:path>
              <a:path w="21600" h="21600">
                <a:moveTo>
                  <a:pt x="3685" y="11791"/>
                </a:moveTo>
                <a:lnTo>
                  <a:pt x="3685" y="14268"/>
                </a:lnTo>
                <a:lnTo>
                  <a:pt x="4530" y="14268"/>
                </a:lnTo>
                <a:lnTo>
                  <a:pt x="4530" y="11791"/>
                </a:lnTo>
                <a:lnTo>
                  <a:pt x="3685" y="11791"/>
                </a:lnTo>
                <a:close/>
              </a:path>
              <a:path w="21600" h="21600">
                <a:moveTo>
                  <a:pt x="5408" y="11791"/>
                </a:moveTo>
                <a:lnTo>
                  <a:pt x="5408" y="14268"/>
                </a:lnTo>
                <a:lnTo>
                  <a:pt x="6254" y="14268"/>
                </a:lnTo>
                <a:lnTo>
                  <a:pt x="6254" y="11791"/>
                </a:lnTo>
                <a:lnTo>
                  <a:pt x="5408" y="11791"/>
                </a:lnTo>
                <a:close/>
              </a:path>
              <a:path w="21600" h="21600">
                <a:moveTo>
                  <a:pt x="7132" y="11791"/>
                </a:moveTo>
                <a:lnTo>
                  <a:pt x="7132" y="14268"/>
                </a:lnTo>
                <a:lnTo>
                  <a:pt x="7977" y="14268"/>
                </a:lnTo>
                <a:lnTo>
                  <a:pt x="7977" y="11791"/>
                </a:lnTo>
                <a:lnTo>
                  <a:pt x="7132" y="11791"/>
                </a:lnTo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7020000" y="616572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Unidad de disco duro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Text Box 44"/>
          <p:cNvSpPr/>
          <p:nvPr/>
        </p:nvSpPr>
        <p:spPr>
          <a:xfrm>
            <a:off x="1116000" y="189000"/>
            <a:ext cx="6264360" cy="581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opología de Red III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8" name="Text Box 45"/>
          <p:cNvSpPr/>
          <p:nvPr/>
        </p:nvSpPr>
        <p:spPr>
          <a:xfrm>
            <a:off x="250920" y="6237360"/>
            <a:ext cx="590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144360" y="115920"/>
            <a:ext cx="88203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lasificación en función del alcance geográfico que cubre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042920" y="1628640"/>
            <a:ext cx="6697800" cy="25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ec5f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1330200" y="1917720"/>
            <a:ext cx="53294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Redes de área loca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3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Redes de área ampli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4714920" y="1989000"/>
            <a:ext cx="2735280" cy="72072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4572000" y="1989000"/>
            <a:ext cx="295272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Redes de área local (LAN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Centrales privadas (PBX)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4282920" y="3357720"/>
            <a:ext cx="57636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ectangle 13"/>
          <p:cNvSpPr/>
          <p:nvPr/>
        </p:nvSpPr>
        <p:spPr>
          <a:xfrm>
            <a:off x="4859280" y="3141720"/>
            <a:ext cx="2592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4859280" y="3213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Redes WAN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3995640" y="2421000"/>
            <a:ext cx="647640" cy="0"/>
          </a:xfrm>
          <a:prstGeom prst="line">
            <a:avLst/>
          </a:prstGeom>
          <a:ln w="38160">
            <a:solidFill>
              <a:srgbClr val="00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entrales telefónicas privadas (PBX) 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89" name="Text Box 132"/>
          <p:cNvSpPr/>
          <p:nvPr/>
        </p:nvSpPr>
        <p:spPr>
          <a:xfrm>
            <a:off x="395280" y="2133720"/>
            <a:ext cx="835344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Transportan voz y datos para crear redes local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VENTAJA: No requieren cableado especia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Alcance: varios cientos de metros (se pueden conectar a otras PBX para aumentar el alcance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Con una PBX se puede escribir una carta en el PC, enviarla a la impresora y marcar a la fotocopiadora y hacer varias copia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Redes de Área Local (LAN) 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76480" y="3726000"/>
            <a:ext cx="2057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68360" y="1052640"/>
            <a:ext cx="8136000" cy="1296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as Redes LAN abarcan una distancia limitada, y conectan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dispositivos (usualmente PCs) en un radio de 650 m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5580000" y="3213000"/>
            <a:ext cx="863640" cy="115272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152720"/>
              <a:gd name="textAreaBottom" fmla="*/ 1110600 h 1152720"/>
            </a:gdLst>
            <a:ahLst/>
            <a:rect l="textAreaLeft" t="textAreaTop" r="textAreaRight" b="textAreaBottom"/>
            <a:pathLst>
              <a:path w="21600" h="28827">
                <a:moveTo>
                  <a:pt x="3600" y="0"/>
                </a:moveTo>
                <a:arcTo wR="3600" hR="3600" stAng="16200000" swAng="-5400000"/>
                <a:lnTo>
                  <a:pt x="0" y="25227"/>
                </a:lnTo>
                <a:arcTo wR="3600" hR="3600" stAng="10800000" swAng="-5400000"/>
                <a:lnTo>
                  <a:pt x="18000" y="288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18ff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5508720" y="3284640"/>
            <a:ext cx="9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servidor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580000" y="3645000"/>
            <a:ext cx="79236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5508720" y="371628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Sistema Operativo de red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Oval 9"/>
          <p:cNvSpPr/>
          <p:nvPr/>
        </p:nvSpPr>
        <p:spPr>
          <a:xfrm>
            <a:off x="6012000" y="4437000"/>
            <a:ext cx="720720" cy="720720"/>
          </a:xfrm>
          <a:prstGeom prst="ellipse">
            <a:avLst/>
          </a:prstGeom>
          <a:solidFill>
            <a:srgbClr val="618ff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3132000" y="4595760"/>
            <a:ext cx="790560" cy="57636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AutoShape 11"/>
          <p:cNvSpPr/>
          <p:nvPr/>
        </p:nvSpPr>
        <p:spPr>
          <a:xfrm>
            <a:off x="4427640" y="4581360"/>
            <a:ext cx="1081080" cy="57636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2"/>
          <p:cNvSpPr/>
          <p:nvPr/>
        </p:nvSpPr>
        <p:spPr>
          <a:xfrm>
            <a:off x="3924360" y="4869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5508720" y="486900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Line 14"/>
          <p:cNvSpPr/>
          <p:nvPr/>
        </p:nvSpPr>
        <p:spPr>
          <a:xfrm>
            <a:off x="5292720" y="4365720"/>
            <a:ext cx="50328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5"/>
          <p:cNvSpPr/>
          <p:nvPr/>
        </p:nvSpPr>
        <p:spPr>
          <a:xfrm flipV="1">
            <a:off x="5508720" y="5157360"/>
            <a:ext cx="57456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6804000" y="4941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Line 17"/>
          <p:cNvSpPr/>
          <p:nvPr/>
        </p:nvSpPr>
        <p:spPr>
          <a:xfrm flipH="1">
            <a:off x="6659280" y="4076640"/>
            <a:ext cx="93492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8"/>
          <p:cNvSpPr/>
          <p:nvPr/>
        </p:nvSpPr>
        <p:spPr>
          <a:xfrm>
            <a:off x="6588000" y="5157720"/>
            <a:ext cx="648000" cy="35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4140360" y="3357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Impresora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8244000" y="3573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PC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8532720" y="479736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PC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7380360" y="573408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PC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5508720" y="573408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PC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2987640" y="47386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Otra red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4427640" y="465300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Arial"/>
              </a:rPr>
              <a:t>Puerta de red</a:t>
            </a: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rinter2"/>
          <p:cNvSpPr/>
          <p:nvPr/>
        </p:nvSpPr>
        <p:spPr>
          <a:xfrm>
            <a:off x="4284720" y="3789360"/>
            <a:ext cx="1079280" cy="576360"/>
          </a:xfrm>
          <a:custGeom>
            <a:avLst/>
            <a:gdLst>
              <a:gd name="textAreaLeft" fmla="*/ 69480 w 1079280"/>
              <a:gd name="textAreaRight" fmla="*/ 1012680 w 1079280"/>
              <a:gd name="textAreaTop" fmla="*/ 621720 h 576360"/>
              <a:gd name="textAreaBottom" fmla="*/ 831240 h 576360"/>
            </a:gdLst>
            <a:ahLst/>
            <a:rect l="textAreaLeft" t="textAreaTop" r="textAreaRight" b="textAreaBottom"/>
            <a:pathLst>
              <a:path w="21600" h="21600">
                <a:moveTo>
                  <a:pt x="10673" y="0"/>
                </a:moveTo>
                <a:lnTo>
                  <a:pt x="19186" y="0"/>
                </a:lnTo>
                <a:lnTo>
                  <a:pt x="21600" y="4703"/>
                </a:lnTo>
                <a:lnTo>
                  <a:pt x="21600" y="10800"/>
                </a:lnTo>
                <a:lnTo>
                  <a:pt x="21600" y="16548"/>
                </a:lnTo>
                <a:lnTo>
                  <a:pt x="18042" y="16548"/>
                </a:lnTo>
                <a:lnTo>
                  <a:pt x="18042" y="21600"/>
                </a:lnTo>
                <a:lnTo>
                  <a:pt x="10673" y="21600"/>
                </a:lnTo>
                <a:lnTo>
                  <a:pt x="3176" y="21600"/>
                </a:lnTo>
                <a:lnTo>
                  <a:pt x="3176" y="16548"/>
                </a:lnTo>
                <a:lnTo>
                  <a:pt x="0" y="16548"/>
                </a:lnTo>
                <a:lnTo>
                  <a:pt x="0" y="10800"/>
                </a:lnTo>
                <a:lnTo>
                  <a:pt x="0" y="4703"/>
                </a:lnTo>
                <a:lnTo>
                  <a:pt x="2414" y="0"/>
                </a:lnTo>
                <a:lnTo>
                  <a:pt x="10673" y="0"/>
                </a:lnTo>
                <a:close/>
              </a:path>
              <a:path w="21600" h="21600">
                <a:moveTo>
                  <a:pt x="0" y="4703"/>
                </a:moveTo>
                <a:lnTo>
                  <a:pt x="3558" y="4703"/>
                </a:lnTo>
                <a:lnTo>
                  <a:pt x="17026" y="4703"/>
                </a:lnTo>
                <a:lnTo>
                  <a:pt x="21600" y="4703"/>
                </a:lnTo>
                <a:lnTo>
                  <a:pt x="0" y="4703"/>
                </a:lnTo>
                <a:moveTo>
                  <a:pt x="16518" y="4703"/>
                </a:moveTo>
                <a:lnTo>
                  <a:pt x="16518" y="10452"/>
                </a:lnTo>
                <a:lnTo>
                  <a:pt x="0" y="10452"/>
                </a:lnTo>
                <a:moveTo>
                  <a:pt x="4320" y="16548"/>
                </a:moveTo>
                <a:lnTo>
                  <a:pt x="4320" y="17419"/>
                </a:lnTo>
                <a:lnTo>
                  <a:pt x="4320" y="20555"/>
                </a:lnTo>
                <a:lnTo>
                  <a:pt x="4320" y="21600"/>
                </a:lnTo>
                <a:lnTo>
                  <a:pt x="4320" y="16548"/>
                </a:lnTo>
                <a:moveTo>
                  <a:pt x="16899" y="16548"/>
                </a:moveTo>
                <a:lnTo>
                  <a:pt x="16899" y="17419"/>
                </a:lnTo>
                <a:lnTo>
                  <a:pt x="16899" y="20555"/>
                </a:lnTo>
                <a:lnTo>
                  <a:pt x="16899" y="21600"/>
                </a:lnTo>
                <a:lnTo>
                  <a:pt x="16899" y="16548"/>
                </a:lnTo>
                <a:moveTo>
                  <a:pt x="15247" y="14981"/>
                </a:moveTo>
                <a:lnTo>
                  <a:pt x="15247" y="10452"/>
                </a:lnTo>
                <a:lnTo>
                  <a:pt x="16899" y="16548"/>
                </a:lnTo>
                <a:lnTo>
                  <a:pt x="18042" y="16548"/>
                </a:lnTo>
                <a:lnTo>
                  <a:pt x="16518" y="10452"/>
                </a:lnTo>
                <a:moveTo>
                  <a:pt x="15247" y="14981"/>
                </a:moveTo>
                <a:lnTo>
                  <a:pt x="15247" y="14981"/>
                </a:lnTo>
                <a:lnTo>
                  <a:pt x="16772" y="17942"/>
                </a:lnTo>
                <a:lnTo>
                  <a:pt x="4447" y="17942"/>
                </a:lnTo>
                <a:lnTo>
                  <a:pt x="5972" y="14981"/>
                </a:lnTo>
                <a:lnTo>
                  <a:pt x="5972" y="10452"/>
                </a:lnTo>
                <a:lnTo>
                  <a:pt x="4320" y="16548"/>
                </a:lnTo>
                <a:lnTo>
                  <a:pt x="3176" y="16548"/>
                </a:lnTo>
                <a:lnTo>
                  <a:pt x="4701" y="10452"/>
                </a:lnTo>
                <a:moveTo>
                  <a:pt x="20202" y="5574"/>
                </a:moveTo>
                <a:lnTo>
                  <a:pt x="20711" y="5574"/>
                </a:lnTo>
                <a:lnTo>
                  <a:pt x="20711" y="7839"/>
                </a:lnTo>
                <a:lnTo>
                  <a:pt x="20202" y="7839"/>
                </a:lnTo>
                <a:lnTo>
                  <a:pt x="20202" y="5574"/>
                </a:lnTo>
                <a:moveTo>
                  <a:pt x="5972" y="14981"/>
                </a:moveTo>
                <a:lnTo>
                  <a:pt x="7496" y="14981"/>
                </a:lnTo>
                <a:lnTo>
                  <a:pt x="13341" y="14981"/>
                </a:lnTo>
                <a:lnTo>
                  <a:pt x="15247" y="14981"/>
                </a:lnTo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computr3"/>
          <p:cNvSpPr/>
          <p:nvPr/>
        </p:nvSpPr>
        <p:spPr>
          <a:xfrm>
            <a:off x="4859280" y="5589720"/>
            <a:ext cx="865080" cy="720720"/>
          </a:xfrm>
          <a:custGeom>
            <a:avLst/>
            <a:gdLst>
              <a:gd name="textAreaLeft" fmla="*/ 312840 w 865080"/>
              <a:gd name="textAreaRight" fmla="*/ 655200 w 865080"/>
              <a:gd name="textAreaTop" fmla="*/ 86040 h 720720"/>
              <a:gd name="textAreaBottom" fmla="*/ 392400 h 72072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computr3"/>
          <p:cNvSpPr/>
          <p:nvPr/>
        </p:nvSpPr>
        <p:spPr>
          <a:xfrm>
            <a:off x="6732720" y="5589720"/>
            <a:ext cx="865080" cy="647640"/>
          </a:xfrm>
          <a:custGeom>
            <a:avLst/>
            <a:gdLst>
              <a:gd name="textAreaLeft" fmla="*/ 312840 w 865080"/>
              <a:gd name="textAreaRight" fmla="*/ 655200 w 865080"/>
              <a:gd name="textAreaTop" fmla="*/ 77400 h 647640"/>
              <a:gd name="textAreaBottom" fmla="*/ 352800 h 64764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computr3"/>
          <p:cNvSpPr/>
          <p:nvPr/>
        </p:nvSpPr>
        <p:spPr>
          <a:xfrm>
            <a:off x="7596360" y="4653000"/>
            <a:ext cx="863280" cy="720720"/>
          </a:xfrm>
          <a:custGeom>
            <a:avLst/>
            <a:gdLst>
              <a:gd name="textAreaLeft" fmla="*/ 312120 w 863280"/>
              <a:gd name="textAreaRight" fmla="*/ 653760 w 863280"/>
              <a:gd name="textAreaTop" fmla="*/ 86040 h 720720"/>
              <a:gd name="textAreaBottom" fmla="*/ 392400 h 72072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computr3"/>
          <p:cNvSpPr/>
          <p:nvPr/>
        </p:nvSpPr>
        <p:spPr>
          <a:xfrm>
            <a:off x="7667640" y="3500280"/>
            <a:ext cx="793800" cy="720720"/>
          </a:xfrm>
          <a:custGeom>
            <a:avLst/>
            <a:gdLst>
              <a:gd name="textAreaLeft" fmla="*/ 286920 w 793800"/>
              <a:gd name="textAreaRight" fmla="*/ 601200 w 793800"/>
              <a:gd name="textAreaTop" fmla="*/ 86040 h 720720"/>
              <a:gd name="textAreaBottom" fmla="*/ 392400 h 720720"/>
            </a:gdLst>
            <a:ahLst/>
            <a:rect l="textAreaLeft" t="textAreaTop" r="textAreaRight" b="textAreaBottom"/>
            <a:pathLst>
              <a:path w="21600" h="21600">
                <a:moveTo>
                  <a:pt x="18250" y="17743"/>
                </a:moveTo>
                <a:lnTo>
                  <a:pt x="17557" y="16971"/>
                </a:lnTo>
                <a:lnTo>
                  <a:pt x="5429" y="16971"/>
                </a:lnTo>
                <a:lnTo>
                  <a:pt x="4736" y="17743"/>
                </a:lnTo>
                <a:lnTo>
                  <a:pt x="18250" y="17743"/>
                </a:lnTo>
                <a:close/>
              </a:path>
              <a:path w="21600" h="21600">
                <a:moveTo>
                  <a:pt x="18250" y="17743"/>
                </a:moveTo>
                <a:moveTo>
                  <a:pt x="19405" y="19131"/>
                </a:moveTo>
                <a:lnTo>
                  <a:pt x="18712" y="18360"/>
                </a:lnTo>
                <a:lnTo>
                  <a:pt x="4274" y="18360"/>
                </a:lnTo>
                <a:lnTo>
                  <a:pt x="3581" y="19131"/>
                </a:lnTo>
                <a:lnTo>
                  <a:pt x="19405" y="19131"/>
                </a:lnTo>
                <a:close/>
              </a:path>
              <a:path w="21600" h="21600">
                <a:moveTo>
                  <a:pt x="19405" y="19131"/>
                </a:moveTo>
                <a:moveTo>
                  <a:pt x="20560" y="20520"/>
                </a:moveTo>
                <a:lnTo>
                  <a:pt x="19867" y="19749"/>
                </a:lnTo>
                <a:lnTo>
                  <a:pt x="3119" y="19749"/>
                </a:lnTo>
                <a:lnTo>
                  <a:pt x="2426" y="20520"/>
                </a:lnTo>
                <a:lnTo>
                  <a:pt x="20560" y="20520"/>
                </a:lnTo>
                <a:close/>
              </a:path>
              <a:path w="21600" h="21600">
                <a:moveTo>
                  <a:pt x="20560" y="20520"/>
                </a:moveTo>
                <a:moveTo>
                  <a:pt x="4620" y="16971"/>
                </a:moveTo>
                <a:lnTo>
                  <a:pt x="5313" y="16200"/>
                </a:lnTo>
                <a:lnTo>
                  <a:pt x="7624" y="16200"/>
                </a:lnTo>
                <a:lnTo>
                  <a:pt x="7624" y="14194"/>
                </a:lnTo>
                <a:lnTo>
                  <a:pt x="5891" y="14194"/>
                </a:lnTo>
                <a:lnTo>
                  <a:pt x="5891" y="0"/>
                </a:lnTo>
                <a:lnTo>
                  <a:pt x="12013" y="0"/>
                </a:lnTo>
                <a:lnTo>
                  <a:pt x="18135" y="0"/>
                </a:lnTo>
                <a:lnTo>
                  <a:pt x="18135" y="10800"/>
                </a:lnTo>
                <a:lnTo>
                  <a:pt x="18135" y="14194"/>
                </a:lnTo>
                <a:lnTo>
                  <a:pt x="16402" y="14194"/>
                </a:lnTo>
                <a:lnTo>
                  <a:pt x="16402" y="16200"/>
                </a:lnTo>
                <a:lnTo>
                  <a:pt x="17788" y="16200"/>
                </a:lnTo>
                <a:lnTo>
                  <a:pt x="19059" y="17743"/>
                </a:lnTo>
                <a:lnTo>
                  <a:pt x="21022" y="19903"/>
                </a:lnTo>
                <a:lnTo>
                  <a:pt x="21253" y="20057"/>
                </a:lnTo>
                <a:lnTo>
                  <a:pt x="21369" y="20366"/>
                </a:lnTo>
                <a:lnTo>
                  <a:pt x="21600" y="20674"/>
                </a:lnTo>
                <a:lnTo>
                  <a:pt x="21600" y="20829"/>
                </a:lnTo>
                <a:lnTo>
                  <a:pt x="21600" y="20983"/>
                </a:lnTo>
                <a:lnTo>
                  <a:pt x="21600" y="21137"/>
                </a:lnTo>
                <a:lnTo>
                  <a:pt x="21600" y="21291"/>
                </a:lnTo>
                <a:lnTo>
                  <a:pt x="21484" y="21446"/>
                </a:lnTo>
                <a:lnTo>
                  <a:pt x="21369" y="21446"/>
                </a:lnTo>
                <a:lnTo>
                  <a:pt x="21138" y="21600"/>
                </a:lnTo>
                <a:lnTo>
                  <a:pt x="21022" y="21600"/>
                </a:lnTo>
                <a:lnTo>
                  <a:pt x="10973" y="21600"/>
                </a:lnTo>
                <a:lnTo>
                  <a:pt x="2079" y="21600"/>
                </a:lnTo>
                <a:lnTo>
                  <a:pt x="1848" y="21600"/>
                </a:lnTo>
                <a:lnTo>
                  <a:pt x="1733" y="21446"/>
                </a:lnTo>
                <a:lnTo>
                  <a:pt x="1617" y="21446"/>
                </a:lnTo>
                <a:lnTo>
                  <a:pt x="1502" y="21291"/>
                </a:lnTo>
                <a:lnTo>
                  <a:pt x="1386" y="21291"/>
                </a:lnTo>
                <a:lnTo>
                  <a:pt x="1386" y="21137"/>
                </a:lnTo>
                <a:lnTo>
                  <a:pt x="1386" y="20983"/>
                </a:lnTo>
                <a:lnTo>
                  <a:pt x="1386" y="20829"/>
                </a:lnTo>
                <a:lnTo>
                  <a:pt x="1502" y="20674"/>
                </a:lnTo>
                <a:lnTo>
                  <a:pt x="1617" y="20366"/>
                </a:lnTo>
                <a:lnTo>
                  <a:pt x="1733" y="20057"/>
                </a:lnTo>
                <a:lnTo>
                  <a:pt x="1964" y="19903"/>
                </a:lnTo>
                <a:lnTo>
                  <a:pt x="0" y="19903"/>
                </a:lnTo>
                <a:lnTo>
                  <a:pt x="0" y="10800"/>
                </a:lnTo>
                <a:lnTo>
                  <a:pt x="0" y="2777"/>
                </a:lnTo>
                <a:lnTo>
                  <a:pt x="4620" y="2777"/>
                </a:lnTo>
                <a:lnTo>
                  <a:pt x="4620" y="16971"/>
                </a:lnTo>
                <a:moveTo>
                  <a:pt x="4620" y="16971"/>
                </a:moveTo>
                <a:moveTo>
                  <a:pt x="4620" y="16971"/>
                </a:moveTo>
                <a:lnTo>
                  <a:pt x="4158" y="17434"/>
                </a:lnTo>
                <a:lnTo>
                  <a:pt x="2541" y="19286"/>
                </a:lnTo>
                <a:lnTo>
                  <a:pt x="1964" y="19903"/>
                </a:lnTo>
                <a:lnTo>
                  <a:pt x="4620" y="16971"/>
                </a:lnTo>
                <a:close/>
              </a:path>
              <a:path w="21600" h="21600">
                <a:moveTo>
                  <a:pt x="7624" y="2314"/>
                </a:moveTo>
                <a:moveTo>
                  <a:pt x="16402" y="2314"/>
                </a:moveTo>
                <a:lnTo>
                  <a:pt x="16402" y="11880"/>
                </a:lnTo>
                <a:lnTo>
                  <a:pt x="7624" y="11880"/>
                </a:lnTo>
                <a:lnTo>
                  <a:pt x="7624" y="2314"/>
                </a:lnTo>
                <a:lnTo>
                  <a:pt x="16402" y="2314"/>
                </a:lnTo>
                <a:close/>
              </a:path>
              <a:path w="21600" h="21600">
                <a:moveTo>
                  <a:pt x="578" y="4011"/>
                </a:moveTo>
                <a:moveTo>
                  <a:pt x="4043" y="4011"/>
                </a:moveTo>
                <a:lnTo>
                  <a:pt x="4043" y="4320"/>
                </a:lnTo>
                <a:lnTo>
                  <a:pt x="578" y="4320"/>
                </a:lnTo>
                <a:lnTo>
                  <a:pt x="578" y="4011"/>
                </a:lnTo>
                <a:lnTo>
                  <a:pt x="4043" y="4011"/>
                </a:lnTo>
                <a:close/>
                <a:moveTo>
                  <a:pt x="7624" y="14194"/>
                </a:moveTo>
                <a:lnTo>
                  <a:pt x="16402" y="14194"/>
                </a:lnTo>
                <a:lnTo>
                  <a:pt x="16402" y="16200"/>
                </a:lnTo>
                <a:lnTo>
                  <a:pt x="7624" y="16200"/>
                </a:lnTo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AutoShape 31"/>
          <p:cNvSpPr/>
          <p:nvPr/>
        </p:nvSpPr>
        <p:spPr>
          <a:xfrm>
            <a:off x="106200" y="2492280"/>
            <a:ext cx="3313440" cy="20145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179280" y="2633760"/>
            <a:ext cx="3203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+ capacidad de transmisión que una PBX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bleado o inalámbric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san red de anillo y de b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4356000" y="26719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COMPONENTES DE UNA LA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49780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LAN inalámbrica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1282680" y="6680160"/>
            <a:ext cx="2057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95280" y="1341360"/>
            <a:ext cx="8136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36"/>
          <p:cNvSpPr/>
          <p:nvPr/>
        </p:nvSpPr>
        <p:spPr>
          <a:xfrm>
            <a:off x="179280" y="1773360"/>
            <a:ext cx="856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99"/>
                </a:solidFill>
                <a:uFillTx/>
                <a:latin typeface="Arial"/>
              </a:rPr>
              <a:t>WIFI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Instalación en lugares de mod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Coste &lt; 250 € (mucho menos que una LAN fij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Alcance: varios cientos metros (ampliable con antenas en torres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Posibles interferencias de  sistemas cercanos que operen en el mismo espectro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99"/>
                </a:solidFill>
                <a:uFillTx/>
                <a:latin typeface="Arial"/>
              </a:rPr>
              <a:t>BLUETOOTH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Pequeñas redes de área persona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Alcance: 10 metro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7772400" cy="855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Redes de Área Amplia (WAN)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27" name="Text Box 57"/>
          <p:cNvSpPr/>
          <p:nvPr/>
        </p:nvSpPr>
        <p:spPr>
          <a:xfrm>
            <a:off x="324000" y="2060640"/>
            <a:ext cx="3168360" cy="703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des de Área Amplia (WA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Line 58"/>
          <p:cNvSpPr/>
          <p:nvPr/>
        </p:nvSpPr>
        <p:spPr>
          <a:xfrm>
            <a:off x="3492360" y="2565360"/>
            <a:ext cx="11509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AutoShape 59"/>
          <p:cNvSpPr/>
          <p:nvPr/>
        </p:nvSpPr>
        <p:spPr>
          <a:xfrm>
            <a:off x="4716360" y="1916280"/>
            <a:ext cx="4103640" cy="93636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Text Box 60"/>
          <p:cNvSpPr/>
          <p:nvPr/>
        </p:nvSpPr>
        <p:spPr>
          <a:xfrm>
            <a:off x="4788000" y="1989000"/>
            <a:ext cx="38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Abarcan grandes distancias geográficas que van desde varios kilómetros hasta continentes enteros.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66"/>
          <p:cNvSpPr/>
          <p:nvPr/>
        </p:nvSpPr>
        <p:spPr>
          <a:xfrm>
            <a:off x="468360" y="3933720"/>
            <a:ext cx="532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Líneas conmutadas y dedicada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icroondas y satélit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124920"/>
            <a:ext cx="8569440" cy="855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lasificación en función el tipo de servicio</a:t>
            </a:r>
            <a:endParaRPr b="0" lang="en-US" sz="32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79280" y="1844640"/>
            <a:ext cx="3168720" cy="703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des de Valor Agregado (VA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3348000" y="2205000"/>
            <a:ext cx="11509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4572000" y="1555920"/>
            <a:ext cx="4248000" cy="172872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4786200" y="1582560"/>
            <a:ext cx="38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des privadas, SOLO para datos y administradas por terceros, que pueden ofrecer ahorros en el costo del servicio y en la administración de la red al ser usadas por varias organizacion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324000" y="4005360"/>
            <a:ext cx="8208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Forma de pago: cuota de suscripción + cantidad según datos transmitido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Alternativa: utilizar INTERNET, menos caro. VANs proporcionan servicios extras como administración de e-mail, transmisión de datos segura, elaboración de informes y EDI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52"/>
          <p:cNvSpPr/>
          <p:nvPr/>
        </p:nvSpPr>
        <p:spPr>
          <a:xfrm>
            <a:off x="395280" y="1197000"/>
            <a:ext cx="82090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APLICACIONES CLAV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Correo Electrónico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Groupwar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Correo de Voz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Máquinas de Fácsimil (Fax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Servicios de Información Digita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Teleconferencias y Videoconferencia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Intercambio electrónico de Dato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Servicios de información digita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Aprendizaje a distancia, aprendizaje en líne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54"/>
          <p:cNvSpPr/>
          <p:nvPr/>
        </p:nvSpPr>
        <p:spPr>
          <a:xfrm>
            <a:off x="250920" y="85680"/>
            <a:ext cx="856908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cnologías de Comercio Electrónico y Negocios en línea</a:t>
            </a:r>
            <a:br>
              <a:rPr sz="2400"/>
            </a:b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8000" y="287280"/>
            <a:ext cx="89280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cepto de Telecomunicación</a:t>
            </a:r>
            <a:endParaRPr b="0" lang="en-US" sz="40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cc"/>
                </a:solidFill>
                <a:latin typeface="Arial"/>
              </a:rPr>
              <a:t>Comunicación de información por medios electrónicos, a larga distancia</a:t>
            </a:r>
            <a:endParaRPr b="0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58640" y="6234120"/>
            <a:ext cx="1292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62"/>
          <p:cNvSpPr/>
          <p:nvPr/>
        </p:nvSpPr>
        <p:spPr>
          <a:xfrm>
            <a:off x="3564000" y="4437000"/>
            <a:ext cx="5184720" cy="10080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954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Intercambio Electrónico de Datos (EDI)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242" name="AutoShape 6"/>
          <p:cNvSpPr/>
          <p:nvPr/>
        </p:nvSpPr>
        <p:spPr>
          <a:xfrm>
            <a:off x="304920" y="1981080"/>
            <a:ext cx="5059080" cy="72720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55"/>
          <p:cNvSpPr/>
          <p:nvPr/>
        </p:nvSpPr>
        <p:spPr>
          <a:xfrm>
            <a:off x="468360" y="2205000"/>
            <a:ext cx="496728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tercambio Electrónico de Datos (EDI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56"/>
          <p:cNvSpPr/>
          <p:nvPr/>
        </p:nvSpPr>
        <p:spPr>
          <a:xfrm>
            <a:off x="5435640" y="2276640"/>
            <a:ext cx="1081080" cy="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Oval 57"/>
          <p:cNvSpPr/>
          <p:nvPr/>
        </p:nvSpPr>
        <p:spPr>
          <a:xfrm>
            <a:off x="6516720" y="1989000"/>
            <a:ext cx="2376360" cy="1295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Text Box 58"/>
          <p:cNvSpPr/>
          <p:nvPr/>
        </p:nvSpPr>
        <p:spPr>
          <a:xfrm>
            <a:off x="6804000" y="2205000"/>
            <a:ext cx="165564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lave para el comercio electrónic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7" name="AutoShape 59"/>
          <p:cNvCxnSpPr>
            <a:stCxn id="242" idx="1"/>
            <a:endCxn id="248" idx="1"/>
          </p:cNvCxnSpPr>
          <p:nvPr/>
        </p:nvCxnSpPr>
        <p:spPr>
          <a:xfrm flipH="1" flipV="1" rot="10800000">
            <a:off x="303840" y="2344320"/>
            <a:ext cx="91080" cy="1302480"/>
          </a:xfrm>
          <a:prstGeom prst="bentConnector3">
            <a:avLst>
              <a:gd name="adj1" fmla="val -252380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48" name="AutoShape 60"/>
          <p:cNvSpPr/>
          <p:nvPr/>
        </p:nvSpPr>
        <p:spPr>
          <a:xfrm>
            <a:off x="395280" y="3141720"/>
            <a:ext cx="5184720" cy="1008000"/>
          </a:xfrm>
          <a:prstGeom prst="foldedCorner">
            <a:avLst>
              <a:gd name="adj" fmla="val 12500"/>
            </a:avLst>
          </a:prstGeom>
          <a:solidFill>
            <a:srgbClr val="0000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61"/>
          <p:cNvSpPr/>
          <p:nvPr/>
        </p:nvSpPr>
        <p:spPr>
          <a:xfrm>
            <a:off x="3780000" y="4508640"/>
            <a:ext cx="4895640" cy="862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duce costos de transaccione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frece beneficios estratégico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 Box 63"/>
          <p:cNvSpPr/>
          <p:nvPr/>
        </p:nvSpPr>
        <p:spPr>
          <a:xfrm>
            <a:off x="395280" y="3141720"/>
            <a:ext cx="496872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ermite el intercambio directo de ordenador a ordenador , de documentos de transacciones estándar entre dos organizacion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1" name="AutoShape 64"/>
          <p:cNvCxnSpPr>
            <a:stCxn id="245" idx="4"/>
            <a:endCxn id="249" idx="0"/>
          </p:cNvCxnSpPr>
          <p:nvPr/>
        </p:nvCxnSpPr>
        <p:spPr>
          <a:xfrm rot="5400000">
            <a:off x="6354000" y="3157560"/>
            <a:ext cx="1224720" cy="1478880"/>
          </a:xfrm>
          <a:prstGeom prst="bentConnector3">
            <a:avLst>
              <a:gd name="adj1" fmla="val 49926"/>
            </a:avLst>
          </a:prstGeom>
          <a:ln w="25560">
            <a:solidFill>
              <a:srgbClr val="0033cc"/>
            </a:solidFill>
            <a:miter/>
            <a:tailEnd len="med" type="triangle" w="med"/>
          </a:ln>
        </p:spPr>
      </p:cxn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826920" y="260280"/>
            <a:ext cx="6985080" cy="642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Funcionamiento del EDI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AutoShape 52"/>
          <p:cNvSpPr/>
          <p:nvPr/>
        </p:nvSpPr>
        <p:spPr>
          <a:xfrm>
            <a:off x="1258920" y="2421000"/>
            <a:ext cx="2808360" cy="287964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2879640"/>
              <a:gd name="textAreaBottom" fmla="*/ 2742840 h 2879640"/>
            </a:gdLst>
            <a:ahLst/>
            <a:rect l="textAreaLeft" t="textAreaTop" r="textAreaRight" b="textAreaBottom"/>
            <a:pathLst>
              <a:path w="21600" h="22148">
                <a:moveTo>
                  <a:pt x="3600" y="0"/>
                </a:moveTo>
                <a:arcTo wR="3600" hR="3600" stAng="16200000" swAng="-5400000"/>
                <a:lnTo>
                  <a:pt x="0" y="18548"/>
                </a:lnTo>
                <a:arcTo wR="3600" hR="3600" stAng="10800000" swAng="-5400000"/>
                <a:lnTo>
                  <a:pt x="18000" y="221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AutoShape 53"/>
          <p:cNvSpPr/>
          <p:nvPr/>
        </p:nvSpPr>
        <p:spPr>
          <a:xfrm>
            <a:off x="5076720" y="2349360"/>
            <a:ext cx="2808360" cy="2880000"/>
          </a:xfrm>
          <a:custGeom>
            <a:avLst/>
            <a:gdLst>
              <a:gd name="textAreaLeft" fmla="*/ 136800 w 2808360"/>
              <a:gd name="textAreaRight" fmla="*/ 2671560 w 2808360"/>
              <a:gd name="textAreaTop" fmla="*/ 136800 h 2880000"/>
              <a:gd name="textAreaBottom" fmla="*/ 2743200 h 2880000"/>
            </a:gdLst>
            <a:ahLst/>
            <a:rect l="textAreaLeft" t="textAreaTop" r="textAreaRight" b="textAreaBottom"/>
            <a:pathLst>
              <a:path w="21600" h="22151">
                <a:moveTo>
                  <a:pt x="3600" y="0"/>
                </a:moveTo>
                <a:arcTo wR="3600" hR="3600" stAng="16200000" swAng="-5400000"/>
                <a:lnTo>
                  <a:pt x="0" y="18551"/>
                </a:lnTo>
                <a:arcTo wR="3600" hR="3600" stAng="10800000" swAng="-5400000"/>
                <a:lnTo>
                  <a:pt x="18000" y="221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18ffd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54"/>
          <p:cNvSpPr/>
          <p:nvPr/>
        </p:nvSpPr>
        <p:spPr>
          <a:xfrm>
            <a:off x="1835280" y="2997360"/>
            <a:ext cx="1584360" cy="180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55"/>
          <p:cNvSpPr/>
          <p:nvPr/>
        </p:nvSpPr>
        <p:spPr>
          <a:xfrm>
            <a:off x="5651640" y="2997360"/>
            <a:ext cx="1584360" cy="1800000"/>
          </a:xfrm>
          <a:prstGeom prst="rect">
            <a:avLst/>
          </a:prstGeom>
          <a:solidFill>
            <a:srgbClr val="618ffd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1979640" y="371628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Ordenado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5796000" y="378936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Ordenador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1619280" y="1916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Proveedo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5508720" y="1916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Client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Line 60"/>
          <p:cNvSpPr/>
          <p:nvPr/>
        </p:nvSpPr>
        <p:spPr>
          <a:xfrm flipH="1">
            <a:off x="3419640" y="3141720"/>
            <a:ext cx="22320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Line 61"/>
          <p:cNvSpPr/>
          <p:nvPr/>
        </p:nvSpPr>
        <p:spPr>
          <a:xfrm flipH="1">
            <a:off x="3419640" y="3500280"/>
            <a:ext cx="22320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Text Box 62"/>
          <p:cNvSpPr/>
          <p:nvPr/>
        </p:nvSpPr>
        <p:spPr>
          <a:xfrm>
            <a:off x="3492360" y="2781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Órdenes de compr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Text Box 63"/>
          <p:cNvSpPr/>
          <p:nvPr/>
        </p:nvSpPr>
        <p:spPr>
          <a:xfrm>
            <a:off x="3635280" y="321300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Pago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Line 64"/>
          <p:cNvSpPr/>
          <p:nvPr/>
        </p:nvSpPr>
        <p:spPr>
          <a:xfrm flipH="1">
            <a:off x="3419640" y="3860640"/>
            <a:ext cx="22320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 Box 65"/>
          <p:cNvSpPr/>
          <p:nvPr/>
        </p:nvSpPr>
        <p:spPr>
          <a:xfrm>
            <a:off x="3492360" y="350028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visos de embarqu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66"/>
          <p:cNvSpPr/>
          <p:nvPr/>
        </p:nvSpPr>
        <p:spPr>
          <a:xfrm flipH="1">
            <a:off x="3419640" y="4292640"/>
            <a:ext cx="22320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67"/>
          <p:cNvSpPr/>
          <p:nvPr/>
        </p:nvSpPr>
        <p:spPr>
          <a:xfrm>
            <a:off x="3276720" y="393372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Actualizaciones de preci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68"/>
          <p:cNvSpPr/>
          <p:nvPr/>
        </p:nvSpPr>
        <p:spPr>
          <a:xfrm flipH="1">
            <a:off x="3419640" y="4653000"/>
            <a:ext cx="22320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Text Box 69"/>
          <p:cNvSpPr/>
          <p:nvPr/>
        </p:nvSpPr>
        <p:spPr>
          <a:xfrm>
            <a:off x="3419640" y="42926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99"/>
                </a:solidFill>
                <a:latin typeface="Arial"/>
              </a:rPr>
              <a:t>Factura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7"/>
          <p:cNvSpPr/>
          <p:nvPr/>
        </p:nvSpPr>
        <p:spPr>
          <a:xfrm>
            <a:off x="179280" y="1484280"/>
            <a:ext cx="8496360" cy="511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49636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mponentes de un Sistema de Telecomunicaciones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7" name="Text Box 50"/>
          <p:cNvSpPr/>
          <p:nvPr/>
        </p:nvSpPr>
        <p:spPr>
          <a:xfrm>
            <a:off x="179280" y="1125360"/>
            <a:ext cx="8713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Ordenador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Terminales o Dispositivos que Envíe/Reciba dato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Canales de Comunicación 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(medios de comunicación: línea telefónica, cabe de fibra óptima, transmisión inalámbric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Procesadores de Comunicación (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soporte para la transmisión/recepción datos: módems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Software de Comunicacion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54000"/>
            <a:ext cx="8928000" cy="782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Funciones de un Sistema de Telecomunicaciones</a:t>
            </a: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404640"/>
            <a:ext cx="89647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Transmisión de Informació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stablecer la Interfase entre el Transmisor y el Recepto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Canalizar los mensajes por los rutas más Eficiente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Procesamiento de Informació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Edición de Dato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Conversión mensajes </a:t>
            </a: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de una velocidad (ordenador) a la velocidad de la línea de comunicació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Arial"/>
              </a:rPr>
              <a:t>Controlar el Flujo de Informació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71280" y="6375240"/>
            <a:ext cx="8964720" cy="368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os distintos componentes de una red tienen que hablar entre sí: PROTOCOL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de Señales: Analógicas y Digitales</a:t>
            </a:r>
            <a:endParaRPr b="0" lang="en-US" sz="2800" spc="-1" strike="noStrike">
              <a:solidFill>
                <a:srgbClr val="cc0066"/>
              </a:solidFill>
              <a:latin typeface="Times New Roman"/>
            </a:endParaRPr>
          </a:p>
        </p:txBody>
      </p:sp>
      <p:graphicFrame>
        <p:nvGraphicFramePr>
          <p:cNvPr id="52" name="Object 100"/>
          <p:cNvGraphicFramePr/>
          <p:nvPr/>
        </p:nvGraphicFramePr>
        <p:xfrm>
          <a:off x="5219640" y="4149720"/>
          <a:ext cx="3810240" cy="25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0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4149720"/>
                    <a:ext cx="3810240" cy="258912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4" name="Rectangle 54"/>
          <p:cNvSpPr/>
          <p:nvPr/>
        </p:nvSpPr>
        <p:spPr>
          <a:xfrm>
            <a:off x="468360" y="2708280"/>
            <a:ext cx="1800000" cy="57636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AutoShape 55"/>
          <p:cNvSpPr/>
          <p:nvPr/>
        </p:nvSpPr>
        <p:spPr>
          <a:xfrm>
            <a:off x="3203640" y="2708280"/>
            <a:ext cx="863640" cy="504720"/>
          </a:xfrm>
          <a:custGeom>
            <a:avLst/>
            <a:gdLst>
              <a:gd name="textAreaLeft" fmla="*/ 180000 w 863640"/>
              <a:gd name="textAreaRight" fmla="*/ 684000 w 863640"/>
              <a:gd name="textAreaTop" fmla="*/ 105120 h 504720"/>
              <a:gd name="textAreaBottom" fmla="*/ 3996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b4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AutoShape 56"/>
          <p:cNvSpPr/>
          <p:nvPr/>
        </p:nvSpPr>
        <p:spPr>
          <a:xfrm>
            <a:off x="5219640" y="2708280"/>
            <a:ext cx="792360" cy="504720"/>
          </a:xfrm>
          <a:custGeom>
            <a:avLst/>
            <a:gdLst>
              <a:gd name="textAreaLeft" fmla="*/ 164880 w 792360"/>
              <a:gd name="textAreaRight" fmla="*/ 627480 w 792360"/>
              <a:gd name="textAreaTop" fmla="*/ 105120 h 504720"/>
              <a:gd name="textAreaBottom" fmla="*/ 39960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ac2fe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Rectangle 57"/>
          <p:cNvSpPr/>
          <p:nvPr/>
        </p:nvSpPr>
        <p:spPr>
          <a:xfrm>
            <a:off x="7093080" y="2637000"/>
            <a:ext cx="1800000" cy="576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Line 58"/>
          <p:cNvSpPr/>
          <p:nvPr/>
        </p:nvSpPr>
        <p:spPr>
          <a:xfrm>
            <a:off x="2268360" y="2997360"/>
            <a:ext cx="216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Line 59"/>
          <p:cNvSpPr/>
          <p:nvPr/>
        </p:nvSpPr>
        <p:spPr>
          <a:xfrm flipV="1">
            <a:off x="2484360" y="278136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Line 60"/>
          <p:cNvSpPr/>
          <p:nvPr/>
        </p:nvSpPr>
        <p:spPr>
          <a:xfrm>
            <a:off x="2484360" y="2781360"/>
            <a:ext cx="216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Line 61"/>
          <p:cNvSpPr/>
          <p:nvPr/>
        </p:nvSpPr>
        <p:spPr>
          <a:xfrm flipV="1">
            <a:off x="2700360" y="278136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Line 62"/>
          <p:cNvSpPr/>
          <p:nvPr/>
        </p:nvSpPr>
        <p:spPr>
          <a:xfrm>
            <a:off x="2700360" y="2997360"/>
            <a:ext cx="216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Line 63"/>
          <p:cNvSpPr/>
          <p:nvPr/>
        </p:nvSpPr>
        <p:spPr>
          <a:xfrm flipV="1">
            <a:off x="2916360" y="278136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Line 64"/>
          <p:cNvSpPr/>
          <p:nvPr/>
        </p:nvSpPr>
        <p:spPr>
          <a:xfrm>
            <a:off x="2916360" y="2781360"/>
            <a:ext cx="2156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Line 65"/>
          <p:cNvSpPr/>
          <p:nvPr/>
        </p:nvSpPr>
        <p:spPr>
          <a:xfrm flipV="1">
            <a:off x="3132000" y="278136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Line 66"/>
          <p:cNvSpPr/>
          <p:nvPr/>
        </p:nvSpPr>
        <p:spPr>
          <a:xfrm>
            <a:off x="3132000" y="2997360"/>
            <a:ext cx="216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Line 74"/>
          <p:cNvSpPr/>
          <p:nvPr/>
        </p:nvSpPr>
        <p:spPr>
          <a:xfrm>
            <a:off x="5940360" y="2924280"/>
            <a:ext cx="216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Line 75"/>
          <p:cNvSpPr/>
          <p:nvPr/>
        </p:nvSpPr>
        <p:spPr>
          <a:xfrm flipV="1">
            <a:off x="6156360" y="270828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Line 76"/>
          <p:cNvSpPr/>
          <p:nvPr/>
        </p:nvSpPr>
        <p:spPr>
          <a:xfrm>
            <a:off x="6156360" y="2708280"/>
            <a:ext cx="216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Line 77"/>
          <p:cNvSpPr/>
          <p:nvPr/>
        </p:nvSpPr>
        <p:spPr>
          <a:xfrm>
            <a:off x="6372360" y="2924280"/>
            <a:ext cx="21564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Line 78"/>
          <p:cNvSpPr/>
          <p:nvPr/>
        </p:nvSpPr>
        <p:spPr>
          <a:xfrm flipV="1">
            <a:off x="6588000" y="270828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Line 79"/>
          <p:cNvSpPr/>
          <p:nvPr/>
        </p:nvSpPr>
        <p:spPr>
          <a:xfrm>
            <a:off x="6588000" y="2708280"/>
            <a:ext cx="2160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Line 80"/>
          <p:cNvSpPr/>
          <p:nvPr/>
        </p:nvSpPr>
        <p:spPr>
          <a:xfrm>
            <a:off x="6804000" y="2924280"/>
            <a:ext cx="28728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Line 81"/>
          <p:cNvSpPr/>
          <p:nvPr/>
        </p:nvSpPr>
        <p:spPr>
          <a:xfrm flipV="1">
            <a:off x="6372360" y="270828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Line 82"/>
          <p:cNvSpPr/>
          <p:nvPr/>
        </p:nvSpPr>
        <p:spPr>
          <a:xfrm flipV="1">
            <a:off x="6804000" y="2708280"/>
            <a:ext cx="0" cy="21600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76" name="AutoShape 83"/>
          <p:cNvCxnSpPr>
            <a:stCxn id="55" idx="0"/>
          </p:cNvCxnSpPr>
          <p:nvPr/>
        </p:nvCxnSpPr>
        <p:spPr>
          <a:xfrm>
            <a:off x="3959280" y="2960280"/>
            <a:ext cx="342000" cy="181800"/>
          </a:xfrm>
          <a:prstGeom prst="curvedConnector5">
            <a:avLst>
              <a:gd name="adj1" fmla="val 68282"/>
              <a:gd name="adj2" fmla="val 50000"/>
              <a:gd name="adj3" fmla="val 68282"/>
            </a:avLst>
          </a:prstGeom>
          <a:ln w="9360">
            <a:solidFill>
              <a:srgbClr val="0033cc"/>
            </a:solidFill>
            <a:miter/>
          </a:ln>
        </p:spPr>
      </p:cxnSp>
      <p:cxnSp>
        <p:nvCxnSpPr>
          <p:cNvPr id="77" name="AutoShape 84"/>
          <p:cNvCxnSpPr/>
          <p:nvPr/>
        </p:nvCxnSpPr>
        <p:spPr>
          <a:xfrm flipV="1">
            <a:off x="4284720" y="2997000"/>
            <a:ext cx="289440" cy="144720"/>
          </a:xfrm>
          <a:prstGeom prst="curvedConnector5">
            <a:avLst>
              <a:gd name="adj1" fmla="val 49937"/>
              <a:gd name="adj2" fmla="val 49875"/>
              <a:gd name="adj3" fmla="val 49937"/>
            </a:avLst>
          </a:prstGeom>
          <a:ln w="9360">
            <a:solidFill>
              <a:srgbClr val="0033cc"/>
            </a:solidFill>
            <a:miter/>
          </a:ln>
        </p:spPr>
      </p:cxnSp>
      <p:cxnSp>
        <p:nvCxnSpPr>
          <p:cNvPr id="78" name="AutoShape 85"/>
          <p:cNvCxnSpPr/>
          <p:nvPr/>
        </p:nvCxnSpPr>
        <p:spPr>
          <a:xfrm>
            <a:off x="4571640" y="2997000"/>
            <a:ext cx="361080" cy="216360"/>
          </a:xfrm>
          <a:prstGeom prst="curvedConnector5">
            <a:avLst>
              <a:gd name="adj1" fmla="val 49700"/>
              <a:gd name="adj2" fmla="val 50000"/>
              <a:gd name="adj3" fmla="val 49700"/>
            </a:avLst>
          </a:prstGeom>
          <a:ln w="9360">
            <a:solidFill>
              <a:srgbClr val="0033cc"/>
            </a:solidFill>
            <a:miter/>
          </a:ln>
        </p:spPr>
      </p:cxnSp>
      <p:cxnSp>
        <p:nvCxnSpPr>
          <p:cNvPr id="79" name="AutoShape 86"/>
          <p:cNvCxnSpPr/>
          <p:nvPr/>
        </p:nvCxnSpPr>
        <p:spPr>
          <a:xfrm flipH="1" flipV="1" rot="5400000">
            <a:off x="4896000" y="3032640"/>
            <a:ext cx="21636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9360">
            <a:solidFill>
              <a:srgbClr val="0033cc"/>
            </a:solidFill>
            <a:miter/>
          </a:ln>
        </p:spPr>
      </p:cxnSp>
      <p:cxnSp>
        <p:nvCxnSpPr>
          <p:cNvPr id="80" name="AutoShape 87"/>
          <p:cNvCxnSpPr/>
          <p:nvPr/>
        </p:nvCxnSpPr>
        <p:spPr>
          <a:xfrm>
            <a:off x="5076720" y="2997360"/>
            <a:ext cx="288000" cy="110160"/>
          </a:xfrm>
          <a:prstGeom prst="curvedConnector5">
            <a:avLst>
              <a:gd name="adj1" fmla="val 49687"/>
              <a:gd name="adj2" fmla="val 49836"/>
              <a:gd name="adj3" fmla="val 49687"/>
            </a:avLst>
          </a:prstGeom>
          <a:ln w="9360">
            <a:solidFill>
              <a:srgbClr val="0033cc"/>
            </a:solidFill>
            <a:miter/>
          </a:ln>
        </p:spPr>
      </p:cxnSp>
      <p:sp>
        <p:nvSpPr>
          <p:cNvPr id="81" name="Text Box 88"/>
          <p:cNvSpPr/>
          <p:nvPr/>
        </p:nvSpPr>
        <p:spPr>
          <a:xfrm>
            <a:off x="539640" y="278136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Ordenado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Text Box 89"/>
          <p:cNvSpPr/>
          <p:nvPr/>
        </p:nvSpPr>
        <p:spPr>
          <a:xfrm>
            <a:off x="7093080" y="27082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Ordenado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Text Box 90"/>
          <p:cNvSpPr/>
          <p:nvPr/>
        </p:nvSpPr>
        <p:spPr>
          <a:xfrm>
            <a:off x="3276720" y="278136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Modem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 Box 91"/>
          <p:cNvSpPr/>
          <p:nvPr/>
        </p:nvSpPr>
        <p:spPr>
          <a:xfrm>
            <a:off x="5292720" y="278136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cc"/>
                </a:solidFill>
                <a:latin typeface="Arial"/>
              </a:rPr>
              <a:t>Modem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Text Box 92"/>
          <p:cNvSpPr/>
          <p:nvPr/>
        </p:nvSpPr>
        <p:spPr>
          <a:xfrm>
            <a:off x="2340000" y="2060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Digita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Text Box 93"/>
          <p:cNvSpPr/>
          <p:nvPr/>
        </p:nvSpPr>
        <p:spPr>
          <a:xfrm>
            <a:off x="6012000" y="2060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Digital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Text Box 94"/>
          <p:cNvSpPr/>
          <p:nvPr/>
        </p:nvSpPr>
        <p:spPr>
          <a:xfrm>
            <a:off x="3924360" y="2060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Analógic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Text Box 98"/>
          <p:cNvSpPr/>
          <p:nvPr/>
        </p:nvSpPr>
        <p:spPr>
          <a:xfrm>
            <a:off x="3780000" y="3357720"/>
            <a:ext cx="172872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ONDA CONTINU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Text Box 99"/>
          <p:cNvSpPr/>
          <p:nvPr/>
        </p:nvSpPr>
        <p:spPr>
          <a:xfrm>
            <a:off x="1835280" y="3357720"/>
            <a:ext cx="172872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ONDA DISCRET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0" name="Object 102"/>
          <p:cNvGraphicFramePr/>
          <p:nvPr/>
        </p:nvGraphicFramePr>
        <p:xfrm>
          <a:off x="324000" y="4503600"/>
          <a:ext cx="216036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Object 10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503600"/>
                    <a:ext cx="216036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43"/>
          <p:cNvGraphicFramePr/>
          <p:nvPr/>
        </p:nvGraphicFramePr>
        <p:xfrm>
          <a:off x="6300720" y="2492280"/>
          <a:ext cx="189864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2492280"/>
                    <a:ext cx="1898640" cy="198144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Canales de Comunicaciones I</a:t>
            </a:r>
            <a:endParaRPr b="0" lang="en-US" sz="3600" spc="-1" strike="noStrike">
              <a:solidFill>
                <a:srgbClr val="cc0066"/>
              </a:solidFill>
              <a:latin typeface="Times New Roman"/>
            </a:endParaRPr>
          </a:p>
        </p:txBody>
      </p:sp>
      <p:graphicFrame>
        <p:nvGraphicFramePr>
          <p:cNvPr id="95" name="Object 41"/>
          <p:cNvGraphicFramePr/>
          <p:nvPr/>
        </p:nvGraphicFramePr>
        <p:xfrm>
          <a:off x="6877080" y="1052640"/>
          <a:ext cx="1914480" cy="28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1052640"/>
                    <a:ext cx="1914480" cy="285732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Text Box 39"/>
          <p:cNvSpPr/>
          <p:nvPr/>
        </p:nvSpPr>
        <p:spPr>
          <a:xfrm>
            <a:off x="324000" y="1413000"/>
            <a:ext cx="856908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Cable Trenzado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: telefoní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Cable Coaxial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: TV por cabl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+ rápido, + libre de interferencia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no sirve para conversaciones analógica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Fibra Óptica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transmisión pulsos de luz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+ rápido, ligero y duradero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8" name="Object 49"/>
          <p:cNvGraphicFramePr/>
          <p:nvPr/>
        </p:nvGraphicFramePr>
        <p:xfrm>
          <a:off x="7093080" y="5589720"/>
          <a:ext cx="1439640" cy="107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93080" y="5589720"/>
                    <a:ext cx="143964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45"/>
          <p:cNvGraphicFramePr/>
          <p:nvPr/>
        </p:nvGraphicFramePr>
        <p:xfrm>
          <a:off x="5724360" y="4437000"/>
          <a:ext cx="1449720" cy="1981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Object 4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4360" y="4437000"/>
                    <a:ext cx="1449720" cy="198144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anales de Comunicaciones II</a:t>
            </a:r>
            <a:endParaRPr b="0" lang="en-US" sz="40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42920" y="1413000"/>
            <a:ext cx="8893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Transmisión Inalámbrica: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+caros, lentos, propensos a erro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- microondas: línea recta, 60 km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satélites: convencional (35.200 kms), satélite de órbita baj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radiolocalizador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teléfonos móviles: ondas de radio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PDA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Picture 8" descr="laudonf08-04"/>
          <p:cNvPicPr/>
          <p:nvPr/>
        </p:nvPicPr>
        <p:blipFill>
          <a:blip r:embed="rId1"/>
          <a:stretch/>
        </p:blipFill>
        <p:spPr>
          <a:xfrm>
            <a:off x="4067280" y="4078440"/>
            <a:ext cx="4881600" cy="26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792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Canales de Comunicaciones III</a:t>
            </a:r>
            <a:endParaRPr b="0" lang="en-US" sz="4000" spc="-1" strike="noStrike">
              <a:solidFill>
                <a:srgbClr val="cc0066"/>
              </a:solidFill>
              <a:latin typeface="Times New Roman"/>
            </a:endParaRPr>
          </a:p>
        </p:txBody>
      </p:sp>
      <p:pic>
        <p:nvPicPr>
          <p:cNvPr id="106" name="Picture 7" descr="laudonf08-03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732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8"/>
          <p:cNvSpPr/>
          <p:nvPr/>
        </p:nvSpPr>
        <p:spPr>
          <a:xfrm>
            <a:off x="539640" y="57340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99"/>
                </a:solidFill>
                <a:latin typeface="Arial"/>
              </a:rPr>
              <a:t>Rango de frecuencias para medio y dispositivos de comunicació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8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Redes de Comunicaciones</a:t>
            </a:r>
            <a:endParaRPr b="0" lang="en-US" sz="4400" spc="-1" strike="noStrike">
              <a:solidFill>
                <a:srgbClr val="cc0066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26920" y="1238400"/>
            <a:ext cx="756144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Criterios para la Clasificación de las Rede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28"/>
          <p:cNvSpPr/>
          <p:nvPr/>
        </p:nvSpPr>
        <p:spPr>
          <a:xfrm>
            <a:off x="1476360" y="2076480"/>
            <a:ext cx="547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Por su forma o Topologí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Por su alcance geográfico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Por el tipo de servicio que prestan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6:41:25Z</dcterms:created>
  <dc:creator>Pablo Turmero</dc:creator>
  <dc:description/>
  <dc:language>en-US</dc:language>
  <cp:lastModifiedBy>Pablo Turmero</cp:lastModifiedBy>
  <dcterms:modified xsi:type="dcterms:W3CDTF">2016-05-25T22:46:58Z</dcterms:modified>
  <cp:revision>155</cp:revision>
  <dc:subject/>
  <dc:title/>
</cp:coreProperties>
</file>