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" name="Picture 14" descr="D:\Ken ppt -Ritu\common images\dblue.gif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2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5" descr="D:\Ken ppt -Ritu\common images\lblue.gif"/>
          <p:cNvPicPr/>
          <p:nvPr/>
        </p:nvPicPr>
        <p:blipFill>
          <a:blip r:embed="rId3"/>
          <a:stretch/>
        </p:blipFill>
        <p:spPr>
          <a:xfrm>
            <a:off x="0" y="704880"/>
            <a:ext cx="9153360" cy="403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D:\Ken ppt -Ritu\common images\globe.jpg"/>
          <p:cNvPicPr/>
          <p:nvPr/>
        </p:nvPicPr>
        <p:blipFill>
          <a:blip r:embed="rId4"/>
          <a:stretch/>
        </p:blipFill>
        <p:spPr>
          <a:xfrm>
            <a:off x="-1440" y="0"/>
            <a:ext cx="1184040" cy="10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6"/>
          <p:cNvSpPr/>
          <p:nvPr/>
        </p:nvSpPr>
        <p:spPr>
          <a:xfrm>
            <a:off x="863640" y="2076480"/>
            <a:ext cx="7377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s telecomunicacio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53760" y="1670040"/>
            <a:ext cx="8202600" cy="35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ñal Analógica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orma de onda continua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sa a través de un medio de comunicaciones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tilizado para comunicación de voz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26692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ipos de Señales: Analógica y Dig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ñal Digital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nda de forma discret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ransmite datos codificados en dos estados discretos 1 ó 0 bit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sado para comunicaciones de dato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26692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ipos de Señales: Analógica y Dig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5"/>
          <p:cNvSpPr/>
          <p:nvPr/>
        </p:nvSpPr>
        <p:spPr>
          <a:xfrm>
            <a:off x="198108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unciones del Mod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311040" y="3890880"/>
            <a:ext cx="8121600" cy="2503440"/>
            <a:chOff x="311040" y="3890880"/>
            <a:chExt cx="8121600" cy="2503440"/>
          </a:xfrm>
        </p:grpSpPr>
        <p:sp>
          <p:nvSpPr>
            <p:cNvPr id="480" name="Text Box 6"/>
            <p:cNvSpPr/>
            <p:nvPr/>
          </p:nvSpPr>
          <p:spPr>
            <a:xfrm>
              <a:off x="3554280" y="6027480"/>
              <a:ext cx="16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8" descr="D:\Ken ppt -Ritu\ch8\images\laudonf08-02.gif"/>
            <p:cNvPicPr/>
            <p:nvPr/>
          </p:nvPicPr>
          <p:blipFill>
            <a:blip r:embed="rId1"/>
            <a:stretch/>
          </p:blipFill>
          <p:spPr>
            <a:xfrm>
              <a:off x="311040" y="3890880"/>
              <a:ext cx="8121600" cy="10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Text Box 11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546120" y="1654200"/>
            <a:ext cx="783576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od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spositivo que traduce las señales digitales en señales analógicas y vicever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25520" y="1670040"/>
            <a:ext cx="848520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ble de par trenzado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utilizado para transmitir conversaciones telefónic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ble coaxial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utilizado para transmitir altos volúmenes de datos con rapidez ( ej. C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ble de televisión 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ibra óptica y red óptica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dios de transmisión de datos a través de pulsos de luz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98108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nales de 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54120" y="16700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ansmisión inalámbrica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Microondas, Satélites, teléfonos, radiolocalizadores, celulares, asistentes personales digitales (PDAs), redes móbiles de dato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ncho de banda 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capacidad de un canal de comunicacion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98108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nales de 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10"/>
          <p:cNvGrpSpPr/>
          <p:nvPr/>
        </p:nvGrpSpPr>
        <p:grpSpPr>
          <a:xfrm>
            <a:off x="826920" y="1587600"/>
            <a:ext cx="7402680" cy="4773600"/>
            <a:chOff x="826920" y="1587600"/>
            <a:chExt cx="7402680" cy="4773600"/>
          </a:xfrm>
        </p:grpSpPr>
        <p:sp>
          <p:nvSpPr>
            <p:cNvPr id="491" name="Text Box 5"/>
            <p:cNvSpPr/>
            <p:nvPr/>
          </p:nvSpPr>
          <p:spPr>
            <a:xfrm>
              <a:off x="3753000" y="5994360"/>
              <a:ext cx="140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7" descr="D:\Ken ppt -Ritu\ch8\images\laudonf08-04.gif"/>
            <p:cNvPicPr/>
            <p:nvPr/>
          </p:nvPicPr>
          <p:blipFill>
            <a:blip r:embed="rId1"/>
            <a:stretch/>
          </p:blipFill>
          <p:spPr>
            <a:xfrm>
              <a:off x="826920" y="1587600"/>
              <a:ext cx="7402680" cy="401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Text Box 9"/>
          <p:cNvSpPr/>
          <p:nvPr/>
        </p:nvSpPr>
        <p:spPr>
          <a:xfrm>
            <a:off x="1200240" y="1103400"/>
            <a:ext cx="69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istema de transmisión por satél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3760" y="1670040"/>
            <a:ext cx="82422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 tipo estrella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odas las computadoras y demás dispositivos están conectados a un computador centra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 tipo bus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enlaza varias computadoras mendiante un circuito único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 tipo anillo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odas las computadoras son enlazadas mediante un ciclo cerrad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24784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ologías de Re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7"/>
          <p:cNvSpPr/>
          <p:nvPr/>
        </p:nvSpPr>
        <p:spPr>
          <a:xfrm>
            <a:off x="2171880" y="1103400"/>
            <a:ext cx="49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d tipo Estre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2"/>
          <p:cNvGrpSpPr/>
          <p:nvPr/>
        </p:nvGrpSpPr>
        <p:grpSpPr>
          <a:xfrm>
            <a:off x="1403280" y="1549440"/>
            <a:ext cx="6292800" cy="5103720"/>
            <a:chOff x="1403280" y="1549440"/>
            <a:chExt cx="6292800" cy="5103720"/>
          </a:xfrm>
        </p:grpSpPr>
        <p:sp>
          <p:nvSpPr>
            <p:cNvPr id="500" name="Text Box 3"/>
            <p:cNvSpPr/>
            <p:nvPr/>
          </p:nvSpPr>
          <p:spPr>
            <a:xfrm>
              <a:off x="3838680" y="6286680"/>
              <a:ext cx="1409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11" descr="C:\MyData\MIS\LaudonEss5e\figures w_o NumTtl\FIG08-05.gif"/>
            <p:cNvPicPr/>
            <p:nvPr/>
          </p:nvPicPr>
          <p:blipFill>
            <a:blip r:embed="rId1"/>
            <a:stretch/>
          </p:blipFill>
          <p:spPr>
            <a:xfrm>
              <a:off x="1403280" y="1549440"/>
              <a:ext cx="6292800" cy="471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13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2171880" y="1103400"/>
            <a:ext cx="49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d tipo B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2"/>
          <p:cNvGrpSpPr/>
          <p:nvPr/>
        </p:nvGrpSpPr>
        <p:grpSpPr>
          <a:xfrm>
            <a:off x="876240" y="1692360"/>
            <a:ext cx="7496280" cy="4960800"/>
            <a:chOff x="876240" y="1692360"/>
            <a:chExt cx="7496280" cy="4960800"/>
          </a:xfrm>
        </p:grpSpPr>
        <p:sp>
          <p:nvSpPr>
            <p:cNvPr id="505" name="Text Box 3"/>
            <p:cNvSpPr/>
            <p:nvPr/>
          </p:nvSpPr>
          <p:spPr>
            <a:xfrm>
              <a:off x="3753000" y="6286680"/>
              <a:ext cx="1409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Picture 11" descr="C:\MyData\MIS\LaudonEss5e\figures w_o NumTtl\FIG08-06.gif"/>
            <p:cNvPicPr/>
            <p:nvPr/>
          </p:nvPicPr>
          <p:blipFill>
            <a:blip r:embed="rId1"/>
            <a:stretch/>
          </p:blipFill>
          <p:spPr>
            <a:xfrm>
              <a:off x="876240" y="1692360"/>
              <a:ext cx="7496280" cy="45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Text Box 13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5"/>
          <p:cNvSpPr/>
          <p:nvPr/>
        </p:nvSpPr>
        <p:spPr>
          <a:xfrm>
            <a:off x="2133720" y="1103400"/>
            <a:ext cx="49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d tipo Anil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1"/>
          <p:cNvGrpSpPr/>
          <p:nvPr/>
        </p:nvGrpSpPr>
        <p:grpSpPr>
          <a:xfrm>
            <a:off x="2306520" y="1562040"/>
            <a:ext cx="4405320" cy="5268960"/>
            <a:chOff x="2306520" y="1562040"/>
            <a:chExt cx="4405320" cy="5268960"/>
          </a:xfrm>
        </p:grpSpPr>
        <p:sp>
          <p:nvSpPr>
            <p:cNvPr id="510" name="Text Box 3"/>
            <p:cNvSpPr/>
            <p:nvPr/>
          </p:nvSpPr>
          <p:spPr>
            <a:xfrm>
              <a:off x="3753000" y="6464160"/>
              <a:ext cx="140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0" descr="C:\MyData\MIS\LaudonEss5e\figures w_o NumTtl\FIG08-07.gif"/>
            <p:cNvPicPr/>
            <p:nvPr/>
          </p:nvPicPr>
          <p:blipFill>
            <a:blip r:embed="rId1"/>
            <a:stretch/>
          </p:blipFill>
          <p:spPr>
            <a:xfrm>
              <a:off x="2306520" y="1562040"/>
              <a:ext cx="4405320" cy="48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Text Box 12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59880" y="1670040"/>
            <a:ext cx="817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¿ Qué tecnologías se usan en los sistemas de telecomunicaciones 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¿ Qué medios de transmisión de telecomunicaciones debe utilizar nuestra organización 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¿ Cómo debe diseñar sus redes nuestra organización 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2886120" y="72396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53760" y="1670040"/>
            <a:ext cx="824364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entrales telefónicas privadas (PBX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istema de commutación central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aneja las comunicaciones de datos y voz  digitales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entrales telefónicas privadas, redes de área local y de área amp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615960" y="194940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des de Area Loca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quiere sus propios canales dedicados (alcanzan velocidades de transmisión de 100Mbps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barca distancias limitadas (no exceden los 10km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tiliza: Gateway, Router, Sistemas Operativos de Red (NOS), Arquitectura punto-a-punto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entrales telefónicas privadas, redes de área local y de área amp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2305080" y="110340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d de Area Local (L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0"/>
          <p:cNvGrpSpPr/>
          <p:nvPr/>
        </p:nvGrpSpPr>
        <p:grpSpPr>
          <a:xfrm>
            <a:off x="1062000" y="1490760"/>
            <a:ext cx="7045200" cy="5340240"/>
            <a:chOff x="1062000" y="1490760"/>
            <a:chExt cx="7045200" cy="5340240"/>
          </a:xfrm>
        </p:grpSpPr>
        <p:sp>
          <p:nvSpPr>
            <p:cNvPr id="521" name="Text Box 3"/>
            <p:cNvSpPr/>
            <p:nvPr/>
          </p:nvSpPr>
          <p:spPr>
            <a:xfrm>
              <a:off x="3753000" y="6464160"/>
              <a:ext cx="140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Picture 9" descr="C:\MyData\MIS\LaudonEss5e\figures w_o NumTtl\FIG08-08.gif"/>
            <p:cNvPicPr/>
            <p:nvPr/>
          </p:nvPicPr>
          <p:blipFill>
            <a:blip r:embed="rId1"/>
            <a:stretch/>
          </p:blipFill>
          <p:spPr>
            <a:xfrm>
              <a:off x="1062000" y="1490760"/>
              <a:ext cx="7045200" cy="494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Text Box 11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54120" y="168912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ANs inalámbrica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ándard Wi-Fi (802.11b) : hasta 11 Mbps, bajo costo, alta velocidad para acceso a Internet móbil, enlaza grupos de trabaj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ándard Bluetooth : hasta 720 Kbps, redes pequeñas para uso persona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entrales telefónicas privadas, redes de área local y de área amp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54120" y="168912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es de Area Metropolitana (MAN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mprende equipos de cómputo conectados entre una o varias ciudades (no más allá de los 100km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entrales telefónicas privadas, redes de área local y de área amp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54120" y="168912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es de Area Extensa (WAN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lcanza enormes distancias geográfic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uede constar de varias tecnologías como cable, satélite y microond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ineas conmutad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ineas dedicad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entrales telefónicas privadas, redes de área local y de área amp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539280" y="1530000"/>
            <a:ext cx="860436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des de Valor Agregado (VAN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 privada, de múltiples rutas, solo para datos, manejada por terceros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tros servicios de red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mutación de paquetes, Frame Relay, modo de transferencia Asíncrono (ATM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 digital de servicios integrados (ISDN), línea digital de suscriptor (DSL), módem de cable, línea T1 y banda ancha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rvicios de red y tecnologías de banda anch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5"/>
          <p:cNvSpPr/>
          <p:nvPr/>
        </p:nvSpPr>
        <p:spPr>
          <a:xfrm>
            <a:off x="1752480" y="1103400"/>
            <a:ext cx="58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d de conmutación de paque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360360" y="1792440"/>
            <a:ext cx="8384760" cy="4890600"/>
            <a:chOff x="360360" y="1792440"/>
            <a:chExt cx="8384760" cy="4890600"/>
          </a:xfrm>
        </p:grpSpPr>
        <p:sp>
          <p:nvSpPr>
            <p:cNvPr id="538" name="Text Box 3"/>
            <p:cNvSpPr/>
            <p:nvPr/>
          </p:nvSpPr>
          <p:spPr>
            <a:xfrm>
              <a:off x="3713760" y="6315480"/>
              <a:ext cx="1476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7" descr="D:\Ken ppt -Ritu\ch8\images\laudonf08-09.gif"/>
            <p:cNvPicPr/>
            <p:nvPr/>
          </p:nvPicPr>
          <p:blipFill>
            <a:blip r:embed="rId1"/>
            <a:stretch/>
          </p:blipFill>
          <p:spPr>
            <a:xfrm>
              <a:off x="360360" y="1792440"/>
              <a:ext cx="8384760" cy="42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Text Box 10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es Convergida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ransporta voz, datos y video en una sola red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nsajería unificad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istema que combina mensajes de voz, correo electrónico y fax para acceder a ellos desde un solo sistem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nvergencia de Re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DES DE 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rreo Electrónico y Groupwar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-mail: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Elimina los costos de cargos por llamadas de larga distancia y agiliza la comunicación entre diversas partes de una organización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roupware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abilita el trabajo colaborativo entre diferentes localidades para participar en foros de discusión y trabajo sobre documentos y proyectos compartido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cnologías de negocios en línea y comercio electrón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898560" y="73008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60240" y="166968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¿ Qué servicios alternativos de redes están disponibles para nuestra organización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¿Qué aplicaciones de telecomunicaciones se pueden utilizar para los negocios en línea y el comercio electrónico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2886120" y="72396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rreo de voz y fax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rre de Voz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sistema para digitalizar un mensaje hablado y transmitirlo a través de una red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ax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equipo que digitaliza y transmite documentos que contengan texto y gráficos a través de las líneas telefónic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cnologías de negocios en línea y comercio electrón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654120" y="1612440"/>
            <a:ext cx="77724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eleconferencia, conferencia de datos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 videoconferenci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eleconferencia: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capacidad de conversar con un grupo de personas al mismo tiempo utilizando el teléfono o software de comunicación en grupo por correo electrónico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nferencia de datos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eleconferncia en la que dos o más usuarios pueden editar y modificar simultáneamente archivos de dato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deoconferenca:</a:t>
            </a:r>
            <a:r>
              <a:rPr b="1" lang="en-US" sz="2400" spc="-1" strike="noStrike">
                <a:solidFill>
                  <a:srgbClr val="0085b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teleconferencia en la que los participantes se ven unos a otros a través de pantallas de video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cnologías de negocios en línea y comercio electrón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53760" y="1752120"/>
            <a:ext cx="8202600" cy="529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icios de información digital, aprendizaje a distancia y en línea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prendizaje a Distancia:</a:t>
            </a:r>
            <a:r>
              <a:rPr b="1" lang="en-US" sz="2400" spc="-1" strike="noStrike">
                <a:solidFill>
                  <a:srgbClr val="0085b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ducación o capacitación transmitida a distancia a individuos que se encuentran en uno o más lugare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-learning: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Educación transmitida tan solo mediante tecnología digital (CDROMs, Internet o redes privadas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cnologías de negocios en línea y comercio electrón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819000" y="198720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ercambio directo, de computadora a computadora, de documentos de transacciones comerciales, bajo esquemas o formatos estandarizados entre dos organizacion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cambio Electrónico de Datos (ED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413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9"/>
          <p:cNvGrpSpPr/>
          <p:nvPr/>
        </p:nvGrpSpPr>
        <p:grpSpPr>
          <a:xfrm>
            <a:off x="552600" y="2139840"/>
            <a:ext cx="7869240" cy="4030920"/>
            <a:chOff x="552600" y="2139840"/>
            <a:chExt cx="7869240" cy="4030920"/>
          </a:xfrm>
        </p:grpSpPr>
        <p:sp>
          <p:nvSpPr>
            <p:cNvPr id="560" name="Text Box 3"/>
            <p:cNvSpPr/>
            <p:nvPr/>
          </p:nvSpPr>
          <p:spPr>
            <a:xfrm>
              <a:off x="3753000" y="5803920"/>
              <a:ext cx="140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7" descr="D:\Ken ppt -Ritu\ch8\images\laudonf08-10.gif"/>
            <p:cNvPicPr/>
            <p:nvPr/>
          </p:nvPicPr>
          <p:blipFill>
            <a:blip r:embed="rId1"/>
            <a:stretch/>
          </p:blipFill>
          <p:spPr>
            <a:xfrm>
              <a:off x="552600" y="2139840"/>
              <a:ext cx="7869240" cy="29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8"/>
          <p:cNvSpPr/>
          <p:nvPr/>
        </p:nvSpPr>
        <p:spPr>
          <a:xfrm>
            <a:off x="936720" y="711360"/>
            <a:ext cx="74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LECTRONIC COMMERCE AND ELECTRONIC BUSINESS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0" y="110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cambio Electrónico de Datos (ED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53760" y="1670040"/>
            <a:ext cx="8242200" cy="31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dministrar las LANs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dministra el Ancho de Banda:      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19191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Cambio del paradigma “ancho de banda fijo” a “ancho de banda según demanda”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4" name="Text Box 2053"/>
          <p:cNvSpPr/>
          <p:nvPr/>
        </p:nvSpPr>
        <p:spPr>
          <a:xfrm>
            <a:off x="2886120" y="71136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RETOS ADMINISTRA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elecomunicaciones: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municación de la información por medios electrónic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cluye la transmisión de datos digitales y la transmisión de voz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981080" y="1103400"/>
            <a:ext cx="552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54120" y="166968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utadoras para procesar la información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erminales o cualquier dispositivo que envíe o reciba dato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nales de comunicación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cesadores de comunicación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oftware de comunicación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3880" y="110340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ponentes de un Sistema de Tele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9"/>
          <p:cNvGrpSpPr/>
          <p:nvPr/>
        </p:nvGrpSpPr>
        <p:grpSpPr>
          <a:xfrm>
            <a:off x="901800" y="1760400"/>
            <a:ext cx="6989760" cy="4816440"/>
            <a:chOff x="901800" y="1760400"/>
            <a:chExt cx="6989760" cy="4816440"/>
          </a:xfrm>
        </p:grpSpPr>
        <p:sp>
          <p:nvSpPr>
            <p:cNvPr id="462" name="Text Box 6"/>
            <p:cNvSpPr/>
            <p:nvPr/>
          </p:nvSpPr>
          <p:spPr>
            <a:xfrm>
              <a:off x="3753000" y="6210360"/>
              <a:ext cx="1409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8" descr="D:\Ken ppt -Ritu\ch8\images\laudonf08-01.gif"/>
            <p:cNvPicPr/>
            <p:nvPr/>
          </p:nvPicPr>
          <p:blipFill>
            <a:blip r:embed="rId1"/>
            <a:stretch/>
          </p:blipFill>
          <p:spPr>
            <a:xfrm>
              <a:off x="901800" y="1760400"/>
              <a:ext cx="6989760" cy="416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Text Box 10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1523880" y="110340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ponentes de un Sistema de Tele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54120" y="1670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ransmitir informació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ablecer interface entre emisor y recepto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reccionar los mensajes a través de las rutas más eficient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168560" y="11286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unciones de un Sistema de  Tele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54120" y="1670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jecutar procesamiento elemental de    información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jecutar tareas elementales sobre los datos ( verificación de errores )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vierte mensajes de una velocidad a otra o de un formato a otr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trola los flujos de informació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942840" y="711360"/>
            <a:ext cx="80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OMPONENTES Y FUNCIONES DE UN SISTEMA DE TELECOMUNIC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1168560" y="11286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unciones de un Sistema de  Telecomun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7T19:11:14Z</dcterms:created>
  <dc:creator>Pablo Turmero</dc:creator>
  <dc:description/>
  <cp:keywords/>
  <dc:language>en-US</dc:language>
  <cp:lastModifiedBy>Pablo</cp:lastModifiedBy>
  <cp:lastPrinted>2001-03-15T22:20:19Z</cp:lastPrinted>
  <dcterms:modified xsi:type="dcterms:W3CDTF">2016-04-09T14:54:10Z</dcterms:modified>
  <cp:revision>593</cp:revision>
  <dc:subject/>
  <dc:title/>
</cp:coreProperties>
</file>