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570-5120-4A2E-B82A-FB6FE475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D1E-2657-4C6A-B44B-756AA4D6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D47-CDA2-4978-B91E-C3B2C530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7CC-2F0E-494B-B19A-654B1D8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F3B-BFF2-4374-BEE7-B73F3B2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4D4-48A6-492A-B31C-FDD3D2D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861-304A-4E86-AA28-AFCB2189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C3D-BF3E-4FAA-B3D6-F920239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B73-003C-4AB3-93E0-8EC587DB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9E5-3C27-4489-BBF2-34B2CC9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8AF-4D32-441D-9AE3-F5B3CAD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2D1-D0A8-4B12-9E7A-EEC9E48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9B87-5408-4BA9-B07D-59F613BD58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image" Target="../media/image8.wmf"/><Relationship Id="rId8" Type="http://schemas.openxmlformats.org/officeDocument/2006/relationships/slide" Target="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838080" y="21337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El conocimiento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Información impor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rificación d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álisis se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BS01580_"/>
          <p:cNvPicPr/>
          <p:nvPr/>
        </p:nvPicPr>
        <p:blipFill>
          <a:blip r:embed="rId1"/>
          <a:stretch/>
        </p:blipFill>
        <p:spPr>
          <a:xfrm>
            <a:off x="5410080" y="312408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28520" y="22856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rresponde a la comprobación de la verdad o exactitud de la información suministrada por un cliente o usuario a la ent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comparación de fuentes se evalúa la similitud de la información suministr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33520" y="8380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5c51ad"/>
                </a:solidFill>
                <a:latin typeface="Times New Roman"/>
              </a:rPr>
              <a:t>Verificación de datos y Comparación de F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c51ad"/>
                </a:solidFill>
                <a:latin typeface="Times New Roman"/>
              </a:rPr>
              <a:t>Verificación de datos y Comparación de F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2055"/>
          <p:cNvGrpSpPr/>
          <p:nvPr/>
        </p:nvGrpSpPr>
        <p:grpSpPr>
          <a:xfrm>
            <a:off x="1447920" y="990720"/>
            <a:ext cx="6247800" cy="5257800"/>
            <a:chOff x="1447920" y="990720"/>
            <a:chExt cx="6247800" cy="5257800"/>
          </a:xfrm>
        </p:grpSpPr>
        <p:sp>
          <p:nvSpPr>
            <p:cNvPr id="73" name="Oval 2056"/>
            <p:cNvSpPr/>
            <p:nvPr/>
          </p:nvSpPr>
          <p:spPr>
            <a:xfrm>
              <a:off x="2133360" y="1523880"/>
              <a:ext cx="4723920" cy="44960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2057"/>
            <p:cNvGrpSpPr/>
            <p:nvPr/>
          </p:nvGrpSpPr>
          <p:grpSpPr>
            <a:xfrm>
              <a:off x="1447920" y="990720"/>
              <a:ext cx="6247800" cy="5257800"/>
              <a:chOff x="1447920" y="990720"/>
              <a:chExt cx="6247800" cy="5257800"/>
            </a:xfrm>
          </p:grpSpPr>
          <p:sp>
            <p:nvSpPr>
              <p:cNvPr id="75" name="Oval 2058"/>
              <p:cNvSpPr/>
              <p:nvPr/>
            </p:nvSpPr>
            <p:spPr>
              <a:xfrm>
                <a:off x="6019560" y="2362320"/>
                <a:ext cx="1676160" cy="1600200"/>
              </a:xfrm>
              <a:prstGeom prst="ellipse">
                <a:avLst/>
              </a:prstGeom>
              <a:solidFill>
                <a:srgbClr val="cccc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Información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Históri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2059"/>
              <p:cNvGrpSpPr/>
              <p:nvPr/>
            </p:nvGrpSpPr>
            <p:grpSpPr>
              <a:xfrm>
                <a:off x="1447920" y="990720"/>
                <a:ext cx="5485680" cy="5257800"/>
                <a:chOff x="1447920" y="990720"/>
                <a:chExt cx="5485680" cy="5257800"/>
              </a:xfrm>
            </p:grpSpPr>
            <p:grpSp>
              <p:nvGrpSpPr>
                <p:cNvPr id="77" name="Group 2060"/>
                <p:cNvGrpSpPr/>
                <p:nvPr/>
              </p:nvGrpSpPr>
              <p:grpSpPr>
                <a:xfrm>
                  <a:off x="1447920" y="990720"/>
                  <a:ext cx="5485680" cy="5257800"/>
                  <a:chOff x="1447920" y="990720"/>
                  <a:chExt cx="5485680" cy="5257800"/>
                </a:xfrm>
              </p:grpSpPr>
              <p:sp>
                <p:nvSpPr>
                  <p:cNvPr id="78" name="Line 2061"/>
                  <p:cNvSpPr/>
                  <p:nvPr/>
                </p:nvSpPr>
                <p:spPr>
                  <a:xfrm flipH="1" flipV="1">
                    <a:off x="4038480" y="3429000"/>
                    <a:ext cx="1523520" cy="129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Line 2062"/>
                  <p:cNvSpPr/>
                  <p:nvPr/>
                </p:nvSpPr>
                <p:spPr>
                  <a:xfrm>
                    <a:off x="3047760" y="3429000"/>
                    <a:ext cx="990360" cy="228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Line 2063"/>
                  <p:cNvSpPr/>
                  <p:nvPr/>
                </p:nvSpPr>
                <p:spPr>
                  <a:xfrm>
                    <a:off x="4571640" y="2590920"/>
                    <a:ext cx="0" cy="83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Line 2064"/>
                  <p:cNvSpPr/>
                  <p:nvPr/>
                </p:nvSpPr>
                <p:spPr>
                  <a:xfrm flipV="1">
                    <a:off x="3581280" y="3657240"/>
                    <a:ext cx="1066320" cy="1066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Oval 2065"/>
                  <p:cNvSpPr/>
                  <p:nvPr/>
                </p:nvSpPr>
                <p:spPr>
                  <a:xfrm>
                    <a:off x="2514240" y="4648320"/>
                    <a:ext cx="1676160" cy="16002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ercera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ent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Oval 2066"/>
                  <p:cNvSpPr/>
                  <p:nvPr/>
                </p:nvSpPr>
                <p:spPr>
                  <a:xfrm>
                    <a:off x="5257440" y="4572000"/>
                    <a:ext cx="1676160" cy="16002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formació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fici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Oval 2067"/>
                  <p:cNvSpPr/>
                  <p:nvPr/>
                </p:nvSpPr>
                <p:spPr>
                  <a:xfrm>
                    <a:off x="3733560" y="990720"/>
                    <a:ext cx="1676160" cy="16002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formació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ctu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2068"/>
                  <p:cNvSpPr/>
                  <p:nvPr/>
                </p:nvSpPr>
                <p:spPr>
                  <a:xfrm flipH="1">
                    <a:off x="4876560" y="3429000"/>
                    <a:ext cx="1218960" cy="304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Oval 2069"/>
                  <p:cNvSpPr/>
                  <p:nvPr/>
                </p:nvSpPr>
                <p:spPr>
                  <a:xfrm>
                    <a:off x="1447920" y="2362320"/>
                    <a:ext cx="1676160" cy="16002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imilar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Oval 2070"/>
                <p:cNvSpPr/>
                <p:nvPr/>
              </p:nvSpPr>
              <p:spPr>
                <a:xfrm>
                  <a:off x="3352680" y="2819520"/>
                  <a:ext cx="2209320" cy="1752480"/>
                </a:xfrm>
                <a:prstGeom prst="ellipse">
                  <a:avLst/>
                </a:prstGeom>
                <a:solidFill>
                  <a:srgbClr val="3366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>
                      <a:solidFill>
                        <a:srgbClr val="ffffff"/>
                      </a:solidFill>
                      <a:latin typeface="Times New Roman"/>
                    </a:rPr>
                    <a:t>Información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400" spc="-1" strike="noStrike">
                      <a:solidFill>
                        <a:srgbClr val="ffffff"/>
                      </a:solidFill>
                      <a:latin typeface="Times New Roman"/>
                    </a:rPr>
                    <a:t>verific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580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Recurso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c51ad"/>
                </a:solidFill>
                <a:latin typeface="Times New Roman"/>
              </a:rPr>
              <a:t>Recurso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es propios – gestión comercial y conocimiento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s de monitoreo de las operacion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intendencias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remi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idades Oficiales (FGN, DAS, DIJ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as Parti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mara de Comercio de Bogot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fecámar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tastro de Bogot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ociación Bancaria de Colombia – CI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aduría Nacional del Estado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c51ad"/>
                </a:solidFill>
                <a:latin typeface="Times New Roman"/>
              </a:rPr>
              <a:t>Recurso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97044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36564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3352680" y="0"/>
            <a:ext cx="2411280" cy="6800760"/>
            <a:chOff x="3352680" y="0"/>
            <a:chExt cx="2411280" cy="6800760"/>
          </a:xfrm>
        </p:grpSpPr>
        <p:sp>
          <p:nvSpPr>
            <p:cNvPr id="96" name="Rectangle 11"/>
            <p:cNvSpPr/>
            <p:nvPr/>
          </p:nvSpPr>
          <p:spPr>
            <a:xfrm>
              <a:off x="3352680" y="0"/>
              <a:ext cx="2411280" cy="68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352680" y="0"/>
              <a:ext cx="2411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040" y="1809720"/>
            <a:ext cx="75438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áginas amar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tos financieros y registros banc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formación financiera y tributaria suminis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erramientas de análisis se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de la Red d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c51ad"/>
                </a:solidFill>
                <a:latin typeface="Times New Roman"/>
              </a:rPr>
              <a:t>Recursos de infor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97044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36564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1666800"/>
            <a:ext cx="647712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ternet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s el depósito mundial de información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ás grande y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 mayor nivel de acces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un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erramienta importante para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streo y verificación de datos, aunque también es utilizada para la comisión de delit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c51ad"/>
                </a:solidFill>
                <a:latin typeface="Times New Roman"/>
              </a:rPr>
              <a:t>Uso de la Red d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97044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36564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información disponible en Internet esta al alcance de cualquiera que pueda encontrarla, por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o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quiere su propia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ifica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ón así como la evaluación de la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fuente de la cual provie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guntas bás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uál es la fuente de la informació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 información suministrada es razonable o creib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uede ser verificada en otra fuent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5c51ad"/>
                </a:solidFill>
                <a:latin typeface="Times New Roman"/>
              </a:rPr>
              <a:t>Uso de la Red d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36564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3352680" y="0"/>
            <a:ext cx="2411280" cy="6800760"/>
            <a:chOff x="3352680" y="0"/>
            <a:chExt cx="2411280" cy="6800760"/>
          </a:xfrm>
        </p:grpSpPr>
        <p:sp>
          <p:nvSpPr>
            <p:cNvPr id="110" name="Rectangle 7"/>
            <p:cNvSpPr/>
            <p:nvPr/>
          </p:nvSpPr>
          <p:spPr>
            <a:xfrm>
              <a:off x="3352680" y="0"/>
              <a:ext cx="2411280" cy="68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3352680" y="0"/>
              <a:ext cx="2411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99880" y="1980720"/>
            <a:ext cx="6800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vistas, Publicaciones, Diarios y Noti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tores de búsqu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ción financiera y de negoc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tios Web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6676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c51ad"/>
                </a:solidFill>
                <a:latin typeface="Times New Roman"/>
              </a:rPr>
              <a:t>Uso de la Red de Internet</a:t>
            </a:r>
            <a:br>
              <a:rPr sz="3600"/>
            </a:br>
            <a:r>
              <a:rPr b="0" lang="es-ES_tradnl" sz="3600" spc="-1" strike="noStrike">
                <a:solidFill>
                  <a:srgbClr val="5c51ad"/>
                </a:solidFill>
                <a:latin typeface="Times New Roman"/>
              </a:rPr>
              <a:t>Páginas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7044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36564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990720" y="2286000"/>
            <a:ext cx="69339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476280" algn="just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onocimiento del cl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ontrol de Oper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nformación importa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Verificación de datos y comparación de fu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Recursos de inform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476280" algn="just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Uso de la Red de 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80769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gunas herramientas permiten rastre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información a través d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terne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proporcionand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n perfil de la persona o personas, detrás del mensaj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asi como identifica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 localización fí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s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ceroute &amp; Neotr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c51ad"/>
                </a:solidFill>
                <a:latin typeface="Times New Roman"/>
              </a:rPr>
              <a:t>Uso de la Red de Internet – Herramientas especializ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97044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365640" y="2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352680" y="0"/>
            <a:ext cx="2411280" cy="6800760"/>
            <a:chOff x="3352680" y="0"/>
            <a:chExt cx="2411280" cy="6800760"/>
          </a:xfrm>
        </p:grpSpPr>
        <p:sp>
          <p:nvSpPr>
            <p:cNvPr id="121" name="Rectangle 7"/>
            <p:cNvSpPr/>
            <p:nvPr/>
          </p:nvSpPr>
          <p:spPr>
            <a:xfrm>
              <a:off x="3352680" y="0"/>
              <a:ext cx="2411280" cy="68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3352680" y="0"/>
              <a:ext cx="2411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Conocimiento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conocimiento del cliente es la princip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erramienta para combat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lavado de activ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ra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ablecer el origen legal de los fo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itar el ingreso de fondos ilíc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BD05584_"/>
          <p:cNvPicPr/>
          <p:nvPr/>
        </p:nvPicPr>
        <p:blipFill>
          <a:blip r:embed="rId1"/>
          <a:stretch/>
        </p:blipFill>
        <p:spPr>
          <a:xfrm>
            <a:off x="6858000" y="2424240"/>
            <a:ext cx="1504800" cy="200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Conocimiento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ra tener en cuent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alidad y cantidad de datos del cli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Relación con las transac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Cliente ocasional o habitua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Formularios adecuados para las opera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Verificación de información y comparación de fu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Conocimiento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9800" y="1599840"/>
            <a:ext cx="762804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cedimient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enament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a cada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ción (Número y clase de ident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bicación (Nombre, dirección y teléfo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relativa a la trans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to y fecha de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BD07153_"/>
          <p:cNvPicPr/>
          <p:nvPr/>
        </p:nvPicPr>
        <p:blipFill>
          <a:blip r:embed="rId1"/>
          <a:stretch/>
        </p:blipFill>
        <p:spPr>
          <a:xfrm>
            <a:off x="7162920" y="2527200"/>
            <a:ext cx="1646280" cy="180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Conocimiento de los merc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876320"/>
            <a:ext cx="762804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ocer su negocio o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racterísticas usuales de su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 controle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ablecer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 controles para el mercado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gmentos de mercado (asalariados, comerciantes, empres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S01087_"/>
          <p:cNvPicPr/>
          <p:nvPr/>
        </p:nvPicPr>
        <p:blipFill>
          <a:blip r:embed="rId1"/>
          <a:stretch/>
        </p:blipFill>
        <p:spPr>
          <a:xfrm>
            <a:off x="6477120" y="4648320"/>
            <a:ext cx="2216160" cy="13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Control de oper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7080" y="2146320"/>
            <a:ext cx="762984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gmentación d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solidación de operaciones por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ñales de al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sarrollo tecn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9244_"/>
          <p:cNvPicPr/>
          <p:nvPr/>
        </p:nvPicPr>
        <p:blipFill>
          <a:blip r:embed="rId1"/>
          <a:stretch/>
        </p:blipFill>
        <p:spPr>
          <a:xfrm>
            <a:off x="6248520" y="3886200"/>
            <a:ext cx="1993680" cy="145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3124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Información impor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054"/>
          <p:cNvSpPr/>
          <p:nvPr/>
        </p:nvSpPr>
        <p:spPr>
          <a:xfrm>
            <a:off x="7621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5c51ad"/>
                </a:solidFill>
                <a:latin typeface="Times New Roman"/>
              </a:rPr>
              <a:t>Información impor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55" descr="BD0678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1219320"/>
            <a:ext cx="662040" cy="76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56" descr="BD00028_"/>
          <p:cNvPicPr/>
          <p:nvPr/>
        </p:nvPicPr>
        <p:blipFill>
          <a:blip r:embed="rId3"/>
          <a:stretch/>
        </p:blipFill>
        <p:spPr>
          <a:xfrm>
            <a:off x="5562720" y="1219320"/>
            <a:ext cx="1062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057"/>
          <p:cNvSpPr/>
          <p:nvPr/>
        </p:nvSpPr>
        <p:spPr>
          <a:xfrm>
            <a:off x="609480" y="1295280"/>
            <a:ext cx="792504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Identifi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Ubicación geográf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Información telefón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Actividad econó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Propieda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Productos financie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Información financiera y tributar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600" spc="-1" strike="noStrike">
                <a:solidFill>
                  <a:srgbClr val="000000"/>
                </a:solidFill>
                <a:latin typeface="Times New Roman"/>
              </a:rPr>
              <a:t>Caracteristicas y montos de las transacciones realiza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058" descr="BD04922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2057400"/>
            <a:ext cx="612720" cy="84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59" descr="BS00561_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29400" y="43434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60" descr="BD04862_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53080" y="3124080"/>
            <a:ext cx="1235160" cy="1096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9:43:21Z</dcterms:created>
  <dc:creator>Pablo Turmero</dc:creator>
  <dc:description/>
  <dc:language>en-US</dc:language>
  <cp:lastModifiedBy>Pablo Turmero</cp:lastModifiedBy>
  <dcterms:modified xsi:type="dcterms:W3CDTF">2016-06-09T19:54:18Z</dcterms:modified>
  <cp:revision>369</cp:revision>
  <dc:subject/>
  <dc:title/>
</cp:coreProperties>
</file>