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B24-254A-4279-A8EF-9E770C12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250-B647-4985-B2B1-EF2669F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DD5-9A6C-42DE-AE34-24D5BD8A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10F-8A1C-44E4-AF76-4FB60E66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646-61E9-420C-9811-832851C1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B0A-90FB-4E74-974C-80F8DD2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60A-3F8E-4985-A1B1-E7DF1B5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37C-4960-40D1-AA12-61251639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163-7E9E-4A95-9499-C201756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7F9-5BD7-430E-AE9B-68EA11A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96A-7E63-4758-B817-37942DC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16B-B6A1-41E3-A067-74686E1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95BD-8629-48B6-802F-214941C8B701}" type="slidenum">
              <a:rPr b="1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agen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79280" y="620640"/>
            <a:ext cx="8642520" cy="56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Y ORGÁNICA</a:t>
            </a:r>
            <a:endParaRPr b="1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OS</a:t>
            </a:r>
            <a:endParaRPr b="1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EJOS COMUNALES</a:t>
            </a:r>
            <a:endParaRPr b="1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332000" y="1128960"/>
            <a:ext cx="670392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Equipo Electo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Provision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2987640" y="2708280"/>
            <a:ext cx="1225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358160" y="3933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BITA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837360" y="4797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SA SUS FUNCIONES AL CONSTITUI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SEJO COMU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7547040" y="6021360"/>
            <a:ext cx="1024920" cy="459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348000" y="155736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ELECTORAL PROVIS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QUIPO PROMO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435640" y="22766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483720" y="2906640"/>
            <a:ext cx="3943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OCAN LA ASAMBL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ITUTIVA COMUNITA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pso NO &gt; 90 dí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9"/>
          <p:cNvSpPr txBox="1"/>
          <p:nvPr/>
        </p:nvSpPr>
        <p:spPr>
          <a:xfrm>
            <a:off x="539640" y="1484280"/>
            <a:ext cx="172872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841120" y="4240080"/>
            <a:ext cx="565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PROMOTOR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esa funciones al insta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asambl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ELECTORAL PROVISIONAL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rige la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332000" y="1584720"/>
            <a:ext cx="670392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Asamblea Constitutiv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Comunitar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94200" y="407664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ra convocatoria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3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da convocatoria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2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4500720" y="393372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789440" y="43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&gt; De 15 añ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763040" y="6021360"/>
            <a:ext cx="1024920" cy="459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2120" y="141300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TULA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042920" y="2205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1187280" y="22780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1042920" y="242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826920" y="227664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755640" y="24940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8172360" y="234936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1547640" y="24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H="1">
            <a:off x="529236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782160" y="1916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>
            <a:off x="3851280" y="2276640"/>
            <a:ext cx="115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C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579200" y="328464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CION UNINO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Ver imagen en tamaño completo"/>
          <p:cNvPicPr/>
          <p:nvPr/>
        </p:nvPicPr>
        <p:blipFill>
          <a:blip r:embed="rId1"/>
          <a:stretch/>
        </p:blipFill>
        <p:spPr>
          <a:xfrm>
            <a:off x="6012000" y="407664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219" name="Oval 19"/>
          <p:cNvSpPr/>
          <p:nvPr/>
        </p:nvSpPr>
        <p:spPr>
          <a:xfrm>
            <a:off x="5580000" y="4076640"/>
            <a:ext cx="2374920" cy="223200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V="1">
            <a:off x="6012000" y="4436640"/>
            <a:ext cx="1655640" cy="158436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 rot="7533000">
            <a:off x="1514880" y="2216520"/>
            <a:ext cx="1834920" cy="792000"/>
          </a:xfrm>
          <a:custGeom>
            <a:avLst/>
            <a:gdLst>
              <a:gd name="textAreaLeft" fmla="*/ 286560 w 1834920"/>
              <a:gd name="textAreaRight" fmla="*/ 1605600 w 18349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3"/>
          <p:cNvSpPr/>
          <p:nvPr/>
        </p:nvSpPr>
        <p:spPr>
          <a:xfrm>
            <a:off x="826920" y="3645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1187280" y="37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537640" y="3521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U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7" descr="es-indigenas_390-2"/>
          <p:cNvPicPr/>
          <p:nvPr/>
        </p:nvPicPr>
        <p:blipFill>
          <a:blip r:embed="rId2"/>
          <a:stretch/>
        </p:blipFill>
        <p:spPr>
          <a:xfrm>
            <a:off x="468360" y="5013360"/>
            <a:ext cx="1114200" cy="11145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8"/>
          <p:cNvSpPr/>
          <p:nvPr/>
        </p:nvSpPr>
        <p:spPr>
          <a:xfrm>
            <a:off x="250920" y="4437000"/>
            <a:ext cx="468144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2052720" y="5084640"/>
            <a:ext cx="17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DI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9"/>
          <p:cNvSpPr/>
          <p:nvPr/>
        </p:nvSpPr>
        <p:spPr>
          <a:xfrm>
            <a:off x="3851280" y="4005360"/>
            <a:ext cx="4751280" cy="249228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611280" y="1557360"/>
            <a:ext cx="26654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4067280" y="1700280"/>
            <a:ext cx="410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89440" y="494172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REELE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4" name="Picture 6" descr="image_preview"/>
          <p:cNvPicPr/>
          <p:nvPr/>
        </p:nvPicPr>
        <p:blipFill>
          <a:blip r:embed="rId1"/>
          <a:stretch/>
        </p:blipFill>
        <p:spPr>
          <a:xfrm>
            <a:off x="4237200" y="1844640"/>
            <a:ext cx="4341600" cy="4697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 rot="18207600">
            <a:off x="120960" y="3313800"/>
            <a:ext cx="419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 Black"/>
              </a:rPr>
              <a:t>CARÁCT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Arial Black"/>
              </a:rPr>
              <a:t>VOLUNTARI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250920" y="1916280"/>
            <a:ext cx="27367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403280" y="6308640"/>
            <a:ext cx="2737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2340000" y="1268280"/>
            <a:ext cx="410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BER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826920" y="2421000"/>
            <a:ext cx="576360" cy="576360"/>
          </a:xfrm>
          <a:custGeom>
            <a:avLst/>
            <a:gdLst/>
            <a:ahLst/>
            <a:rect l="l" t="t" r="r" b="b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5" y="576261"/>
                </a:lnTo>
                <a:lnTo>
                  <a:pt x="288131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478160" y="2637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1219320" y="3213000"/>
            <a:ext cx="576000" cy="576360"/>
          </a:xfrm>
          <a:custGeom>
            <a:avLst/>
            <a:gdLst/>
            <a:ahLst/>
            <a:rect l="l" t="t" r="r" b="b"/>
            <a:pathLst>
              <a:path w="576263" h="576263">
                <a:moveTo>
                  <a:pt x="1" y="220112"/>
                </a:moveTo>
                <a:lnTo>
                  <a:pt x="220114" y="220114"/>
                </a:lnTo>
                <a:lnTo>
                  <a:pt x="288132" y="0"/>
                </a:lnTo>
                <a:lnTo>
                  <a:pt x="356149" y="220114"/>
                </a:lnTo>
                <a:lnTo>
                  <a:pt x="576262" y="220112"/>
                </a:lnTo>
                <a:lnTo>
                  <a:pt x="398186" y="356149"/>
                </a:lnTo>
                <a:lnTo>
                  <a:pt x="466206" y="576262"/>
                </a:lnTo>
                <a:lnTo>
                  <a:pt x="288132" y="440223"/>
                </a:lnTo>
                <a:lnTo>
                  <a:pt x="110057" y="576262"/>
                </a:lnTo>
                <a:lnTo>
                  <a:pt x="178077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870200" y="3429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1650960" y="3998880"/>
            <a:ext cx="576360" cy="576360"/>
          </a:xfrm>
          <a:custGeom>
            <a:avLst/>
            <a:gdLst/>
            <a:ahLst/>
            <a:rect l="l" t="t" r="r" b="b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6" y="576261"/>
                </a:lnTo>
                <a:lnTo>
                  <a:pt x="288132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302560" y="4214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IDAR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227320" y="4791240"/>
            <a:ext cx="576360" cy="576000"/>
          </a:xfrm>
          <a:custGeom>
            <a:avLst/>
            <a:gdLst/>
            <a:ahLst/>
            <a:rect l="l" t="t" r="r" b="b"/>
            <a:pathLst>
              <a:path w="576262" h="576263">
                <a:moveTo>
                  <a:pt x="1" y="220112"/>
                </a:moveTo>
                <a:lnTo>
                  <a:pt x="220114" y="220114"/>
                </a:lnTo>
                <a:lnTo>
                  <a:pt x="288131" y="0"/>
                </a:lnTo>
                <a:lnTo>
                  <a:pt x="356148" y="220114"/>
                </a:lnTo>
                <a:lnTo>
                  <a:pt x="576261" y="220112"/>
                </a:lnTo>
                <a:lnTo>
                  <a:pt x="398185" y="356149"/>
                </a:lnTo>
                <a:lnTo>
                  <a:pt x="466205" y="576262"/>
                </a:lnTo>
                <a:lnTo>
                  <a:pt x="288131" y="440223"/>
                </a:lnTo>
                <a:lnTo>
                  <a:pt x="110057" y="576262"/>
                </a:lnTo>
                <a:lnTo>
                  <a:pt x="178077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2878200" y="5006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2730600" y="5589720"/>
            <a:ext cx="576000" cy="576000"/>
          </a:xfrm>
          <a:custGeom>
            <a:avLst/>
            <a:gdLst/>
            <a:ahLst/>
            <a:rect l="l" t="t" r="r" b="b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6" y="576261"/>
                </a:lnTo>
                <a:lnTo>
                  <a:pt x="288132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382560" y="5805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YUDA MUT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3956040" y="2414520"/>
            <a:ext cx="576360" cy="576360"/>
          </a:xfrm>
          <a:custGeom>
            <a:avLst/>
            <a:gdLst/>
            <a:ahLst/>
            <a:rect l="l" t="t" r="r" b="b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6" y="576261"/>
                </a:lnTo>
                <a:lnTo>
                  <a:pt x="288132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4607640" y="263052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RESPONSABILIDAD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4459320" y="3206880"/>
            <a:ext cx="576360" cy="576000"/>
          </a:xfrm>
          <a:custGeom>
            <a:avLst/>
            <a:gdLst/>
            <a:ahLst/>
            <a:rect l="l" t="t" r="r" b="b"/>
            <a:pathLst>
              <a:path w="576262" h="576263">
                <a:moveTo>
                  <a:pt x="1" y="220112"/>
                </a:moveTo>
                <a:lnTo>
                  <a:pt x="220114" y="220114"/>
                </a:lnTo>
                <a:lnTo>
                  <a:pt x="288131" y="0"/>
                </a:lnTo>
                <a:lnTo>
                  <a:pt x="356148" y="220114"/>
                </a:lnTo>
                <a:lnTo>
                  <a:pt x="576261" y="220112"/>
                </a:lnTo>
                <a:lnTo>
                  <a:pt x="398185" y="356149"/>
                </a:lnTo>
                <a:lnTo>
                  <a:pt x="466205" y="576262"/>
                </a:lnTo>
                <a:lnTo>
                  <a:pt x="288131" y="440223"/>
                </a:lnTo>
                <a:lnTo>
                  <a:pt x="110057" y="576262"/>
                </a:lnTo>
                <a:lnTo>
                  <a:pt x="178077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5111280" y="342252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NDICIÓN DE CUENT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4964040" y="3998880"/>
            <a:ext cx="576360" cy="576360"/>
          </a:xfrm>
          <a:custGeom>
            <a:avLst/>
            <a:gdLst/>
            <a:ahLst/>
            <a:rect l="l" t="t" r="r" b="b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5" y="576261"/>
                </a:lnTo>
                <a:lnTo>
                  <a:pt x="288131" y="440222"/>
                </a:lnTo>
                <a:lnTo>
                  <a:pt x="110057" y="576261"/>
                </a:lnTo>
                <a:lnTo>
                  <a:pt x="178077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5616360" y="4214880"/>
            <a:ext cx="30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TRANSPAR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O Y EFICAZ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OS RECURS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2340000" y="1268280"/>
            <a:ext cx="4105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QUISIT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8360" y="24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1025640" y="2513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 venezolano (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3"/>
          <p:cNvSpPr/>
          <p:nvPr/>
        </p:nvSpPr>
        <p:spPr>
          <a:xfrm>
            <a:off x="468360" y="2852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026360" y="294480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njero resid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5"/>
          <p:cNvSpPr/>
          <p:nvPr/>
        </p:nvSpPr>
        <p:spPr>
          <a:xfrm>
            <a:off x="46836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1022760" y="337644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bitante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1 añ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468360" y="371628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1024200" y="380844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ta de postulación 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ifestación de volunt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/>
          <p:cNvSpPr/>
          <p:nvPr/>
        </p:nvSpPr>
        <p:spPr>
          <a:xfrm>
            <a:off x="461880" y="4437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1020240" y="452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 mayor de 15 añ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1"/>
          <p:cNvSpPr/>
          <p:nvPr/>
        </p:nvSpPr>
        <p:spPr>
          <a:xfrm>
            <a:off x="468360" y="494172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1024560" y="50338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crito REC (comunida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3"/>
          <p:cNvSpPr/>
          <p:nvPr/>
        </p:nvSpPr>
        <p:spPr>
          <a:xfrm>
            <a:off x="4638600" y="2421000"/>
            <a:ext cx="360360" cy="360360"/>
          </a:xfrm>
          <a:custGeom>
            <a:avLst/>
            <a:gdLst/>
            <a:ahLst/>
            <a:rect l="l" t="t" r="r" b="b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3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60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194080" y="251316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vencia moral y honorabil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5"/>
          <p:cNvSpPr/>
          <p:nvPr/>
        </p:nvSpPr>
        <p:spPr>
          <a:xfrm>
            <a:off x="4643280" y="2852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5199480" y="294480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comunit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7"/>
          <p:cNvSpPr/>
          <p:nvPr/>
        </p:nvSpPr>
        <p:spPr>
          <a:xfrm>
            <a:off x="4626000" y="3284640"/>
            <a:ext cx="360360" cy="360360"/>
          </a:xfrm>
          <a:custGeom>
            <a:avLst/>
            <a:gdLst/>
            <a:ahLst/>
            <a:rect l="l" t="t" r="r" b="b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3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60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5177880" y="3376440"/>
            <a:ext cx="30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entesc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toº consangui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doº afi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5199840" y="4241880"/>
            <a:ext cx="36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cupar cargos elección pop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dicción  civ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habilitación polí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do judi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1"/>
          <p:cNvSpPr/>
          <p:nvPr/>
        </p:nvSpPr>
        <p:spPr>
          <a:xfrm>
            <a:off x="4358520" y="414972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2"/>
          <p:cNvSpPr/>
          <p:nvPr/>
        </p:nvSpPr>
        <p:spPr>
          <a:xfrm>
            <a:off x="5148360" y="3357720"/>
            <a:ext cx="71280" cy="2185920"/>
          </a:xfrm>
          <a:custGeom>
            <a:avLst/>
            <a:gdLst>
              <a:gd name="textAreaLeft" fmla="*/ 45720 w 71280"/>
              <a:gd name="textAreaRight" fmla="*/ 71640 w 71280"/>
              <a:gd name="textAreaTop" fmla="*/ 56880 h 2185920"/>
              <a:gd name="textAreaBottom" fmla="*/ 2129040 h 21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420560" y="5950080"/>
            <a:ext cx="626004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&gt; 18 AÑO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VOCERO DE FINANZAS o CONTRAL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5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2484360" y="1268280"/>
            <a:ext cx="4464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ersonalidad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Jurídica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2411280" y="1197000"/>
            <a:ext cx="44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alida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rídica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2044080" y="2781360"/>
            <a:ext cx="51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str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pso 15 dí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PP Comun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55640" y="3500280"/>
            <a:ext cx="3384720" cy="2871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icitud de regist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a constitutiva (Oy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tu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so demográf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oqu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rmas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227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5365440" y="371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pso 10 dí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4932360" y="4437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 flipV="1">
            <a:off x="6227640" y="40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4932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766764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4729320" y="407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752688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6838920" y="4646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pso 30 dí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V="1">
            <a:off x="7667640" y="50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6659640" y="5373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665964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>
            <a:off x="874872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6445440" y="500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8528760" y="500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7861320" y="59500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erárqu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763640" y="1197000"/>
            <a:ext cx="5545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2572200" y="14590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MBLEA COMUNITA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2484360" y="2565360"/>
            <a:ext cx="403236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2702880" y="2708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ECTIVO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CION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059280" y="4076640"/>
            <a:ext cx="280800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3060360" y="4149720"/>
            <a:ext cx="279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Administrativa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2"/>
          <p:cNvSpPr/>
          <p:nvPr/>
        </p:nvSpPr>
        <p:spPr>
          <a:xfrm>
            <a:off x="108000" y="407664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40720" y="4292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Ejecu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6012000" y="4076640"/>
            <a:ext cx="2808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6373440" y="414972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alorí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1476360" y="378936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9"/>
          <p:cNvSpPr/>
          <p:nvPr/>
        </p:nvSpPr>
        <p:spPr>
          <a:xfrm>
            <a:off x="745164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0"/>
          <p:cNvSpPr/>
          <p:nvPr/>
        </p:nvSpPr>
        <p:spPr>
          <a:xfrm>
            <a:off x="147636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1"/>
          <p:cNvSpPr/>
          <p:nvPr/>
        </p:nvSpPr>
        <p:spPr>
          <a:xfrm>
            <a:off x="450072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2"/>
          <p:cNvSpPr/>
          <p:nvPr/>
        </p:nvSpPr>
        <p:spPr>
          <a:xfrm>
            <a:off x="4500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866920" y="566100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TÍCULO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onstitucion-bolivariana"/>
          <p:cNvPicPr/>
          <p:nvPr/>
        </p:nvPicPr>
        <p:blipFill>
          <a:blip r:embed="rId1"/>
          <a:stretch/>
        </p:blipFill>
        <p:spPr>
          <a:xfrm>
            <a:off x="0" y="0"/>
            <a:ext cx="2668680" cy="2997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4284720" y="40464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OCRACIA PARTICIPATI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OTAGÓN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6012000" y="11253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436200" y="2349360"/>
            <a:ext cx="57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– ARTICULACIÓN - INTEG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4716360" y="1700280"/>
            <a:ext cx="3100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EJOS COMUNA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6012000" y="2925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2556000" y="333360"/>
            <a:ext cx="1511280" cy="503280"/>
          </a:xfrm>
          <a:prstGeom prst="rightArrow">
            <a:avLst>
              <a:gd name="adj1" fmla="val 50000"/>
              <a:gd name="adj2" fmla="val 750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101400" y="3567240"/>
            <a:ext cx="59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OBIERNO COMUNITARIO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OLITICAS PÚBLI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16880" y="4435560"/>
            <a:ext cx="8573400" cy="794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…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 construcción del nuevo modelo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CIEDAD SOCIALIST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de Igualdad, equidad y justicia social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1763640" y="1197000"/>
            <a:ext cx="554508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2572200" y="145908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MBLEA COMUNITA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710160" y="31417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96720" y="24210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S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2338920" y="2421000"/>
            <a:ext cx="61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YORIA SIMPLE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QUORUM / 1ra – 30% /  2da – 2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95280" y="3573360"/>
            <a:ext cx="4321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Ámbito geográf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r creación de Comités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gir / revocar voceros (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r p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Comu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r proye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24000" y="2276640"/>
            <a:ext cx="8280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5003640" y="3573360"/>
            <a:ext cx="36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r gest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mas de Convive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ignar vocer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erencia de servic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isión de Contra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a constitutiva / estatu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4"/>
          <p:cNvSpPr/>
          <p:nvPr/>
        </p:nvSpPr>
        <p:spPr>
          <a:xfrm>
            <a:off x="2484360" y="1125360"/>
            <a:ext cx="4032360" cy="93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702880" y="1268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ECTIVO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CION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781800" y="2492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468360" y="3357720"/>
            <a:ext cx="4032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imiento – Decisiones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r – Plan Desarrol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ocer -  Gestión financi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uesta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olíticas Públi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ativa / comunicac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vocar C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4716360" y="3284640"/>
            <a:ext cx="403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r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iclo Comu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ensa Integral de la N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ioproductiv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mación / capaci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 – transfere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r (Comité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dm Pu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tutos C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4"/>
          <p:cNvSpPr/>
          <p:nvPr/>
        </p:nvSpPr>
        <p:spPr>
          <a:xfrm>
            <a:off x="2916360" y="1341360"/>
            <a:ext cx="2808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349080" y="155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Ejecut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6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494160" y="2492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468360" y="3357720"/>
            <a:ext cx="4032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tar decisione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Información Comunit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r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lanes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mover Organiz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ganizar voluntari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licia Bolivarian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16360" y="3284640"/>
            <a:ext cx="410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líticas Públicas (Propuestas P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vantamiento Información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mu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s comunitar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cia de Reside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á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4"/>
          <p:cNvSpPr/>
          <p:nvPr/>
        </p:nvSpPr>
        <p:spPr>
          <a:xfrm>
            <a:off x="3059280" y="1484280"/>
            <a:ext cx="280800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060360" y="1557360"/>
            <a:ext cx="279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Administrativa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735480" y="2873520"/>
            <a:ext cx="1989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hor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>
            <a:off x="3059280" y="2781360"/>
            <a:ext cx="433080" cy="2808360"/>
          </a:xfrm>
          <a:custGeom>
            <a:avLst/>
            <a:gdLst>
              <a:gd name="textAreaLeft" fmla="*/ 0 w 433080"/>
              <a:gd name="textAreaRight" fmla="*/ 156240 w 43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3563640" y="4005360"/>
            <a:ext cx="35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URSOS Y FONDO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827640" y="6021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VILEGIA INTERES SOCIAL SOBRE ACUMULACIÓN DE CAP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11"/>
          <p:cNvSpPr txBox="1"/>
          <p:nvPr/>
        </p:nvSpPr>
        <p:spPr>
          <a:xfrm>
            <a:off x="7308720" y="177336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803016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4"/>
          <p:cNvSpPr/>
          <p:nvPr/>
        </p:nvSpPr>
        <p:spPr>
          <a:xfrm>
            <a:off x="3059280" y="1484280"/>
            <a:ext cx="280800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3060360" y="1557360"/>
            <a:ext cx="279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Administrativa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6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494160" y="2492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468360" y="3357720"/>
            <a:ext cx="4032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tar decisione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gistro Contable / sopor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 de gestión y rendir cuenta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trimes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 financie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mediación financi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oyar Economí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4716360" y="3284640"/>
            <a:ext cx="4103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enes y servicio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ternativ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horro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édito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valuación / análi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laración Jur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ndos CCs – Administr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 anual de ga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amiento Proyect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"/>
          <p:cNvSpPr/>
          <p:nvPr/>
        </p:nvSpPr>
        <p:spPr>
          <a:xfrm>
            <a:off x="2987640" y="126828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349080" y="134136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alorí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4427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494160" y="2492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468360" y="328464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tar decisiones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imiento / vigilancia / supervisión / control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jecución ( Planes, proyectos, ciclo comunal, gastos CCs, Org. Socioproductiv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ndir cuenta – an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– x solicit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perar – Poder Públ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ar – denuncias de la gest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mitir Declaraciones Juradas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7308720" y="177336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803016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4"/>
          <p:cNvSpPr/>
          <p:nvPr/>
        </p:nvSpPr>
        <p:spPr>
          <a:xfrm>
            <a:off x="2987640" y="1268280"/>
            <a:ext cx="280836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3291840" y="134136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isión Electo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4427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7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250920" y="3141720"/>
            <a:ext cx="8713800" cy="331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494160" y="2492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468360" y="328464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gistro Electo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ar procesos / resul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terial electo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tul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dinar procesos vo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ificar requisitos de postul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cidir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mpugn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WordArt 11"/>
          <p:cNvSpPr txBox="1"/>
          <p:nvPr/>
        </p:nvSpPr>
        <p:spPr>
          <a:xfrm>
            <a:off x="7308720" y="177336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803016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716360" y="3357720"/>
            <a:ext cx="3959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lamar y jurament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ridad y transpare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chivos elector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imar recurs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ificar cese funciones (2 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der Electoral – Coord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á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332000" y="1056240"/>
            <a:ext cx="670392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REVOCATOR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26520" y="1989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826920" y="2565360"/>
            <a:ext cx="6048720" cy="31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ón contraria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samblea y Colec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lta a sus fun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misión o negativa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resentación de proye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r proyectos disti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entar / negociar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Decisiones (Asamble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rendir cuent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misión / falsedad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Declaración Jur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ñar material electoral, arch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lamar / juramentar personas no elect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ublicitar proceso electo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llevar registro electoral actual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332000" y="1056240"/>
            <a:ext cx="6703920" cy="764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 Black"/>
              </a:rPr>
              <a:t>REVOCATOR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25080" y="19890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901080" y="26305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2411280" y="278136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212000" y="263052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Contralorí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5651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135760" y="3500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2"/>
          <p:cNvSpPr/>
          <p:nvPr/>
        </p:nvSpPr>
        <p:spPr>
          <a:xfrm>
            <a:off x="5651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3594240" y="4214880"/>
            <a:ext cx="41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ectivo Coordinación Comunita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565164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4895280" y="5078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4286160" y="5732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7"/>
          <p:cNvSpPr/>
          <p:nvPr/>
        </p:nvSpPr>
        <p:spPr>
          <a:xfrm>
            <a:off x="565164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385308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7310880" y="558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 flipH="1">
            <a:off x="3348000" y="573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2052000" y="5300640"/>
            <a:ext cx="122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is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to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3420720" y="6093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l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 flipH="1">
            <a:off x="1547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304560" y="54658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5"/>
          <p:cNvSpPr/>
          <p:nvPr/>
        </p:nvSpPr>
        <p:spPr>
          <a:xfrm flipV="1">
            <a:off x="900000" y="4437000"/>
            <a:ext cx="259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6"/>
          <p:cNvSpPr/>
          <p:nvPr/>
        </p:nvSpPr>
        <p:spPr>
          <a:xfrm flipH="1">
            <a:off x="212364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6360" y="42210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a al MP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8"/>
          <p:cNvSpPr/>
          <p:nvPr/>
        </p:nvSpPr>
        <p:spPr>
          <a:xfrm>
            <a:off x="248436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3041280" y="2297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/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3113640" y="31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2 Rectángulo" descr=""/>
          <p:cNvPicPr/>
          <p:nvPr/>
        </p:nvPicPr>
        <p:blipFill>
          <a:blip r:embed="rId1"/>
          <a:stretch/>
        </p:blipFill>
        <p:spPr>
          <a:xfrm>
            <a:off x="1719360" y="1066680"/>
            <a:ext cx="5815080" cy="1554120"/>
          </a:xfrm>
          <a:prstGeom prst="rect">
            <a:avLst/>
          </a:prstGeom>
          <a:ln w="0">
            <a:noFill/>
          </a:ln>
        </p:spPr>
      </p:pic>
      <p:pic>
        <p:nvPicPr>
          <p:cNvPr id="409" name="3 Rectángulo" descr=""/>
          <p:cNvPicPr/>
          <p:nvPr/>
        </p:nvPicPr>
        <p:blipFill>
          <a:blip r:embed="rId2"/>
          <a:stretch/>
        </p:blipFill>
        <p:spPr>
          <a:xfrm>
            <a:off x="-103320" y="3621240"/>
            <a:ext cx="3260880" cy="1457280"/>
          </a:xfrm>
          <a:prstGeom prst="rect">
            <a:avLst/>
          </a:prstGeom>
          <a:ln w="0">
            <a:noFill/>
          </a:ln>
        </p:spPr>
      </p:pic>
      <p:sp>
        <p:nvSpPr>
          <p:cNvPr id="410" name="4 Abrir llave"/>
          <p:cNvSpPr/>
          <p:nvPr/>
        </p:nvSpPr>
        <p:spPr>
          <a:xfrm>
            <a:off x="2928960" y="2357280"/>
            <a:ext cx="357120" cy="37864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786480"/>
              <a:gd name="textAreaBottom" fmla="*/ 3777480 h 378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70"/>
                </a:cubicBezTo>
                <a:lnTo>
                  <a:pt x="10800" y="10630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70"/>
                </a:cubicBezTo>
                <a:lnTo>
                  <a:pt x="10800" y="21430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5 CuadroTexto"/>
          <p:cNvSpPr/>
          <p:nvPr/>
        </p:nvSpPr>
        <p:spPr>
          <a:xfrm>
            <a:off x="4053240" y="2928960"/>
            <a:ext cx="3696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IAGNÓST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TRALORÍA SO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692360" y="476280"/>
            <a:ext cx="607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NCIPIOS Y VALORES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79280" y="1413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ticipación – corresponsabilidad – democracia – Identidad Nacional – Libre debate de ideas – Celeridad – Coordinación – Cooperación – Solidaridad – Transparencia – Rendición de cuentas – Honestidad – Bien Común – Humanismo – Territorialidad – Colectivismo – Eficacia – Eficiencia – Ética – Responsabilidad Social – Control Social – Libertad – Equidad – Justicia – Trabajo Voluntario – Igualdad Social – Igualdad de Genero -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4000" y="4437000"/>
            <a:ext cx="8424720" cy="794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…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 el fin de establecer la bese sociopolítica d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CIALISM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que consolide un nuevo modelo político, social, cultural y económico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866920" y="566100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TÍCULO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magen0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55640" y="1484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611280" y="4005360"/>
            <a:ext cx="792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OCIALISMO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barrio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395280" y="549360"/>
            <a:ext cx="3162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UNIDAD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68200" y="1052640"/>
            <a:ext cx="3533400" cy="825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ÁMBITO GEOGRÁF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4500720" y="306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4500720" y="364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0"/>
          <p:cNvSpPr/>
          <p:nvPr/>
        </p:nvSpPr>
        <p:spPr>
          <a:xfrm flipV="1">
            <a:off x="558000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1"/>
          <p:cNvSpPr/>
          <p:nvPr/>
        </p:nvSpPr>
        <p:spPr>
          <a:xfrm flipH="1">
            <a:off x="4500720" y="306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5"/>
          <p:cNvSpPr/>
          <p:nvPr/>
        </p:nvSpPr>
        <p:spPr>
          <a:xfrm>
            <a:off x="7620120" y="50720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6"/>
          <p:cNvSpPr/>
          <p:nvPr/>
        </p:nvSpPr>
        <p:spPr>
          <a:xfrm>
            <a:off x="7620120" y="56484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7"/>
          <p:cNvSpPr/>
          <p:nvPr/>
        </p:nvSpPr>
        <p:spPr>
          <a:xfrm flipV="1">
            <a:off x="8699400" y="5071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8"/>
          <p:cNvSpPr/>
          <p:nvPr/>
        </p:nvSpPr>
        <p:spPr>
          <a:xfrm flipH="1">
            <a:off x="7620120" y="50720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9"/>
          <p:cNvSpPr/>
          <p:nvPr/>
        </p:nvSpPr>
        <p:spPr>
          <a:xfrm>
            <a:off x="6659640" y="40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0"/>
          <p:cNvSpPr/>
          <p:nvPr/>
        </p:nvSpPr>
        <p:spPr>
          <a:xfrm>
            <a:off x="8964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 flipH="1">
            <a:off x="6659280" y="501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2"/>
          <p:cNvSpPr/>
          <p:nvPr/>
        </p:nvSpPr>
        <p:spPr>
          <a:xfrm flipV="1">
            <a:off x="665964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3"/>
          <p:cNvSpPr/>
          <p:nvPr/>
        </p:nvSpPr>
        <p:spPr>
          <a:xfrm>
            <a:off x="428472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4"/>
          <p:cNvSpPr/>
          <p:nvPr/>
        </p:nvSpPr>
        <p:spPr>
          <a:xfrm>
            <a:off x="4284720" y="486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5"/>
          <p:cNvSpPr/>
          <p:nvPr/>
        </p:nvSpPr>
        <p:spPr>
          <a:xfrm flipV="1">
            <a:off x="5940360" y="386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6"/>
          <p:cNvSpPr/>
          <p:nvPr/>
        </p:nvSpPr>
        <p:spPr>
          <a:xfrm>
            <a:off x="4284720" y="386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7"/>
          <p:cNvSpPr/>
          <p:nvPr/>
        </p:nvSpPr>
        <p:spPr>
          <a:xfrm flipH="1">
            <a:off x="7092720" y="386064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8"/>
          <p:cNvSpPr/>
          <p:nvPr/>
        </p:nvSpPr>
        <p:spPr>
          <a:xfrm flipH="1" flipV="1">
            <a:off x="8028000" y="263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9"/>
          <p:cNvSpPr/>
          <p:nvPr/>
        </p:nvSpPr>
        <p:spPr>
          <a:xfrm flipH="1">
            <a:off x="680400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0"/>
          <p:cNvSpPr/>
          <p:nvPr/>
        </p:nvSpPr>
        <p:spPr>
          <a:xfrm>
            <a:off x="6804000" y="2637000"/>
            <a:ext cx="36036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1"/>
          <p:cNvSpPr/>
          <p:nvPr/>
        </p:nvSpPr>
        <p:spPr>
          <a:xfrm flipH="1" flipV="1">
            <a:off x="6588000" y="2205000"/>
            <a:ext cx="43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2"/>
          <p:cNvSpPr/>
          <p:nvPr/>
        </p:nvSpPr>
        <p:spPr>
          <a:xfrm flipH="1">
            <a:off x="558000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3"/>
          <p:cNvSpPr/>
          <p:nvPr/>
        </p:nvSpPr>
        <p:spPr>
          <a:xfrm flipH="1">
            <a:off x="5219280" y="2205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4"/>
          <p:cNvSpPr/>
          <p:nvPr/>
        </p:nvSpPr>
        <p:spPr>
          <a:xfrm>
            <a:off x="5219640" y="2852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5"/>
          <p:cNvSpPr/>
          <p:nvPr/>
        </p:nvSpPr>
        <p:spPr>
          <a:xfrm>
            <a:off x="5651640" y="2997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6"/>
          <p:cNvSpPr/>
          <p:nvPr/>
        </p:nvSpPr>
        <p:spPr>
          <a:xfrm>
            <a:off x="601200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7"/>
          <p:cNvSpPr/>
          <p:nvPr/>
        </p:nvSpPr>
        <p:spPr>
          <a:xfrm>
            <a:off x="4211640" y="49402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8"/>
          <p:cNvSpPr/>
          <p:nvPr/>
        </p:nvSpPr>
        <p:spPr>
          <a:xfrm flipH="1">
            <a:off x="5651640" y="4940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9"/>
          <p:cNvSpPr/>
          <p:nvPr/>
        </p:nvSpPr>
        <p:spPr>
          <a:xfrm flipH="1">
            <a:off x="4716360" y="5948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0"/>
          <p:cNvSpPr/>
          <p:nvPr/>
        </p:nvSpPr>
        <p:spPr>
          <a:xfrm flipH="1" flipV="1">
            <a:off x="4140360" y="515628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1"/>
          <p:cNvSpPr/>
          <p:nvPr/>
        </p:nvSpPr>
        <p:spPr>
          <a:xfrm flipV="1">
            <a:off x="4140360" y="4940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2"/>
          <p:cNvSpPr/>
          <p:nvPr/>
        </p:nvSpPr>
        <p:spPr>
          <a:xfrm>
            <a:off x="6156360" y="515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3"/>
          <p:cNvSpPr/>
          <p:nvPr/>
        </p:nvSpPr>
        <p:spPr>
          <a:xfrm>
            <a:off x="7380360" y="515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4"/>
          <p:cNvSpPr/>
          <p:nvPr/>
        </p:nvSpPr>
        <p:spPr>
          <a:xfrm>
            <a:off x="7380360" y="580536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5"/>
          <p:cNvSpPr/>
          <p:nvPr/>
        </p:nvSpPr>
        <p:spPr>
          <a:xfrm flipH="1">
            <a:off x="6804000" y="6093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5508720" y="623700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7"/>
          <p:cNvSpPr/>
          <p:nvPr/>
        </p:nvSpPr>
        <p:spPr>
          <a:xfrm flipV="1">
            <a:off x="5508720" y="5155920"/>
            <a:ext cx="647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8"/>
          <p:cNvSpPr/>
          <p:nvPr/>
        </p:nvSpPr>
        <p:spPr>
          <a:xfrm>
            <a:off x="7311240" y="299736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9"/>
          <p:cNvSpPr/>
          <p:nvPr/>
        </p:nvSpPr>
        <p:spPr>
          <a:xfrm>
            <a:off x="7454160" y="436572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0"/>
          <p:cNvSpPr/>
          <p:nvPr/>
        </p:nvSpPr>
        <p:spPr>
          <a:xfrm>
            <a:off x="4645800" y="422100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1"/>
          <p:cNvSpPr/>
          <p:nvPr/>
        </p:nvSpPr>
        <p:spPr>
          <a:xfrm>
            <a:off x="6230160" y="587700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2"/>
          <p:cNvSpPr/>
          <p:nvPr/>
        </p:nvSpPr>
        <p:spPr>
          <a:xfrm>
            <a:off x="4645800" y="537372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3"/>
          <p:cNvSpPr/>
          <p:nvPr/>
        </p:nvSpPr>
        <p:spPr>
          <a:xfrm>
            <a:off x="5726880" y="256536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4"/>
          <p:cNvSpPr/>
          <p:nvPr/>
        </p:nvSpPr>
        <p:spPr>
          <a:xfrm>
            <a:off x="7743240" y="522936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5796000" y="5300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6"/>
          <p:cNvSpPr/>
          <p:nvPr/>
        </p:nvSpPr>
        <p:spPr>
          <a:xfrm>
            <a:off x="5796000" y="4437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7"/>
          <p:cNvSpPr/>
          <p:nvPr/>
        </p:nvSpPr>
        <p:spPr>
          <a:xfrm flipH="1">
            <a:off x="5795640" y="3500280"/>
            <a:ext cx="187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8"/>
          <p:cNvSpPr/>
          <p:nvPr/>
        </p:nvSpPr>
        <p:spPr>
          <a:xfrm flipH="1" flipV="1">
            <a:off x="8388360" y="3645000"/>
            <a:ext cx="2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9"/>
          <p:cNvSpPr/>
          <p:nvPr/>
        </p:nvSpPr>
        <p:spPr>
          <a:xfrm flipH="1">
            <a:off x="5435640" y="2924280"/>
            <a:ext cx="28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0"/>
          <p:cNvSpPr/>
          <p:nvPr/>
        </p:nvSpPr>
        <p:spPr>
          <a:xfrm>
            <a:off x="4645800" y="3213000"/>
            <a:ext cx="79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V="1">
            <a:off x="5435640" y="3499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 flipV="1">
            <a:off x="5219640" y="3860640"/>
            <a:ext cx="2160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3"/>
          <p:cNvSpPr/>
          <p:nvPr/>
        </p:nvSpPr>
        <p:spPr>
          <a:xfrm>
            <a:off x="6372360" y="3573360"/>
            <a:ext cx="5032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4"/>
          <p:cNvSpPr/>
          <p:nvPr/>
        </p:nvSpPr>
        <p:spPr>
          <a:xfrm flipH="1">
            <a:off x="7092720" y="537372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5"/>
          <p:cNvSpPr/>
          <p:nvPr/>
        </p:nvSpPr>
        <p:spPr>
          <a:xfrm flipV="1">
            <a:off x="6659640" y="2997360"/>
            <a:ext cx="504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6"/>
          <p:cNvSpPr/>
          <p:nvPr/>
        </p:nvSpPr>
        <p:spPr>
          <a:xfrm>
            <a:off x="6443640" y="2565360"/>
            <a:ext cx="720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7"/>
          <p:cNvSpPr/>
          <p:nvPr/>
        </p:nvSpPr>
        <p:spPr>
          <a:xfrm>
            <a:off x="239400" y="2924280"/>
            <a:ext cx="31784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MPARTEN LA HIS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8"/>
          <p:cNvSpPr/>
          <p:nvPr/>
        </p:nvSpPr>
        <p:spPr>
          <a:xfrm>
            <a:off x="470160" y="2270160"/>
            <a:ext cx="27075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RESE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9"/>
          <p:cNvSpPr/>
          <p:nvPr/>
        </p:nvSpPr>
        <p:spPr>
          <a:xfrm>
            <a:off x="758160" y="3500280"/>
            <a:ext cx="1893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IDAD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0"/>
          <p:cNvSpPr/>
          <p:nvPr/>
        </p:nvSpPr>
        <p:spPr>
          <a:xfrm>
            <a:off x="541800" y="4149720"/>
            <a:ext cx="2364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TENCIALID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LTURA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1"/>
          <p:cNvSpPr/>
          <p:nvPr/>
        </p:nvSpPr>
        <p:spPr>
          <a:xfrm>
            <a:off x="806400" y="5013360"/>
            <a:ext cx="1819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CONÓMIC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"/>
          <p:cNvSpPr/>
          <p:nvPr/>
        </p:nvSpPr>
        <p:spPr>
          <a:xfrm>
            <a:off x="1069560" y="5726160"/>
            <a:ext cx="1413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OCIA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544680" y="1268280"/>
            <a:ext cx="6406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BASE POBLACIONAL DE LA COMUN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900000" y="2421000"/>
            <a:ext cx="19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amilias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574880" y="2492280"/>
            <a:ext cx="38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ntre 150 y 400 en el área urba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3800" y="342900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 partir de 20 familias en el área rur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57200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 partir de 10 familias en las comunidades indígen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4140360" y="2492280"/>
            <a:ext cx="43164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4140360" y="3429000"/>
            <a:ext cx="43164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4140360" y="422100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5"/>
                </a:lnTo>
                <a:lnTo>
                  <a:pt x="349333" y="360361"/>
                </a:lnTo>
                <a:lnTo>
                  <a:pt x="215900" y="275290"/>
                </a:lnTo>
                <a:lnTo>
                  <a:pt x="82467" y="360361"/>
                </a:lnTo>
                <a:lnTo>
                  <a:pt x="133435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610200" y="1341360"/>
            <a:ext cx="7749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REA DE TRABAJO DE EDUCACIÓN, CULTURA Y DEPOR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733920" y="4761000"/>
            <a:ext cx="1295280" cy="6415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COMITÉ DE TRABAJO DE CULTU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066680" y="3048120"/>
            <a:ext cx="1295640" cy="6415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COMITÉ DE TRABAJO DE EDUC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477120" y="3097080"/>
            <a:ext cx="2057400" cy="459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COMITÉ DE TRABAJO DE DEPORTE Y RECREACIÓ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52280" y="2209680"/>
            <a:ext cx="76212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MISION RIB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52280" y="4191120"/>
            <a:ext cx="99072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MISION ROBINS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6320" y="3200400"/>
            <a:ext cx="76176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MISION SUCRE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52280" y="4724280"/>
            <a:ext cx="16002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ORGANIZACIONES DE ESTUDIANT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676520" y="4191120"/>
            <a:ext cx="152712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CIUDADANOS (A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914400" y="2590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8380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60948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V="1">
            <a:off x="1219320" y="4005000"/>
            <a:ext cx="1839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 flipV="1">
            <a:off x="1763280" y="3933360"/>
            <a:ext cx="14148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733920" y="6118200"/>
            <a:ext cx="13716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CIUDADANOS Y CIUDADANOS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2514600" y="5105520"/>
            <a:ext cx="9144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MISION CULTURA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2057400" y="5842080"/>
            <a:ext cx="11430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CASA DE LA CULTURA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389560" y="5767560"/>
            <a:ext cx="141444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OPERADOR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5257800" y="4952880"/>
            <a:ext cx="121932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GRUPOS CULTUR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3200400" y="54100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3429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4419720" y="5711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 flipH="1" flipV="1">
            <a:off x="5059440" y="56527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 flipH="1">
            <a:off x="50288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876920" y="3124080"/>
            <a:ext cx="1066680" cy="5508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BARRIO ADENTRO DEPORTIVO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181480" y="3860640"/>
            <a:ext cx="129564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GRUPOS RECREATIV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6400800" y="4394160"/>
            <a:ext cx="11430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CLUBES DEPORTIVO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7620120" y="4165560"/>
            <a:ext cx="1371600" cy="39852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MX" sz="1000" spc="-1" strike="noStrike">
                <a:solidFill>
                  <a:srgbClr val="ffffff"/>
                </a:solidFill>
                <a:latin typeface="Arial Black"/>
              </a:rPr>
              <a:t>CIUDADANOS Y CIUDADANOS</a:t>
            </a:r>
            <a:r>
              <a:rPr b="0" lang="es-MX" sz="1000" spc="-1" strike="noStrike">
                <a:solidFill>
                  <a:srgbClr val="ffff00"/>
                </a:solidFill>
                <a:latin typeface="Arial Black"/>
              </a:rPr>
              <a:t>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59436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5"/>
          <p:cNvSpPr/>
          <p:nvPr/>
        </p:nvSpPr>
        <p:spPr>
          <a:xfrm flipV="1">
            <a:off x="609588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6"/>
          <p:cNvSpPr/>
          <p:nvPr/>
        </p:nvSpPr>
        <p:spPr>
          <a:xfrm flipV="1">
            <a:off x="7162920" y="3771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7"/>
          <p:cNvSpPr/>
          <p:nvPr/>
        </p:nvSpPr>
        <p:spPr>
          <a:xfrm flipH="1" flipV="1">
            <a:off x="7924320" y="37339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8"/>
          <p:cNvSpPr/>
          <p:nvPr/>
        </p:nvSpPr>
        <p:spPr>
          <a:xfrm flipV="1">
            <a:off x="2411280" y="2781000"/>
            <a:ext cx="72072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9"/>
          <p:cNvSpPr/>
          <p:nvPr/>
        </p:nvSpPr>
        <p:spPr>
          <a:xfrm flipV="1">
            <a:off x="4356000" y="3141720"/>
            <a:ext cx="0" cy="151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0"/>
          <p:cNvSpPr/>
          <p:nvPr/>
        </p:nvSpPr>
        <p:spPr>
          <a:xfrm flipH="1" flipV="1">
            <a:off x="6011640" y="2491920"/>
            <a:ext cx="143964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41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2557440" y="2205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3759120" y="2781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4767120" y="227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575600" y="93672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Arial"/>
              </a:rPr>
              <a:t>Constitución 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324000" y="1628640"/>
            <a:ext cx="172872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417040" y="1703520"/>
            <a:ext cx="269676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Equip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Promo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702960" y="3716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iciativa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iudadanos (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207240" y="4581360"/>
            <a:ext cx="4242240" cy="64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Not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MPP COMUNAS </a:t>
            </a:r>
            <a:r>
              <a:rPr b="1" lang="es-V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FUNDACOMU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1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6755040" y="5734080"/>
            <a:ext cx="1024920" cy="459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5582880" y="2060640"/>
            <a:ext cx="27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539640" y="1484280"/>
            <a:ext cx="172872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81080" y="3429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843280" y="3284640"/>
            <a:ext cx="57610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Difundir – objeto, alcances y f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Croquis del ámbito geográfic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Censo demográfico y socioeconóm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Convocar Asamblea – Lapso no &gt; 60 dí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Objeto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: Elegir la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Comisión Electoral Provisional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Definir Comités de Trabaj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ticipación: (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10%)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de la población &gt;15 añ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0"/>
          <p:cNvSpPr txBox="1"/>
          <p:nvPr/>
        </p:nvSpPr>
        <p:spPr>
          <a:xfrm>
            <a:off x="395280" y="40464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jos Comunale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417040" y="1703520"/>
            <a:ext cx="2696760" cy="143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Equip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Promo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24:33Z</dcterms:created>
  <dc:creator>José Ferraz</dc:creator>
  <dc:description/>
  <dc:language>en-US</dc:language>
  <cp:lastModifiedBy>acc</cp:lastModifiedBy>
  <cp:lastPrinted>2011-07-23T00:38:13Z</cp:lastPrinted>
  <dcterms:modified xsi:type="dcterms:W3CDTF">2011-07-23T00:40:03Z</dcterms:modified>
  <cp:revision>29</cp:revision>
  <dc:subject/>
  <dc:title>Diapositiva 1</dc:title>
</cp:coreProperties>
</file>