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1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4D4-1978-4120-AAB6-AB5C0597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723-314D-44FB-8B64-B1F6E7E4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1FB-B4DC-440A-BBA7-DDF3B709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8DA-EEDA-4344-BD73-124C4E12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619-FD4B-46F9-9244-D134FE0E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147-5F60-4236-93FC-B9D84FE9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2F1-07F6-4AF7-AAEF-AAB9338E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DFD-2E07-4AC2-A9FF-8553A6AF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4E1-7C21-4A35-BB47-874A41C9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27B-3C49-430B-AD8F-0839464A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931-28A6-46FE-8348-C2DB6043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020-8EE9-4664-84B6-89E96F9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KellyAnn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KellyAnn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E63D-A2E9-47E5-8655-4A54EB8D07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7020000" y="5373720"/>
            <a:ext cx="108108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KellyAnnGothic"/>
            </a:endParaRPr>
          </a:p>
        </p:txBody>
      </p:sp>
      <p:pic>
        <p:nvPicPr>
          <p:cNvPr id="42" name="Picture 12" descr="Presentació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5 Imagen" descr="abc.jpg"/>
          <p:cNvPicPr/>
          <p:nvPr/>
        </p:nvPicPr>
        <p:blipFill>
          <a:blip r:embed="rId2"/>
          <a:stretch/>
        </p:blipFill>
        <p:spPr>
          <a:xfrm>
            <a:off x="1428840" y="3929040"/>
            <a:ext cx="211464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68360" y="1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enguaje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erbal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  <p:pic>
        <p:nvPicPr>
          <p:cNvPr id="60" name="Picture 7" descr="CHINESE"/>
          <p:cNvPicPr/>
          <p:nvPr/>
        </p:nvPicPr>
        <p:blipFill>
          <a:blip r:embed="rId1"/>
          <a:stretch/>
        </p:blipFill>
        <p:spPr>
          <a:xfrm>
            <a:off x="4859280" y="3860640"/>
            <a:ext cx="367200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froamericanos1"/>
          <p:cNvPicPr/>
          <p:nvPr/>
        </p:nvPicPr>
        <p:blipFill>
          <a:blip r:embed="rId2"/>
          <a:stretch/>
        </p:blipFill>
        <p:spPr>
          <a:xfrm>
            <a:off x="5148360" y="260280"/>
            <a:ext cx="3744720" cy="2562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250920" y="765000"/>
            <a:ext cx="38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Se manifiesta a través de las lenguas , cada lengua posee un conjunto de signos orales ...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Y muchas de ellas también sus correspondientes signos escritos .....Por medio de los cuales se comunican entre si los miembros de una determinada comunidad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2"/>
          <p:cNvSpPr/>
          <p:nvPr/>
        </p:nvSpPr>
        <p:spPr>
          <a:xfrm>
            <a:off x="324000" y="333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enguaje oral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  <p:pic>
        <p:nvPicPr>
          <p:cNvPr id="64" name="Picture 14" descr="logoral"/>
          <p:cNvPicPr/>
          <p:nvPr/>
        </p:nvPicPr>
        <p:blipFill>
          <a:blip r:embed="rId1"/>
          <a:stretch/>
        </p:blipFill>
        <p:spPr>
          <a:xfrm>
            <a:off x="5796000" y="4292640"/>
            <a:ext cx="3095640" cy="23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[ligiacarvajal.jpg]"/>
          <p:cNvPicPr/>
          <p:nvPr/>
        </p:nvPicPr>
        <p:blipFill>
          <a:blip r:embed="rId2"/>
          <a:stretch/>
        </p:blipFill>
        <p:spPr>
          <a:xfrm>
            <a:off x="4859280" y="476280"/>
            <a:ext cx="3888000" cy="2700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95280" y="1052640"/>
            <a:ext cx="30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En este tipo de lenguaje , las señales son producidas oralmente y recibidas por medio del oído , la voz como medio de comunicación es muy importante ya que las ondas de la voz son capaces de conmover a toda una audiencia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68360" y="3333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enguaje escrito</a:t>
            </a:r>
            <a:endParaRPr b="1" lang="en-US" sz="1800" spc="-1" strike="noStrike">
              <a:solidFill>
                <a:srgbClr val="000000"/>
              </a:solidFill>
              <a:latin typeface="KellyAnnGothic"/>
            </a:endParaRPr>
          </a:p>
        </p:txBody>
      </p:sp>
      <p:pic>
        <p:nvPicPr>
          <p:cNvPr id="68" name="Picture 5" descr="Seifer%2014"/>
          <p:cNvPicPr/>
          <p:nvPr/>
        </p:nvPicPr>
        <p:blipFill>
          <a:blip r:embed="rId1"/>
          <a:stretch/>
        </p:blipFill>
        <p:spPr>
          <a:xfrm>
            <a:off x="4572000" y="3716280"/>
            <a:ext cx="4390920" cy="238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write"/>
          <p:cNvPicPr/>
          <p:nvPr/>
        </p:nvPicPr>
        <p:blipFill>
          <a:blip r:embed="rId2"/>
          <a:stretch/>
        </p:blipFill>
        <p:spPr>
          <a:xfrm>
            <a:off x="5292720" y="907920"/>
            <a:ext cx="2158920" cy="2159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250920" y="765000"/>
            <a:ext cx="403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En este lenguaje se emplean signos gráficos que se perciben por la vista, aparte de las letras que representan los sonidos existen otro signos gráficos que sustituyen pausas , entonaciones. La escritura permite afinar el mensaje y en consecuencia incrementa las posibilidades de estructurar un contenido 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0"/>
          <p:cNvSpPr/>
          <p:nvPr/>
        </p:nvSpPr>
        <p:spPr>
          <a:xfrm>
            <a:off x="179280" y="260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enguaje no verbal (kinesico)</a:t>
            </a:r>
            <a:endParaRPr b="1" lang="en-US" sz="1800" spc="-1" strike="noStrike">
              <a:solidFill>
                <a:srgbClr val="000000"/>
              </a:solidFill>
              <a:latin typeface="KellyAnnGothic"/>
            </a:endParaRPr>
          </a:p>
        </p:txBody>
      </p:sp>
      <p:pic>
        <p:nvPicPr>
          <p:cNvPr id="72" name="Picture 20" descr="taudiologico"/>
          <p:cNvPicPr/>
          <p:nvPr/>
        </p:nvPicPr>
        <p:blipFill>
          <a:blip r:embed="rId1"/>
          <a:stretch/>
        </p:blipFill>
        <p:spPr>
          <a:xfrm>
            <a:off x="7020000" y="333360"/>
            <a:ext cx="1942920" cy="16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2"/>
          <p:cNvPicPr/>
          <p:nvPr/>
        </p:nvPicPr>
        <p:blipFill>
          <a:blip r:embed="rId2"/>
          <a:stretch/>
        </p:blipFill>
        <p:spPr>
          <a:xfrm>
            <a:off x="5508720" y="1628640"/>
            <a:ext cx="1787400" cy="170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symbol_sign"/>
          <p:cNvPicPr/>
          <p:nvPr/>
        </p:nvPicPr>
        <p:blipFill>
          <a:blip r:embed="rId3"/>
          <a:stretch/>
        </p:blipFill>
        <p:spPr>
          <a:xfrm>
            <a:off x="7093080" y="292428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480"/>
          <p:cNvPicPr/>
          <p:nvPr/>
        </p:nvPicPr>
        <p:blipFill>
          <a:blip r:embed="rId4"/>
          <a:stretch/>
        </p:blipFill>
        <p:spPr>
          <a:xfrm>
            <a:off x="5724360" y="4653000"/>
            <a:ext cx="2376720" cy="1949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324000" y="692280"/>
            <a:ext cx="46083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se define como cualquier sistema organizado a base de gestos o signos corporales, aprendidos o somategénicos, no orales, de percepción auditiva o táctil , empleados por personas que, o bien no tienen una lengua común para comunicarse, o bien están discapacitadas física o psíquicamente para usar el lenguaje oral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"/>
          <p:cNvSpPr/>
          <p:nvPr/>
        </p:nvSpPr>
        <p:spPr>
          <a:xfrm>
            <a:off x="285840" y="2858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metaseñales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  <p:pic>
        <p:nvPicPr>
          <p:cNvPr id="78" name="Picture 12" descr="Señales de prohibición: General Señales de prohibición"/>
          <p:cNvPicPr/>
          <p:nvPr/>
        </p:nvPicPr>
        <p:blipFill>
          <a:blip r:embed="rId1"/>
          <a:stretch/>
        </p:blipFill>
        <p:spPr>
          <a:xfrm>
            <a:off x="900000" y="4508640"/>
            <a:ext cx="180036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Picture 16" descr="señal de peligro"/>
          <p:cNvPicPr/>
          <p:nvPr/>
        </p:nvPicPr>
        <p:blipFill>
          <a:blip r:embed="rId2"/>
          <a:stretch/>
        </p:blipFill>
        <p:spPr>
          <a:xfrm>
            <a:off x="5148360" y="260280"/>
            <a:ext cx="3600360" cy="3176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istockphoto_3222920_stop"/>
          <p:cNvPicPr/>
          <p:nvPr/>
        </p:nvPicPr>
        <p:blipFill>
          <a:blip r:embed="rId3"/>
          <a:stretch/>
        </p:blipFill>
        <p:spPr>
          <a:xfrm>
            <a:off x="5292720" y="414972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250920" y="90792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Son todos esos signos y señales creados por el hombre los cuales nos indican una accion o precaucion ante un lugar determinado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Diapositiv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5 Imagen" descr="mono felih.bmp"/>
          <p:cNvPicPr/>
          <p:nvPr/>
        </p:nvPicPr>
        <p:blipFill>
          <a:blip r:embed="rId1"/>
          <a:stretch/>
        </p:blipFill>
        <p:spPr>
          <a:xfrm>
            <a:off x="642960" y="571680"/>
            <a:ext cx="2533680" cy="1942920"/>
          </a:xfrm>
          <a:prstGeom prst="rect">
            <a:avLst/>
          </a:prstGeom>
          <a:ln w="0">
            <a:noFill/>
          </a:ln>
        </p:spPr>
      </p:pic>
      <p:pic>
        <p:nvPicPr>
          <p:cNvPr id="84" name="6 Imagen" descr="mono mono gil.bmp"/>
          <p:cNvPicPr/>
          <p:nvPr/>
        </p:nvPicPr>
        <p:blipFill>
          <a:blip r:embed="rId2"/>
          <a:stretch/>
        </p:blipFill>
        <p:spPr>
          <a:xfrm>
            <a:off x="5857920" y="4286160"/>
            <a:ext cx="2533680" cy="1943280"/>
          </a:xfrm>
          <a:prstGeom prst="rect">
            <a:avLst/>
          </a:prstGeom>
          <a:ln w="0">
            <a:noFill/>
          </a:ln>
        </p:spPr>
      </p:pic>
      <p:cxnSp>
        <p:nvCxnSpPr>
          <p:cNvPr id="85" name="8 Conector recto de flecha"/>
          <p:cNvCxnSpPr/>
          <p:nvPr/>
        </p:nvCxnSpPr>
        <p:spPr>
          <a:xfrm>
            <a:off x="3071880" y="2428920"/>
            <a:ext cx="2929680" cy="192960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6" name="9 CuadroTexto"/>
          <p:cNvSpPr/>
          <p:nvPr/>
        </p:nvSpPr>
        <p:spPr>
          <a:xfrm>
            <a:off x="4786200" y="1857240"/>
            <a:ext cx="314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radley Hand ITC"/>
                <a:ea typeface="Arial"/>
              </a:rPr>
              <a:t>Sin Lenguaje</a:t>
            </a:r>
            <a:endParaRPr b="1" lang="en-US" sz="4000" spc="-1" strike="noStrike">
              <a:solidFill>
                <a:srgbClr val="000000"/>
              </a:solidFill>
              <a:latin typeface="KellyAnnGothic"/>
            </a:endParaRPr>
          </a:p>
        </p:txBody>
      </p:sp>
      <p:sp>
        <p:nvSpPr>
          <p:cNvPr id="87" name="10 CuadroTexto"/>
          <p:cNvSpPr/>
          <p:nvPr/>
        </p:nvSpPr>
        <p:spPr>
          <a:xfrm>
            <a:off x="1000080" y="3786120"/>
            <a:ext cx="33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radley Hand ITC"/>
              </a:rPr>
              <a:t>No hay Aprendizaje</a:t>
            </a:r>
            <a:endParaRPr b="1" lang="en-US" sz="40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CuadroTexto"/>
          <p:cNvSpPr/>
          <p:nvPr/>
        </p:nvSpPr>
        <p:spPr>
          <a:xfrm>
            <a:off x="3286080" y="642960"/>
            <a:ext cx="5214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no es primordial para aprender, pues hay distintos tipos de Aprendizaje, como ya hemos visto.</a:t>
            </a:r>
            <a:endParaRPr b="1" lang="en-US" sz="3200" spc="-1" strike="noStrike">
              <a:solidFill>
                <a:srgbClr val="000000"/>
              </a:solidFill>
              <a:latin typeface="KellyAnnGothic"/>
            </a:endParaRPr>
          </a:p>
        </p:txBody>
      </p:sp>
      <p:pic>
        <p:nvPicPr>
          <p:cNvPr id="89" name="4 Imagen" descr="jugar barro.jpg"/>
          <p:cNvPicPr/>
          <p:nvPr/>
        </p:nvPicPr>
        <p:blipFill>
          <a:blip r:embed="rId1"/>
          <a:stretch/>
        </p:blipFill>
        <p:spPr>
          <a:xfrm>
            <a:off x="731880" y="450720"/>
            <a:ext cx="2432160" cy="3299040"/>
          </a:xfrm>
          <a:prstGeom prst="rect">
            <a:avLst/>
          </a:prstGeom>
          <a:ln w="0">
            <a:noFill/>
          </a:ln>
        </p:spPr>
      </p:pic>
      <p:pic>
        <p:nvPicPr>
          <p:cNvPr id="90" name="5 Imagen" descr="palabra-nota.jpg"/>
          <p:cNvPicPr/>
          <p:nvPr/>
        </p:nvPicPr>
        <p:blipFill>
          <a:blip r:embed="rId2"/>
          <a:stretch/>
        </p:blipFill>
        <p:spPr>
          <a:xfrm>
            <a:off x="1785960" y="4500720"/>
            <a:ext cx="24620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CuadroTexto"/>
          <p:cNvSpPr/>
          <p:nvPr/>
        </p:nvSpPr>
        <p:spPr>
          <a:xfrm>
            <a:off x="1000080" y="3571920"/>
            <a:ext cx="5214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l Lenguaje se utiliza más en el Aprendizaje Significativo”</a:t>
            </a:r>
            <a:endParaRPr b="1" lang="en-US" sz="3200" spc="-1" strike="noStrike">
              <a:solidFill>
                <a:srgbClr val="000000"/>
              </a:solidFill>
              <a:latin typeface="KellyAnnGothic"/>
            </a:endParaRPr>
          </a:p>
        </p:txBody>
      </p:sp>
      <p:pic>
        <p:nvPicPr>
          <p:cNvPr id="92" name="4 Imagen" descr="PADRE FORTEA Leyendo6 Tolkien.jpg"/>
          <p:cNvPicPr/>
          <p:nvPr/>
        </p:nvPicPr>
        <p:blipFill>
          <a:blip r:embed="rId1"/>
          <a:stretch/>
        </p:blipFill>
        <p:spPr>
          <a:xfrm rot="805800">
            <a:off x="5714640" y="99972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5 Imagen" descr="profe alumno.jpg"/>
          <p:cNvPicPr/>
          <p:nvPr/>
        </p:nvPicPr>
        <p:blipFill>
          <a:blip r:embed="rId2"/>
          <a:stretch/>
        </p:blipFill>
        <p:spPr>
          <a:xfrm rot="21294600">
            <a:off x="671040" y="669960"/>
            <a:ext cx="3929040" cy="2444760"/>
          </a:xfrm>
          <a:prstGeom prst="rect">
            <a:avLst/>
          </a:prstGeom>
          <a:ln w="0">
            <a:noFill/>
          </a:ln>
        </p:spPr>
      </p:pic>
      <p:pic>
        <p:nvPicPr>
          <p:cNvPr id="94" name="6 Imagen" descr="curso_iema_2004-2005_profesor__susana_ferreira-2.jpg"/>
          <p:cNvPicPr/>
          <p:nvPr/>
        </p:nvPicPr>
        <p:blipFill>
          <a:blip r:embed="rId3"/>
          <a:stretch/>
        </p:blipFill>
        <p:spPr>
          <a:xfrm rot="395400">
            <a:off x="5929200" y="4000680"/>
            <a:ext cx="27622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Diapositiva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Diapositiv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79280" y="189000"/>
            <a:ext cx="67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La importancia del lenguaje para el conocimiento es que sin el lenguaje no podríamos tener conocimiento ya que nuestro conocimiento propio solo se limitaría a lo que pudiésemos aprender por cuenta propia, no existiría un intercambio entre individuos de una comunidad y el conocimiento seria limitado, en base a esto el lenguaje es de vital importancia para hacer que el conocimiento se difiera a través de muchas culturas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Rectángulo"/>
          <p:cNvSpPr/>
          <p:nvPr/>
        </p:nvSpPr>
        <p:spPr>
          <a:xfrm>
            <a:off x="285840" y="5643720"/>
            <a:ext cx="2714400" cy="9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KellyAnnGothic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50920" y="189000"/>
            <a:ext cx="402120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clusion</a:t>
            </a:r>
            <a:endParaRPr b="1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8360" y="1484280"/>
            <a:ext cx="7920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Podemos concluir, que el lenguaje es la forma de comunicación entre individuos y que su desarrollo se debe a la intervención del aprendizaje y la maduración, es entonces que encontramos tipos de lenguaje verbales y no verbales que utiliza la humanidad en sus diferentes situaciones cotidianas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Gracias al lenguaje, el humano desde tiempos remotos a podido evolucionar a lo que es hoy, por la constante transmisión de nuestros sonidos , gestos y escritos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enguaje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osta-R-B"/>
          <p:cNvPicPr/>
          <p:nvPr/>
        </p:nvPicPr>
        <p:blipFill>
          <a:blip r:embed="rId2"/>
          <a:stretch/>
        </p:blipFill>
        <p:spPr>
          <a:xfrm>
            <a:off x="7273800" y="2060640"/>
            <a:ext cx="1870200" cy="1419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0" y="115920"/>
            <a:ext cx="6769080" cy="72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Según la RAE: conjunto de sonidos articulados con que el hombre manifiesta lo que piensa o siente/ estilo y modo de hablar y escribir de cada uno en particular/ manera de expresarse/ conjunto semantico de signos que permiten la comunicación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Lo cierto es que ninguna de las premisas anteriores es la mas precisa definiendo, pero si cada una se relaciona con su significado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Es por esto que los tomaremos todos y definiremos al lenguaje como la forma de comunicación de los seres humanos ya sea por sonidos, gestos, escritura, habla, signos o señales donde se trata de hacer llegar lo que sentimos.</a:t>
            </a:r>
            <a:endParaRPr b="1" lang="en-US" sz="24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iapositiv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ninos"/>
          <p:cNvPicPr/>
          <p:nvPr/>
        </p:nvPicPr>
        <p:blipFill>
          <a:blip r:embed="rId1"/>
          <a:stretch/>
        </p:blipFill>
        <p:spPr>
          <a:xfrm rot="21196200">
            <a:off x="715680" y="2234880"/>
            <a:ext cx="4174920" cy="271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escuela3"/>
          <p:cNvPicPr/>
          <p:nvPr/>
        </p:nvPicPr>
        <p:blipFill>
          <a:blip r:embed="rId2"/>
          <a:stretch/>
        </p:blipFill>
        <p:spPr>
          <a:xfrm rot="288000">
            <a:off x="5000400" y="2571480"/>
            <a:ext cx="366048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7 CuadroTexto"/>
          <p:cNvSpPr/>
          <p:nvPr/>
        </p:nvSpPr>
        <p:spPr>
          <a:xfrm>
            <a:off x="57168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mic Sans MS"/>
              </a:rPr>
              <a:t>El Aprendizaje Y Su Maduración</a:t>
            </a:r>
            <a:endParaRPr b="1" lang="en-US" sz="3600" spc="-1" strike="noStrike">
              <a:solidFill>
                <a:srgbClr val="000000"/>
              </a:solidFill>
              <a:latin typeface="KellyAnn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1143000" y="428760"/>
            <a:ext cx="72738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¿Atraviesan los niños por etapa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n el desarrollo del lenguaj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omo lo hacen en el andar 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53" name="Picture 3" descr="Dibujo"/>
          <p:cNvPicPr/>
          <p:nvPr/>
        </p:nvPicPr>
        <p:blipFill>
          <a:blip r:embed="rId1"/>
          <a:stretch/>
        </p:blipFill>
        <p:spPr>
          <a:xfrm>
            <a:off x="1692360" y="2708280"/>
            <a:ext cx="5832360" cy="386712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 rot="19299000">
            <a:off x="4140360" y="494136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desarrollo del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"/>
              </a:rPr>
              <a:t>lenguaje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"/>
              <a:ea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Diapositiv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714240" y="428760"/>
            <a:ext cx="750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Son todos los niños iguale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el desarrollo del lenguaje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" name="5 Imagen" descr="niños.jpg"/>
          <p:cNvPicPr/>
          <p:nvPr/>
        </p:nvPicPr>
        <p:blipFill>
          <a:blip r:embed="rId1"/>
          <a:stretch/>
        </p:blipFill>
        <p:spPr>
          <a:xfrm>
            <a:off x="1714680" y="2143080"/>
            <a:ext cx="5500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Diapositiv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9:39:00Z</dcterms:created>
  <dc:creator>Cristofer</dc:creator>
  <dc:description/>
  <dc:language>en-US</dc:language>
  <cp:lastModifiedBy>acc</cp:lastModifiedBy>
  <dcterms:modified xsi:type="dcterms:W3CDTF">2011-08-20T21:01:30Z</dcterms:modified>
  <cp:revision>19</cp:revision>
  <dc:subject/>
  <dc:title>Diapositiva 1</dc:title>
</cp:coreProperties>
</file>