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whoosh.wav" ContentType="audio/x-wav"/>
  <Override PartName="/ppt/media/image6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explode.wav" ContentType="audio/x-wav"/>
  <Override PartName="/ppt/media/image7.jpeg" ContentType="image/jpeg"/>
  <Override PartName="/ppt/media/image14.jpeg" ContentType="image/jpeg"/>
  <Override PartName="/ppt/media/carbrake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E8A-4136-4D74-824B-83FB08DC38D4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C70-5E6C-44BE-8B78-557E145EFA80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469-EB42-407C-AFE5-9E72B2889B7E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CAC7-00AF-41D8-BD1F-A49315BE7729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EBE1-30B5-433E-BEC2-4FFD8336BBAB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D53-79DC-4680-8382-699983535766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AF3-C045-4C56-AC54-5349AA27E920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DAA-CAD9-4A0C-A9A8-BA7D7BD0A009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78C-9FEA-42F7-8024-128487EE1A95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9088-536A-4550-986F-986FBAB7DBFE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1FB2-CF11-4E79-9515-C17120C39BBE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C0A-FEDD-415D-BB43-6218DE9A6509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390-C07A-4C1F-AC6E-471E57A082D0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0B0-950F-4335-A9B5-7E8B9116A4B3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6F1-38A0-4D59-B185-197CC82B72D5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254E-0CAA-4A98-ABB0-526158A03456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4545-ECAA-4CF7-B7D7-7C8194A80DFF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D81B-9CD1-411B-926F-5164B2205593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9A8D-3410-4D94-AA42-7296C140F957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492-51A5-4751-A263-787D599A045D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6400-8EB9-4CFB-A563-F1D7E5B83BB9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5ADC-79A1-443E-A14A-0298C57BEFD0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5E27-CA37-4F43-95CE-97B4D590ED01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CE7C-8A7B-473E-B246-20A4143A0D81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4FEC-1311-48C9-9237-BC93E657EA52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F906-CCC6-4AB1-A42D-B0450966B73D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F064-28CA-4A8D-821B-06FE04A30207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D39-B01E-4E0C-B052-ABBEC57A1555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317B-6F9D-4DAC-A241-E48021539303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5B1-BC3C-4924-A878-47899B8F6CB0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6E9-B26F-473D-8D43-EC1C8BBEEE94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6D5F-2F8E-48A3-80E2-3D92AD082EFA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623-B282-41BC-ADD1-779974C1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2A3-E1F5-47FF-820D-6C5A66B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DF0-3021-473E-8D68-898D7B1A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974-7302-4704-A5CB-3D6EA57E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BBC-4341-4822-840B-1A87D4C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4D8-B088-4958-ABAA-CA7A245F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BC1-8F50-409E-990A-3914A207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D64-A3BE-4DB8-998B-D3702D94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323-E5AA-46F4-890A-FC0B700C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8A7-0E04-4A35-8FC2-D7366F1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167-5E57-4244-A155-A4CADCB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9E3-36A6-4735-89A7-C18AD08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304F-EEF3-4F40-AC3C-06F5D10703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MILIA PICORNAVIRID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.V.  JACQUELINE ESCOBAR MUÑ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PARTAMENTO DE MICROB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MV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Noviembre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TI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tiene un solo filamento central de ácido ribonucleico cubierto por una capa proteica con 32 capsómeros formando una cápsula icosaedra simétrica con un diámetro de más o menos 23nm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y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ete tipos</a:t>
            </a: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inmunológicos con enormes diferencias entre ell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( A, O, C, SAT1, SAT2, SAT3, ASIA1 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abras"/>
          <p:cNvPicPr/>
          <p:nvPr/>
        </p:nvPicPr>
        <p:blipFill>
          <a:blip r:embed="rId1"/>
          <a:stretch/>
        </p:blipFill>
        <p:spPr>
          <a:xfrm>
            <a:off x="2627280" y="1268280"/>
            <a:ext cx="4176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virus se expulsa por el animal infectado mucho antes de aparecer sínto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muy importante la inmovilización del ganado y la desinfección de granjas, objetos y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abras"/>
          <p:cNvPicPr/>
          <p:nvPr/>
        </p:nvPicPr>
        <p:blipFill>
          <a:blip r:embed="rId1"/>
          <a:stretch/>
        </p:blipFill>
        <p:spPr>
          <a:xfrm>
            <a:off x="0" y="609480"/>
            <a:ext cx="2654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r contacto con los animales infectados (principalmente por aerosol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r productos animales infectados y objetos contami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3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erdos"/>
          <p:cNvPicPr/>
          <p:nvPr/>
        </p:nvPicPr>
        <p:blipFill>
          <a:blip r:embed="rId1"/>
          <a:stretch/>
        </p:blipFill>
        <p:spPr>
          <a:xfrm>
            <a:off x="838080" y="762120"/>
            <a:ext cx="305928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jabali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838080" y="5257800"/>
            <a:ext cx="28958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5181480" y="1523880"/>
            <a:ext cx="32004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BA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ovejas"/>
          <p:cNvPicPr/>
          <p:nvPr/>
        </p:nvPicPr>
        <p:blipFill>
          <a:blip r:embed="rId1"/>
          <a:stretch/>
        </p:blipFill>
        <p:spPr>
          <a:xfrm>
            <a:off x="990720" y="1371600"/>
            <a:ext cx="2819160" cy="3657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abras"/>
          <p:cNvPicPr/>
          <p:nvPr/>
        </p:nvPicPr>
        <p:blipFill>
          <a:blip r:embed="rId2"/>
          <a:stretch/>
        </p:blipFill>
        <p:spPr>
          <a:xfrm>
            <a:off x="5029200" y="2590920"/>
            <a:ext cx="2895480" cy="3581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066680" y="5257800"/>
            <a:ext cx="26672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J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029200" y="1752480"/>
            <a:ext cx="28954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5"/>
          <p:cNvGrpSpPr/>
          <p:nvPr/>
        </p:nvGrpSpPr>
        <p:grpSpPr>
          <a:xfrm>
            <a:off x="914400" y="1606680"/>
            <a:ext cx="7315200" cy="3537000"/>
            <a:chOff x="914400" y="1606680"/>
            <a:chExt cx="7315200" cy="3537000"/>
          </a:xfrm>
        </p:grpSpPr>
        <p:sp>
          <p:nvSpPr>
            <p:cNvPr id="88" name="Rectangle 2"/>
            <p:cNvSpPr/>
            <p:nvPr/>
          </p:nvSpPr>
          <p:spPr>
            <a:xfrm>
              <a:off x="914400" y="1606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Rectangle 3"/>
            <p:cNvSpPr/>
            <p:nvPr/>
          </p:nvSpPr>
          <p:spPr>
            <a:xfrm>
              <a:off x="914400" y="1606680"/>
              <a:ext cx="7315200" cy="35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" sz="22600" spc="-1" strike="noStrike">
                  <a:solidFill>
                    <a:srgbClr val="000000"/>
                  </a:solidFill>
                  <a:latin typeface="Tahoma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0" name="Picture 4" descr="fa1"/>
          <p:cNvPicPr/>
          <p:nvPr/>
        </p:nvPicPr>
        <p:blipFill>
          <a:blip r:embed="rId1"/>
          <a:stretch/>
        </p:blipFill>
        <p:spPr>
          <a:xfrm>
            <a:off x="971640" y="549360"/>
            <a:ext cx="3292560" cy="482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3124080" y="5715000"/>
            <a:ext cx="350532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BEO EXCES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0" descr="vaca1"/>
          <p:cNvPicPr/>
          <p:nvPr/>
        </p:nvPicPr>
        <p:blipFill>
          <a:blip r:embed="rId2"/>
          <a:stretch/>
        </p:blipFill>
        <p:spPr>
          <a:xfrm>
            <a:off x="4427640" y="1197000"/>
            <a:ext cx="4211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nimales afec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fecta a los animales biungulados de pezuña hendi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 ovino, caprino, cerdos, jabalies, rumiantes salvaje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caracteriza por la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ormación de vesículas o ampollas y erosiones en la mucosa bucal y nasal externa (especialmente en el hocico de los cerdos), y en la piel situada por encima y en medio de las pezuñas; también suelen afectarse otras áreas como los pezones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. 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"/>
          <p:cNvGrpSpPr/>
          <p:nvPr/>
        </p:nvGrpSpPr>
        <p:grpSpPr>
          <a:xfrm>
            <a:off x="3665520" y="3016440"/>
            <a:ext cx="1812960" cy="824760"/>
            <a:chOff x="3665520" y="3016440"/>
            <a:chExt cx="1812960" cy="824760"/>
          </a:xfrm>
        </p:grpSpPr>
        <p:sp>
          <p:nvSpPr>
            <p:cNvPr id="97" name="Rectangle 2"/>
            <p:cNvSpPr/>
            <p:nvPr/>
          </p:nvSpPr>
          <p:spPr>
            <a:xfrm>
              <a:off x="3665520" y="3124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3665520" y="3016440"/>
              <a:ext cx="181296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3665520" y="3124080"/>
            <a:ext cx="1812960" cy="564840"/>
            <a:chOff x="3665520" y="3124080"/>
            <a:chExt cx="1812960" cy="564840"/>
          </a:xfrm>
        </p:grpSpPr>
        <p:sp>
          <p:nvSpPr>
            <p:cNvPr id="100" name="Rectangle 5"/>
            <p:cNvSpPr/>
            <p:nvPr/>
          </p:nvSpPr>
          <p:spPr>
            <a:xfrm>
              <a:off x="3665520" y="3124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3665520" y="316872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2" name="Picture 8" descr="fa2"/>
          <p:cNvPicPr/>
          <p:nvPr/>
        </p:nvPicPr>
        <p:blipFill>
          <a:blip r:embed="rId1"/>
          <a:stretch/>
        </p:blipFill>
        <p:spPr>
          <a:xfrm>
            <a:off x="2133720" y="1371600"/>
            <a:ext cx="4628880" cy="311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1981080" y="4724280"/>
            <a:ext cx="50389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SCÍCULAS INTACTAS SO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LENGUA DE UN BOV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CLAS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Sylfaen"/>
              </a:rPr>
              <a:t>Familia </a:t>
            </a:r>
            <a:r>
              <a:rPr b="1" i="1" lang="es-ES" sz="2800" spc="-1" strike="noStrike">
                <a:solidFill>
                  <a:srgbClr val="000000"/>
                </a:solidFill>
                <a:latin typeface="Sylfaen"/>
              </a:rPr>
              <a:t>Picornaviridae</a:t>
            </a:r>
            <a:r>
              <a:rPr b="1" lang="es-ES" sz="2800" spc="-1" strike="noStrike">
                <a:solidFill>
                  <a:srgbClr val="000000"/>
                </a:solidFill>
                <a:latin typeface="Sylfae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ctualmente han aumentado los miembros hasta englobar 6 géne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  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nterovirus:   Polio,Coxsackie A, enterovirus,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choviru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Rinovirus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Virus del cata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   </a:t>
            </a:r>
            <a:r>
              <a:rPr b="1" lang="es-ES" sz="2800" spc="-1" strike="noStrike">
                <a:solidFill>
                  <a:srgbClr val="ff0000"/>
                </a:solidFill>
                <a:latin typeface="Georgia"/>
              </a:rPr>
              <a:t>Aftovirus: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1" lang="es-ES" sz="2800" spc="-1" strike="noStrike">
                <a:solidFill>
                  <a:srgbClr val="ff0000"/>
                </a:solidFill>
                <a:latin typeface="Georgia"/>
              </a:rPr>
              <a:t>Fiebre aftosa (FMD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ardiovirus: Encefalomiocarditis, Theiler’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ncefalomielitis mu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  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epatovirus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Virus de la hepatiti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Courier New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   </a:t>
            </a: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Parechovirus: Virus Parec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a3"/>
          <p:cNvPicPr/>
          <p:nvPr/>
        </p:nvPicPr>
        <p:blipFill>
          <a:blip r:embed="rId1"/>
          <a:stretch/>
        </p:blipFill>
        <p:spPr>
          <a:xfrm>
            <a:off x="2362320" y="1219320"/>
            <a:ext cx="4014720" cy="2913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981080" y="4267080"/>
            <a:ext cx="449604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SCÍCULAS ROTAS SOB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LENGUA DE UN BOV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a4"/>
          <p:cNvPicPr/>
          <p:nvPr/>
        </p:nvPicPr>
        <p:blipFill>
          <a:blip r:embed="rId1"/>
          <a:stretch/>
        </p:blipFill>
        <p:spPr>
          <a:xfrm>
            <a:off x="2590920" y="1219320"/>
            <a:ext cx="42512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590920" y="4419720"/>
            <a:ext cx="42670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SCÍCULA RO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IENTE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5486400" y="342900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4" descr="fa7"/>
          <p:cNvPicPr/>
          <p:nvPr/>
        </p:nvPicPr>
        <p:blipFill>
          <a:blip r:embed="rId1"/>
          <a:stretch/>
        </p:blipFill>
        <p:spPr>
          <a:xfrm>
            <a:off x="457200" y="685800"/>
            <a:ext cx="3962520" cy="278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a10"/>
          <p:cNvPicPr/>
          <p:nvPr/>
        </p:nvPicPr>
        <p:blipFill>
          <a:blip r:embed="rId2"/>
          <a:stretch/>
        </p:blipFill>
        <p:spPr>
          <a:xfrm>
            <a:off x="5181480" y="2286000"/>
            <a:ext cx="3044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6" descr="fa14"/>
          <p:cNvPicPr/>
          <p:nvPr/>
        </p:nvPicPr>
        <p:blipFill>
          <a:blip r:embed="rId1"/>
          <a:stretch/>
        </p:blipFill>
        <p:spPr>
          <a:xfrm>
            <a:off x="533520" y="609480"/>
            <a:ext cx="3581280" cy="353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7" descr="fa15"/>
          <p:cNvPicPr/>
          <p:nvPr/>
        </p:nvPicPr>
        <p:blipFill>
          <a:blip r:embed="rId2"/>
          <a:stretch/>
        </p:blipFill>
        <p:spPr>
          <a:xfrm>
            <a:off x="4495680" y="2895480"/>
            <a:ext cx="4191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ES UNA ENFERMEDAD QUE AFECTA TAMBIÉN AL HOMBR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8640"/>
            <a:ext cx="78469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hombre es un huésped accidental que rara vez se infecta y enferma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RECOLECCIÓN DE MUESTRAS PARA LABORATO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íquido vesicular obtenido asépticamente en un recipiente estér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aspado de la lesión o epitelio desprendido, puesto en un medio de cultivo con antibiót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ueros, tomados en los primeros y últimos estadios de la enfermedad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muestras para cultivo deberán ser congeladas inmediatamente para su envío, o puestas en glice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muestras en hielo seco deben ser perfectamente selladas evitando la destrucción de la infectividad del viru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Tahoma"/>
              </a:rPr>
              <a:t>DIAGNÓSTICO EPIDEMIOLÓG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GT" sz="2800" spc="-1" strike="noStrike">
                <a:solidFill>
                  <a:srgbClr val="000000"/>
                </a:solidFill>
                <a:latin typeface="Tahoma"/>
              </a:rPr>
              <a:t>Se basa en la conducta epidemiológica de la enfermedad en los rebaño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GT" sz="2800" spc="-1" strike="noStrike">
                <a:solidFill>
                  <a:srgbClr val="000000"/>
                </a:solidFill>
                <a:latin typeface="Tahoma"/>
              </a:rPr>
              <a:t>conocer la distribución geográfica de las enfermedades vesic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ueba de Precipitación en difusión de Gel-agar (PDAG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rus neut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ijación de compl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-1765440" y="836640"/>
          <a:ext cx="8641080" cy="6199200"/>
        </p:xfrm>
        <a:graphic>
          <a:graphicData uri="http://schemas.openxmlformats.org/drawingml/2006/table">
            <a:tbl>
              <a:tblPr/>
              <a:tblGrid>
                <a:gridCol w="2087640"/>
                <a:gridCol w="65534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rvado por refrigeración, congelación y progresivamente inactivado por temperaturas superiores a 50°C </a:t>
                      </a:r>
                      <a:r>
                        <a:rPr b="1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:</a:t>
                      </a: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activado a pH &lt;6,0 o &gt; 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nfe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activado por hidróxido de sodio (2%), carbonato de sodio (4%), y ácido cítrico (0,2%). Resistente a los yodóforos, a los compuestos cuaternarios de amonio, hipoclorito y fenol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viv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brevive en los ganglios linfáticos y la médula ósea con pH neutro, pero se destruye en los músculos a pH &lt;6,0, es decir después del rigor mortis. Puede persistir en forraje contaminado y en el medio ambiente hasta un mes, según la temperatura y el pH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PolioEstruc"/>
          <p:cNvPicPr/>
          <p:nvPr/>
        </p:nvPicPr>
        <p:blipFill>
          <a:blip r:embed="rId1"/>
          <a:stretch/>
        </p:blipFill>
        <p:spPr>
          <a:xfrm>
            <a:off x="755640" y="549360"/>
            <a:ext cx="7788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TRO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as de vacu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íses libres, erradicada por sacri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itar entrada de animales o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enientes de países que que sí la tie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G R A C I A 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 VI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74520941"/>
          <p:cNvPicPr/>
          <p:nvPr/>
        </p:nvPicPr>
        <p:blipFill>
          <a:blip r:embed="rId1"/>
          <a:stretch/>
        </p:blipFill>
        <p:spPr>
          <a:xfrm>
            <a:off x="3708360" y="422100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41126503"/>
          <p:cNvPicPr/>
          <p:nvPr/>
        </p:nvPicPr>
        <p:blipFill>
          <a:blip r:embed="rId2"/>
          <a:stretch/>
        </p:blipFill>
        <p:spPr>
          <a:xfrm>
            <a:off x="684360" y="170028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MDV"/>
          <p:cNvPicPr/>
          <p:nvPr/>
        </p:nvPicPr>
        <p:blipFill>
          <a:blip r:embed="rId3"/>
          <a:stretch/>
        </p:blipFill>
        <p:spPr>
          <a:xfrm>
            <a:off x="5148360" y="1628640"/>
            <a:ext cx="2519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ahoma"/>
              </a:rPr>
              <a:t>EL VIR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7"/>
          <p:cNvSpPr/>
          <p:nvPr/>
        </p:nvSpPr>
        <p:spPr>
          <a:xfrm>
            <a:off x="1219320" y="2209680"/>
            <a:ext cx="6476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rus muy simple, pequeño, de unos 20-30 nm. Esférico y con simetrí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cosaédric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tícula viral compuesta únicamente por RNA y proteín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78469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TEROVIRU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BOVI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ot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slados de intestino de bov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ecto citop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ermedad respiratoria en tern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tilidad, mortinatos y ab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TEROVIRUS  PORC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ioencefa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e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stornos  de la re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ÉNERO  RINO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novirus Bovin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itis focal 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umonía intersticial en tern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ebre, tos, secreción na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343400" y="2590920"/>
            <a:ext cx="29718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EPA SD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343400" y="3505320"/>
            <a:ext cx="29718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EPA  CO-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APHTOVIRU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FIEBRE AFTO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4365720"/>
            <a:ext cx="777240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 una enfermedad de curso rápido y alta capacidad de conta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abras"/>
          <p:cNvPicPr/>
          <p:nvPr/>
        </p:nvPicPr>
        <p:blipFill>
          <a:blip r:embed="rId1"/>
          <a:stretch/>
        </p:blipFill>
        <p:spPr>
          <a:xfrm>
            <a:off x="3348000" y="2852640"/>
            <a:ext cx="301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20:15:28Z</dcterms:created>
  <dc:creator>Facultad de veterinaria</dc:creator>
  <dc:description/>
  <dc:language>en-US</dc:language>
  <cp:lastModifiedBy>Osmel Alvarez</cp:lastModifiedBy>
  <dcterms:modified xsi:type="dcterms:W3CDTF">2012-01-17T19:45:58Z</dcterms:modified>
  <cp:revision>21</cp:revision>
  <dc:subject/>
  <dc:title>FAMILIA PICORNAVIRIDAE</dc:title>
</cp:coreProperties>
</file>