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drumroll.wav" ContentType="audio/x-wav"/>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00353-11D4-44EF-AA96-A60AE12C1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D12D-2679-4D64-AE18-0FCC4F4D0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5D1D4-BCF1-4D55-8542-061E47F34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CD464-4005-44E2-B8B7-F8310E36A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035E0-E646-4719-A1D1-070D2178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8E11-7CA9-4989-A81D-B1E6D6F6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E341-20CF-4365-975C-12C6D1CDD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A4BD-8F0C-4F19-8F24-4F661F5D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92A2-9682-4C94-8BE2-29F595B07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4489-87DE-4AEC-B382-41A53DB4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A4E2-FFC7-444A-97A5-D69A348E5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F8E1-0087-4570-A20C-A5A0FF62C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2F8A-36A3-48AD-8ED9-C3A9C53F0E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000000"/>
              </a:solidFill>
              <a:latin typeface="Arial"/>
            </a:endParaRPr>
          </a:p>
        </p:txBody>
      </p:sp>
      <p:pic>
        <p:nvPicPr>
          <p:cNvPr id="43" name="Picture 4" descr="hidalgoPinturas"/>
          <p:cNvPicPr/>
          <p:nvPr/>
        </p:nvPicPr>
        <p:blipFill>
          <a:blip r:embed="rId1"/>
          <a:stretch/>
        </p:blipFill>
        <p:spPr>
          <a:xfrm>
            <a:off x="0" y="0"/>
            <a:ext cx="9144000" cy="6858000"/>
          </a:xfrm>
          <a:prstGeom prst="rect">
            <a:avLst/>
          </a:prstGeom>
          <a:ln w="0">
            <a:noFill/>
          </a:ln>
        </p:spPr>
      </p:pic>
      <p:sp>
        <p:nvSpPr>
          <p:cNvPr id="44" name="WordArt 5"/>
          <p:cNvSpPr txBox="1"/>
          <p:nvPr/>
        </p:nvSpPr>
        <p:spPr>
          <a:xfrm>
            <a:off x="826920" y="189000"/>
            <a:ext cx="790416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ffff"/>
                </a:solidFill>
                <a:latin typeface="Arial Black"/>
              </a:rPr>
              <a:t>LA VILLA DE NUESTRA SEÑORA</a:t>
            </a:r>
            <a:endParaRPr b="0" lang="en-US" sz="1800" spc="1" strike="noStrike">
              <a:ln w="9360">
                <a:solidFill>
                  <a:srgbClr val="008000"/>
                </a:solidFill>
                <a:miter/>
              </a:ln>
              <a:solidFill>
                <a:srgbClr val="ffffff"/>
              </a:solidFill>
              <a:latin typeface="Arial Black"/>
              <a:ea typeface="Arial Black"/>
            </a:endParaRPr>
          </a:p>
        </p:txBody>
      </p:sp>
      <p:sp>
        <p:nvSpPr>
          <p:cNvPr id="45" name="WordArt 6"/>
          <p:cNvSpPr txBox="1"/>
          <p:nvPr/>
        </p:nvSpPr>
        <p:spPr>
          <a:xfrm>
            <a:off x="162000" y="1628640"/>
            <a:ext cx="8982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ffff"/>
                </a:solidFill>
                <a:latin typeface="Arial Black"/>
              </a:rPr>
              <a:t>DE LA CONCEPCIÓN DE ZACATULA.</a:t>
            </a:r>
            <a:endParaRPr b="0" lang="en-US" sz="1800" spc="1" strike="noStrike">
              <a:ln w="9360">
                <a:solidFill>
                  <a:srgbClr val="008000"/>
                </a:solidFill>
                <a:miter/>
              </a:ln>
              <a:solidFill>
                <a:srgbClr val="ffffff"/>
              </a:solidFill>
              <a:latin typeface="Arial Black"/>
              <a:ea typeface="Arial Black"/>
            </a:endParaRPr>
          </a:p>
        </p:txBody>
      </p:sp>
      <p:sp>
        <p:nvSpPr>
          <p:cNvPr id="46" name="AutoShape 7"/>
          <p:cNvSpPr/>
          <p:nvPr/>
        </p:nvSpPr>
        <p:spPr>
          <a:xfrm>
            <a:off x="3995640" y="2205000"/>
            <a:ext cx="102888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B</a:t>
            </a:r>
            <a:endParaRPr b="0" lang="en-US" sz="3200" spc="-1" strike="noStrike">
              <a:solidFill>
                <a:srgbClr val="000000"/>
              </a:solidFill>
              <a:latin typeface="Arial"/>
            </a:endParaRPr>
          </a:p>
        </p:txBody>
      </p:sp>
      <p:sp>
        <p:nvSpPr>
          <p:cNvPr id="47" name="WordArt 8"/>
          <p:cNvSpPr txBox="1"/>
          <p:nvPr/>
        </p:nvSpPr>
        <p:spPr>
          <a:xfrm>
            <a:off x="3114720" y="5157720"/>
            <a:ext cx="6029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rPr>
              <a:t>LA DESEMBOCADURA DEL RÍO DE LAS BALSAS </a:t>
            </a:r>
            <a:endPar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8" name="WordArt 9"/>
          <p:cNvSpPr txBox="1"/>
          <p:nvPr/>
        </p:nvSpPr>
        <p:spPr>
          <a:xfrm>
            <a:off x="4211640" y="5805360"/>
            <a:ext cx="39625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rPr>
              <a:t>ERA UNA ZONA DESHABITADA.</a:t>
            </a:r>
            <a:endPar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WordArt 10"/>
          <p:cNvSpPr txBox="1"/>
          <p:nvPr/>
        </p:nvSpPr>
        <p:spPr>
          <a:xfrm>
            <a:off x="3219480" y="6381720"/>
            <a:ext cx="59245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rPr>
              <a:t>DESDE MUCHO ANTES DE LA INDEPENDENCIA.</a:t>
            </a:r>
            <a:endParaRPr b="0" i="1" lang="en-US" sz="1800" spc="1" strike="noStrike">
              <a:ln w="9360">
                <a:solidFill>
                  <a:srgbClr val="ffff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50" name="Rectangle 11"/>
          <p:cNvSpPr/>
          <p:nvPr/>
        </p:nvSpPr>
        <p:spPr>
          <a:xfrm>
            <a:off x="250920" y="3668760"/>
            <a:ext cx="2592360" cy="3111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PITULO VI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800 – 189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INICIO DE LA INDEPENDENCIA, ZACATULA, FUE UNA REGIÓN DE IMPORTANCIA PARA 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CIMIENTO DEL EJÉRCITO DE MORELOS.</a:t>
            </a:r>
            <a:endParaRPr b="0" lang="en-US" sz="1800" spc="-1" strike="noStrike">
              <a:solidFill>
                <a:srgbClr val="000000"/>
              </a:solidFill>
              <a:latin typeface="Arial"/>
            </a:endParaRPr>
          </a:p>
        </p:txBody>
      </p:sp>
    </p:spTree>
  </p:cSld>
  <p:transition spd="slow">
    <p:checker dir="horz"/>
    <p:sndAc>
      <p:stSnd>
        <p:snd r:embed="rId2" name="drumroll.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0" fill="hold"/>
                                        <p:tgtEl>
                                          <p:spTgt spid="44"/>
                                        </p:tgtEl>
                                        <p:attrNameLst>
                                          <p:attrName>ppt_x</p:attrName>
                                        </p:attrNameLst>
                                      </p:cBhvr>
                                      <p:tavLst>
                                        <p:tav tm="0">
                                          <p:val>
                                            <p:strVal val="#ppt_x"/>
                                          </p:val>
                                        </p:tav>
                                        <p:tav tm="100000">
                                          <p:val>
                                            <p:strVal val="#ppt_x"/>
                                          </p:val>
                                        </p:tav>
                                      </p:tavLst>
                                    </p:anim>
                                    <p:anim calcmode="lin" valueType="num">
                                      <p:cBhvr additive="base">
                                        <p:cTn id="8"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0" fill="hold"/>
                                        <p:tgtEl>
                                          <p:spTgt spid="45"/>
                                        </p:tgtEl>
                                        <p:attrNameLst>
                                          <p:attrName>ppt_x</p:attrName>
                                        </p:attrNameLst>
                                      </p:cBhvr>
                                      <p:tavLst>
                                        <p:tav tm="0">
                                          <p:val>
                                            <p:strVal val="#ppt_x"/>
                                          </p:val>
                                        </p:tav>
                                        <p:tav tm="100000">
                                          <p:val>
                                            <p:strVal val="#ppt_x"/>
                                          </p:val>
                                        </p:tav>
                                      </p:tavLst>
                                    </p:anim>
                                    <p:anim calcmode="lin" valueType="num">
                                      <p:cBhvr additive="base">
                                        <p:cTn id="14"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1">
                                  <p:stCondLst>
                                    <p:cond delay="0"/>
                                  </p:stCondLst>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1925"/>
                                        <p:tgtEl>
                                          <p:spTgt spid="47"/>
                                        </p:tgtEl>
                                      </p:cBhvr>
                                    </p:animEffect>
                                    <p:animScale>
                                      <p:cBhvr>
                                        <p:cTn id="20" dur="1925" fill="hold"/>
                                        <p:tgtEl>
                                          <p:spTgt spid="47"/>
                                        </p:tgtEl>
                                      </p:cBhvr>
                                      <p:from x="10000" y="10000"/>
                                      <p:to x="200000" y="450000"/>
                                    </p:animScale>
                                    <p:animScale>
                                      <p:cBhvr>
                                        <p:cTn id="21" dur="3075" fill="hold">
                                          <p:stCondLst>
                                            <p:cond delay="1925"/>
                                          </p:stCondLst>
                                        </p:cTn>
                                        <p:tgtEl>
                                          <p:spTgt spid="47"/>
                                        </p:tgtEl>
                                      </p:cBhvr>
                                      <p:from x="200000" y="450000"/>
                                      <p:to x="100000" y="100000"/>
                                    </p:animScale>
                                    <p:set>
                                      <p:cBhvr>
                                        <p:cTn id="22" dur="1925" fill="hold"/>
                                        <p:tgtEl>
                                          <p:spTgt spid="47"/>
                                        </p:tgtEl>
                                        <p:attrNameLst>
                                          <p:attrName>ppt_x</p:attrName>
                                        </p:attrNameLst>
                                      </p:cBhvr>
                                      <p:to>
                                        <p:strVal val="(0.5)"/>
                                      </p:to>
                                    </p:set>
                                    <p:anim calcmode="lin" valueType="num" from="(0.5)" to="(#ppt_x)">
                                      <p:cBhvr additive="repl">
                                        <p:cTn id="23" dur="3075" fill="hold">
                                          <p:stCondLst>
                                            <p:cond delay="1925"/>
                                          </p:stCondLst>
                                        </p:cTn>
                                        <p:tgtEl>
                                          <p:spTgt spid="47"/>
                                        </p:tgtEl>
                                        <p:attrNameLst>
                                          <p:attrName>ppt_x</p:attrName>
                                        </p:attrNameLst>
                                      </p:cBhvr>
                                    </p:anim>
                                    <p:set>
                                      <p:cBhvr>
                                        <p:cTn id="24" dur="1925" fill="hold"/>
                                        <p:tgtEl>
                                          <p:spTgt spid="47"/>
                                        </p:tgtEl>
                                        <p:attrNameLst>
                                          <p:attrName>ppt_y</p:attrName>
                                        </p:attrNameLst>
                                      </p:cBhvr>
                                      <p:to>
                                        <p:strVal val="(#ppt_y+0.4)"/>
                                      </p:to>
                                    </p:set>
                                    <p:anim calcmode="lin" valueType="num" from="(#ppt_y+0.4)" to="(#ppt_y)">
                                      <p:cBhvr additive="repl">
                                        <p:cTn id="25" dur="3075" fill="hold">
                                          <p:stCondLst>
                                            <p:cond delay="1925"/>
                                          </p:stCondLst>
                                        </p:cTn>
                                        <p:tgtEl>
                                          <p:spTgt spid="47"/>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1">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1925"/>
                                        <p:tgtEl>
                                          <p:spTgt spid="48"/>
                                        </p:tgtEl>
                                      </p:cBhvr>
                                    </p:animEffect>
                                    <p:animScale>
                                      <p:cBhvr>
                                        <p:cTn id="31" dur="1925" fill="hold"/>
                                        <p:tgtEl>
                                          <p:spTgt spid="48"/>
                                        </p:tgtEl>
                                      </p:cBhvr>
                                      <p:from x="10000" y="10000"/>
                                      <p:to x="200000" y="450000"/>
                                    </p:animScale>
                                    <p:animScale>
                                      <p:cBhvr>
                                        <p:cTn id="32" dur="3075" fill="hold">
                                          <p:stCondLst>
                                            <p:cond delay="1925"/>
                                          </p:stCondLst>
                                        </p:cTn>
                                        <p:tgtEl>
                                          <p:spTgt spid="48"/>
                                        </p:tgtEl>
                                      </p:cBhvr>
                                      <p:from x="200000" y="450000"/>
                                      <p:to x="100000" y="100000"/>
                                    </p:animScale>
                                    <p:set>
                                      <p:cBhvr>
                                        <p:cTn id="33" dur="1925" fill="hold"/>
                                        <p:tgtEl>
                                          <p:spTgt spid="48"/>
                                        </p:tgtEl>
                                        <p:attrNameLst>
                                          <p:attrName>ppt_x</p:attrName>
                                        </p:attrNameLst>
                                      </p:cBhvr>
                                      <p:to>
                                        <p:strVal val="(0.5)"/>
                                      </p:to>
                                    </p:set>
                                    <p:anim calcmode="lin" valueType="num" from="(0.5)" to="(#ppt_x)">
                                      <p:cBhvr additive="repl">
                                        <p:cTn id="34" dur="3075" fill="hold">
                                          <p:stCondLst>
                                            <p:cond delay="1925"/>
                                          </p:stCondLst>
                                        </p:cTn>
                                        <p:tgtEl>
                                          <p:spTgt spid="48"/>
                                        </p:tgtEl>
                                        <p:attrNameLst>
                                          <p:attrName>ppt_x</p:attrName>
                                        </p:attrNameLst>
                                      </p:cBhvr>
                                    </p:anim>
                                    <p:set>
                                      <p:cBhvr>
                                        <p:cTn id="35" dur="1925" fill="hold"/>
                                        <p:tgtEl>
                                          <p:spTgt spid="48"/>
                                        </p:tgtEl>
                                        <p:attrNameLst>
                                          <p:attrName>ppt_y</p:attrName>
                                        </p:attrNameLst>
                                      </p:cBhvr>
                                      <p:to>
                                        <p:strVal val="(#ppt_y+0.4)"/>
                                      </p:to>
                                    </p:set>
                                    <p:anim calcmode="lin" valueType="num" from="(#ppt_y+0.4)" to="(#ppt_y)">
                                      <p:cBhvr additive="repl">
                                        <p:cTn id="36" dur="3075" fill="hold">
                                          <p:stCondLst>
                                            <p:cond delay="1925"/>
                                          </p:stCondLst>
                                        </p:cTn>
                                        <p:tgtEl>
                                          <p:spTgt spid="48"/>
                                        </p:tgtEl>
                                        <p:attrNameLst>
                                          <p:attrName>ppt_y</p:attrName>
                                        </p:attrNameLst>
                                      </p:cBhvr>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1925"/>
                                        <p:tgtEl>
                                          <p:spTgt spid="49"/>
                                        </p:tgtEl>
                                      </p:cBhvr>
                                    </p:animEffect>
                                    <p:animScale>
                                      <p:cBhvr>
                                        <p:cTn id="42" dur="1925" fill="hold"/>
                                        <p:tgtEl>
                                          <p:spTgt spid="49"/>
                                        </p:tgtEl>
                                      </p:cBhvr>
                                      <p:from x="10000" y="10000"/>
                                      <p:to x="200000" y="450000"/>
                                    </p:animScale>
                                    <p:animScale>
                                      <p:cBhvr>
                                        <p:cTn id="43" dur="3075" fill="hold">
                                          <p:stCondLst>
                                            <p:cond delay="1925"/>
                                          </p:stCondLst>
                                        </p:cTn>
                                        <p:tgtEl>
                                          <p:spTgt spid="49"/>
                                        </p:tgtEl>
                                      </p:cBhvr>
                                      <p:from x="200000" y="450000"/>
                                      <p:to x="100000" y="100000"/>
                                    </p:animScale>
                                    <p:set>
                                      <p:cBhvr>
                                        <p:cTn id="44" dur="1925" fill="hold"/>
                                        <p:tgtEl>
                                          <p:spTgt spid="49"/>
                                        </p:tgtEl>
                                        <p:attrNameLst>
                                          <p:attrName>ppt_x</p:attrName>
                                        </p:attrNameLst>
                                      </p:cBhvr>
                                      <p:to>
                                        <p:strVal val="(0.5)"/>
                                      </p:to>
                                    </p:set>
                                    <p:anim calcmode="lin" valueType="num" from="(0.5)" to="(#ppt_x)">
                                      <p:cBhvr additive="repl">
                                        <p:cTn id="45" dur="3075" fill="hold">
                                          <p:stCondLst>
                                            <p:cond delay="1925"/>
                                          </p:stCondLst>
                                        </p:cTn>
                                        <p:tgtEl>
                                          <p:spTgt spid="49"/>
                                        </p:tgtEl>
                                        <p:attrNameLst>
                                          <p:attrName>ppt_x</p:attrName>
                                        </p:attrNameLst>
                                      </p:cBhvr>
                                    </p:anim>
                                    <p:set>
                                      <p:cBhvr>
                                        <p:cTn id="46" dur="1925" fill="hold"/>
                                        <p:tgtEl>
                                          <p:spTgt spid="49"/>
                                        </p:tgtEl>
                                        <p:attrNameLst>
                                          <p:attrName>ppt_y</p:attrName>
                                        </p:attrNameLst>
                                      </p:cBhvr>
                                      <p:to>
                                        <p:strVal val="(#ppt_y+0.4)"/>
                                      </p:to>
                                    </p:set>
                                    <p:anim calcmode="lin" valueType="num" from="(#ppt_y+0.4)" to="(#ppt_y)">
                                      <p:cBhvr additive="repl">
                                        <p:cTn id="47" dur="3075" fill="hold">
                                          <p:stCondLst>
                                            <p:cond delay="1925"/>
                                          </p:stCondLst>
                                        </p:cTn>
                                        <p:tgtEl>
                                          <p:spTgt spid="4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msotw9_temp0"/>
          <p:cNvPicPr/>
          <p:nvPr/>
        </p:nvPicPr>
        <p:blipFill>
          <a:blip r:embed="rId1"/>
          <a:stretch/>
        </p:blipFill>
        <p:spPr>
          <a:xfrm>
            <a:off x="0" y="620640"/>
            <a:ext cx="2394000" cy="3573360"/>
          </a:xfrm>
          <a:prstGeom prst="rect">
            <a:avLst/>
          </a:prstGeom>
          <a:ln w="0">
            <a:noFill/>
          </a:ln>
        </p:spPr>
      </p:pic>
      <p:sp>
        <p:nvSpPr>
          <p:cNvPr id="85" name="Rectangle 2"/>
          <p:cNvSpPr/>
          <p:nvPr/>
        </p:nvSpPr>
        <p:spPr>
          <a:xfrm>
            <a:off x="2340000" y="-53280"/>
            <a:ext cx="6804000" cy="684720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824, 6 de abril. INSTALACIÓN DEL PRIMER CONGRESO CONSTITUYENTE DEL ESTADO DE MICHOACÁN. </a:t>
            </a:r>
            <a:r>
              <a:rPr b="0" lang="es-ES" sz="1200" spc="-1" strike="noStrike">
                <a:solidFill>
                  <a:srgbClr val="000000"/>
                </a:solidFill>
                <a:latin typeface="Arial"/>
                <a:ea typeface="Times New Roman"/>
              </a:rPr>
              <a:t>“En obediencia a la ley del 8 de enero de 1824, que dispuso el establecimiento de las legislaturas particulares, Antonio de Castro, que actuaba desde fines del año anterior como jefe superior político de la provincia, convocó a la formación del Primer Congreso Constituyente del Estado, que quedó instalado el 6 de abril de 1824 bajo la presidencia de José María Rayón.” (Enciclopedia de México, José Rogelio Álvarez, Edit. por la Enciclopedia Británica, 1993; 5374).</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r>
              <a:rPr b="1" lang="es-ES" sz="1200" spc="-1" strike="noStrike">
                <a:solidFill>
                  <a:srgbClr val="000000"/>
                </a:solidFill>
                <a:latin typeface="Arial"/>
                <a:ea typeface="Times New Roman"/>
              </a:rPr>
              <a:t>1824, 8 de abril. FRANCISCO MANUEL SÁNCHEZ DE TAGLE, GOBERNADOR DE MICHOACÁN.</a:t>
            </a:r>
            <a:r>
              <a:rPr b="0" lang="es-ES" sz="1200" spc="-1" strike="noStrike">
                <a:solidFill>
                  <a:srgbClr val="000000"/>
                </a:solidFill>
                <a:latin typeface="Arial"/>
                <a:ea typeface="Times New Roman"/>
              </a:rPr>
              <a:t> El día 8 (abril de 1824) se nombró gobernador interino a Francisco Manuel Sánchez de Tagle, pero habiendo renunciado quedó en el cargo el vicegobernador, que lo fue De Castro.” (Enciclopedia de México, José Rogelio Álvarez, Edit. por la Enciclopedia Británica, 1993; 5374).</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1825, 15 de marzo. DIVISIÓN TERRITORIAL DEL ESTADO DE MICHOACÁN. </a:t>
            </a:r>
            <a:r>
              <a:rPr b="0" lang="es-ES" sz="1200" spc="-1" strike="noStrike">
                <a:solidFill>
                  <a:srgbClr val="000000"/>
                </a:solidFill>
                <a:latin typeface="Arial"/>
                <a:ea typeface="Times New Roman"/>
              </a:rPr>
              <a:t>“De acuerdo con lo dispuesto por el Acta Constitutiva en materia de división territorial (estados, departamentos y territorios), el Primer Congreso Constituyente de la entidad decretó (15 de marzo de 1825) que el estado quedaba dividido en cuatro departamentos con sus respectivos partidos: del Norte (Valladolid, Tiripetío, Charo, Cuitzeo, Huaniqueo y Pátzcuaro), del Poniente (Zamora, Tlazazalca, Jiquilpan, Puruándiro y La Piedad), del Sur (Uruapan, Taretan, Antiguo Paracho, Ario, Apatzingán y Coahuayana), y del Oriente (Zitacuaro, Tlalpujahua, Zinapecuaro y Huetamo). En cada uno se nombró un jefe político; las sedes fueron Valladolid, Zamora, Ario y Zitacuaro.” (Enciclopedia de México, José Rogelio Álvarez, Edit. por la Enciclopedia Británica, 1993; 5374).</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1825, 6 de abril. INSTALACIÓN DEL CONGRESO CONSTITUYENTE DE MICHOACÁN.</a:t>
            </a:r>
            <a:r>
              <a:rPr b="0" lang="es-ES" sz="1200" spc="-1" strike="noStrike">
                <a:solidFill>
                  <a:srgbClr val="000000"/>
                </a:solidFill>
                <a:latin typeface="Arial"/>
                <a:ea typeface="Times New Roman"/>
              </a:rPr>
              <a:t> “La legislatura o Congreso Constituyente de Michoacán se instaló el 6 de abril de 1825 con once diputados.” </a:t>
            </a:r>
            <a:r>
              <a:rPr b="0" lang="es-ES_tradnl" sz="1200" spc="-1" strike="noStrike">
                <a:solidFill>
                  <a:srgbClr val="000000"/>
                </a:solidFill>
                <a:latin typeface="Arial"/>
                <a:ea typeface="Times New Roman"/>
              </a:rPr>
              <a:t>(“Monografía de Michoacán”, S.E.P., 1996; 140).</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1825, 19 de julio. SE PROMULGA LA PRIMERA CONSTITUCIÓN DEL ESTADO DE MICHOACÁN. </a:t>
            </a:r>
            <a:r>
              <a:rPr b="0" lang="es-ES_tradnl" sz="1200" spc="-1" strike="noStrike">
                <a:solidFill>
                  <a:srgbClr val="000000"/>
                </a:solidFill>
                <a:latin typeface="Arial"/>
                <a:ea typeface="Times New Roman"/>
              </a:rPr>
              <a:t> “La Primera Constitución Política de la entidad fue promulgada el 19 de julio de 1825; la firmaron Pedro Villaseñor (diputado presidente), Agustín Aguilar (vicepresidente), José María Rayón, Manuel de la Torre Lloreda, José María Jiménez, Manuel Menéndez, Juan José Pastor Morales y José Salgado (estos dos últimos secretarios). El licenciado Isidro Huarte no firmó por encontrarse enfermo y Martínez de Lejarza por haber fallecido.” </a:t>
            </a:r>
            <a:r>
              <a:rPr b="0" lang="es-ES" sz="1200" spc="-1" strike="noStrike">
                <a:solidFill>
                  <a:srgbClr val="000000"/>
                </a:solidFill>
                <a:latin typeface="Arial"/>
                <a:ea typeface="Times New Roman"/>
              </a:rPr>
              <a:t>(Enciclopedia de México, José Rogelio Álvarez, Edit. por la Enciclopedia Británica, 1993; 5375).</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a:t>
            </a:r>
            <a:r>
              <a:rPr b="1" lang="es-ES_tradnl" sz="1200" spc="-1" strike="noStrike">
                <a:solidFill>
                  <a:srgbClr val="000000"/>
                </a:solidFill>
                <a:latin typeface="Arial"/>
                <a:ea typeface="Times New Roman"/>
              </a:rPr>
              <a:t>1825, 13 de agosto. ANTONIO DE CASTRO, PRIMER GOBERNADOR DEL ESTADO DE MICHOACÁN. </a:t>
            </a:r>
            <a:r>
              <a:rPr b="0" lang="es-ES_tradnl" sz="1200" spc="-1" strike="noStrike">
                <a:solidFill>
                  <a:srgbClr val="000000"/>
                </a:solidFill>
                <a:latin typeface="Arial"/>
                <a:ea typeface="Times New Roman"/>
              </a:rPr>
              <a:t>Por decreto del primer Congreso Constitucional (13 de agosto de 1825), Antonio de Castro fue el primer gobernador del estado, y José Salgado el vicegobernador.”</a:t>
            </a:r>
            <a:r>
              <a:rPr b="0" lang="es-ES" sz="1200" spc="-1" strike="noStrike">
                <a:solidFill>
                  <a:srgbClr val="000000"/>
                </a:solidFill>
                <a:latin typeface="Arial"/>
                <a:ea typeface="Times New Roman"/>
              </a:rPr>
              <a:t> (Enciclopedia de México, José Rogelio Álvarez, Edit. por la Enciclopedia Británica, 1993; 5374).</a:t>
            </a:r>
            <a:r>
              <a:rPr b="0" lang="es-ES_tradnl"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6" name="Rectangle 3"/>
          <p:cNvSpPr/>
          <p:nvPr/>
        </p:nvSpPr>
        <p:spPr>
          <a:xfrm>
            <a:off x="0" y="4295160"/>
            <a:ext cx="23400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ea typeface="Times New Roman"/>
              </a:rPr>
              <a:t>Antonio de Castro, Primer Gobernador del Estado de Michoacá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ea typeface="Times New Roman"/>
              </a:rPr>
              <a:t>(“Monografía de Michoacán”, S.E.P., 1996; 142).</a:t>
            </a:r>
            <a:endParaRPr b="0" lang="en-US" sz="800" spc="-1" strike="noStrike">
              <a:solidFill>
                <a:srgbClr val="000000"/>
              </a:solidFill>
              <a:latin typeface="Arial"/>
            </a:endParaRPr>
          </a:p>
        </p:txBody>
      </p:sp>
    </p:spTree>
  </p:cSld>
  <p:transition spd="slow">
    <p:checker dir="horz"/>
    <p:sndAc>
      <p:stSnd>
        <p:snd r:embed="rId2" name="drumroll.wav"/>
      </p:stSnd>
    </p:sndAc>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2">
                                  <p:stCondLst>
                                    <p:cond delay="0"/>
                                  </p:stCondLst>
                                  <p:childTnLst>
                                    <p:set>
                                      <p:cBhvr>
                                        <p:cTn id="176" dur="1" fill="hold">
                                          <p:stCondLst>
                                            <p:cond delay="0"/>
                                          </p:stCondLst>
                                        </p:cTn>
                                        <p:tgtEl>
                                          <p:spTgt spid="84"/>
                                        </p:tgtEl>
                                        <p:attrNameLst>
                                          <p:attrName>style.visibility</p:attrName>
                                        </p:attrNameLst>
                                      </p:cBhvr>
                                      <p:to>
                                        <p:strVal val="visible"/>
                                      </p:to>
                                    </p:set>
                                    <p:animScale>
                                      <p:cBhvr>
                                        <p:cTn id="177" dur="5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5000" fill="hold">
                                          <p:stCondLst>
                                            <p:cond delay="0"/>
                                          </p:stCondLst>
                                        </p:cTn>
                                        <p:tgtEl>
                                          <p:spTgt spid="84"/>
                                        </p:tgtEl>
                                      </p:cBhvr>
                                    </p:animMotion>
                                    <p:animEffect filter="fade" transition="in">
                                      <p:cBhvr additive="repl">
                                        <p:cTn id="179" dur="5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146880"/>
            <a:ext cx="9144000" cy="66225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27. EL GRAL. JOSÉ T. SALGADO, ES EL SEGUNDO GOBERNADOR DE MICHOACÁN. </a:t>
            </a:r>
            <a:r>
              <a:rPr b="0" lang="es-ES" sz="1100" spc="-1" strike="noStrike">
                <a:solidFill>
                  <a:srgbClr val="000000"/>
                </a:solidFill>
                <a:latin typeface="Arial"/>
                <a:ea typeface="Times New Roman"/>
              </a:rPr>
              <a:t> A los dos primeros gobernadores les tocó poner en marcha una de las épocas más deslucidas y desastrosas de Michoacán (...) El Congreso Local, temeroso de que el gobernador Salgado tomase el partido del general Vicente Guerrero, lo destituye.” </a:t>
            </a:r>
            <a:r>
              <a:rPr b="0" lang="es-ES_tradnl" sz="1100" spc="-1" strike="noStrike">
                <a:solidFill>
                  <a:srgbClr val="000000"/>
                </a:solidFill>
                <a:latin typeface="Arial"/>
                <a:ea typeface="Times New Roman"/>
              </a:rPr>
              <a:t>(“Monografía de Michoacán”, S.E.P., 1996; 14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828, 12 de septiembre. CAMBIO DEL NOMBRE DE VALLADOLID A MORELIA. </a:t>
            </a:r>
            <a:r>
              <a:rPr b="0" lang="es-ES_tradnl" sz="1100" spc="-1" strike="noStrike">
                <a:solidFill>
                  <a:srgbClr val="000000"/>
                </a:solidFill>
                <a:latin typeface="Arial"/>
                <a:ea typeface="Times New Roman"/>
              </a:rPr>
              <a:t>“Ya en el gobierno de Salgado, que pertenecía al grupo yorkino, Valladolid cambió su nombre (decreto del 12 de septiembre de 1828) por el actual de Morelia, </a:t>
            </a:r>
            <a:r>
              <a:rPr b="1" i="1" lang="es-ES_tradnl" sz="1100" spc="-1" strike="noStrike">
                <a:solidFill>
                  <a:srgbClr val="000000"/>
                </a:solidFill>
                <a:latin typeface="Arial"/>
                <a:ea typeface="Times New Roman"/>
              </a:rPr>
              <a:t>en honor de su digno hijo, benemérito de la patria</a:t>
            </a:r>
            <a:r>
              <a:rPr b="0" lang="es-ES_tradnl" sz="1100" spc="-1" strike="noStrike">
                <a:solidFill>
                  <a:srgbClr val="000000"/>
                </a:solidFill>
                <a:latin typeface="Arial"/>
                <a:ea typeface="Times New Roman"/>
              </a:rPr>
              <a:t> José María Morelos y Pavón, el cual empezó a ostentar oficialmente desde la festividad del inmediato 16 de septiembre.” </a:t>
            </a:r>
            <a:r>
              <a:rPr b="0" lang="es-ES" sz="1100" spc="-1" strike="noStrike">
                <a:solidFill>
                  <a:srgbClr val="000000"/>
                </a:solidFill>
                <a:latin typeface="Arial"/>
                <a:ea typeface="Times New Roman"/>
              </a:rPr>
              <a:t>(Enciclopedia de México, José Rogelio Álvarez, Edit. por la Enciclopedia Británica, 1993; 537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28, 2 de diciembre. SUSPENDEN DEL GOBIERNO A JOSÉ SALGADO.</a:t>
            </a:r>
            <a:r>
              <a:rPr b="0" lang="es-ES" sz="1100" spc="-1" strike="noStrike">
                <a:solidFill>
                  <a:srgbClr val="000000"/>
                </a:solidFill>
                <a:latin typeface="Arial"/>
                <a:ea typeface="Times New Roman"/>
              </a:rPr>
              <a:t> En ese año, como consecuencia de la agitación política que culminó con el motín de La Acordada (30 de noviembre), el Congreso local, temiendo que Salgado, notorio guerrerista, se levantara en armas como sus correligionarios, lo suspendió del 2 al 18 de diciembre, lapso en que se encargaron del gobierno, primero, el vicegobernador Pedro Villaseñor (2 al 11 de diciembre) y luego el consejero más antiguo, que lo era el doctor Juan Manuel González Ureña (11 al 18). En estos días el Congreso otorgó a Tacámbaro el título de villa.” (Enciclopedia de México, José Rogelio Álvarez, Edit. por la Enciclopedia Británica, 1993; 5375).</a:t>
            </a:r>
            <a:r>
              <a:rPr b="0" lang="es-E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29, al 5 de marzo de 1830. SALGADO, GOBERNADOR CONSTITUCIONAL DE MICHOACÁN. </a:t>
            </a:r>
            <a:r>
              <a:rPr b="0" lang="es-ES" sz="1100" spc="-1" strike="noStrike">
                <a:solidFill>
                  <a:srgbClr val="000000"/>
                </a:solidFill>
                <a:latin typeface="Arial"/>
                <a:ea typeface="Times New Roman"/>
              </a:rPr>
              <a:t> En 1829 Salgado resultó electo gobernador constitucional, cargo que desempeñó hasta la noche del 5 de marzo de 1830 en que, a pesar de haberse visto forzado a reconocer al gobierno del presidente Bustamante, fue depuesto por el Ayuntamiento de Morelia. Sin el apoyo del ejército, ni del Gobierno Federal, se retiró violentamente a Zamora, donde instaló su gobierno y se rebeló contra Bustamante.” (Enciclopedia de México, José Rogelio Álvarez, Edit. por la Enciclopedia Británica, 1993; 5376).</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29, 2 de abril. PRIMER PERIÓDICO EN MORELIA. </a:t>
            </a:r>
            <a:r>
              <a:rPr b="0" lang="es-ES" sz="1100" spc="-1" strike="noStrike">
                <a:solidFill>
                  <a:srgbClr val="000000"/>
                </a:solidFill>
                <a:latin typeface="Arial"/>
                <a:ea typeface="Times New Roman"/>
              </a:rPr>
              <a:t>“A principios de 1829 (2 de abril) empezó a publicarse el primer periódico de la capital, </a:t>
            </a:r>
            <a:r>
              <a:rPr b="1" i="1" lang="es-ES" sz="1100" spc="-1" strike="noStrike">
                <a:solidFill>
                  <a:srgbClr val="000000"/>
                </a:solidFill>
                <a:latin typeface="Arial"/>
                <a:ea typeface="Times New Roman"/>
              </a:rPr>
              <a:t>El astro Moreliano, </a:t>
            </a:r>
            <a:r>
              <a:rPr b="0" lang="es-ES" sz="1100" spc="-1" strike="noStrike">
                <a:solidFill>
                  <a:srgbClr val="000000"/>
                </a:solidFill>
                <a:latin typeface="Arial"/>
                <a:ea typeface="Times New Roman"/>
              </a:rPr>
              <a:t>fundado por Isidro García de Carrasquedo. En breve fue el periódico oficial. Antes de un año surgió un contrincante, </a:t>
            </a:r>
            <a:r>
              <a:rPr b="1" i="1" lang="es-ES" sz="1100" spc="-1" strike="noStrike">
                <a:solidFill>
                  <a:srgbClr val="000000"/>
                </a:solidFill>
                <a:latin typeface="Arial"/>
                <a:ea typeface="Times New Roman"/>
              </a:rPr>
              <a:t>El Michoacano Libre, </a:t>
            </a:r>
            <a:r>
              <a:rPr b="0" lang="es-ES" sz="1100" spc="-1" strike="noStrike">
                <a:solidFill>
                  <a:srgbClr val="000000"/>
                </a:solidFill>
                <a:latin typeface="Arial"/>
                <a:ea typeface="Times New Roman"/>
              </a:rPr>
              <a:t>que escribía, con algunos colaboradores, el licenciado Mariano Rivas, futuro rector del Seminario Tridentino.” (Enciclopedia de México, José Rogelio Álvarez, Edit. por la Enciclopedia Británica, 1993; 5375).</a:t>
            </a:r>
            <a:r>
              <a:rPr b="0" lang="es-E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30, 5 de marzo. DESCONOCEN AL GOBERNADOR DE MICHOACÁN, JOSÉ T. SALGADO. </a:t>
            </a:r>
            <a:r>
              <a:rPr b="0" lang="es-ES" sz="1100" spc="-1" strike="noStrike">
                <a:solidFill>
                  <a:srgbClr val="000000"/>
                </a:solidFill>
                <a:latin typeface="Arial"/>
                <a:ea typeface="Times New Roman"/>
              </a:rPr>
              <a:t>“El Ayuntamiento de Morelia desconoce la gubernatura de Salgado. En la Depresión del Balsas se produce el levantamiento del general Juan José Codallos que exige la reposición del destituido. Este se refugia en Zamora y desde allí levanta gente contra Bustamante. Enseguida es derrotado, preso y condenado a morir. Se fuga de la cárcel y su carcelero, otro general, se desquita con la fusilata de algunos hombres distinguidos. </a:t>
            </a:r>
            <a:r>
              <a:rPr b="0" lang="es-ES_tradnl" sz="1100" spc="-1" strike="noStrike">
                <a:solidFill>
                  <a:srgbClr val="000000"/>
                </a:solidFill>
                <a:latin typeface="Arial"/>
                <a:ea typeface="Times New Roman"/>
              </a:rPr>
              <a:t>(“Monografía de Michoacán”, S.E.P., 1996; 14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t>
            </a:r>
            <a:r>
              <a:rPr b="1" lang="es-ES_tradnl" sz="1100" spc="-1" strike="noStrike">
                <a:solidFill>
                  <a:srgbClr val="000000"/>
                </a:solidFill>
                <a:latin typeface="Arial"/>
                <a:ea typeface="Times New Roman"/>
              </a:rPr>
              <a:t>1831, 5 de marzo. SUSTITUYE A SALGADO COMO GOBERNADOR DE MICHOACÁN, GONZÁLEZ UREÑA.</a:t>
            </a:r>
            <a:r>
              <a:rPr b="0" lang="es-ES_tradnl" sz="1100" spc="-1" strike="noStrike">
                <a:solidFill>
                  <a:srgbClr val="000000"/>
                </a:solidFill>
                <a:latin typeface="Arial"/>
                <a:ea typeface="Times New Roman"/>
              </a:rPr>
              <a:t> (...) Entre tanto, el consejero decano González Ureña sustituyó a Salgado por seis días (...)”</a:t>
            </a:r>
            <a:r>
              <a:rPr b="0" lang="es-ES" sz="1100" spc="-1" strike="noStrike">
                <a:solidFill>
                  <a:srgbClr val="000000"/>
                </a:solidFill>
                <a:latin typeface="Arial"/>
                <a:ea typeface="Times New Roman"/>
              </a:rPr>
              <a:t> (Enciclopedia de México, José Rogelio Álvarez, Edit. por la Enciclopedia Británica, 1993; 5376).</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t>
            </a:r>
            <a:r>
              <a:rPr b="1" lang="es-ES_tradnl" sz="1100" spc="-1" strike="noStrike">
                <a:solidFill>
                  <a:srgbClr val="000000"/>
                </a:solidFill>
                <a:latin typeface="Arial"/>
                <a:ea typeface="Times New Roman"/>
              </a:rPr>
              <a:t>1831, 20 de agosto al 15 de enero de 1833. DIEGO MORENO, GOBERNADOR CONSTITUCIONAL DE MICHOACÁN. </a:t>
            </a:r>
            <a:r>
              <a:rPr b="0" lang="es-ES_tradnl" sz="1100" spc="-1" strike="noStrike">
                <a:solidFill>
                  <a:srgbClr val="000000"/>
                </a:solidFill>
                <a:latin typeface="Arial"/>
                <a:ea typeface="Times New Roman"/>
              </a:rPr>
              <a:t>(...) y después ocupó el gobierno Diego Moreno que era el vicegobernador, a quien se nombró constitucionalmente el 20 de agosto (1830), llevando como segundo a José Manuel Chávez.” </a:t>
            </a:r>
            <a:r>
              <a:rPr b="0" lang="es-ES" sz="1100" spc="-1" strike="noStrike">
                <a:solidFill>
                  <a:srgbClr val="000000"/>
                </a:solidFill>
                <a:latin typeface="Arial"/>
                <a:ea typeface="Times New Roman"/>
              </a:rPr>
              <a:t>(Enciclopedia de México, José Rogelio Álvarez, Edit. por la Enciclopedia Británica, 1993; 5376).</a:t>
            </a:r>
            <a:r>
              <a:rPr b="0" lang="es-E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	</a:t>
            </a:r>
            <a:r>
              <a:rPr b="1" lang="es-ES" sz="1100" spc="-1" strike="noStrike">
                <a:solidFill>
                  <a:srgbClr val="000000"/>
                </a:solidFill>
                <a:latin typeface="Arial"/>
                <a:ea typeface="Times New Roman"/>
              </a:rPr>
              <a:t>1831, 19 de diciembre. SUBDIVIDEN EL ESTADO DE MICHOACÁN. </a:t>
            </a:r>
            <a:r>
              <a:rPr b="0" lang="es-ES" sz="1100" spc="-1" strike="noStrike">
                <a:solidFill>
                  <a:srgbClr val="000000"/>
                </a:solidFill>
                <a:latin typeface="Arial"/>
                <a:ea typeface="Times New Roman"/>
              </a:rPr>
              <a:t>“El 19 de diciembre de 1831, el IV Congreso Constitucional, cambió algunos departamentos en 22 partidos, en 61 municipios y 270 tenencias.” (Enciclopedia de México, José Rogelio Álvarez, Edit. por la Enciclopedia Británica, 1993; 537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32, 5 de enero. FUERTE TERREMOTO EN MICHOACÁN.</a:t>
            </a:r>
            <a:r>
              <a:rPr b="0" lang="es-ES" sz="1100" spc="-1" strike="noStrike">
                <a:solidFill>
                  <a:srgbClr val="000000"/>
                </a:solidFill>
                <a:latin typeface="Arial"/>
                <a:ea typeface="Times New Roman"/>
              </a:rPr>
              <a:t> “Michoacán. Fuerte terremoto. Reséndiz: 70 {B}.” (Virginia García Acosta y Gerardo Suárez Reynoso, 1996:222).</a:t>
            </a:r>
            <a:endParaRPr b="0" lang="en-US" sz="1100" spc="-1" strike="noStrike">
              <a:solidFill>
                <a:srgbClr val="000000"/>
              </a:solidFill>
              <a:latin typeface="Arial"/>
            </a:endParaRPr>
          </a:p>
        </p:txBody>
      </p:sp>
    </p:spTree>
  </p:cSld>
  <p:transition spd="slow">
    <p:checker dir="horz"/>
    <p:sndAc>
      <p:stSnd>
        <p:snd r:embed="rId1"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395280" y="285120"/>
            <a:ext cx="8209080" cy="62877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32. DIEGO MORENO, GOBIERNA MICHOACÁN. </a:t>
            </a:r>
            <a:r>
              <a:rPr b="0" lang="es-ES" sz="1100" spc="-1" strike="noStrike">
                <a:solidFill>
                  <a:srgbClr val="000000"/>
                </a:solidFill>
                <a:latin typeface="Arial"/>
                <a:ea typeface="Times New Roman"/>
              </a:rPr>
              <a:t>El gobernador Diego Moreno, rico hacendado de Zamora, rige los destinos de Michoacán; con extremada frecuencia abandona su cargo. Algunas rebeliones, ninguna importante.” </a:t>
            </a:r>
            <a:r>
              <a:rPr b="0" lang="es-ES_tradnl" sz="1100" spc="-1" strike="noStrike">
                <a:solidFill>
                  <a:srgbClr val="000000"/>
                </a:solidFill>
                <a:latin typeface="Arial"/>
                <a:ea typeface="Times New Roman"/>
              </a:rPr>
              <a:t>(“Monografía de Michoacán”, S.E.P., 1996; 144).</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33, 15 de enero. MARIANO AMEZCUA EN EL GOBIERNO DE MICHOACÁN. </a:t>
            </a:r>
            <a:r>
              <a:rPr b="0" lang="es-ES" sz="1100" spc="-1" strike="noStrike">
                <a:solidFill>
                  <a:srgbClr val="000000"/>
                </a:solidFill>
                <a:latin typeface="Arial"/>
                <a:ea typeface="Times New Roman"/>
              </a:rPr>
              <a:t>La guarnición de la plaza de Morelia secundó el pronunciamiento de Gómez Pedraza (3 de enero de 1833) y el IV Congreso Constitucional decidió disolverse. El día 15 Moreno entregó el poder a Mariano Amezcua, consejero decano (...)” (Enciclopedia de México, José Rogelio Álvarez, Edit. por la Enciclopedia Británica, 1993; 5376).</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33, 18 de enero. NUEVAMENTE ES GOBERNADOR DE MICHOACÁN EL GENERAL SALGADO. </a:t>
            </a:r>
            <a:r>
              <a:rPr b="0" lang="es-ES" sz="1100" spc="-1" strike="noStrike">
                <a:solidFill>
                  <a:srgbClr val="000000"/>
                </a:solidFill>
                <a:latin typeface="Arial"/>
                <a:ea typeface="Times New Roman"/>
              </a:rPr>
              <a:t>(...) el 18 se reintegró al gobierno el general Salgado, quién permaneció en él hasta el 26 de mayo, en que a causa del pronunciamiento de Ignacio Escalada (Religión y Fueros) fue reducido a prisión.” (Enciclopedia de México, José Rogelio Álvarez, Edit. por la Enciclopedia Británica, 1993; 5376).</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33,19 de mayo. NACIMIENTO DE PIOQUINTO HUATO.</a:t>
            </a:r>
            <a:r>
              <a:rPr b="0" lang="es-ES" sz="1100" spc="-1" strike="noStrike">
                <a:solidFill>
                  <a:srgbClr val="000000"/>
                </a:solidFill>
                <a:latin typeface="Arial"/>
                <a:ea typeface="Times New Roman"/>
              </a:rPr>
              <a:t> “Coronel, originario de la Hacienda de las Balsas, mpio. de Coahuayutla, distrito de Montes de Oca. Fueron sus padres Severiano Huato y María Inés Sánchez y lo bautizaron el 19 de mayo de 1833, de 10 días de nacido, pero él festejaba su nacimiento el 5 de mayo. Falleció en Uruapan, Mich. Militó a las órdenes del Gral. Eutimio Pinzón. Sin notoriedad principió con la detención del presidente D. Sebastián Lerdo de Tejada y sus acompañantes en la Hacienda de las Balsas y conducidos a Coahuayutla hasta que el Gral. Diego Álvarez ordenó al coronel Huato que los mandara escoltados a Zihuatanejo. Fue prefecto del distrito varias ocasiones”. (Héctor F. López, 1942; 276).</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t>
            </a:r>
            <a:r>
              <a:rPr b="1" lang="es-ES_tradnl" sz="1100" spc="-1" strike="noStrike">
                <a:solidFill>
                  <a:srgbClr val="000000"/>
                </a:solidFill>
                <a:latin typeface="Arial"/>
                <a:ea typeface="Times New Roman"/>
              </a:rPr>
              <a:t>1833, 1° de junio. SE DEPOSITA EL PODER EJECUTIVO ESTATAL DE MICHOACÁN EN JOSÉ ANTONIO PÉREZ GIL. </a:t>
            </a:r>
            <a:r>
              <a:rPr b="0" lang="es-ES_tradnl" sz="1100" spc="-1" strike="noStrike">
                <a:solidFill>
                  <a:srgbClr val="000000"/>
                </a:solidFill>
                <a:latin typeface="Arial"/>
                <a:ea typeface="Times New Roman"/>
              </a:rPr>
              <a:t>El estado quedó acéfalo hasta el 1° de junio; ese día se instaló en Morelia, como depositario del Poder Ejecutivo, el consejero decano José Antonio Pérez Gil y en Celaya, Gto., a donde se trasladó el Congreso, José Ramón Sánchez, quien permaneció en el cargo hasta el 6 de julio, en que vuelta la calma a Morelia, después de la huída de Escalada (29 de junio), regresó con el Congreso.” </a:t>
            </a:r>
            <a:r>
              <a:rPr b="0" lang="es-ES" sz="1100" spc="-1" strike="noStrike">
                <a:solidFill>
                  <a:srgbClr val="000000"/>
                </a:solidFill>
                <a:latin typeface="Arial"/>
                <a:ea typeface="Times New Roman"/>
              </a:rPr>
              <a:t>(Enciclopedia de México, José Rogelio Álvarez, Edit. por la Enciclopedia Británica, 1993; 5377).</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33, 6 de octubre. TERMINA SU GOBIERNO CONSTITUCIONAL EN MICHOACÁN, EL GENERAL JOSÉ SALGADO. </a:t>
            </a:r>
            <a:r>
              <a:rPr b="0" lang="es-ES" sz="1100" spc="-1" strike="noStrike">
                <a:solidFill>
                  <a:srgbClr val="000000"/>
                </a:solidFill>
                <a:latin typeface="Arial"/>
                <a:ea typeface="Times New Roman"/>
              </a:rPr>
              <a:t>Reasumió entonces el gobierno José Salgado, hasta el 6 de octubre en que terminó su periodo constitucional. Lo sucedieron, en mes y medio, el prefecto del Norte, Felipe Menocal; Joaquín Caballero de Acuña, Antonio Bribiesca y, por fin, el licenciado Onofre Calvo Pintado (20 de noviembre) (...)” (Enciclopedia de México, José Rogelio Álvarez, Edit. por la Enciclopedia Británica, 1993; 5377).</a:t>
            </a:r>
            <a:r>
              <a:rPr b="0" lang="es-ES" sz="1100" spc="-1" strike="noStrike">
                <a:solidFill>
                  <a:srgbClr val="000000"/>
                </a:solidFill>
                <a:latin typeface="Arial"/>
                <a:ea typeface="Times New Roman"/>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a:t>
            </a:r>
            <a:r>
              <a:rPr b="1" lang="es-ES" sz="1100" spc="-1" strike="noStrike">
                <a:solidFill>
                  <a:srgbClr val="000000"/>
                </a:solidFill>
                <a:latin typeface="Arial"/>
                <a:ea typeface="Times New Roman"/>
              </a:rPr>
              <a:t>1833, 20 de noviembre al 13 de junio de 1834. GOBIERNA MICHOACÁN ONOFRE CALVO PINTADO. </a:t>
            </a:r>
            <a:r>
              <a:rPr b="0" lang="es-ES" sz="1100" spc="-1" strike="noStrike">
                <a:solidFill>
                  <a:srgbClr val="000000"/>
                </a:solidFill>
                <a:latin typeface="Arial"/>
                <a:ea typeface="Times New Roman"/>
              </a:rPr>
              <a:t>(...) quien tuvo como vicegobernador a José María Silva.” (Enciclopedia de México, José Rogelio Álvarez, Edit. por la Enciclopedia Británica, 1993; 5377).</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34. GORDIANO GUZMÁN LLEGA A MICHOACÁN. “</a:t>
            </a:r>
            <a:r>
              <a:rPr b="0" lang="es-ES" sz="1100" spc="-1" strike="noStrike">
                <a:solidFill>
                  <a:srgbClr val="000000"/>
                </a:solidFill>
                <a:latin typeface="Arial"/>
                <a:ea typeface="Times New Roman"/>
              </a:rPr>
              <a:t>Estalla en Morelia una rebelión en pro del Centralismo. El jaliciense Gordiano Guzmán, con cerca de mil hombres, acude a Michoacán en defensa de los federalistas.” (“Monografía de Michoacán”, S.E.P., 1996; 144)</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1834. CENSO DE ZACATULA.</a:t>
            </a:r>
            <a:r>
              <a:rPr b="0" lang="es-ES" sz="1100" spc="-1" strike="noStrike">
                <a:solidFill>
                  <a:srgbClr val="000000"/>
                </a:solidFill>
                <a:latin typeface="Arial"/>
                <a:ea typeface="Times New Roman"/>
              </a:rPr>
              <a:t> “La población de Zacatula, según el padrón de 1834 sólo sube a 221 habitantes en 48 casas de paja; pero unidas a las haciendas de La Orilla, Acalpican, Sureña (Surcúa), Feliciano y otras rancherías de que hablaré en seguida, llega hasta 2, 285.” Su temperamento es caliente como el de Tecpan y malsano a causa de que, a propósito, viven entre los montes para ocultar sus maldades.” (Héctor F. López, 1942; 168). </a:t>
            </a:r>
            <a:endParaRPr b="0" lang="en-US" sz="1100" spc="-1" strike="noStrike">
              <a:solidFill>
                <a:srgbClr val="000000"/>
              </a:solidFill>
              <a:latin typeface="Arial"/>
            </a:endParaRPr>
          </a:p>
        </p:txBody>
      </p:sp>
    </p:spTree>
  </p:cSld>
  <p:transition spd="slow">
    <p:checker dir="horz"/>
    <p:sndAc>
      <p:stSnd>
        <p:snd r:embed="rId1" name="drumroll.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324000" y="185040"/>
            <a:ext cx="8496000" cy="64875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4, 25 de mayo. RENUNCIA AL GOBIERNO DE MICHOACÁN ONOFRE CALVO PINTADO. </a:t>
            </a:r>
            <a:r>
              <a:rPr b="0" lang="es-ES" sz="1400" spc="-1" strike="noStrike">
                <a:solidFill>
                  <a:srgbClr val="000000"/>
                </a:solidFill>
                <a:latin typeface="Arial"/>
                <a:ea typeface="Times New Roman"/>
              </a:rPr>
              <a:t>Calvo Pintado, liberal moderado, renunció al gobierno el 25 de mayo de 1834 (se separó el 13 de junio) por no estar de acuerdo con el destierro impuesto al obispo Gómez de Portugal (27 de abril), quien se había negado a aceptar el patronato nacional y en general las reformas liberales propuestas por el Congreso.” (Enciclopedia de México, José Rogelio Álvarez, Edit. por la Enciclopedia Británica, 1993; 5377).</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4, 13 de junio. GOBIERNA MICHOACÁN JOSÉ MARÍA SILVA. </a:t>
            </a:r>
            <a:r>
              <a:rPr b="0" lang="es-ES" sz="1400" spc="-1" strike="noStrike">
                <a:solidFill>
                  <a:srgbClr val="000000"/>
                </a:solidFill>
                <a:latin typeface="Arial"/>
                <a:ea typeface="Times New Roman"/>
              </a:rPr>
              <a:t>José María Silva, el siguiente gobernador, se enfrentó a la insurrección contra el sistema federal (junio) encabezada por el comandante general Isidro Reyes, quien con el Batallón Activo de Morelia, al mando del coronel José de Ugarte, se hizo fuerte en el convento de san Diego, luego sitiado por el coronel Angón, al frente de los milicianos. Después de nueve días, los sitiados recibieron refuerzos de Ramón Rayón y los atacantes huyeron. A pesar de esta victoria de los conservadores, que provocó la renuncia de Silva (14 de julio) (...).” (Enciclopedia de México, José Rogelio Álvarez, Edit. por la Enciclopedia Británica, 1993; 5377).</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4, 22 de julio. RECIBE EL GOBIERNO DE MICHOACÁN ANTONIO MANZO CEBALLOS. </a:t>
            </a:r>
            <a:r>
              <a:rPr b="0" lang="es-ES" sz="1400" spc="-1" strike="noStrike">
                <a:solidFill>
                  <a:srgbClr val="000000"/>
                </a:solidFill>
                <a:latin typeface="Arial"/>
                <a:ea typeface="Times New Roman"/>
              </a:rPr>
              <a:t>(...) el consejero decano Antonio Manzo Cevallos (asumió el gobierno el 22 de julio) mantuvo aún el sistema federal y convocó a elecciones (...).”(Enciclopedia de México, José Rogelio Álvarez, Edit. por la Enciclopedia Británica, 1993; 5377).</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1834. CENSO DE LA POBLACIÓN DE MÉXICO.</a:t>
            </a:r>
            <a:r>
              <a:rPr b="0" lang="es-ES" sz="1400" spc="-1" strike="noStrike">
                <a:solidFill>
                  <a:srgbClr val="000000"/>
                </a:solidFill>
                <a:latin typeface="Arial"/>
                <a:ea typeface="Times New Roman"/>
              </a:rPr>
              <a:t> “El censo de la población de México era de 7, 734. 292 habitantes.”  (Juana Vázquez Gómez, 1999; 1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5, febrero. GOBIERNA MICHOACÁN JOSÉ MARIANO ANSORENA FONCERRADA Y ULÍBARRI. </a:t>
            </a:r>
            <a:r>
              <a:rPr b="0" lang="es-ES" sz="1400" spc="-1" strike="noStrike">
                <a:solidFill>
                  <a:srgbClr val="000000"/>
                </a:solidFill>
                <a:latin typeface="Arial"/>
                <a:ea typeface="Times New Roman"/>
              </a:rPr>
              <a:t>(...) quedando como gobernador José Mariano Ansorena Foncerrada y Ulíbarri, hijo del primer gobernador insurgente que tuvo la entidad.” (Enciclopedia de México, José Rogelio Álvarez, Edit. por la Enciclopedia Británica, 1993; 5377).</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5, 9 de octubre. ANTONIO TELÉSFORO MÉNDEZ TORRES GOBIERNA MICHOACÁN. </a:t>
            </a:r>
            <a:r>
              <a:rPr b="0" lang="es-ES" sz="1400" spc="-1" strike="noStrike">
                <a:solidFill>
                  <a:srgbClr val="000000"/>
                </a:solidFill>
                <a:latin typeface="Arial"/>
                <a:ea typeface="Times New Roman"/>
              </a:rPr>
              <a:t> Al desintegrarse el sistema federal (3 de octubre), ocupó su lugar (día 9) el consejero Antonio Telésforo Méndez Torres (...).” (Enciclopedia de México, José Rogelio Álvarez, Edit. por la Enciclopedia Británica, 1993; 5377).</a:t>
            </a:r>
            <a:r>
              <a:rPr b="0"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a:t>
            </a:r>
            <a:r>
              <a:rPr b="1" lang="es-ES" sz="1400" spc="-1" strike="noStrike">
                <a:solidFill>
                  <a:srgbClr val="000000"/>
                </a:solidFill>
                <a:latin typeface="Arial"/>
                <a:ea typeface="Times New Roman"/>
              </a:rPr>
              <a:t>1835, 23 de octubre. LEY DE BASES PARA LA NUEVA CONSTITUCIÓN. </a:t>
            </a:r>
            <a:r>
              <a:rPr b="0" lang="es-ES" sz="1400" spc="-1" strike="noStrike">
                <a:solidFill>
                  <a:srgbClr val="000000"/>
                </a:solidFill>
                <a:latin typeface="Arial"/>
                <a:ea typeface="Times New Roman"/>
              </a:rPr>
              <a:t>(...) las entidades dejaron de llamarse estados, designándose como departamentos.” (Enciclopedia de México, José Rogelio Álvarez, Edit. por la Enciclopedia Británica, 1993; 5377).</a:t>
            </a: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324000" y="506160"/>
            <a:ext cx="8496000" cy="588060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1835. DERROTERO DEL LIC. DON MANUEL OROZCO Y BERRA POR LA COSTA GRANDE DE GUERRERO Y PARTE DE LA DESEMBOCADURA DEL RÍO DE LAS BALSAS</a:t>
            </a:r>
            <a:r>
              <a:rPr b="0" lang="es-ES" sz="1000" spc="-1" strike="noStrike">
                <a:solidFill>
                  <a:srgbClr val="000000"/>
                </a:solidFill>
                <a:latin typeface="Arial"/>
                <a:ea typeface="Times New Roman"/>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SEMBLANZA DE LA COSTA GRANDE.</a:t>
            </a:r>
            <a:r>
              <a:rPr b="0" lang="es-ES" sz="1000" spc="-1" strike="noStrike">
                <a:solidFill>
                  <a:srgbClr val="000000"/>
                </a:solidFill>
                <a:latin typeface="Arial"/>
                <a:ea typeface="Times New Roman"/>
              </a:rPr>
              <a:t>  Salimos de Acapulco, y a las dos horas de camino llegamos al rancho del Tamarindo, de Don José Olivar, situado en tierras de los Galeanas, al NO. de la cabecera, entre el mar y la laguna de Coyuca, circunstancia que lo hace demasiado agradable a la vista, así por el hermoso plano de su extensión, como por la abundancia de Agua Dulce y salada de que está rodeado; tiene como veinte familias, contando con el Ejido Viejo y el Cazadero, que están en sus inmediaciones, que se ocupan en la pesca de excelente moharra, labor de algodones, maíz y hortaliza, de que abastecen a Acapulco. Dista cuatro leguas de dicho puer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BOCA DE COYUCA:</a:t>
            </a:r>
            <a:r>
              <a:rPr b="0" lang="es-ES" sz="1000" spc="-1" strike="noStrike">
                <a:solidFill>
                  <a:srgbClr val="000000"/>
                </a:solidFill>
                <a:latin typeface="Arial"/>
                <a:ea typeface="Times New Roman"/>
              </a:rPr>
              <a:t> La forma el río de este nombre a distancia de 8 leguas al Poniente de Acapulco; se mantiene cerrada la mayor parte del año, pero en los primeros días de su apertura, es peligrosa, tanto por el gruesísimo volumen de agua que se hecha al mar, como por la rapidez de su corriente. Es abundantísima en la pesca de moharras, róbalos, pargos y otra multitud de pescado del que se puede extraer cuanto se quiera. Hay cuatro casas y otras tantas familias, que también siembran algodón, maíz y hortaliz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RANCHO DEL REAL:</a:t>
            </a:r>
            <a:r>
              <a:rPr b="0" lang="es-ES" sz="1000" spc="-1" strike="noStrike">
                <a:solidFill>
                  <a:srgbClr val="000000"/>
                </a:solidFill>
                <a:latin typeface="Arial"/>
                <a:ea typeface="Times New Roman"/>
              </a:rPr>
              <a:t> Dista diez leguas de la Boca de Coyuca, reguladas a dos por hora en bestia de paso regular. Es propiedad de los Galeanas, y en el intervalo del uno al otro punto, se encuentran otros ranchos, Carrizal, Boca de Mita, Pozuelos y Magueyes, con una población como de 80 almas. El camino es sumamente muy agradable, a causa de la hermosa playa que forma el mar y la laguna, cuyo bordo está siempre cubierto de espesa arboleda y palmares de coquillo, que jamás se desnudan de su verde follaje; siendo el último tan abundante, que si en aceite se quisiera trabajar se podría proveer a una gran parte de la república de alumbrado y jabón, y suplir también la falta de manteca, pues su sabor es muy agradable al paladar. Del palmito de este árbol se saca leche, miel, de regalado gusto, y comiéndolo crudo, satisface el hambre sin fastidiar ni hacer daño a la salud.”</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SAN GERONIMO:</a:t>
            </a:r>
            <a:r>
              <a:rPr b="0" lang="es-ES" sz="1000" spc="-1" strike="noStrike">
                <a:solidFill>
                  <a:srgbClr val="000000"/>
                </a:solidFill>
                <a:latin typeface="Arial"/>
                <a:ea typeface="Times New Roman"/>
              </a:rPr>
              <a:t> Hacienda de labor de Don José María del Pilar Galeana; dista cuatro leguas del Real y como veintidós al Nordeste de Acapulco. Está situado a la parte W. Del hermoso río que tiene el mismo nombre; su temperatura es muy caliente desde la diez de la mañana a las tres de la tarde, en cuyo tiempo en las estaciones de más calor, que son de Mayo a Agosto, sube el termómetro de Fahrenheit desde los 92 a 94 grados; las mañanas y las noches son muy agradables; produce maíz, algodón de la mejor calidad conocido en la República, arroz, fríjol, chile, cocos, piñas y toda clase de hortaliza. La extracción anual de algodones, de un año con otro, puede ascender a 45,000 arrobas, que cambian los habitantes por géneros en la mayor parte de fábricas europeas. Los habitantes en lo general son muy dedicados al ejercicio de la labor y cría de ganado vacuno y caballar, de que hay mucho, pero muy dominados del juego y la embriaguez, causa por que se matan con frecuencia en tiempo de cosechas. Las autoridades militares son de algún modo respetadas por ellos. La policía que solo consiste en un encargado de Justicia, no les merece el menor aprecio, si no es cuando tienen alguna necesidad. Esta hacienda con el Arenal y las demás anexas, abastecen al batallón activo de Zacatula, de la compañía de caballería de que está dotado; pero en tiempo de revolución se me ha asegurado que se han puesto sobre las armas 500 hombres escogidos. Su total población inclusive los parajes del Arenal, Barrio Nuevo, El Humo, La Fuentecilla. Corral Falso y Alcholoa, es de 2,500 almas. Las cuatro quintas partes de origen african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ATOYAC:</a:t>
            </a:r>
            <a:r>
              <a:rPr b="0" lang="es-ES" sz="1000" spc="-1" strike="noStrike">
                <a:solidFill>
                  <a:srgbClr val="000000"/>
                </a:solidFill>
                <a:latin typeface="Arial"/>
                <a:ea typeface="Times New Roman"/>
              </a:rPr>
              <a:t> Pueblo anexo al ayuntamiento de Tecpan y curato de la mitra de Morelia, situado a las orillas del río de San Geronimo, conocido con el nombre del pueblo. Dista tres leguas al N. de la hacienda y como a veinticinco de Acapulco. Su temperamento es menos cálido que el de San Geronimo, en razón de estar más pegado a la sierra, y en paraje más alto. Hace pocos años que esta población se componía, en su tercera parte, de familias descendientes de gente blanca; pero en el año de 1830 se sublevaron una noche los indígenas contra los de razón, matando a balazos a algunos hombres y mujeres, de cuyas resultas huyeron los que quedaron para otros puntos, abandonando sus casas; causa porqué en el día son todos naturales, cuyo principal ejercicio son las siembras de maíz, algodón, caña dulce, tabaco y hortalizas. Hay como 70 hombres armados, los cuales mantienen las armas en sus casas, bajo la dirección de un capitán, del mismo pueblo, y un alcalde conciliador, que sólo manda a los que no son soldados: su población es de 500 almas.” (CONTINUA)</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324000" y="260280"/>
            <a:ext cx="8496000" cy="63374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TECPAN:</a:t>
            </a:r>
            <a:r>
              <a:rPr b="0" lang="es-ES" sz="1000" spc="-1" strike="noStrike">
                <a:solidFill>
                  <a:srgbClr val="000000"/>
                </a:solidFill>
                <a:latin typeface="Arial"/>
                <a:ea typeface="Times New Roman"/>
              </a:rPr>
              <a:t> Cabecera del partido de Tecpan, que antiguamente fue de Zacatula, dista 28 leguas de la prefectura, está situado al W. De Acapulco, a la orilla oriental del río de su nombre, de temperamento como el de San Geronimo; es curato secular de la mitra de Michoacán y asiento del ayuntamiento, del subprefecto, juez de letras, administrador de alcabalas y plana mayor del batallón guardacostas de Zacatula, vacante a la fecha, a quien suministra la primera y segunda compañía: la primera, compuesta de los vecinos de razón, y la otra de los naturales. Esta se halla con la fuerza de 75 a 80 plazas con las armas en sus casas y la otra casi destruida por la emigración que aquellos hicieron a diferentes puntos, de resulta de la catástrofe del 15 de Septiembre. Se asegura generalmente que este pueblo fue fundado por los aztecas a su paso para el país del Anáhuac: su primitivo idioma fue mexicano; pero en el día, lo han corrompido tanto que ya no se conoce. Se compone en su mayor parte de naturales; pero hay porción de familias blancas y el resto de origen africano. Su ejercicio es el de la siembras de algodones, maíz, tabaco y hortaliza. La extracción anual de un año con otro sube a 8,000 arrobas del primer fruto, de los laboríos Tenexpa y Tetitán, que le son anexos. Este pueblo era rico antes de la guerra de independencia; pero había sido saqueado varias veces por unos y por otros, como que por mucho tiempo fue el asiento de las tropas y el teatro de continuas convulsiones: en el día se halla en la mayor miseria. A ejemplo de los indígenas de Atoyac, y aunado con ellos, se sublevó en septiembre de 1835, contra los de razón, y asesinaron a las once del día 15 de dicho mes al primer alcalde, que funcionaba de juez de letras, al subprefecto y al administrador de alcabalas; y podrían haber sacrificado muchas más víctimas, si no se hubieran fugado precipitadamente, abandonando sus intereses los que debían serlo. Este acontecimiento, de execrable memoria para los anales de este infeliz pueblo, y las circunstancias posteriores de tener las armas en sus casas, a desanimado a los jueces de tal manera, que no hay uno que no se atemorice al administrar justicia; cosa por qué ni hay sacerdote ni las leyes son obedecidas sino en lo muy preciso. Sin embargo de todo, una pequeña guarnición de tropa que no fuera del país, y alguna energía en los funcionarios, sería suficiente, a mi juicio, para poner término a tamaños males, en virtud de que los habitantes, a pesar de sus nulidades, son demasiados dóciles, en cuyo caso puede mejorarse con la mayor facilidad. La fertilidad de su suelo, las cuantiosas rancherías de que está rodeado, una hacienda de caña, y la hermosa máquina de escarmenar, hilar y tejer, que está a la orilla de la población en el borde del río, a una distancia de un cuarto de legua, son recursos tan poderosos, que dentro de poco tiempo harán desaparecer su triste situación: su caserío es de paja y teja, y su población es de 3,000 habitant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NUXCO:</a:t>
            </a:r>
            <a:r>
              <a:rPr b="0" lang="es-ES" sz="1000" spc="-1" strike="noStrike">
                <a:solidFill>
                  <a:srgbClr val="000000"/>
                </a:solidFill>
                <a:latin typeface="Arial"/>
                <a:ea typeface="Times New Roman"/>
              </a:rPr>
              <a:t> Hacienda de labor de algodones y maíz, propiedad de la testamentaría del difunto Ayala; dista 4 leguas de la cabecera de Tecpan, y 32 de la prefectura; su terreno es plano y fértil, con suficiente agua y abundante de buenas maderas de construcción; pero le faltan brazos: su población es de 24 habitant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SAN LUIS:</a:t>
            </a:r>
            <a:r>
              <a:rPr b="0" lang="es-ES" sz="1000" spc="-1" strike="noStrike">
                <a:solidFill>
                  <a:srgbClr val="000000"/>
                </a:solidFill>
                <a:latin typeface="Arial"/>
                <a:ea typeface="Times New Roman"/>
              </a:rPr>
              <a:t> Grandes haciendas de los Soberanis: dista 10 leguas de la cabecera de Tecpan y 38 de la del distrito. Está situada a la orilla del hermoso río de su nombre, y abundantísima en maderas de construcción: cría de ganado vacuno y caballar. El principal ejercicio de sus habitantes consiste en las siembras de algodones, cuya extracción para la tierra fría, en un año con otro puede subir a 12,000 arrobas. Hay un alcalde conciliador y un comandante de armas, en virtud de que dicha hacienda suministra 70 plazas; la mayor parte son de origen africano: el caserío es de palma redonda, y su población, con los demás ranchos que le son anexos, llega a 2,000 alma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PAPANOA:</a:t>
            </a:r>
            <a:r>
              <a:rPr b="0" lang="es-ES" sz="1000" spc="-1" strike="noStrike">
                <a:solidFill>
                  <a:srgbClr val="000000"/>
                </a:solidFill>
                <a:latin typeface="Arial"/>
                <a:ea typeface="Times New Roman"/>
              </a:rPr>
              <a:t> Grande y cómoda ensenada para los buques de mediano porte, y algo desabrigada por la parte del sur, pero muy frecuentada por los pescadores de carey y teñidores de hilo de caracol: su puerto es de alguna comodidad y abundan las maderas exquisitas y de construcción, siendo las más comunes la caoba, cedro, roble y ocote: dista 6 leguas de la Hacienda de San Luis, 16 de Tecpan y 44 de la prefectura. La playa está desierta, pero a corta distancia hay algunos ranchos de ganado, cuya población es como de 20 habitant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YUQUILLA:</a:t>
            </a:r>
            <a:r>
              <a:rPr b="0" lang="es-ES" sz="1000" spc="-1" strike="noStrike">
                <a:solidFill>
                  <a:srgbClr val="000000"/>
                </a:solidFill>
                <a:latin typeface="Arial"/>
                <a:ea typeface="Times New Roman"/>
              </a:rPr>
              <a:t> Hacienda de labor de algodones, propiedad de Don Francisco Galeana: está regada por el hermoso río Coyuquilla, cuyas aguas pueden pasar sin contradicción por las mejores de todo el mundo: abunda como en Papanoa en excelentes maderas de construcción, propio para la cría de ganado y siembra de algodones; pero la multitud de insectos, zancudos y jejenes de que está poblada, la hacen inhabitable. Dista 2 leguas de Papanoa y no tiene más que tres casas con tres familia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JULUCHUCA:</a:t>
            </a:r>
            <a:r>
              <a:rPr b="0" lang="es-ES" sz="1000" spc="-1" strike="noStrike">
                <a:solidFill>
                  <a:srgbClr val="000000"/>
                </a:solidFill>
                <a:latin typeface="Arial"/>
                <a:ea typeface="Times New Roman"/>
              </a:rPr>
              <a:t> Propiedad de Don José Estrada Solís, hacienda de labor, maíz, algodones y cría de ganados: tiene algunas vetas de hierro: está situada cerca de la desembocadura del río del mismo nombre abunda en buenas maderas de construcción, rico pescado y coquillo de aceite: su temperamento es caliente, malsano, y tan plagado de zancudo y jején como Coyuquilla, de donde dista 8 leguas: su población es de 20 almas.”</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24000" y="260280"/>
            <a:ext cx="8496000" cy="63374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PETATLÁN:</a:t>
            </a:r>
            <a:r>
              <a:rPr b="0" lang="es-ES" sz="1000" spc="-1" strike="noStrike">
                <a:solidFill>
                  <a:srgbClr val="000000"/>
                </a:solidFill>
                <a:latin typeface="Arial"/>
                <a:ea typeface="Times New Roman"/>
              </a:rPr>
              <a:t> Pueblo curato de la mitra de Michoacán, a 4 leguas de la hacienda de Juluchuca, 20 de la de San Luis, 30 de la cabecera del partido y 58 de la prefectura: su suelo es fertilísimo en frutas, pescados, sal, cocos y toda clase de hortaliza: está situado a las orillas del hermoso río de  mismo nombre y a las faldas de la Sierra Madre; su temperamento es más benigno que cualquier otro de la costa del Sur: rodeado de la parte de mar de innumerables bosques, cocoteros, naranjas de china, mameyes y chicales, que no bastan  a consumir ni los ganados ni las gentes, se puede decir que es el más rico y fértil en todas las producciones, que cuantos se conocen en todo el territorio. La laguna del Potosí, que se forma en la desembocadura del río, les produce pesca y salinas, del que se saca cargamento para Morelia y la Tierra Caliente. Por la parte del N. es abundantísima en maderas exquisitas de construcción, entre las cuales se distinguen los cedros, así por su excelente calidad y color, como por su altura. Subiendo más arriba, hacia la cima de la Sierra y a un día de camino se encuentran los minerales de Guadalupe, La Providencia, Santa Ana, el Dulce Nombre de Jesús, El Morro, Las Ánimas y las Angustias; el principal ejercicio de sus habitantes es la siembra de algodones y maíz, con que hacen un cambio con los morelianos. Este pueblo fue quemado y aniquilado enteramente en la insurrección y de pocos años a esta parte se ha empezado a reponer y a hacerse de nuevo, sin que se encuentre entre los habitantes ni un solo indígena. Su población es de 500; pero a pesar de esto, unido a las otras rancherías que le son anexas, da al batallón de Zacatula la 4ª. Compañía, que en el día solo consta de 42 plazas. En el tercer viernes de cuaresma ocurre gente de muchísimas partes a la Romería de Jesús de las Tres Caídas, con la advocación del Señor de Petatlán, que le produce algún diner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SAN JERONIMO:</a:t>
            </a:r>
            <a:r>
              <a:rPr b="0" lang="es-ES" sz="1000" spc="-1" strike="noStrike">
                <a:solidFill>
                  <a:srgbClr val="000000"/>
                </a:solidFill>
                <a:latin typeface="Arial"/>
                <a:ea typeface="Times New Roman"/>
              </a:rPr>
              <a:t> Hacienda de labor de maíz y algodones, a 4 leguas de Petatlán, siguiendo la costa del Occidente: abunda su ranchería de ganado vacuno y caballar y excelentes maderas de construcción: está situada a la orilla del amenísimo río de su mismo nombre, con una población de 150 habitant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ACOYUL:</a:t>
            </a:r>
            <a:r>
              <a:rPr b="0" lang="es-ES" sz="1000" spc="-1" strike="noStrike">
                <a:solidFill>
                  <a:srgbClr val="000000"/>
                </a:solidFill>
                <a:latin typeface="Arial"/>
                <a:ea typeface="Times New Roman"/>
              </a:rPr>
              <a:t> Hacienda de labor de maíz y algodones y crías de ganado, propiedad de los Galeanas, dista 6 leguas de la anterior y 10 de Petatlán: se extrae de este lugar como 3,000 arrobas de algodón anualmente y su población se compone en su mayor parte de criminales y asesinos que de varios puntos de la costa vienen a ocultar sus crímenes bajo la salvaguardia de los espesos bosques que la rodean: tiene muy poca agua en tiempos de secas y es fertilísima en corpulentos cedros y otras maderas de utilidad y provecho: su población es de 160 alma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ZIHUATANEJO:</a:t>
            </a:r>
            <a:r>
              <a:rPr b="0" lang="es-ES" sz="1000" spc="-1" strike="noStrike">
                <a:solidFill>
                  <a:srgbClr val="000000"/>
                </a:solidFill>
                <a:latin typeface="Arial"/>
                <a:ea typeface="Times New Roman"/>
              </a:rPr>
              <a:t> Su raíz tarasca puede venir de </a:t>
            </a:r>
            <a:r>
              <a:rPr b="1" i="1" lang="es-ES" sz="1000" spc="-1" strike="noStrike">
                <a:solidFill>
                  <a:srgbClr val="000000"/>
                </a:solidFill>
                <a:latin typeface="Arial"/>
                <a:ea typeface="Times New Roman"/>
              </a:rPr>
              <a:t>itzi </a:t>
            </a:r>
            <a:r>
              <a:rPr b="0" i="1" lang="es-ES" sz="1000" spc="-1" strike="noStrike">
                <a:solidFill>
                  <a:srgbClr val="000000"/>
                </a:solidFill>
                <a:latin typeface="Arial"/>
                <a:ea typeface="Times New Roman"/>
              </a:rPr>
              <a:t>= </a:t>
            </a:r>
            <a:r>
              <a:rPr b="1" i="1" lang="es-ES" sz="1000" spc="-1" strike="noStrike">
                <a:solidFill>
                  <a:srgbClr val="000000"/>
                </a:solidFill>
                <a:latin typeface="Arial"/>
                <a:ea typeface="Times New Roman"/>
              </a:rPr>
              <a:t>agua, huata</a:t>
            </a:r>
            <a:r>
              <a:rPr b="0" i="1" lang="es-ES" sz="1000" spc="-1" strike="noStrike">
                <a:solidFill>
                  <a:srgbClr val="000000"/>
                </a:solidFill>
                <a:latin typeface="Arial"/>
                <a:ea typeface="Times New Roman"/>
              </a:rPr>
              <a:t> = </a:t>
            </a:r>
            <a:r>
              <a:rPr b="1" i="1" lang="es-ES" sz="1000" spc="-1" strike="noStrike">
                <a:solidFill>
                  <a:srgbClr val="000000"/>
                </a:solidFill>
                <a:latin typeface="Arial"/>
                <a:ea typeface="Times New Roman"/>
              </a:rPr>
              <a:t>cerro </a:t>
            </a:r>
            <a:r>
              <a:rPr b="1" lang="es-ES" sz="1000" spc="-1" strike="noStrike">
                <a:solidFill>
                  <a:srgbClr val="000000"/>
                </a:solidFill>
                <a:latin typeface="Arial"/>
                <a:ea typeface="Times New Roman"/>
              </a:rPr>
              <a:t>y </a:t>
            </a:r>
            <a:r>
              <a:rPr b="1" i="1" lang="es-ES" sz="1000" spc="-1" strike="noStrike">
                <a:solidFill>
                  <a:srgbClr val="000000"/>
                </a:solidFill>
                <a:latin typeface="Arial"/>
                <a:ea typeface="Times New Roman"/>
              </a:rPr>
              <a:t>nejo</a:t>
            </a:r>
            <a:r>
              <a:rPr b="0" i="1" lang="es-ES" sz="1000" spc="-1" strike="noStrike">
                <a:solidFill>
                  <a:srgbClr val="000000"/>
                </a:solidFill>
                <a:latin typeface="Arial"/>
                <a:ea typeface="Times New Roman"/>
              </a:rPr>
              <a:t> = </a:t>
            </a:r>
            <a:r>
              <a:rPr b="1" i="1" lang="es-ES" sz="1000" spc="-1" strike="noStrike">
                <a:solidFill>
                  <a:srgbClr val="000000"/>
                </a:solidFill>
                <a:latin typeface="Arial"/>
                <a:ea typeface="Times New Roman"/>
              </a:rPr>
              <a:t>color amarillo</a:t>
            </a:r>
            <a:r>
              <a:rPr b="0" i="1" lang="es-ES" sz="1000" spc="-1" strike="noStrike">
                <a:solidFill>
                  <a:srgbClr val="000000"/>
                </a:solidFill>
                <a:latin typeface="Arial"/>
                <a:ea typeface="Times New Roman"/>
              </a:rPr>
              <a:t> </a:t>
            </a:r>
            <a:r>
              <a:rPr b="1" i="1" lang="es-ES" sz="1000" spc="-1" strike="noStrike">
                <a:solidFill>
                  <a:srgbClr val="000000"/>
                </a:solidFill>
                <a:latin typeface="Arial"/>
                <a:ea typeface="Times New Roman"/>
              </a:rPr>
              <a:t>verdoso</a:t>
            </a:r>
            <a:r>
              <a:rPr b="1"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o del mexicano </a:t>
            </a:r>
            <a:r>
              <a:rPr b="1" i="1" lang="es-ES" sz="1000" spc="-1" strike="noStrike">
                <a:solidFill>
                  <a:srgbClr val="000000"/>
                </a:solidFill>
                <a:latin typeface="Arial"/>
                <a:ea typeface="Times New Roman"/>
              </a:rPr>
              <a:t>nexactic = color de ceniza.</a:t>
            </a:r>
            <a:r>
              <a:rPr b="0" lang="es-ES" sz="1000" spc="-1" strike="noStrike">
                <a:solidFill>
                  <a:srgbClr val="000000"/>
                </a:solidFill>
                <a:latin typeface="Arial"/>
                <a:ea typeface="Times New Roman"/>
              </a:rPr>
              <a:t>  Puerto de mediana comodidad, sobre el Pacífico, a 14 leguas de Petatlán, 44 de la cabecera del partido y 72 de la prefectura: pueden fondear en su bahía buques de cuales quiera porte; pero en la estación de aguas quedan desabrigados a los sures, que son temibles. A excepción de tres o cuatro que podrían resguardarse a la espalda del cerro de los que forman el canal de la entrada. El fondeadero es limpio y lleno de conchas de perla, de que se hace una buena pesca todos los años. La mar es mansa y ningún obstáculo se presenta al desembarque de los cargamentos; pero en los efectos de luna en los meses de abril y mayo, en que la corriente empieza a cambiar al rumbo del Sur, se pica de manera que son necesarias buenas amarras. Rodeado por la parte de tierra de un estero de agua salada, la potable se consigue con dificultad a cosa de media legua y de un sabor desagradable al paladar. A muy poca distancia de la playa se encuentran cedros de extraordinaria magnitud y maderas de construcción de varias clases, de que se han hecho dos remesas de consideración para Acapulco, compuestas de tablazón, vigas y madera rolliza para casas. Si este puerto se habilitara para el comercio de cabotaje, todas las producciones de la Tierra Caliente del Estado de Michoacán y parte de México, se transportarían a Acapulco en el corto intervalo de 24 a 30 horas de navegación en los tiempos de secas; y los géneros, frutos y efectos de aquel puerto serían llevados a Zihuatanejo con sólo la diferencia de un día o dos más de viaje y se ahorraría la multitud de mulas en que se hace este tráfico y que se mueren por falta de agua y pastos en el camino real. No se encuentran en Zihuatanejo ni casas ni habitantes en lo absoluto, si no son los pescadores; pero en la distancia de una legua está el caserío de Agua de Correa con una población de cosa de 50 habitantes. Su temperamento es cálido, pero no malsan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IXTAPA:</a:t>
            </a:r>
            <a:r>
              <a:rPr b="0" lang="es-ES" sz="1000" spc="-1" strike="noStrike">
                <a:solidFill>
                  <a:srgbClr val="000000"/>
                </a:solidFill>
                <a:latin typeface="Arial"/>
                <a:ea typeface="Times New Roman"/>
              </a:rPr>
              <a:t> Hacienda de Ganado, siembras de maíces y algodones, con los hermosos placeres del Huizachal, de donde se saca gran cantidad de perlas anualmente y se pescan tortugas de carey: está situada a la orilla y cerca de la desembocadura de su hermoso río; disfruta de un temperamento como el de Zihuatanejo, de donde dista 5 leguas o dos horas y media de camino; su principal comercio consiste en la sal que se saca de las salinas de Apantla (ahora Pantla) y de los cargamentos que sacan de cocos, mameyes, plátanos y otras frutas que produce una huerta contigua. Su población es como de 100 habitantes, contando con La Puerta y otros lugares que le son anexos.”</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260280"/>
            <a:ext cx="8496000" cy="63374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LLANOS DE TEMALHUACAN:</a:t>
            </a:r>
            <a:r>
              <a:rPr b="0" lang="es-ES" sz="1000" spc="-1" strike="noStrike">
                <a:solidFill>
                  <a:srgbClr val="000000"/>
                </a:solidFill>
                <a:latin typeface="Arial"/>
                <a:ea typeface="Times New Roman"/>
              </a:rPr>
              <a:t> Grandes por su capacidad y hermosísimos por la fertilidad de su suelo en pastos, aguas y huertas de plátano, de que son muy abundantes: tiene una población de 64 habitantes en 9 casas; situado a las faldas de la Sierra Madre y a media legua del mar, su temperamento es sano y menos caliente que los demás de que hemos hablado. Los habitantes se ocupan de la cría de ganado vacuno y caballar y en las siembras de algodón. Este es el punto donde se divide el camino que va para Morelia y el que va para Zacatula por el camino de la playa. Es hacienda de Izazaga y dista 8 leguas de Ixtapa y 86 del puerto de Acapulc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ACHIOTLAN O CHUTLA:</a:t>
            </a:r>
            <a:r>
              <a:rPr b="0" lang="es-ES" sz="1000" spc="-1" strike="noStrike">
                <a:solidFill>
                  <a:srgbClr val="000000"/>
                </a:solidFill>
                <a:latin typeface="Arial"/>
                <a:ea typeface="Times New Roman"/>
              </a:rPr>
              <a:t>  Camino para Morelia, ranchería de la pertenencia de Temalhuacán a 4 leguas de buen camino, con 21 casas de paja y 159 habitantes que se ocupan en la labor del maíz y algodones de que abastecen a la arrierada de Tierra Caliente. Su temperamento es malsano por su localidad y el agua de mal sabor. Hay cedros y otras maderas de construcció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NGREGACIÓN DE LOS NUEVOS, (hoy La Unión):</a:t>
            </a:r>
            <a:r>
              <a:rPr b="0" lang="es-ES" sz="1000" spc="-1" strike="noStrike">
                <a:solidFill>
                  <a:srgbClr val="000000"/>
                </a:solidFill>
                <a:latin typeface="Arial"/>
                <a:ea typeface="Times New Roman"/>
              </a:rPr>
              <a:t> En tierras de Camutla y Temalhuacán, de donde dista 8 leguas de buen camino, con dirección a Morelia. Tiene 300 habitantes con los ranchos del Cóbano y La Piedra que le son anexos, los cuales se ocupan de la cría de ganado y siembra de algodón y maíz. Hay un alcalde conciliador sujeto al ayuntamiento de Zacatul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LMENEROS:</a:t>
            </a:r>
            <a:r>
              <a:rPr b="0" lang="es-ES" sz="1000" spc="-1" strike="noStrike">
                <a:solidFill>
                  <a:srgbClr val="000000"/>
                </a:solidFill>
                <a:latin typeface="Arial"/>
                <a:ea typeface="Times New Roman"/>
              </a:rPr>
              <a:t> Ranchería en tierra de los Valdovinos, a 7 leguas de distancia de Los Nuevos, de pésimo camino por tenerse que pasar 22 veces un río de consideración, pedregoso y de corriente rápida: su población es de 117 habitantes que se ocupan de la labor de maíz y cría de ganados.”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TEPEHUAJE:</a:t>
            </a:r>
            <a:r>
              <a:rPr b="0" lang="es-ES" sz="1000" spc="-1" strike="noStrike">
                <a:solidFill>
                  <a:srgbClr val="000000"/>
                </a:solidFill>
                <a:latin typeface="Arial"/>
                <a:ea typeface="Times New Roman"/>
              </a:rPr>
              <a:t> (Hoy San Vicente). Ranchería de la Hacienda de San Vicente, en tierras de Izazagas, a 8 leguas de Colmeneros, de camino malísimo, en terreno quebrado: muy abundante en pastos, ganado vacuno y caballar: su población es de 76 habitantes en 12 casas de paj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ROSARIO:</a:t>
            </a:r>
            <a:r>
              <a:rPr b="0" lang="es-ES" sz="1000" spc="-1" strike="noStrike">
                <a:solidFill>
                  <a:srgbClr val="000000"/>
                </a:solidFill>
                <a:latin typeface="Arial"/>
                <a:ea typeface="Times New Roman"/>
              </a:rPr>
              <a:t> (Hoy Barrio de Lozano - Pueblo de Álvarez de la Reforma). Gran hacienda de ganado vacuno y caballar de Don José María Izazaga, en terreno plano, con abundancia de pastos y agua en la estación lluviosa. Tiene una población de 200 habitantes entre mozos, arrimados, que solo se ocupan en la siembra de maíz sin otro giro. Dista 5 leguas del Tepehuaje, de camino quebrad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AHUAYUTLA:</a:t>
            </a:r>
            <a:r>
              <a:rPr b="0" lang="es-ES" sz="1000" spc="-1" strike="noStrike" u="sng">
                <a:solidFill>
                  <a:srgbClr val="000000"/>
                </a:solidFill>
                <a:uFillTx/>
                <a:latin typeface="Arial"/>
                <a:ea typeface="Times New Roman"/>
              </a:rPr>
              <a:t> </a:t>
            </a:r>
            <a:r>
              <a:rPr b="0" lang="es-ES" sz="1000" spc="-1" strike="noStrike">
                <a:solidFill>
                  <a:srgbClr val="000000"/>
                </a:solidFill>
                <a:latin typeface="Arial"/>
                <a:ea typeface="Times New Roman"/>
              </a:rPr>
              <a:t>Último pueblo del partido de Técpan y curato secular de la Mitra de Michoacán: tiene un alcalde conciliador y algunas familias blancas: fue saqueado en la revolución de 1810 y a la fecha comienza a reponerse de las antiguas pérdidas; dista una legua de la Hacienda del Rosario, 87 de la cabecera de partido y 115 de la prefectura, al Sur de Santiago Zacatula. Su situación está entre cerros áridos que no producen más que pastos, con muy poca agua, de lo que proviene la miseria de sus habitantes, que no se ejercitan en otra cosa que en la siembra del maíz, pero tan en pequeño que apenas les basta para su subsistencia anual. La multitud de ranchos y haciendas de que está rodeado, junto con otra porción de gente que viene de Tierra Caliente y de todo el rumbo de la Costa, hacen muy concurridas las dos ferias que se hacen en dicho pueblo: la primera el 28 de Agosto y la otra el 8 de Diciembre, a las cuales se llevan harina, jabón, sal, tabaco, algodones, sillas de montar de Puruándiro, aguardiente, frutas y otras producciones de que se hace el tráfico. Hay dos cofradías con ranchos de ganado en tierras del mismo pueblo, los cuales serían muy ricos si los comandantes militares de este rumbo no hubieran echado mano del ganado en las diferentes convulsiones que han agitado al país. Hay diez haciendas de ganado, 4 trapiches, y una multitud considerable de ranchos, por lo que hace subir su población a 2,323 almas, cuya administración espiritual está encomendada a un sacerdote anciano valetudinario, por cuya causa y a la larga distancia de unos parajes a otros (es menester decirlo con dolor), viven y mueren como animales, sin recibir los socorros espirituales: acaso algunos no han visto jamás lo que es misa; no saben lo que es ser cristiano, por cuya causa se matan por el más leve pretexto. Según las noticias que me fueron suministradas por hombres fidedignos, este pueblo tenía hace muchos años las tierras necesarias para el cultivo de las semillas propias de su mantenimiento: en el día se halla tan reducida que apenas le basta para lo muy preciso. De Coahuayutla al río de las Balsas, que divide el distrito por la pare del N. son el Estado de Michoacán, hay 14 leguas de mal camino y buenos pastos, pero muy poca agua, en cuyo tránsito se encuentran los ranchos de Caracoles (Córcoles), Anita (Anota), Paso de las Vacas y Hacienda de la Balsa, cuyos habitantes se ocupan de la cría de ganado, siembra de maíz, y su número queda ya incluso en la población de Coahuayutla. De este pueblo, volviendo a Zacatula, hay 4 leguas a la hacienda de San Antonio, 2 a la del Platanillo (San Rafael), 9 a las del Naranjillo, en tierras de los Izazagas, cuyos habitantes se ocupan en la cría de ganado, siembra de maíz, caña dulce y otras semillas propias para su mantenimiento. Su población es de 359 habitantes, y el camino de uno a otro punto es sumamente quebrado. Del Naranjillo a la Hacienda de Palo Parado hay 4 leguas de mal camino, en tierras de los Izazagas y de Don Lorenzo Campos: la ocupación de los vecinos de esta hacienda es la siembra del maíz, y la total población como de 60 almas.”</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395280" y="183960"/>
            <a:ext cx="8497800" cy="648972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COFRADIA:</a:t>
            </a:r>
            <a:r>
              <a:rPr b="0" lang="es-ES" sz="1000" spc="-1" strike="noStrike">
                <a:solidFill>
                  <a:srgbClr val="000000"/>
                </a:solidFill>
                <a:latin typeface="Arial"/>
                <a:ea typeface="Times New Roman"/>
              </a:rPr>
              <a:t> Hacienda de Don Manuel Cabrera, hermosísima por el lugar de su situación y abundancia de pastos, y más hermosa por su crecido número de ganado caballar y vacuno. Dista 2 leguas escasas de la del Palo Parado, y su población es como de 60 habitantes. De este punto al de la cabecera hay 12 leguas de buen camino, en cuyo tránsito están los ranchos del Limón y el Pochote, con abundancia de ganado, fértiles en pastos y aguas, sólo en la estación de ellas. Su población se incluirá en el padrón de dicha cabecera.”</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ZACATULA (Villa):</a:t>
            </a:r>
            <a:r>
              <a:rPr b="0" lang="es-ES" sz="1000" spc="-1" strike="noStrike">
                <a:solidFill>
                  <a:srgbClr val="000000"/>
                </a:solidFill>
                <a:latin typeface="Arial"/>
                <a:ea typeface="Times New Roman"/>
              </a:rPr>
              <a:t> Cabecera de la antigua provincia de su nombre, curato de la mitra de Michoacán, asiento del ayuntamiento constitucional y de un comandante de tropa, respecto de que su población y de la de los ranchos del contorno se forma la 5ª. Compañía del batallón de guardacostas de su nombre, que a la fecha consta de 90 plazas. Distan 82 leguas de la cabecera del partido y 110 de la prefectura, la mayor parte de camino plano. Aunque su fundación, según las noticias adquiridas, cuenta la misma época que la del pueblo de Tecpan, la insurrección pasada la redujo a tal estado de miseria que no cuenta con un sólo descendiente de sus antiguos fundadores, por cuya causa los presentes son todos de los que dicen de razón, emigrados de varios puntos de la República y la mayor parte de criminales, que agobiados por el peso de sus crímenes y perseguidos de la justicia se han refugiado en dicho punto como un asilo seguro, a virtud del disimulo que las autoridades les dispensan, las más veces por el temor de ser asesinadas en los caminos o dentro de sus mismas habitaciones, como frecuentemente se ha experimentado, por cuya causa se pasean sin el menor temor de ser aprehendidos, armados del machete, belduque y arma de fuego, que les son indispensables. Su principal ocupación es la siembra de maíces y algodones, tabaco, fríjol y otras semillas que les producen los inmensos plantíos del uno y otro bordo del caudaloso río del mismo nombre, conocido vulgarmente por el de Las Balsas, a cuya orilla oriental está situada. Los Martínez y Campos, familias criollas del referido pueblo se han repartido todo el terreno de esta población, hasta el extremo de no dejarle otro que aquél en que está situado, con sólo un pedazo de tierra de labor en la isla que forman los dos brazos en que se divide el río, 4 leguas antes de su desembocadura en el mar; y aún este corto espacio no lo disfrutan los habitantes porque el ayuntamiento lo tiene arrendado para sus sueldos municipales; causa porque tienen que arrendar tierras a sus mismos usurpadores de las del pueblo. Dos leguas más abajo, siguiendo la orilla del brazo izquierdo del citado río, se encuentra la hermosa ensenada de Petacalco, cuyas aguas son mucho más mansas que las de Zihuatanejo, y tan dilatada y cómoda que podrían caber 500 buques de todo porte, pero enteramente desabrigada a los vientos del sur en la estación de aguas. Las fragantes balleneras suelen hacer aguda en los esteros de la misma playa, que son permanentes en todas las estaciones. Si se habitase esta ensenada para el comercio interior del país, produciría los mismos efectos y aún mejores que el puerto de Zihuatanejo, de donde dista 12 a 15 leguas por la mar, en razón de tener más a la mano a los pueblos de Apatzingán y los demás de la tierra fría del Estado de Michoacán. La población de Zacatula, según el padrón de 1834, solo sube a 221 habitantes en 48 casas de paja; pero unidas a las haciendas de La Orilla, Acalpica, Sureña, (Surcúa), Feliciano y otras rancherías de que hablaré en seguida, llega hasta 2,285. Su temperamento es caliente como el de Tecpan y malsano a causa de que a propósito, viven entre los montes para ocultar sus maldad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t>
            </a:r>
            <a:r>
              <a:rPr b="1" lang="es-ES" sz="1000" spc="-1" strike="noStrike">
                <a:solidFill>
                  <a:srgbClr val="000000"/>
                </a:solidFill>
                <a:latin typeface="Arial"/>
                <a:ea typeface="Times New Roman"/>
              </a:rPr>
              <a:t>LA ORILLA:</a:t>
            </a:r>
            <a:r>
              <a:rPr b="0" lang="es-ES" sz="1000" spc="-1" strike="noStrike">
                <a:solidFill>
                  <a:srgbClr val="000000"/>
                </a:solidFill>
                <a:latin typeface="Arial"/>
                <a:ea typeface="Times New Roman"/>
              </a:rPr>
              <a:t> Hacienda de labor de algodones, tabaco y maíz en tierra de los Menocales de Pátzcuaro. Dista una legua de la cabecera, y está situada a la orilla occidental del segundo brazo del río de las Balsas: su temperamento es cálido, como los demás de la costa; pero no malsano, quizá porque está más despejado que la anterior,  sus habitantes, en todo semejantes a los de Zacatula, se componen, a excepción de pocos, de forajidos de varios estados, que sustraídos de la persecución de la justicia disfrutan de sosiego y viven impunes, de cuyas resultas se ha hecho La Orilla, de pocos años, como el foco de todos los vicios. Separados por tan larga distancia de la cabecera del partido, aún más de la del distrito, y sin estafeta ni correo, las leyes no tienen virtud ni eficacia para ser obedecidas. Puede asegurarse, sin exageración, que no hay individuo entre todos los que componen este crecido vecindario, a quien pueda encargarse la administración de la justicia ni el cobro de las rentas, que en tiempo de cosechas no dejarían de ser de consideración a virtud de que los individuos, a pesar de todas sus nulidades, son inclinados generalmente a la labor de los frutos que ya se han indicado, causa porqué jamás experimentan hambre ni desnudez y la extracción anual de un año con otro pueden calcularse de 10 a 12,000 arrobas del primer fruto y de 3 a 4,000 del segundo. La administración espiritual de este vecindario está encomendada al párroco de Coahuayutla, de quien he hablado antes; y como la distancia de este pueblo a La Orilla es de 30 leguas de mal camino, se muere la mayor parte sin confesión. Jamás han oído la palabra de Dios en el púlpito, ni hay escuelas u otros establecimientos benéficos que puedan hacer variar su condición: así es que se matan con frecuencia por los más frívolos pretextos. La población de esta hacienda con los ranchos de San Blas, Guacamayas, La Laguna, y otros es de 875 habitantes, de entre los cuales se forma la 6ª y última compañía del batallón de Zacatula, que consta de 52 plazas y ya quedan incluidos en el padrón de Zacatula.”</a:t>
            </a:r>
            <a:endParaRPr b="0" lang="en-US" sz="1000" spc="-1" strike="noStrike">
              <a:solidFill>
                <a:srgbClr val="000000"/>
              </a:solidFill>
              <a:latin typeface="Arial"/>
            </a:endParaRPr>
          </a:p>
        </p:txBody>
      </p:sp>
    </p:spTree>
  </p:cSld>
  <p:transition spd="slow">
    <p:checker dir="horz"/>
    <p:sndAc>
      <p:stSnd>
        <p:snd r:embed="rId1" name="drumroll.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324000" y="583200"/>
            <a:ext cx="8424720" cy="56912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t>
            </a:r>
            <a:r>
              <a:rPr b="1" lang="es-ES" sz="1600" spc="-1" strike="noStrike">
                <a:solidFill>
                  <a:srgbClr val="000000"/>
                </a:solidFill>
                <a:latin typeface="Arial"/>
                <a:ea typeface="Times New Roman"/>
              </a:rPr>
              <a:t>ACALPICA: </a:t>
            </a:r>
            <a:r>
              <a:rPr b="0" lang="es-ES" sz="1600" spc="-1" strike="noStrike">
                <a:solidFill>
                  <a:srgbClr val="000000"/>
                </a:solidFill>
                <a:latin typeface="Arial"/>
                <a:ea typeface="Times New Roman"/>
              </a:rPr>
              <a:t>Hacienda de los Menocales a 7 leguas de La Orilla; su terreno es basto y en extremo fértil para las siembras de piñas, maíz y algodones, artículos que jamás se pierden; pero su temperamento es húmedo y malsano, por cuyo motivo no tiene más que 385 habitantes en casas de zacate. Se asegura que la extracción de algodón que se hace de este punto, puede llegar un año con otro a 8,000 arrobas. Desde este punto a la orilla oriental del río de Cachan, que divide el distrito del estado de Michoacán, hay como 30 leguas de terreno quebrado, pedregoso e inculto, sin más habitantes que los de tres o cuatro familias de las ranchería de Huahua; de manera que desde Acapulco hasta este punto hay un espacio de tierra de 147 leguas y como 14, 330 habitantes sin contar el pueblo de Coyuc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t>
            </a:r>
            <a:r>
              <a:rPr b="1" lang="es-ES" sz="1600" spc="-1" strike="noStrike">
                <a:solidFill>
                  <a:srgbClr val="000000"/>
                </a:solidFill>
                <a:latin typeface="Arial"/>
                <a:ea typeface="Times New Roman"/>
              </a:rPr>
              <a:t>1836. FIN DEL DERROTERO DEL LIC. DON MANUEL OROZCO Y BERRA POR LA COSTA GRANDE DE GUERRERO Y LA DESEMBOCADURA DEL RÍO DE LAS BALSAS</a:t>
            </a:r>
            <a:r>
              <a:rPr b="0" lang="es-ES" sz="1600" spc="-1" strike="noStrike">
                <a:solidFill>
                  <a:srgbClr val="000000"/>
                </a:solidFill>
                <a:latin typeface="Arial"/>
                <a:ea typeface="Times New Roman"/>
              </a:rPr>
              <a:t>: De Zacatula, volviendo a tomar el camino de la cabecera de distrito, por la costa, hay 24 leguas a los Llanos de Temalhuacán, de donde me separé para ir a Coahuayutla en la forma siguiente: 5 leguas a la Congregación de Sureña (Surcúa); 5 a la hacienda o ranchería de Feliciano; 6 a la de Callas o salinas de Camotla (La Unión) y 8 a Temalhuacán, en cuyo intervalo a la playa abundan los brasilares, que se extraen por Petacalco y otros puntos con la mayor facilidad. De este precioso árbol están acopiando cargamentos en la actualidad para dos o tres buques; y de las salinas se hace una extracción anual para Morelia de 6,180 cargas, que producen los 206 pozos comprendidos en la capacidad de su terreno, a razón de 30 cargas por cada uno, cuyo resultado, año con año, no baja de 10 a 12,000 pesos (</a:t>
            </a:r>
            <a:r>
              <a:rPr b="1" i="1" lang="es-ES" sz="1600" spc="-1" strike="noStrike">
                <a:solidFill>
                  <a:srgbClr val="000000"/>
                </a:solidFill>
                <a:latin typeface="Arial"/>
                <a:ea typeface="Times New Roman"/>
              </a:rPr>
              <a:t>Apéndice del Diccionario Universal</a:t>
            </a:r>
            <a:r>
              <a:rPr b="0" i="1" lang="es-ES" sz="1600" spc="-1" strike="noStrike">
                <a:solidFill>
                  <a:srgbClr val="000000"/>
                </a:solidFill>
                <a:latin typeface="Arial"/>
                <a:ea typeface="Times New Roman"/>
              </a:rPr>
              <a:t>,</a:t>
            </a:r>
            <a:r>
              <a:rPr b="0" lang="es-ES" sz="1600" spc="-1" strike="noStrike">
                <a:solidFill>
                  <a:srgbClr val="000000"/>
                </a:solidFill>
                <a:latin typeface="Arial"/>
                <a:ea typeface="Times New Roman"/>
              </a:rPr>
              <a:t> del Lic. don Manuel Orozco y Berra).” (Héctor F. López, 1942: 162 a la 168).</a:t>
            </a:r>
            <a:endParaRPr b="0" lang="en-US" sz="1600" spc="-1" strike="noStrike">
              <a:solidFill>
                <a:srgbClr val="000000"/>
              </a:solidFill>
              <a:latin typeface="Arial"/>
            </a:endParaRPr>
          </a:p>
        </p:txBody>
      </p:sp>
    </p:spTree>
  </p:cSld>
  <p:transition spd="slow">
    <p:checker dir="horz"/>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52" name="Picture 4" descr="PEX5+824"/>
          <p:cNvPicPr/>
          <p:nvPr/>
        </p:nvPicPr>
        <p:blipFill>
          <a:blip r:embed="rId1"/>
          <a:stretch/>
        </p:blipFill>
        <p:spPr>
          <a:xfrm>
            <a:off x="0" y="0"/>
            <a:ext cx="9144000" cy="6858000"/>
          </a:xfrm>
          <a:prstGeom prst="rect">
            <a:avLst/>
          </a:prstGeom>
          <a:ln w="0">
            <a:noFill/>
          </a:ln>
        </p:spPr>
      </p:pic>
      <p:sp>
        <p:nvSpPr>
          <p:cNvPr id="53" name="Rectangle 6"/>
          <p:cNvSpPr/>
          <p:nvPr/>
        </p:nvSpPr>
        <p:spPr>
          <a:xfrm>
            <a:off x="-4573440" y="1851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5" descr="msotw9_temp0"/>
          <p:cNvPicPr/>
          <p:nvPr/>
        </p:nvPicPr>
        <p:blipFill>
          <a:blip r:embed="rId2">
            <a:lum bright="54000"/>
          </a:blip>
          <a:stretch/>
        </p:blipFill>
        <p:spPr>
          <a:xfrm>
            <a:off x="1619280" y="0"/>
            <a:ext cx="5818320" cy="6858000"/>
          </a:xfrm>
          <a:prstGeom prst="rect">
            <a:avLst/>
          </a:prstGeom>
          <a:ln w="0">
            <a:noFill/>
          </a:ln>
        </p:spPr>
      </p:pic>
      <p:sp>
        <p:nvSpPr>
          <p:cNvPr id="55" name="Rectangle 7"/>
          <p:cNvSpPr/>
          <p:nvPr/>
        </p:nvSpPr>
        <p:spPr>
          <a:xfrm>
            <a:off x="179280" y="289440"/>
            <a:ext cx="8640720" cy="60915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Retrato del general don Vicente Guerrero Saldaña, copia fiel del cuadro al óleo que perteneció a su yerno, don Mariano Riva Palacio y que actualmente se encuentra en el Museo Nacional, donado por el doctor Rafael Riva Palacio. El autor de la copia es del dibujante Rafael Durán.”   </a:t>
            </a:r>
            <a:r>
              <a:rPr b="1" lang="es-ES" sz="1000" spc="-1" strike="noStrike">
                <a:solidFill>
                  <a:srgbClr val="000000"/>
                </a:solidFill>
                <a:latin typeface="Arial"/>
                <a:ea typeface="Times New Roman"/>
              </a:rPr>
              <a:t>(Héctor F. López, 1942;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a:t>
            </a:r>
            <a:r>
              <a:rPr b="1" lang="es-ES" sz="1400" spc="-1" strike="noStrike" u="sng">
                <a:solidFill>
                  <a:srgbClr val="000000"/>
                </a:solidFill>
                <a:uFillTx/>
                <a:latin typeface="Arial"/>
                <a:ea typeface="Times New Roman"/>
              </a:rPr>
              <a:t>1817 al año de 1821. VICENTE GUERRERO SALDAÑA (1783 - 1831). HÉROE INSURGENTE. JEFE DE LOS EJÉRCITOS DEL SUR (NOMBRADO POR LA JUNTA DE JAUJILLA EN MICHOACÁN).</a:t>
            </a:r>
            <a:r>
              <a:rPr b="1" lang="es-E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Héroe insurgente. Nació en Tixtla, Guerrero y murió en Cuilapan, Oaxaca. Su esposa se llamó Guadalupe Hernández. Guerrero fue de origen humilde y tuvo poca educación escolar. En su juventud se dedicó a la agricultura. Comenzó su carrera militar a las órdenes de Hermenegildo Galeana y más tarde peleó bajo el mando de José María Morelos, quien lo nombró capitán y lo comisionó a combatir en el sur del país. Ganó algunas batallas y perdió otras, pero en todas ellas demostró gran valentía. Cuando Morelos fue hecho prisionero y muerto, Guerrero fue el encargado de continuar la escolta del Congreso de Chilpancingo, la primera asamblea política de México, que iba de Chilpancingo a Uruapan, Tiripetío, Apatzingán y Tehuacán, donde fue finalmente disuel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t>
            </a:r>
            <a:r>
              <a:rPr b="0" lang="es-ES" sz="1400" spc="-1" strike="noStrike">
                <a:solidFill>
                  <a:srgbClr val="000000"/>
                </a:solidFill>
                <a:latin typeface="Arial"/>
                <a:ea typeface="Times New Roman"/>
              </a:rPr>
              <a:t>La lucha por la independencia pasaba momentos muy difíciles y algunos jefes insurgentes comenzaron a pensar en amnistía con las autoridades. Preocupado por Guerrero, el virrey Juan Ruiz de Apodaca trató de persuadirlo, apelando a su padre, Pedro Guerrero, para que le pidiera a Vicente que abandonara la lucha insurgente y aceptara una oferta de rendición, hecha por el virrey, que le permitiría volver al seno familiar. Con lágrimas en los ojos, Guerrero llamó a sus soldados y les dijo:</a:t>
            </a:r>
            <a:r>
              <a:rPr b="1" lang="es-ES" sz="1400" spc="-1" strike="noStrike">
                <a:solidFill>
                  <a:srgbClr val="000000"/>
                </a:solidFill>
                <a:latin typeface="Arial"/>
                <a:ea typeface="Times New Roman"/>
              </a:rPr>
              <a:t> “</a:t>
            </a:r>
            <a:r>
              <a:rPr b="1" i="1" lang="es-ES" sz="1400" spc="-1" strike="noStrike">
                <a:solidFill>
                  <a:srgbClr val="000000"/>
                </a:solidFill>
                <a:latin typeface="Arial"/>
                <a:ea typeface="Times New Roman"/>
              </a:rPr>
              <a:t>Compañeros, este anciano que aquí veis es mi padre: viene a ofrecerme empleos y recompensas en nombre de los españoles. Yo he respetado siempre a mi padre, pero mi patria es primero. </a:t>
            </a:r>
            <a:r>
              <a:rPr b="0" lang="es-ES" sz="1400" spc="-1" strike="noStrike">
                <a:solidFill>
                  <a:srgbClr val="000000"/>
                </a:solidFill>
                <a:latin typeface="Arial"/>
                <a:ea typeface="Times New Roman"/>
              </a:rPr>
              <a:t>A principios de 1821, Agustín de Iturbide le propuso una reunión para discutir la Independencia de México. Guerrero, quien carecía de recursos militares suficientes como para combatir el ejército de Iturbide, aceptó reunirse con é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Durante la entrevista se dieron el famoso </a:t>
            </a:r>
            <a:r>
              <a:rPr b="1" i="1" lang="es-ES" sz="1400" spc="-1" strike="noStrike">
                <a:solidFill>
                  <a:srgbClr val="000000"/>
                </a:solidFill>
                <a:latin typeface="Arial"/>
                <a:ea typeface="Times New Roman"/>
              </a:rPr>
              <a:t>Abrazo de Acatempan</a:t>
            </a:r>
            <a:r>
              <a:rPr b="0" i="1" lang="es-ES" sz="1400" spc="-1" strike="noStrike">
                <a:solidFill>
                  <a:srgbClr val="000000"/>
                </a:solidFill>
                <a:latin typeface="Arial"/>
                <a:ea typeface="Times New Roman"/>
              </a:rPr>
              <a:t>, </a:t>
            </a:r>
            <a:r>
              <a:rPr b="0" lang="es-ES" sz="1400" spc="-1" strike="noStrike">
                <a:solidFill>
                  <a:srgbClr val="000000"/>
                </a:solidFill>
                <a:latin typeface="Arial"/>
                <a:ea typeface="Times New Roman"/>
              </a:rPr>
              <a:t>con el que reconoció a Iturbide como Jefe supremo del recién creado Ejército Trigarante; las tres garantías eran: Independencia, Unión y Religión (católica). Poco después, Guerrero reiniciaría la lucha contra Agustín de Iturbide, ya para entonces Emperador de México.”</a:t>
            </a:r>
            <a:r>
              <a:rPr b="0" lang="es-ES" sz="1600" spc="-1" strike="noStrike">
                <a:solidFill>
                  <a:srgbClr val="000000"/>
                </a:solidFill>
                <a:latin typeface="Arial"/>
                <a:ea typeface="Times New Roman"/>
              </a:rPr>
              <a:t> </a:t>
            </a:r>
            <a:r>
              <a:rPr b="0" lang="es-ES" sz="1000" spc="-1" strike="noStrike">
                <a:solidFill>
                  <a:srgbClr val="000000"/>
                </a:solidFill>
                <a:latin typeface="Arial"/>
                <a:ea typeface="Times New Roman"/>
              </a:rPr>
              <a:t>(Juana Vázquez Gómez, 1999; 109).</a:t>
            </a: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4">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from="(-#ppt_w/2)" to="(#ppt_x)">
                                      <p:cBhvr additive="repl">
                                        <p:cTn id="54" dur="3000" fill="hold">
                                          <p:stCondLst>
                                            <p:cond delay="0"/>
                                          </p:stCondLst>
                                        </p:cTn>
                                        <p:tgtEl>
                                          <p:spTgt spid="54"/>
                                        </p:tgtEl>
                                        <p:attrNameLst>
                                          <p:attrName>ppt_x</p:attrName>
                                        </p:attrNameLst>
                                      </p:cBhvr>
                                    </p:anim>
                                    <p:anim calcmode="lin" valueType="num" from="0" to="-1">
                                      <p:cBhvr additive="repl">
                                        <p:cTn id="55" dur="1000" autoRev="1" fill="hold">
                                          <p:stCondLst>
                                            <p:cond delay="3000"/>
                                          </p:stCondLst>
                                        </p:cTn>
                                        <p:tgtEl>
                                          <p:spTgt spid="54"/>
                                        </p:tgtEl>
                                        <p:attrNameLst>
                                          <p:attrName>xshear</p:attrName>
                                        </p:attrNameLst>
                                      </p:cBhvr>
                                    </p:anim>
                                    <p:animScale>
                                      <p:cBhvr>
                                        <p:cTn id="56" dur="1000" autoRev="1" fill="hold">
                                          <p:stCondLst>
                                            <p:cond delay="3000"/>
                                          </p:stCondLst>
                                        </p:cTn>
                                        <p:tgtEl>
                                          <p:spTgt spid="54"/>
                                        </p:tgtEl>
                                      </p:cBhvr>
                                      <p:from x="100000" y="100000"/>
                                      <p:to x="80000" y="100000"/>
                                    </p:animScale>
                                    <p:anim calcmode="lin" valueType="num" by="(#ppt_h/3+#ppt_w*0.1)">
                                      <p:cBhvr additive="sum">
                                        <p:cTn id="57" dur="1000" autoRev="1" fill="hold">
                                          <p:stCondLst>
                                            <p:cond delay="3000"/>
                                          </p:stCondLst>
                                        </p:cTn>
                                        <p:tgtEl>
                                          <p:spTgt spid="54"/>
                                        </p:tgtEl>
                                        <p:attrNameLst>
                                          <p:attrName>ppt_x</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5">
                                  <p:stCondLst>
                                    <p:cond delay="0"/>
                                  </p:stCondLst>
                                  <p:iterate type="lt">
                                    <p:tmAbs val="100"/>
                                  </p:iterate>
                                  <p:childTnLst>
                                    <p:set>
                                      <p:cBhvr>
                                        <p:cTn id="61" dur="1" fill="hold">
                                          <p:stCondLst>
                                            <p:cond delay="0"/>
                                          </p:stCondLst>
                                        </p:cTn>
                                        <p:tgtEl>
                                          <p:spTgt spid="55"/>
                                        </p:tgtEl>
                                        <p:attrNameLst>
                                          <p:attrName>style.visibility</p:attrName>
                                        </p:attrNameLst>
                                      </p:cBhvr>
                                      <p:to>
                                        <p:strVal val="visible"/>
                                      </p:to>
                                    </p:set>
                                    <p:animEffect filter="fade" transition="in">
                                      <p:cBhvr additive="repl">
                                        <p:cTn id="62" dur="1000"/>
                                        <p:tgtEl>
                                          <p:spTgt spid="55"/>
                                        </p:tgtEl>
                                      </p:cBhvr>
                                    </p:animEffect>
                                    <p:anim calcmode="lin" valueType="num">
                                      <p:cBhvr additive="repl">
                                        <p:cTn id="63" dur="1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64" dur="1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PEX5+824"/>
          <p:cNvPicPr/>
          <p:nvPr/>
        </p:nvPicPr>
        <p:blipFill>
          <a:blip r:embed="rId1"/>
          <a:stretch/>
        </p:blipFill>
        <p:spPr>
          <a:xfrm>
            <a:off x="0" y="0"/>
            <a:ext cx="9144000" cy="6858000"/>
          </a:xfrm>
          <a:prstGeom prst="rect">
            <a:avLst/>
          </a:prstGeom>
          <a:ln w="0">
            <a:noFill/>
          </a:ln>
        </p:spPr>
      </p:pic>
      <p:sp>
        <p:nvSpPr>
          <p:cNvPr id="99" name="Rectangle 5"/>
          <p:cNvSpPr/>
          <p:nvPr/>
        </p:nvSpPr>
        <p:spPr>
          <a:xfrm>
            <a:off x="0" y="191880"/>
            <a:ext cx="9144000" cy="65487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BLIOGRAFÍA DEL CAPÍTULO V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Acevedo Núñez, José, Pbro., </a:t>
            </a:r>
            <a:r>
              <a:rPr b="1" i="1" lang="es-ES" sz="1400" spc="-1" strike="noStrike">
                <a:solidFill>
                  <a:srgbClr val="000000"/>
                </a:solidFill>
                <a:latin typeface="Arial"/>
              </a:rPr>
              <a:t>“ARTEAGA… Mis recuerdos”,</a:t>
            </a:r>
            <a:r>
              <a:rPr b="0" lang="es-ES" sz="1400" spc="-1" strike="noStrike">
                <a:solidFill>
                  <a:srgbClr val="000000"/>
                </a:solidFill>
                <a:latin typeface="Arial"/>
              </a:rPr>
              <a:t> Arteaga de Salazar, Mich., 199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1" i="1" lang="es-ES_tradnl" sz="1400" spc="-1" strike="noStrike">
                <a:solidFill>
                  <a:srgbClr val="000000"/>
                </a:solidFill>
                <a:latin typeface="Arial"/>
              </a:rPr>
              <a:t>Enciclopedia de México”,</a:t>
            </a:r>
            <a:r>
              <a:rPr b="0" lang="es-ES_tradnl" sz="1400" spc="-1" strike="noStrike">
                <a:solidFill>
                  <a:srgbClr val="000000"/>
                </a:solidFill>
                <a:latin typeface="Arial"/>
              </a:rPr>
              <a:t> José Rogelio Álvarez, Editada por la Enciclopedia Británica, 199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F. López, Héctor,</a:t>
            </a:r>
            <a:r>
              <a:rPr b="0" lang="es-ES" sz="1400" spc="-1" strike="noStrike">
                <a:solidFill>
                  <a:srgbClr val="000000"/>
                </a:solidFill>
                <a:latin typeface="Arial"/>
              </a:rPr>
              <a:t> </a:t>
            </a:r>
            <a:r>
              <a:rPr b="1" i="1" lang="es-ES" sz="1400" spc="-1" strike="noStrike">
                <a:solidFill>
                  <a:srgbClr val="000000"/>
                </a:solidFill>
                <a:latin typeface="Arial"/>
              </a:rPr>
              <a:t>Diccionario Geográfico, Histórico, Biográfico y Lingüístico del Estado de Guerrero</a:t>
            </a:r>
            <a:r>
              <a:rPr b="0" i="1" lang="es-ES" sz="1400" spc="-1" strike="noStrike">
                <a:solidFill>
                  <a:srgbClr val="000000"/>
                </a:solidFill>
                <a:latin typeface="Arial"/>
              </a:rPr>
              <a:t>, </a:t>
            </a:r>
            <a:r>
              <a:rPr b="0" lang="es-ES" sz="1400" spc="-1" strike="noStrike">
                <a:solidFill>
                  <a:srgbClr val="000000"/>
                </a:solidFill>
                <a:latin typeface="Arial"/>
              </a:rPr>
              <a:t>Editorial Pluma y Lápiz de México, México, 19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García Acosta, Virginia y Suárez Reynoso, Gerardo,</a:t>
            </a:r>
            <a:r>
              <a:rPr b="0" lang="es-ES" sz="1400" spc="-1" strike="noStrike">
                <a:solidFill>
                  <a:srgbClr val="000000"/>
                </a:solidFill>
                <a:latin typeface="Arial"/>
              </a:rPr>
              <a:t> </a:t>
            </a:r>
            <a:r>
              <a:rPr b="1" i="1" lang="es-ES" sz="1400" spc="-1" strike="noStrike">
                <a:solidFill>
                  <a:srgbClr val="000000"/>
                </a:solidFill>
                <a:latin typeface="Arial"/>
              </a:rPr>
              <a:t>Los sismos en la historia de México, </a:t>
            </a:r>
            <a:r>
              <a:rPr b="0" lang="es-ES" sz="1400" spc="-1" strike="noStrike">
                <a:solidFill>
                  <a:srgbClr val="000000"/>
                </a:solidFill>
                <a:latin typeface="Arial"/>
              </a:rPr>
              <a:t>Centro de Investigaciones y Estudios superiores en Antropología Social, Fondo de Cultura Económica, UNAM, 1996.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Gobierno del Estado de Michoacán,</a:t>
            </a:r>
            <a:r>
              <a:rPr b="0" lang="es-ES" sz="1400" spc="-1" strike="noStrike">
                <a:solidFill>
                  <a:srgbClr val="000000"/>
                </a:solidFill>
                <a:latin typeface="Arial"/>
              </a:rPr>
              <a:t> </a:t>
            </a:r>
            <a:r>
              <a:rPr b="1" i="1" lang="es-ES" sz="1400" spc="-1" strike="noStrike">
                <a:solidFill>
                  <a:srgbClr val="000000"/>
                </a:solidFill>
                <a:latin typeface="Arial"/>
              </a:rPr>
              <a:t>Gobernantes de Michoacán, </a:t>
            </a:r>
            <a:r>
              <a:rPr b="0" lang="es-ES" sz="1400" spc="-1" strike="noStrike">
                <a:solidFill>
                  <a:srgbClr val="000000"/>
                </a:solidFill>
                <a:latin typeface="Arial"/>
              </a:rPr>
              <a:t>página de INTERNET, 20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Krauze, Enrique,</a:t>
            </a:r>
            <a:r>
              <a:rPr b="0" lang="es-ES" sz="1400" spc="-1" strike="noStrike">
                <a:solidFill>
                  <a:srgbClr val="000000"/>
                </a:solidFill>
                <a:latin typeface="Arial"/>
              </a:rPr>
              <a:t> </a:t>
            </a:r>
            <a:r>
              <a:rPr b="1" i="1" lang="es-ES" sz="1400" spc="-1" strike="noStrike">
                <a:solidFill>
                  <a:srgbClr val="000000"/>
                </a:solidFill>
                <a:latin typeface="Arial"/>
              </a:rPr>
              <a:t>General Misionero, Lázaro Cárdenas, </a:t>
            </a:r>
            <a:r>
              <a:rPr b="0" lang="es-ES" sz="1400" spc="-1" strike="noStrike">
                <a:solidFill>
                  <a:srgbClr val="000000"/>
                </a:solidFill>
                <a:latin typeface="Arial"/>
              </a:rPr>
              <a:t>Fondo de Cultura Económica, Núm. 8, México, 199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López Romero, Félix J.,</a:t>
            </a:r>
            <a:r>
              <a:rPr b="0" lang="es-ES" sz="1400" spc="-1" strike="noStrike">
                <a:solidFill>
                  <a:srgbClr val="000000"/>
                </a:solidFill>
                <a:latin typeface="Arial"/>
              </a:rPr>
              <a:t> </a:t>
            </a:r>
            <a:r>
              <a:rPr b="1" i="1" lang="es-ES" sz="1400" spc="-1" strike="noStrike">
                <a:solidFill>
                  <a:srgbClr val="000000"/>
                </a:solidFill>
                <a:latin typeface="Arial"/>
              </a:rPr>
              <a:t>Guerrero antaño y hogaño, </a:t>
            </a:r>
            <a:r>
              <a:rPr b="0" lang="es-ES" sz="1400" spc="-1" strike="noStrike">
                <a:solidFill>
                  <a:srgbClr val="000000"/>
                </a:solidFill>
                <a:latin typeface="Arial"/>
              </a:rPr>
              <a:t>Ediciones Sanley, Tixtla, Gro., Gob. del estado de Guerrero, 2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Monografía del Estado de Michoacán”,</a:t>
            </a:r>
            <a:r>
              <a:rPr b="0" lang="es-ES" sz="1400" spc="-1" strike="noStrike">
                <a:solidFill>
                  <a:srgbClr val="000000"/>
                </a:solidFill>
                <a:latin typeface="Arial"/>
              </a:rPr>
              <a:t> S.E.P., Libros de Texto Gratuitos, México, 199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Pavía Guzmán, Edgar,</a:t>
            </a:r>
            <a:r>
              <a:rPr b="0" lang="es-ES" sz="1400" spc="-1" strike="noStrike">
                <a:solidFill>
                  <a:srgbClr val="000000"/>
                </a:solidFill>
                <a:latin typeface="Arial"/>
              </a:rPr>
              <a:t> </a:t>
            </a:r>
            <a:r>
              <a:rPr b="1" i="1" lang="es-ES" sz="1400" spc="-1" strike="noStrike">
                <a:solidFill>
                  <a:srgbClr val="000000"/>
                </a:solidFill>
                <a:latin typeface="Arial"/>
              </a:rPr>
              <a:t>Historia General de Guerrero, </a:t>
            </a:r>
            <a:r>
              <a:rPr b="0" lang="es-ES" sz="1400" spc="-1" strike="noStrike">
                <a:solidFill>
                  <a:srgbClr val="000000"/>
                </a:solidFill>
                <a:latin typeface="Arial"/>
              </a:rPr>
              <a:t>El Dominio Español, Era de los Borbón, (1700 – 1821), Volumen II, INAH, Gobierno del Estado de Guerrero, JGH Editores, 199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Riva Palacio, Vicente,</a:t>
            </a:r>
            <a:r>
              <a:rPr b="0" lang="es-ES" sz="1400" spc="-1" strike="noStrike">
                <a:solidFill>
                  <a:srgbClr val="000000"/>
                </a:solidFill>
                <a:latin typeface="Arial"/>
              </a:rPr>
              <a:t> </a:t>
            </a:r>
            <a:r>
              <a:rPr b="1" i="1" lang="es-ES" sz="1400" spc="-1" strike="noStrike">
                <a:solidFill>
                  <a:srgbClr val="000000"/>
                </a:solidFill>
                <a:latin typeface="Arial"/>
              </a:rPr>
              <a:t>México a través de los Siglos, El Virreinato, Historia de la Dominación Española en México desde 1521 a 1808, </a:t>
            </a:r>
            <a:r>
              <a:rPr b="0" lang="es-ES" sz="1400" spc="-1" strike="noStrike">
                <a:solidFill>
                  <a:srgbClr val="000000"/>
                </a:solidFill>
                <a:latin typeface="Arial"/>
              </a:rPr>
              <a:t>Tomo II, Décimo tercera edición, México, 197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Salazar Adame, Gustavo,</a:t>
            </a:r>
            <a:r>
              <a:rPr b="0" lang="es-ES" sz="1400" spc="-1" strike="noStrike">
                <a:solidFill>
                  <a:srgbClr val="000000"/>
                </a:solidFill>
                <a:latin typeface="Arial"/>
              </a:rPr>
              <a:t> </a:t>
            </a:r>
            <a:r>
              <a:rPr b="1" i="1" lang="es-ES" sz="1400" spc="-1" strike="noStrike">
                <a:solidFill>
                  <a:srgbClr val="000000"/>
                </a:solidFill>
                <a:latin typeface="Arial"/>
              </a:rPr>
              <a:t>“Relación de Gobernantes del Estado de Guerrero</a:t>
            </a:r>
            <a:r>
              <a:rPr b="0" lang="es-ES" sz="1400" spc="-1" strike="noStrike">
                <a:solidFill>
                  <a:srgbClr val="000000"/>
                </a:solidFill>
                <a:latin typeface="Arial"/>
              </a:rPr>
              <a:t>”, inédito, comunicación personal con don Rubén Adame Aragón (+), Chilpancingo, Gr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Sánchez Díaz, Gerardo, (coordinador),</a:t>
            </a:r>
            <a:r>
              <a:rPr b="0" lang="es-ES" sz="1400" spc="-1" strike="noStrike">
                <a:solidFill>
                  <a:srgbClr val="000000"/>
                </a:solidFill>
                <a:latin typeface="Arial"/>
              </a:rPr>
              <a:t> </a:t>
            </a:r>
            <a:r>
              <a:rPr b="1" i="1" lang="es-ES" sz="1400" spc="-1" strike="noStrike">
                <a:solidFill>
                  <a:srgbClr val="000000"/>
                </a:solidFill>
                <a:latin typeface="Arial"/>
              </a:rPr>
              <a:t>Pueblos, Villas y Ciudades de Michoacán en el Porfiriato, </a:t>
            </a:r>
            <a:r>
              <a:rPr b="0" lang="es-ES" sz="1400" spc="-1" strike="noStrike">
                <a:solidFill>
                  <a:srgbClr val="000000"/>
                </a:solidFill>
                <a:latin typeface="Arial"/>
              </a:rPr>
              <a:t>UMSNH, Instituto de Investigaciones Históricas, Departamento de Historia de México, Morelia, Mich., 199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Temas Guerrerenses”,</a:t>
            </a:r>
            <a:r>
              <a:rPr b="0" lang="es-ES" sz="1400" spc="-1" strike="noStrike">
                <a:solidFill>
                  <a:srgbClr val="000000"/>
                </a:solidFill>
                <a:latin typeface="Arial"/>
              </a:rPr>
              <a:t> </a:t>
            </a:r>
            <a:r>
              <a:rPr b="1" i="1" lang="es-ES" sz="1400" spc="-1" strike="noStrike">
                <a:solidFill>
                  <a:srgbClr val="000000"/>
                </a:solidFill>
                <a:latin typeface="Arial"/>
              </a:rPr>
              <a:t>Páginas Íntimas de Ignacio Manuel Altamirano,</a:t>
            </a:r>
            <a:r>
              <a:rPr b="0" lang="es-ES" sz="1400" spc="-1" strike="noStrike">
                <a:solidFill>
                  <a:srgbClr val="000000"/>
                </a:solidFill>
                <a:latin typeface="Arial"/>
              </a:rPr>
              <a:t> “</a:t>
            </a:r>
            <a:r>
              <a:rPr b="1" i="1" lang="es-ES" sz="1400" spc="-1" strike="noStrike">
                <a:solidFill>
                  <a:srgbClr val="000000"/>
                </a:solidFill>
                <a:latin typeface="Arial"/>
              </a:rPr>
              <a:t>Diarios de viaje” (fragmentos), </a:t>
            </a:r>
            <a:r>
              <a:rPr b="0" lang="es-ES" sz="1400" spc="-1" strike="noStrike">
                <a:solidFill>
                  <a:srgbClr val="000000"/>
                </a:solidFill>
                <a:latin typeface="Arial"/>
              </a:rPr>
              <a:t>Gobierno del Estado de Guerrero, 199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Uribe Salas, José Alfredo y Miranda Arrieta, Eduardo</a:t>
            </a:r>
            <a:r>
              <a:rPr b="0" lang="es-ES" sz="1400" spc="-1" strike="noStrike">
                <a:solidFill>
                  <a:srgbClr val="000000"/>
                </a:solidFill>
                <a:latin typeface="Arial"/>
              </a:rPr>
              <a:t>, </a:t>
            </a:r>
            <a:r>
              <a:rPr b="1" i="1" lang="es-ES" sz="1400" spc="-1" strike="noStrike">
                <a:solidFill>
                  <a:srgbClr val="000000"/>
                </a:solidFill>
                <a:latin typeface="Arial"/>
              </a:rPr>
              <a:t>Las Utopías del Balsas. Historias de una propuesta regional de comunicación interoceánica, </a:t>
            </a:r>
            <a:r>
              <a:rPr b="0" lang="es-ES" sz="1400" spc="-1" strike="noStrike">
                <a:solidFill>
                  <a:srgbClr val="000000"/>
                </a:solidFill>
                <a:latin typeface="Arial"/>
              </a:rPr>
              <a:t>UMSNH, Instituto de Investigaciones Históricas, Departamento de Historia de México, Morelia, Mich., 199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Vázquez, Gabino, Lic</a:t>
            </a:r>
            <a:r>
              <a:rPr b="0" lang="es-ES" sz="1400" spc="-1" strike="noStrike">
                <a:solidFill>
                  <a:srgbClr val="000000"/>
                </a:solidFill>
                <a:latin typeface="Arial"/>
              </a:rPr>
              <a:t>., </a:t>
            </a:r>
            <a:r>
              <a:rPr b="1" i="1" lang="es-ES" sz="1400" spc="-1" strike="noStrike">
                <a:solidFill>
                  <a:srgbClr val="000000"/>
                </a:solidFill>
                <a:latin typeface="Arial"/>
              </a:rPr>
              <a:t>Remates, afectaciones ejidales, repartos y donaciones de terrenos de la HACIENDA DE LA ORILLA, Distrito de Salazar, Michoacán. Desarrollo económico- social de esa importante zona de la Costa del Pacífico, </a:t>
            </a:r>
            <a:r>
              <a:rPr b="0" lang="es-ES" sz="1400" spc="-1" strike="noStrike">
                <a:solidFill>
                  <a:srgbClr val="000000"/>
                </a:solidFill>
                <a:latin typeface="Arial"/>
              </a:rPr>
              <a:t>México, 19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Vázquez Gómez, Juana,</a:t>
            </a:r>
            <a:r>
              <a:rPr b="0" lang="es-ES" sz="1400" spc="-1" strike="noStrike">
                <a:solidFill>
                  <a:srgbClr val="000000"/>
                </a:solidFill>
                <a:latin typeface="Arial"/>
              </a:rPr>
              <a:t> </a:t>
            </a:r>
            <a:r>
              <a:rPr b="1" i="1" lang="es-ES" sz="1400" spc="-1" strike="noStrike">
                <a:solidFill>
                  <a:srgbClr val="000000"/>
                </a:solidFill>
                <a:latin typeface="Arial"/>
              </a:rPr>
              <a:t>Diccionario de gobernantes de México (1325-1997), </a:t>
            </a:r>
            <a:r>
              <a:rPr b="0" lang="es-ES" sz="1400" spc="-1" strike="noStrike">
                <a:solidFill>
                  <a:srgbClr val="000000"/>
                </a:solidFill>
                <a:latin typeface="Arial"/>
              </a:rPr>
              <a:t>Edit. Patria, México, 1999.</a:t>
            </a:r>
            <a:endParaRPr b="0" lang="en-US" sz="1400" spc="-1" strike="noStrike">
              <a:solidFill>
                <a:srgbClr val="000000"/>
              </a:solidFill>
              <a:latin typeface="Arial"/>
            </a:endParaRPr>
          </a:p>
        </p:txBody>
      </p:sp>
    </p:spTree>
  </p:cSld>
  <p:transition spd="slow">
    <p:checker dir="horz"/>
    <p:sndAc>
      <p:stSnd>
        <p:snd r:embed="rId2" name="drumroll.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5">
                                  <p:stCondLst>
                                    <p:cond delay="0"/>
                                  </p:stCondLst>
                                  <p:iterate type="lt">
                                    <p:tmAbs val="50"/>
                                  </p:iterate>
                                  <p:childTnLst>
                                    <p:set>
                                      <p:cBhvr>
                                        <p:cTn id="185" dur="1" fill="hold">
                                          <p:stCondLst>
                                            <p:cond delay="0"/>
                                          </p:stCondLst>
                                        </p:cTn>
                                        <p:tgtEl>
                                          <p:spTgt spid="99"/>
                                        </p:tgtEl>
                                        <p:attrNameLst>
                                          <p:attrName>style.visibility</p:attrName>
                                        </p:attrNameLst>
                                      </p:cBhvr>
                                      <p:to>
                                        <p:strVal val="visible"/>
                                      </p:to>
                                    </p:set>
                                    <p:animEffect filter="fade" transition="in">
                                      <p:cBhvr additive="repl">
                                        <p:cTn id="186" dur="500"/>
                                        <p:tgtEl>
                                          <p:spTgt spid="99"/>
                                        </p:tgtEl>
                                      </p:cBhvr>
                                    </p:animEffect>
                                    <p:anim calcmode="lin" valueType="num">
                                      <p:cBhvr additive="repl">
                                        <p:cTn id="187" dur="5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188"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4" descr="PEX5+824"/>
          <p:cNvPicPr/>
          <p:nvPr/>
        </p:nvPicPr>
        <p:blipFill>
          <a:blip r:embed="rId1"/>
          <a:stretch/>
        </p:blipFill>
        <p:spPr>
          <a:xfrm>
            <a:off x="0" y="0"/>
            <a:ext cx="9144000" cy="6858000"/>
          </a:xfrm>
          <a:prstGeom prst="rect">
            <a:avLst/>
          </a:prstGeom>
          <a:ln w="0">
            <a:noFill/>
          </a:ln>
        </p:spPr>
      </p:pic>
      <p:pic>
        <p:nvPicPr>
          <p:cNvPr id="103" name="Picture 4" descr="tpl_header"/>
          <p:cNvPicPr/>
          <p:nvPr/>
        </p:nvPicPr>
        <p:blipFill>
          <a:blip r:embed="rId2"/>
          <a:stretch/>
        </p:blipFill>
        <p:spPr>
          <a:xfrm>
            <a:off x="0" y="5661000"/>
            <a:ext cx="9144000" cy="1197000"/>
          </a:xfrm>
          <a:prstGeom prst="rect">
            <a:avLst/>
          </a:prstGeom>
          <a:ln w="76320">
            <a:solidFill>
              <a:srgbClr val="000000"/>
            </a:solidFill>
            <a:miter/>
          </a:ln>
        </p:spPr>
      </p:pic>
      <p:sp>
        <p:nvSpPr>
          <p:cNvPr id="104" name="Rectangle 7"/>
          <p:cNvSpPr/>
          <p:nvPr/>
        </p:nvSpPr>
        <p:spPr>
          <a:xfrm>
            <a:off x="0" y="0"/>
            <a:ext cx="9144000" cy="53578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A  ASOCIACIÓN CIVIL “RACMA” DESDE LÁZARO CÁRDENAS, MICHOACÁN, MÉXICO, SIN NINGÚN APOYO DE LOS DEPARTAMENTOS DE CULTURA MUNICIPAL Y ESTATAL, INVESTIGA, RESGUARDA Y DIFUNDE LA HISTORIA DE LOS PUEBLOS DEL MEDIO Y BAJO BALSAS.</a:t>
            </a:r>
            <a:br>
              <a:rPr sz="1200"/>
            </a:br>
            <a:r>
              <a:rPr b="1" lang="es-MX" sz="1200" spc="-1" strike="noStrike">
                <a:solidFill>
                  <a:srgbClr val="000000"/>
                </a:solidFill>
                <a:latin typeface="Arial"/>
              </a:rPr>
              <a:t>COSTA DE COLIMA, MICHOACÁN Y COSTA GRANDE DE GUERRE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IRECCIÓN DEL PORTAL CULTURAL: </a:t>
            </a:r>
            <a:r>
              <a:rPr b="0" lang="es-ES" sz="1200" spc="-1" strike="noStrike">
                <a:solidFill>
                  <a:srgbClr val="000000"/>
                </a:solidFill>
                <a:latin typeface="Arial"/>
              </a:rPr>
              <a:t>www.racma.org.mx </a:t>
            </a:r>
            <a:br>
              <a:rPr sz="1200"/>
            </a:br>
            <a:r>
              <a:rPr b="1" lang="es-ES" sz="1200" spc="-1" strike="noStrike" u="sng">
                <a:solidFill>
                  <a:srgbClr val="000000"/>
                </a:solidFill>
                <a:uFillTx/>
                <a:latin typeface="Arial"/>
              </a:rPr>
              <a:t>INVESTIGAR EN CUALQUIER BUSCADOR: </a:t>
            </a:r>
            <a:r>
              <a:rPr b="1" lang="es-ES" sz="1200" spc="-1" strike="noStrike" u="sng">
                <a:solidFill>
                  <a:srgbClr val="008000"/>
                </a:solidFill>
                <a:uFillTx/>
                <a:latin typeface="Arial"/>
              </a:rPr>
              <a:t>ZACATOL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LBUM FOTOGRÁFICO: </a:t>
            </a:r>
            <a:r>
              <a:rPr b="0" lang="es-ES" sz="1200" spc="-1" strike="noStrike" u="sng">
                <a:solidFill>
                  <a:srgbClr val="000000"/>
                </a:solidFill>
                <a:uFillTx/>
                <a:latin typeface="Arial"/>
              </a:rPr>
              <a:t>http://www.flickr.com/photos/zacatula</a:t>
            </a:r>
            <a:br>
              <a:rPr sz="1200"/>
            </a:br>
            <a:r>
              <a:rPr b="1" lang="es-ES" sz="1200" spc="-1" strike="noStrike" u="sng">
                <a:solidFill>
                  <a:srgbClr val="000000"/>
                </a:solidFill>
                <a:uFillTx/>
                <a:latin typeface="Arial"/>
              </a:rPr>
              <a:t>CUENTO HISTÓRICO: </a:t>
            </a:r>
            <a:r>
              <a:rPr b="0" lang="es-ES" sz="1200" spc="-1" strike="noStrike" u="sng">
                <a:solidFill>
                  <a:srgbClr val="000000"/>
                </a:solidFill>
                <a:uFillTx/>
                <a:latin typeface="Arial"/>
              </a:rPr>
              <a:t>http://www.racma.org.mx/contenido/UnCuentoDeLaCostaMichoacana.doc </a:t>
            </a:r>
            <a:br>
              <a:rPr sz="1200"/>
            </a:br>
            <a:r>
              <a:rPr b="1" lang="es-ES" sz="1200" spc="-1" strike="noStrike" u="sng">
                <a:solidFill>
                  <a:srgbClr val="000000"/>
                </a:solidFill>
                <a:uFillTx/>
                <a:latin typeface="Arial"/>
              </a:rPr>
              <a:t>CORREOS ELÉCTRONICOS;</a:t>
            </a:r>
            <a:r>
              <a:rPr b="0" lang="es-ES" sz="1200" spc="-1" strike="noStrike" u="sng">
                <a:solidFill>
                  <a:srgbClr val="000000"/>
                </a:solidFill>
                <a:uFillTx/>
                <a:latin typeface="Arial"/>
              </a:rPr>
              <a:t> </a:t>
            </a:r>
            <a:br>
              <a:rPr sz="1200"/>
            </a:br>
            <a:r>
              <a:rPr b="0" lang="es-ES" sz="1200" spc="-1" strike="noStrike" u="sng">
                <a:solidFill>
                  <a:srgbClr val="000000"/>
                </a:solidFill>
                <a:uFillTx/>
                <a:latin typeface="Arial"/>
              </a:rPr>
              <a:t>cesar_adame_chpt@hotmail.com / rama_lzc@yahoo.com.mx</a:t>
            </a:r>
            <a:br>
              <a:rPr sz="1200"/>
            </a:br>
            <a:r>
              <a:rPr b="1" lang="es-ES" sz="1200" spc="-1" strike="noStrike">
                <a:solidFill>
                  <a:srgbClr val="000000"/>
                </a:solidFill>
                <a:latin typeface="Arial"/>
              </a:rPr>
              <a:t>Reseña de "Figurillas antropomorfas del delta del Balsas. Clasificación e interpretación"de SALVADOR PULIDO MÉNDE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http://redalyc.uaemex.mx/redalyc/pdf/898/89813075008.pd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200" spc="-1" strike="noStrike">
                <a:solidFill>
                  <a:srgbClr val="000000"/>
                </a:solidFill>
                <a:latin typeface="Arial"/>
              </a:rPr>
              <a:t>BUSCAN RECONSTRUIR LAS YÁCATAS DEL EXTINTO REINO DE ZACATOLL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revistaiescac2.blogspot.com/2010/05/buscan-reconstruir-las-yacatas-del.ht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LÁZARO CÁRDENAS, MICHOACÁN ES MÉXICO!</a:t>
            </a:r>
            <a:br>
              <a:rPr sz="1200"/>
            </a:br>
            <a:br>
              <a:rPr sz="1200"/>
            </a:br>
            <a:r>
              <a:rPr b="1" lang="es-ES" sz="1200" spc="-1" strike="noStrike">
                <a:solidFill>
                  <a:srgbClr val="000000"/>
                </a:solidFill>
                <a:latin typeface="Arial"/>
              </a:rPr>
              <a:t>1810-2010 / BICENTENARIO DE LA INDEPENDENCIA DE MÉXICO,</a:t>
            </a:r>
            <a:br>
              <a:rPr sz="1200"/>
            </a:br>
            <a:r>
              <a:rPr b="1" lang="es-ES" sz="1200" spc="-1" strike="noStrike">
                <a:solidFill>
                  <a:srgbClr val="000000"/>
                </a:solidFill>
                <a:latin typeface="Arial"/>
              </a:rPr>
              <a:t>1910-2010/ CENTENARIO DE LA REVOLUCIÓN MEXICANA.</a:t>
            </a:r>
            <a:br>
              <a:rPr sz="1200"/>
            </a:br>
            <a:br>
              <a:rPr sz="1200"/>
            </a:br>
            <a:r>
              <a:rPr b="1" lang="es-ES" sz="1200" spc="-1" strike="noStrike">
                <a:solidFill>
                  <a:srgbClr val="000000"/>
                </a:solidFill>
                <a:latin typeface="Arial"/>
              </a:rPr>
              <a:t>DESDE 1999 “RESGUARDO ARQUEOLOGICO DE LA COSTA MICHOACANA, (RACMA), A. C.” Y LA DIRECCIÓN DE SALVAMENTO ARQUEOLOGICO DEL I.N.A.H., HAN IMPLEMENTADO TRABAJOS ANUALES DE INVESTIGACIÓN, PROTECCIÓN Y DIFUSIÓN</a:t>
            </a:r>
            <a:br>
              <a:rPr sz="1200"/>
            </a:br>
            <a:r>
              <a:rPr b="1" lang="es-ES" sz="1200" spc="-1" strike="noStrike">
                <a:solidFill>
                  <a:srgbClr val="000000"/>
                </a:solidFill>
                <a:latin typeface="Arial"/>
              </a:rPr>
              <a:t>DE LAS CULTURAS ASENTADAS EN LA DESEMBOCADURA DEL RIÓ DE LAS BALSAS.</a:t>
            </a:r>
            <a:br>
              <a:rPr sz="1600"/>
            </a:br>
            <a:br>
              <a:rPr sz="1200"/>
            </a:br>
            <a:r>
              <a:rPr b="0" lang="es-ES" sz="1000" spc="-1" strike="noStrike">
                <a:solidFill>
                  <a:srgbClr val="000000"/>
                </a:solidFill>
                <a:latin typeface="Arial"/>
              </a:rPr>
              <a:t>FUENTE: ”ZACATOLLAN, UNA HISTORIA DE LA DESEMBOCADURA DEL RÍO DE LAS BALSAS, JAMÁS CONTADA”,DOS TOMOS, INEDITA, LÁZARO CÁRDENAS, MICH., PACMYC- 2002-2003 Y PRESENTACIÓN A CARGO DEL PROF. CÉSAR RUBÉN ADAME Y NÚÑEZ (CHPT).</a:t>
            </a:r>
            <a:br>
              <a:rPr sz="1000"/>
            </a:b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7" presetSubtype="4">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0" fill="hold"/>
                                        <p:tgtEl>
                                          <p:spTgt spid="103"/>
                                        </p:tgtEl>
                                        <p:attrNameLst>
                                          <p:attrName>ppt_x</p:attrName>
                                        </p:attrNameLst>
                                      </p:cBhvr>
                                      <p:tavLst>
                                        <p:tav tm="0">
                                          <p:val>
                                            <p:strVal val="#ppt_x"/>
                                          </p:val>
                                        </p:tav>
                                        <p:tav tm="100000">
                                          <p:val>
                                            <p:strVal val="#ppt_x"/>
                                          </p:val>
                                        </p:tav>
                                      </p:tavLst>
                                    </p:anim>
                                    <p:anim calcmode="lin" valueType="num">
                                      <p:cBhvr additive="base">
                                        <p:cTn id="196" dur="5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4">
                                  <p:stCondLst>
                                    <p:cond delay="0"/>
                                  </p:stCondLst>
                                  <p:childTnLst>
                                    <p:set>
                                      <p:cBhvr>
                                        <p:cTn id="200" dur="1" fill="hold">
                                          <p:stCondLst>
                                            <p:cond delay="0"/>
                                          </p:stCondLst>
                                        </p:cTn>
                                        <p:tgtEl>
                                          <p:spTgt spid="103"/>
                                        </p:tgtEl>
                                        <p:attrNameLst>
                                          <p:attrName>style.visibility</p:attrName>
                                        </p:attrNameLst>
                                      </p:cBhvr>
                                      <p:to>
                                        <p:strVal val="visible"/>
                                      </p:to>
                                    </p:set>
                                    <p:anim calcmode="lin" valueType="num" from="(-#ppt_w/2)" to="(#ppt_x)">
                                      <p:cBhvr additive="repl">
                                        <p:cTn id="201" dur="3000" fill="hold">
                                          <p:stCondLst>
                                            <p:cond delay="0"/>
                                          </p:stCondLst>
                                        </p:cTn>
                                        <p:tgtEl>
                                          <p:spTgt spid="103"/>
                                        </p:tgtEl>
                                        <p:attrNameLst>
                                          <p:attrName>ppt_x</p:attrName>
                                        </p:attrNameLst>
                                      </p:cBhvr>
                                    </p:anim>
                                    <p:anim calcmode="lin" valueType="num" from="0" to="-1">
                                      <p:cBhvr additive="repl">
                                        <p:cTn id="202" dur="1000" autoRev="1" fill="hold">
                                          <p:stCondLst>
                                            <p:cond delay="3000"/>
                                          </p:stCondLst>
                                        </p:cTn>
                                        <p:tgtEl>
                                          <p:spTgt spid="103"/>
                                        </p:tgtEl>
                                        <p:attrNameLst>
                                          <p:attrName>xshear</p:attrName>
                                        </p:attrNameLst>
                                      </p:cBhvr>
                                    </p:anim>
                                    <p:animScale>
                                      <p:cBhvr>
                                        <p:cTn id="203" dur="1000" autoRev="1" fill="hold">
                                          <p:stCondLst>
                                            <p:cond delay="3000"/>
                                          </p:stCondLst>
                                        </p:cTn>
                                        <p:tgtEl>
                                          <p:spTgt spid="103"/>
                                        </p:tgtEl>
                                      </p:cBhvr>
                                      <p:from x="100000" y="100000"/>
                                      <p:to x="80000" y="100000"/>
                                    </p:animScale>
                                    <p:anim calcmode="lin" valueType="num" by="(#ppt_h/3+#ppt_w*0.1)">
                                      <p:cBhvr additive="sum">
                                        <p:cTn id="204" dur="1000" autoRev="1" fill="hold">
                                          <p:stCondLst>
                                            <p:cond delay="3000"/>
                                          </p:stCondLst>
                                        </p:cTn>
                                        <p:tgtEl>
                                          <p:spTgt spid="103"/>
                                        </p:tgtEl>
                                        <p:attrNameLst>
                                          <p:attrName>ppt_x</p:attrName>
                                        </p:attrNameLst>
                                      </p:cBhvr>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03"/>
                                        </p:tgtEl>
                                        <p:attrNameLst>
                                          <p:attrName>style.visibility</p:attrName>
                                        </p:attrNameLst>
                                      </p:cBhvr>
                                      <p:to>
                                        <p:strVal val="visible"/>
                                      </p:to>
                                    </p:set>
                                    <p:animEffect filter="fade" transition="in">
                                      <p:cBhvr additive="repl">
                                        <p:cTn id="209" dur="50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5">
                                  <p:stCondLst>
                                    <p:cond delay="0"/>
                                  </p:stCondLst>
                                  <p:iterate type="lt">
                                    <p:tmAbs val="50"/>
                                  </p:iterate>
                                  <p:childTnLst>
                                    <p:set>
                                      <p:cBhvr>
                                        <p:cTn id="213" dur="1" fill="hold">
                                          <p:stCondLst>
                                            <p:cond delay="0"/>
                                          </p:stCondLst>
                                        </p:cTn>
                                        <p:tgtEl>
                                          <p:spTgt spid="104"/>
                                        </p:tgtEl>
                                        <p:attrNameLst>
                                          <p:attrName>style.visibility</p:attrName>
                                        </p:attrNameLst>
                                      </p:cBhvr>
                                      <p:to>
                                        <p:strVal val="visible"/>
                                      </p:to>
                                    </p:set>
                                    <p:animEffect filter="fade" transition="in">
                                      <p:cBhvr additive="repl">
                                        <p:cTn id="214" dur="500"/>
                                        <p:tgtEl>
                                          <p:spTgt spid="104"/>
                                        </p:tgtEl>
                                      </p:cBhvr>
                                    </p:animEffect>
                                    <p:anim calcmode="lin" valueType="num">
                                      <p:cBhvr additive="repl">
                                        <p:cTn id="215" dur="5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216"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57" name="Picture 4" descr="PEX5+824"/>
          <p:cNvPicPr/>
          <p:nvPr/>
        </p:nvPicPr>
        <p:blipFill>
          <a:blip r:embed="rId1"/>
          <a:stretch/>
        </p:blipFill>
        <p:spPr>
          <a:xfrm>
            <a:off x="0" y="-23760"/>
            <a:ext cx="9144000" cy="6858000"/>
          </a:xfrm>
          <a:prstGeom prst="rect">
            <a:avLst/>
          </a:prstGeom>
          <a:ln w="0">
            <a:noFill/>
          </a:ln>
        </p:spPr>
      </p:pic>
      <p:sp>
        <p:nvSpPr>
          <p:cNvPr id="58" name="Rectangle 5"/>
          <p:cNvSpPr/>
          <p:nvPr/>
        </p:nvSpPr>
        <p:spPr>
          <a:xfrm>
            <a:off x="0" y="-244440"/>
            <a:ext cx="8174160" cy="776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1824, 6 de abril. INSTALACIÓN DEL PRIMER CONGRESO CONSTITUYENTE DEL ESTADO DE MICHOACÁ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En obediencia a la ley del 8 de enero de 1824, que dispuso el establecimiento de las legislaturas particulares, Antonio de Castro, que actuaba desde fines del año anterior como jefe superior político de la provincia, convocó a la formación del Primer Congreso Constituyente del Estado, que quedó instalado el 6 de abril de 1824 bajo la presidencia de José María Ray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000" spc="-1" strike="noStrike">
                <a:solidFill>
                  <a:srgbClr val="000000"/>
                </a:solidFill>
                <a:latin typeface="Arial"/>
              </a:rPr>
              <a:t>(Enciclopedia de México,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t>
            </a:r>
            <a:r>
              <a:rPr b="1" lang="es-ES" sz="1400" spc="-1" strike="noStrike" u="sng">
                <a:solidFill>
                  <a:srgbClr val="000000"/>
                </a:solidFill>
                <a:uFillTx/>
                <a:latin typeface="Arial"/>
              </a:rPr>
              <a:t>1824, 8 de abril. FRANCISCO MANUEL SÁNCHEZ DE TAGLE, GOBERNADOR DE MICHOACÁN.</a:t>
            </a:r>
            <a:r>
              <a:rPr b="0" lang="es-ES" sz="1400" spc="-1" strike="noStrike" u="sng">
                <a:solidFill>
                  <a:srgbClr val="000000"/>
                </a:solidFill>
                <a:uFillTx/>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ía 8 (abril de 1824) se nombró gobernador interino a Francisco Manuel Sánchez de Tagle, pero habiendo renunciado quedó en el cargo el vicegobernador, que lo fue De Cast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000" spc="-1" strike="noStrike">
                <a:solidFill>
                  <a:srgbClr val="000000"/>
                </a:solidFill>
                <a:latin typeface="Arial"/>
              </a:rPr>
              <a:t>(Enciclopedia de México,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1825, 15 de marzo. DIVISIÓN TERRITORIAL DEL ESTADO DE MICHOACÁ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De acuerdo con lo dispuesto por el Acta Constitutiva en materia de división territorial (estados, departamentos y territorios), el Primer Congreso Constituyente de la entidad decretó (15 de marzo de 1825) que el estado quedaba dividido en cuatro departamentos con sus respectivos partidos: del Norte (Valladolid, Tiripetío, Charo, Cuitzeo, Huaniqueo y Pátzcuaro), del Poniente (Zamora, Tlazazalca, Jiquilpan, Puruándiro y La Piedad), del Sur (Uruapan, Taretan, Antiguo Paracho, Ario, Apatzingán y Coahuayana), y del Oriente (Zitacuaro, Tlalpujahua, Zinapecuaro y Huetamo). En cada uno se nombró un jefe político; las sedes fueron Valladolid, Zamora, Ario y Zitacuar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000" spc="-1" strike="noStrike">
                <a:solidFill>
                  <a:srgbClr val="000000"/>
                </a:solidFill>
                <a:latin typeface="Arial"/>
              </a:rPr>
              <a:t>(Enciclopedia de México,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lang="es-ES" sz="1400" spc="-1" strike="noStrike">
                <a:solidFill>
                  <a:srgbClr val="000000"/>
                </a:solidFill>
                <a:latin typeface="Arial"/>
              </a:rPr>
              <a:t>1825, 6 de abril. INSTALACIÓN DEL CONGRESO CONSTITUYENTE DE MICHOACÁN.</a:t>
            </a:r>
            <a:r>
              <a:rPr b="0" lang="es-E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La legislatura o Congreso Constituyente de Michoacán se instaló el 6 de abril de 1825 con once diputad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_tradnl" sz="1000" spc="-1" strike="noStrike">
                <a:solidFill>
                  <a:srgbClr val="000000"/>
                </a:solidFill>
                <a:latin typeface="Arial"/>
              </a:rPr>
              <a:t>(“Monografía de Michoacán”, S.E.P., 1996; 14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1825, 19 de julio. SE PROMULGA LA PRIMERA CONSTITUCIÓN DEL ESTADO DE MICHOACÁ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 Primera Constitución Política de la entidad fue promulgada el 19 de julio de 1825; la firmaron Pedro Villaseñor (diputado presidente), Agustín Aguilar (vicepresidente), José María Rayón, Manuel de la Torre Lloreda, José María Jiménez, Manuel Menéndez, Juan José Pastor Morales y José Salgado (estos dos últimos secretarios). El licenciado Isidro Huarte no firmó por encontrarse enfermo y Martínez de Lejarza por haber fallecido.” </a:t>
            </a:r>
            <a:r>
              <a:rPr b="0" lang="es-ES" sz="1400" spc="-1" strike="noStrike">
                <a:solidFill>
                  <a:srgbClr val="000000"/>
                </a:solidFill>
                <a:latin typeface="Arial"/>
              </a:rPr>
              <a:t>(Enciclopedia de México, José Rogelio Álvarez, Edit. por la Enciclopedia Británica, 1993; 537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checker dir="horz"/>
    <p:sndAc>
      <p:stSnd>
        <p:snd r:embed="rId2" name="drumroll.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60" name="Picture 4" descr="PEX5+824"/>
          <p:cNvPicPr/>
          <p:nvPr/>
        </p:nvPicPr>
        <p:blipFill>
          <a:blip r:embed="rId1"/>
          <a:stretch/>
        </p:blipFill>
        <p:spPr>
          <a:xfrm>
            <a:off x="0" y="-23760"/>
            <a:ext cx="9144000" cy="6858000"/>
          </a:xfrm>
          <a:prstGeom prst="rect">
            <a:avLst/>
          </a:prstGeom>
          <a:ln w="0">
            <a:noFill/>
          </a:ln>
        </p:spPr>
      </p:pic>
      <p:pic>
        <p:nvPicPr>
          <p:cNvPr id="61" name="Picture 10" descr="Batalla_de_San_Lorenzo"/>
          <p:cNvPicPr/>
          <p:nvPr/>
        </p:nvPicPr>
        <p:blipFill>
          <a:blip r:embed="rId2"/>
          <a:stretch/>
        </p:blipFill>
        <p:spPr>
          <a:xfrm>
            <a:off x="0" y="0"/>
            <a:ext cx="9144000" cy="6858000"/>
          </a:xfrm>
          <a:prstGeom prst="rect">
            <a:avLst/>
          </a:prstGeom>
          <a:ln w="0">
            <a:noFill/>
          </a:ln>
        </p:spPr>
      </p:pic>
      <p:sp>
        <p:nvSpPr>
          <p:cNvPr id="62" name="Rectangle 11"/>
          <p:cNvSpPr/>
          <p:nvPr/>
        </p:nvSpPr>
        <p:spPr>
          <a:xfrm>
            <a:off x="324000" y="178920"/>
            <a:ext cx="8569080" cy="6707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1818, mayo. LOS REALISTAS TOMAN EL PRESIDIO, LA ISLA FORTIFICADA Y EL POBLADO DE LA ORILLA QUE ESTABAN EN PODER DE LOS INSURGENT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Armijo, en virtud de las reiteradas prevenciones del Virrey, siguió la costa del mar del Sur hasta Zacatula, que había sido el presidio destinado por Morelos para los prisioneros que quería castigar con mayor rigor, adonde no habían penetrado las armas reales desde principios de la revolución, y en el mes de Mayo de 1818 se apoderó de él, de la isla fortificada y de la población llamada La Orilla. Las guerrillas de Montes de Oca y de Don Pablo Galeana, que guarnecían estos lugares, fueron desalojados de ellos  y perseguidos por más de 20 leguas, causándoles algunos muertos; pero no pudiendo permanecer Armijo en Zacatula, por ser aquellos parajes de los de más mortífero clima de la costa y habiendo comenzado a padecer sus soldados las enfermedades propias de ésta, aún sin haber empezado todavía las lluvias, en cuya estación se propagan con grande estrago, inutilizó y enterró la artillería, pegó fuego a las trincheras, poblaciones y plantíos de tabaco ya en estado de cosecharse, destruyó las semillas y los sembrados de maíz y todo cuanto podía ser de utilidad a los insurgentes, por manera, dice en su parte al Virrey, que es imposible que se reparen durante la estación en que no puede repetirse movimiento alguno en aquel país. En seguida regresó a clima más sano, llevando porción de enfermos de su tropa. (Lic. Manuel Orozco y B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t>
            </a:r>
            <a:r>
              <a:rPr b="0" lang="es-ES" sz="1000" spc="-1" strike="noStrike">
                <a:solidFill>
                  <a:srgbClr val="000000"/>
                </a:solidFill>
                <a:latin typeface="Arial"/>
              </a:rPr>
              <a:t>Héctor F. López, 1942; 89-9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4">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from="(-#ppt_w/2)" to="(#ppt_x)">
                                      <p:cBhvr additive="repl">
                                        <p:cTn id="71" dur="3000" fill="hold">
                                          <p:stCondLst>
                                            <p:cond delay="0"/>
                                          </p:stCondLst>
                                        </p:cTn>
                                        <p:tgtEl>
                                          <p:spTgt spid="61"/>
                                        </p:tgtEl>
                                        <p:attrNameLst>
                                          <p:attrName>ppt_x</p:attrName>
                                        </p:attrNameLst>
                                      </p:cBhvr>
                                    </p:anim>
                                    <p:anim calcmode="lin" valueType="num" from="0" to="-1">
                                      <p:cBhvr additive="repl">
                                        <p:cTn id="72" dur="1000" autoRev="1" fill="hold">
                                          <p:stCondLst>
                                            <p:cond delay="3000"/>
                                          </p:stCondLst>
                                        </p:cTn>
                                        <p:tgtEl>
                                          <p:spTgt spid="61"/>
                                        </p:tgtEl>
                                        <p:attrNameLst>
                                          <p:attrName>xshear</p:attrName>
                                        </p:attrNameLst>
                                      </p:cBhvr>
                                    </p:anim>
                                    <p:animScale>
                                      <p:cBhvr>
                                        <p:cTn id="73" dur="1000" autoRev="1" fill="hold">
                                          <p:stCondLst>
                                            <p:cond delay="3000"/>
                                          </p:stCondLst>
                                        </p:cTn>
                                        <p:tgtEl>
                                          <p:spTgt spid="61"/>
                                        </p:tgtEl>
                                      </p:cBhvr>
                                      <p:from x="100000" y="100000"/>
                                      <p:to x="80000" y="100000"/>
                                    </p:animScale>
                                    <p:anim calcmode="lin" valueType="num" by="(#ppt_h/3+#ppt_w*0.1)">
                                      <p:cBhvr additive="sum">
                                        <p:cTn id="74" dur="1000" autoRev="1" fill="hold">
                                          <p:stCondLst>
                                            <p:cond delay="3000"/>
                                          </p:stCondLst>
                                        </p:cTn>
                                        <p:tgtEl>
                                          <p:spTgt spid="61"/>
                                        </p:tgtEl>
                                        <p:attrNameLst>
                                          <p:attrName>ppt_x</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5">
                                  <p:stCondLst>
                                    <p:cond delay="0"/>
                                  </p:stCondLst>
                                  <p:iterate type="lt">
                                    <p:tmAbs val="100"/>
                                  </p:iterate>
                                  <p:childTnLst>
                                    <p:set>
                                      <p:cBhvr>
                                        <p:cTn id="78" dur="1" fill="hold">
                                          <p:stCondLst>
                                            <p:cond delay="0"/>
                                          </p:stCondLst>
                                        </p:cTn>
                                        <p:tgtEl>
                                          <p:spTgt spid="62"/>
                                        </p:tgtEl>
                                        <p:attrNameLst>
                                          <p:attrName>style.visibility</p:attrName>
                                        </p:attrNameLst>
                                      </p:cBhvr>
                                      <p:to>
                                        <p:strVal val="visible"/>
                                      </p:to>
                                    </p:set>
                                    <p:animEffect filter="fade" transition="in">
                                      <p:cBhvr additive="repl">
                                        <p:cTn id="79" dur="1000"/>
                                        <p:tgtEl>
                                          <p:spTgt spid="62"/>
                                        </p:tgtEl>
                                      </p:cBhvr>
                                    </p:animEffect>
                                    <p:anim calcmode="lin" valueType="num">
                                      <p:cBhvr additive="repl">
                                        <p:cTn id="80" dur="1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81" dur="10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64" name="Picture 4" descr="PEX5+824"/>
          <p:cNvPicPr/>
          <p:nvPr/>
        </p:nvPicPr>
        <p:blipFill>
          <a:blip r:embed="rId1"/>
          <a:stretch/>
        </p:blipFill>
        <p:spPr>
          <a:xfrm>
            <a:off x="0" y="0"/>
            <a:ext cx="9144000" cy="6858000"/>
          </a:xfrm>
          <a:prstGeom prst="rect">
            <a:avLst/>
          </a:prstGeom>
          <a:ln w="0">
            <a:noFill/>
          </a:ln>
        </p:spPr>
      </p:pic>
      <p:pic>
        <p:nvPicPr>
          <p:cNvPr id="65" name="Picture 6" descr="mon_morelos_2"/>
          <p:cNvPicPr/>
          <p:nvPr/>
        </p:nvPicPr>
        <p:blipFill>
          <a:blip r:embed="rId2">
            <a:lum bright="42000"/>
          </a:blip>
          <a:stretch/>
        </p:blipFill>
        <p:spPr>
          <a:xfrm>
            <a:off x="4700520" y="1052640"/>
            <a:ext cx="4443480" cy="4537080"/>
          </a:xfrm>
          <a:prstGeom prst="rect">
            <a:avLst/>
          </a:prstGeom>
          <a:ln w="0">
            <a:noFill/>
          </a:ln>
        </p:spPr>
      </p:pic>
      <p:pic>
        <p:nvPicPr>
          <p:cNvPr id="66" name="Picture 8" descr="1813 Morelos Sud 8 reales cobre moneda Insurgente"/>
          <p:cNvPicPr/>
          <p:nvPr/>
        </p:nvPicPr>
        <p:blipFill>
          <a:blip r:embed="rId3">
            <a:lum bright="48000"/>
          </a:blip>
          <a:stretch/>
        </p:blipFill>
        <p:spPr>
          <a:xfrm>
            <a:off x="0" y="1052640"/>
            <a:ext cx="4572000" cy="4572000"/>
          </a:xfrm>
          <a:prstGeom prst="rect">
            <a:avLst/>
          </a:prstGeom>
          <a:ln w="0">
            <a:noFill/>
          </a:ln>
        </p:spPr>
      </p:pic>
      <p:sp>
        <p:nvSpPr>
          <p:cNvPr id="67" name="Rectangle 9"/>
          <p:cNvSpPr/>
          <p:nvPr/>
        </p:nvSpPr>
        <p:spPr>
          <a:xfrm>
            <a:off x="0" y="323640"/>
            <a:ext cx="9144000" cy="64832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818, 1° de Junio.- VICENTE GUERRERO ESTABLECE UNA FUNDICIÓN DE CAÑONES, UNA FÁBRICA DE MUNICIONES Y CUÑO DE MONEDAS EN COAHUAYUTLA, GR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Guerrero, en consecuencia de estos movimientos de Armijo y de Marrón, se retiró a la costa de Coahuayutla y ocupo con gente suya el cerro de Barrabás (en la región de Zirándaro), grupo aislado de ásperas montañas, entre la ribera izquierda del río Mezcala y la cordillera que separa el curso de éste de la costa, circundado por tierras ardientísimas y enfermizas, aunque en su cumbre frío y sano. Este vino a ser el punto de apoyo de todas sus excursiones, habiéndolo fortificado de manera que se tenía por inexpugnable, y en el mismo estableció fundición de cañones, cuño de monedas y fabrica de municiones (Lic. Manuel Orozco y Ber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s lugar histórico porque allí se unió al invicto Morelos la primera gente armada al mando del Comandante Rafael Valdovinos, fue siempre fiel a los insurgentes, al grado de que el 1° de Junio de 1818 los vecinos del pueblo dieron las campanas al general Guerrero para que fundiera cañones. El mismo general Guerrero supo aprovecharse de la tregua que con su retirada a Zacatula le dio D. Gabriel Armijo, organizando algunas fuerzas en Coahuayutla y en sus cercanías y reuniendo así mismo las secciones de Chivilini y Urbizo, llegando a formar un cuerpo regular con el que atacó a los destacamentos inmediatos, de los cuales sacó armamento, municiones y recursos; considerándose más fuerte de lo que en realidad estaba, restableció en la hacienda de las Balsas (a la margen izquierda del Río de su nombre), la Junta de Gobierno formada por los vocales Arriola y Villaseñor, y su tropa nombró por aclamación al Lic. Don Mariano Ruíz de Castañeda, individuo de ella, en lugar de Pagola, que había sido decapitado. Esta Junta funcionó muy poco tiempo y poco después fue aprehendido el Lic. Arreola y conducido a Valladolid (Morelia). (Pérez Hernández.). En el mismo pueblo estuvo detenido el presidente Lic. D. Sebastián Lerdo de Tejada, su ministro D. Manuel Rubio, general Abraham Olata, etc., por el coronel Pioquinto Huato, hasta que el general Diego Álvarez, gobernador del Estado dio órdenes para que fueran escoltados a Zihuatanej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000" spc="-1" strike="noStrike">
                <a:solidFill>
                  <a:srgbClr val="000000"/>
                </a:solidFill>
                <a:latin typeface="Arial"/>
              </a:rPr>
              <a:t>(Héctor F. López, 1942: 90 y 141).</a:t>
            </a:r>
            <a:endParaRPr b="0" lang="en-US" sz="1000" spc="-1" strike="noStrike">
              <a:solidFill>
                <a:srgbClr val="000000"/>
              </a:solidFill>
              <a:latin typeface="Arial"/>
            </a:endParaRPr>
          </a:p>
        </p:txBody>
      </p:sp>
    </p:spTree>
  </p:cSld>
  <p:transition spd="slow">
    <p:checker dir="horz"/>
    <p:sndAc>
      <p:stSnd>
        <p:snd r:embed="rId4" name="drumroll.wav"/>
      </p:stSnd>
    </p:sndAc>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4">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from="(-#ppt_w/2)" to="(#ppt_x)">
                                      <p:cBhvr additive="repl">
                                        <p:cTn id="88" dur="3000" fill="hold">
                                          <p:stCondLst>
                                            <p:cond delay="0"/>
                                          </p:stCondLst>
                                        </p:cTn>
                                        <p:tgtEl>
                                          <p:spTgt spid="66"/>
                                        </p:tgtEl>
                                        <p:attrNameLst>
                                          <p:attrName>ppt_x</p:attrName>
                                        </p:attrNameLst>
                                      </p:cBhvr>
                                    </p:anim>
                                    <p:anim calcmode="lin" valueType="num" from="0" to="-1">
                                      <p:cBhvr additive="repl">
                                        <p:cTn id="89" dur="1000" autoRev="1" fill="hold">
                                          <p:stCondLst>
                                            <p:cond delay="3000"/>
                                          </p:stCondLst>
                                        </p:cTn>
                                        <p:tgtEl>
                                          <p:spTgt spid="66"/>
                                        </p:tgtEl>
                                        <p:attrNameLst>
                                          <p:attrName>xshear</p:attrName>
                                        </p:attrNameLst>
                                      </p:cBhvr>
                                    </p:anim>
                                    <p:animScale>
                                      <p:cBhvr>
                                        <p:cTn id="90" dur="1000" autoRev="1" fill="hold">
                                          <p:stCondLst>
                                            <p:cond delay="3000"/>
                                          </p:stCondLst>
                                        </p:cTn>
                                        <p:tgtEl>
                                          <p:spTgt spid="66"/>
                                        </p:tgtEl>
                                      </p:cBhvr>
                                      <p:from x="100000" y="100000"/>
                                      <p:to x="80000" y="100000"/>
                                    </p:animScale>
                                    <p:anim calcmode="lin" valueType="num" by="(#ppt_h/3+#ppt_w*0.1)">
                                      <p:cBhvr additive="sum">
                                        <p:cTn id="91" dur="1000" autoRev="1" fill="hold">
                                          <p:stCondLst>
                                            <p:cond delay="3000"/>
                                          </p:stCondLst>
                                        </p:cTn>
                                        <p:tgtEl>
                                          <p:spTgt spid="66"/>
                                        </p:tgtEl>
                                        <p:attrNameLst>
                                          <p:attrName>ppt_x</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4">
                                  <p:stCondLst>
                                    <p:cond delay="0"/>
                                  </p:stCondLst>
                                  <p:childTnLst>
                                    <p:set>
                                      <p:cBhvr>
                                        <p:cTn id="95" dur="1" fill="hold">
                                          <p:stCondLst>
                                            <p:cond delay="0"/>
                                          </p:stCondLst>
                                        </p:cTn>
                                        <p:tgtEl>
                                          <p:spTgt spid="65"/>
                                        </p:tgtEl>
                                        <p:attrNameLst>
                                          <p:attrName>style.visibility</p:attrName>
                                        </p:attrNameLst>
                                      </p:cBhvr>
                                      <p:to>
                                        <p:strVal val="visible"/>
                                      </p:to>
                                    </p:set>
                                    <p:anim calcmode="lin" valueType="num" from="(-#ppt_w/2)" to="(#ppt_x)">
                                      <p:cBhvr additive="repl">
                                        <p:cTn id="96" dur="3000" fill="hold">
                                          <p:stCondLst>
                                            <p:cond delay="0"/>
                                          </p:stCondLst>
                                        </p:cTn>
                                        <p:tgtEl>
                                          <p:spTgt spid="65"/>
                                        </p:tgtEl>
                                        <p:attrNameLst>
                                          <p:attrName>ppt_x</p:attrName>
                                        </p:attrNameLst>
                                      </p:cBhvr>
                                    </p:anim>
                                    <p:anim calcmode="lin" valueType="num" from="0" to="-1">
                                      <p:cBhvr additive="repl">
                                        <p:cTn id="97" dur="1000" autoRev="1" fill="hold">
                                          <p:stCondLst>
                                            <p:cond delay="3000"/>
                                          </p:stCondLst>
                                        </p:cTn>
                                        <p:tgtEl>
                                          <p:spTgt spid="65"/>
                                        </p:tgtEl>
                                        <p:attrNameLst>
                                          <p:attrName>xshear</p:attrName>
                                        </p:attrNameLst>
                                      </p:cBhvr>
                                    </p:anim>
                                    <p:animScale>
                                      <p:cBhvr>
                                        <p:cTn id="98" dur="1000" autoRev="1" fill="hold">
                                          <p:stCondLst>
                                            <p:cond delay="3000"/>
                                          </p:stCondLst>
                                        </p:cTn>
                                        <p:tgtEl>
                                          <p:spTgt spid="65"/>
                                        </p:tgtEl>
                                      </p:cBhvr>
                                      <p:from x="100000" y="100000"/>
                                      <p:to x="80000" y="100000"/>
                                    </p:animScale>
                                    <p:anim calcmode="lin" valueType="num" by="(#ppt_h/3+#ppt_w*0.1)">
                                      <p:cBhvr additive="sum">
                                        <p:cTn id="99" dur="1000" autoRev="1" fill="hold">
                                          <p:stCondLst>
                                            <p:cond delay="3000"/>
                                          </p:stCondLst>
                                        </p:cTn>
                                        <p:tgtEl>
                                          <p:spTgt spid="65"/>
                                        </p:tgtEl>
                                        <p:attrNameLst>
                                          <p:attrName>ppt_x</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5">
                                  <p:stCondLst>
                                    <p:cond delay="0"/>
                                  </p:stCondLst>
                                  <p:iterate type="lt">
                                    <p:tmAbs val="100"/>
                                  </p:iterate>
                                  <p:childTnLst>
                                    <p:set>
                                      <p:cBhvr>
                                        <p:cTn id="103" dur="1" fill="hold">
                                          <p:stCondLst>
                                            <p:cond delay="0"/>
                                          </p:stCondLst>
                                        </p:cTn>
                                        <p:tgtEl>
                                          <p:spTgt spid="67"/>
                                        </p:tgtEl>
                                        <p:attrNameLst>
                                          <p:attrName>style.visibility</p:attrName>
                                        </p:attrNameLst>
                                      </p:cBhvr>
                                      <p:to>
                                        <p:strVal val="visible"/>
                                      </p:to>
                                    </p:set>
                                    <p:animEffect filter="fade" transition="in">
                                      <p:cBhvr additive="repl">
                                        <p:cTn id="104" dur="1000"/>
                                        <p:tgtEl>
                                          <p:spTgt spid="67"/>
                                        </p:tgtEl>
                                      </p:cBhvr>
                                    </p:animEffect>
                                    <p:anim calcmode="lin" valueType="num">
                                      <p:cBhvr additive="repl">
                                        <p:cTn id="105" dur="1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06" dur="1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69" name="Picture 4" descr="PEX5+824"/>
          <p:cNvPicPr/>
          <p:nvPr/>
        </p:nvPicPr>
        <p:blipFill>
          <a:blip r:embed="rId1"/>
          <a:stretch/>
        </p:blipFill>
        <p:spPr>
          <a:xfrm>
            <a:off x="0" y="-3240"/>
            <a:ext cx="9144000" cy="6858000"/>
          </a:xfrm>
          <a:prstGeom prst="rect">
            <a:avLst/>
          </a:prstGeom>
          <a:ln w="0">
            <a:noFill/>
          </a:ln>
        </p:spPr>
      </p:pic>
      <p:pic>
        <p:nvPicPr>
          <p:cNvPr id="70" name="Picture 6" descr="04"/>
          <p:cNvPicPr/>
          <p:nvPr/>
        </p:nvPicPr>
        <p:blipFill>
          <a:blip r:embed="rId2">
            <a:lum bright="42000"/>
          </a:blip>
          <a:stretch/>
        </p:blipFill>
        <p:spPr>
          <a:xfrm>
            <a:off x="0" y="0"/>
            <a:ext cx="9144000" cy="6858000"/>
          </a:xfrm>
          <a:prstGeom prst="rect">
            <a:avLst/>
          </a:prstGeom>
          <a:ln w="0">
            <a:noFill/>
          </a:ln>
        </p:spPr>
      </p:pic>
      <p:sp>
        <p:nvSpPr>
          <p:cNvPr id="71" name="Rectangle 7"/>
          <p:cNvSpPr/>
          <p:nvPr/>
        </p:nvSpPr>
        <p:spPr>
          <a:xfrm>
            <a:off x="0" y="37080"/>
            <a:ext cx="9144000" cy="213372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818, 15 de septiembre. ISIDORO MONTES DE OCA VENCE A LOS REALISTAS EN LA HACIENDA DE TAMO, MICHOACÁ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lang="es-ES" sz="1400" spc="-1" strike="noStrike">
                <a:solidFill>
                  <a:srgbClr val="000000"/>
                </a:solidFill>
                <a:latin typeface="Arial"/>
              </a:rPr>
              <a:t>General Insurgente, originario del Rancho de La Alhaja, municipio de La Unión. Concurrió a muchas acciones de guerra a las órdenes de Morelos y Guerrero. Fue jefe de la escolta del generalísimo Morelos llamada de los 50 pares. La principal función de armas en que se destacó como valiente fue la de la Hacienda de Tamo, Mich., el 15 de Septiembre de 1818, en la que siendo los contrarios en número cuatro veces mayor, fueron totalmente destrozados. Sus restos se hallan en la parroquia de Petatlán, en cuyo pueblo falleció a la edad de 58 años</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000" spc="-1" strike="noStrike">
                <a:solidFill>
                  <a:srgbClr val="000000"/>
                </a:solidFill>
                <a:latin typeface="Arial"/>
              </a:rPr>
              <a:t>(Héctor F. López, 1942: 320).</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8"/>
          <p:cNvSpPr/>
          <p:nvPr/>
        </p:nvSpPr>
        <p:spPr>
          <a:xfrm>
            <a:off x="0" y="2664720"/>
            <a:ext cx="9144000" cy="405252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1819, mayo. LOS REALISTAS TOMAN EL CERRO DE BARRABAS EN ZIRÁNDARO, G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400" spc="-1" strike="noStrike">
                <a:solidFill>
                  <a:srgbClr val="000000"/>
                </a:solidFill>
                <a:latin typeface="Arial"/>
              </a:rPr>
              <a:t>“</a:t>
            </a:r>
            <a:r>
              <a:rPr b="1" lang="es-ES" sz="1400" spc="-1" strike="noStrike">
                <a:solidFill>
                  <a:srgbClr val="000000"/>
                </a:solidFill>
                <a:latin typeface="Arial"/>
              </a:rPr>
              <a:t>En el municipio de Zirándaro, conocido también con el nombre de </a:t>
            </a:r>
            <a:r>
              <a:rPr b="1" i="1" lang="es-ES" sz="1400" spc="-1" strike="noStrike">
                <a:solidFill>
                  <a:srgbClr val="000000"/>
                </a:solidFill>
                <a:latin typeface="Arial"/>
              </a:rPr>
              <a:t>Cerro del Campo,</a:t>
            </a:r>
            <a:r>
              <a:rPr b="1" lang="es-ES" sz="1400" spc="-1" strike="noStrike">
                <a:solidFill>
                  <a:srgbClr val="000000"/>
                </a:solidFill>
                <a:latin typeface="Arial"/>
              </a:rPr>
              <a:t> porque en él acampaba el generalísimo D. Vicente Guerrero. En ese campamento depositó el general Berdejo el dinero que Iturbide y Guerrero le confiaron para los gastos de la guerra. Con el mismo nombre o el Santiago se conoce otro cerro cortado a plomo por todos lados y con solo dos veredas tortuosas para ascender, a unos 19 kilómetros de Zirándaro, Estado de Michoacán, (hoy Guerrero). Cerro entre la ribera del Mezcala (Balsas) y la cordillera que separa a este de la costa, en el Estado de Guerrero. En este cerro se fortificó Don Vicente Guerrero, después de retirarse de Zacatula, desalojado por las tropas de Armijo y de Marrón. Ese punto se convirtió en punto de apoyo para todas sus expediciones y estableció allí fundición de cañones, cuño de moneda y fábrica de municiones. En mayo de 1819 fue tomado por asalto por el teniente coronel D. José Antonio Echavarri, quien comenzó su carrera con la revolución en las tropas que Calleja levantó en San Luis, y a fuerza de valor y acciones distinguidas, había llegado a esta graduación en los Fieles de Potosí, estando reservado para hacer después uno de los principales papeles en la futuras revueltas del país. Guerrero, que no se halló en el Cerro de Barrabás cuando fue tomado, se vio precisado por la perdida de este punto, a dejar aquella parte de la Tierra Caliente, y pasando con pocos el Mexcala, se trasladó a buscar nuevos elementos de revolución en la provincia inmediata de Michoacán. (Lic. Manuel Orozco y Berr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000" spc="-1" strike="noStrike">
                <a:solidFill>
                  <a:srgbClr val="000000"/>
                </a:solidFill>
                <a:latin typeface="Arial"/>
              </a:rPr>
              <a:t>(Héctor F. López, 1942: 90).</a:t>
            </a: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from="(-#ppt_w/2)" to="(#ppt_x)">
                                      <p:cBhvr additive="repl">
                                        <p:cTn id="113" dur="3000" fill="hold">
                                          <p:stCondLst>
                                            <p:cond delay="0"/>
                                          </p:stCondLst>
                                        </p:cTn>
                                        <p:tgtEl>
                                          <p:spTgt spid="70"/>
                                        </p:tgtEl>
                                        <p:attrNameLst>
                                          <p:attrName>ppt_x</p:attrName>
                                        </p:attrNameLst>
                                      </p:cBhvr>
                                    </p:anim>
                                    <p:anim calcmode="lin" valueType="num" from="0" to="-1">
                                      <p:cBhvr additive="repl">
                                        <p:cTn id="114" dur="1000" autoRev="1" fill="hold">
                                          <p:stCondLst>
                                            <p:cond delay="3000"/>
                                          </p:stCondLst>
                                        </p:cTn>
                                        <p:tgtEl>
                                          <p:spTgt spid="70"/>
                                        </p:tgtEl>
                                        <p:attrNameLst>
                                          <p:attrName>xshear</p:attrName>
                                        </p:attrNameLst>
                                      </p:cBhvr>
                                    </p:anim>
                                    <p:animScale>
                                      <p:cBhvr>
                                        <p:cTn id="115" dur="1000" autoRev="1" fill="hold">
                                          <p:stCondLst>
                                            <p:cond delay="3000"/>
                                          </p:stCondLst>
                                        </p:cTn>
                                        <p:tgtEl>
                                          <p:spTgt spid="70"/>
                                        </p:tgtEl>
                                      </p:cBhvr>
                                      <p:from x="100000" y="100000"/>
                                      <p:to x="80000" y="100000"/>
                                    </p:animScale>
                                    <p:anim calcmode="lin" valueType="num" by="(#ppt_h/3+#ppt_w*0.1)">
                                      <p:cBhvr additive="sum">
                                        <p:cTn id="116" dur="1000" autoRev="1" fill="hold">
                                          <p:stCondLst>
                                            <p:cond delay="3000"/>
                                          </p:stCondLst>
                                        </p:cTn>
                                        <p:tgtEl>
                                          <p:spTgt spid="70"/>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5">
                                  <p:stCondLst>
                                    <p:cond delay="0"/>
                                  </p:stCondLst>
                                  <p:iterate type="lt">
                                    <p:tmAbs val="100"/>
                                  </p:iterate>
                                  <p:childTnLst>
                                    <p:set>
                                      <p:cBhvr>
                                        <p:cTn id="120" dur="1" fill="hold">
                                          <p:stCondLst>
                                            <p:cond delay="0"/>
                                          </p:stCondLst>
                                        </p:cTn>
                                        <p:tgtEl>
                                          <p:spTgt spid="71"/>
                                        </p:tgtEl>
                                        <p:attrNameLst>
                                          <p:attrName>style.visibility</p:attrName>
                                        </p:attrNameLst>
                                      </p:cBhvr>
                                      <p:to>
                                        <p:strVal val="visible"/>
                                      </p:to>
                                    </p:set>
                                    <p:animEffect filter="fade" transition="in">
                                      <p:cBhvr additive="repl">
                                        <p:cTn id="121" dur="1000"/>
                                        <p:tgtEl>
                                          <p:spTgt spid="71"/>
                                        </p:tgtEl>
                                      </p:cBhvr>
                                    </p:animEffect>
                                    <p:anim calcmode="lin" valueType="num">
                                      <p:cBhvr additive="repl">
                                        <p:cTn id="122" dur="10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123" dur="1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5">
                                  <p:stCondLst>
                                    <p:cond delay="0"/>
                                  </p:stCondLst>
                                  <p:iterate type="lt">
                                    <p:tmAbs val="100"/>
                                  </p:iterate>
                                  <p:childTnLst>
                                    <p:set>
                                      <p:cBhvr>
                                        <p:cTn id="127" dur="1" fill="hold">
                                          <p:stCondLst>
                                            <p:cond delay="0"/>
                                          </p:stCondLst>
                                        </p:cTn>
                                        <p:tgtEl>
                                          <p:spTgt spid="72"/>
                                        </p:tgtEl>
                                        <p:attrNameLst>
                                          <p:attrName>style.visibility</p:attrName>
                                        </p:attrNameLst>
                                      </p:cBhvr>
                                      <p:to>
                                        <p:strVal val="visible"/>
                                      </p:to>
                                    </p:set>
                                    <p:animEffect filter="fade" transition="in">
                                      <p:cBhvr additive="repl">
                                        <p:cTn id="128" dur="1000"/>
                                        <p:tgtEl>
                                          <p:spTgt spid="72"/>
                                        </p:tgtEl>
                                      </p:cBhvr>
                                    </p:animEffect>
                                    <p:anim calcmode="lin" valueType="num">
                                      <p:cBhvr additive="repl">
                                        <p:cTn id="129" dur="1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30" dur="1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74" name="Picture 4" descr="PEX5+824"/>
          <p:cNvPicPr/>
          <p:nvPr/>
        </p:nvPicPr>
        <p:blipFill>
          <a:blip r:embed="rId1"/>
          <a:stretch/>
        </p:blipFill>
        <p:spPr>
          <a:xfrm>
            <a:off x="0" y="0"/>
            <a:ext cx="9144000" cy="6858000"/>
          </a:xfrm>
          <a:prstGeom prst="rect">
            <a:avLst/>
          </a:prstGeom>
          <a:ln w="0">
            <a:noFill/>
          </a:ln>
        </p:spPr>
      </p:pic>
      <p:pic>
        <p:nvPicPr>
          <p:cNvPr id="75" name="Picture 8" descr="MGV-IND-21"/>
          <p:cNvPicPr/>
          <p:nvPr/>
        </p:nvPicPr>
        <p:blipFill>
          <a:blip r:embed="rId2">
            <a:lum bright="18000"/>
          </a:blip>
          <a:stretch/>
        </p:blipFill>
        <p:spPr>
          <a:xfrm>
            <a:off x="0" y="0"/>
            <a:ext cx="9144000" cy="6858000"/>
          </a:xfrm>
          <a:prstGeom prst="rect">
            <a:avLst/>
          </a:prstGeom>
          <a:ln w="0">
            <a:noFill/>
          </a:ln>
        </p:spPr>
      </p:pic>
      <p:sp>
        <p:nvSpPr>
          <p:cNvPr id="76" name="Rectangle 9"/>
          <p:cNvSpPr/>
          <p:nvPr/>
        </p:nvSpPr>
        <p:spPr>
          <a:xfrm>
            <a:off x="250920" y="694440"/>
            <a:ext cx="8353440" cy="554076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1819, mayo. LOS REALISTAS TOMAN EL CERRO DE BARRABAS EN ZIRÁNDARO, GRO.</a:t>
            </a:r>
            <a:r>
              <a:rPr b="1" lang="es-E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600" spc="-1" strike="noStrike">
                <a:solidFill>
                  <a:srgbClr val="000000"/>
                </a:solidFill>
                <a:latin typeface="Arial"/>
              </a:rPr>
              <a:t>En el municipio de Zirándaro, conocido también con el nombre de </a:t>
            </a:r>
            <a:r>
              <a:rPr b="1" i="1" lang="es-ES" sz="1600" spc="-1" strike="noStrike">
                <a:solidFill>
                  <a:srgbClr val="000000"/>
                </a:solidFill>
                <a:latin typeface="Arial"/>
              </a:rPr>
              <a:t>Cerro del Campo,</a:t>
            </a:r>
            <a:r>
              <a:rPr b="1" lang="es-ES" sz="1600" spc="-1" strike="noStrike">
                <a:solidFill>
                  <a:srgbClr val="000000"/>
                </a:solidFill>
                <a:latin typeface="Arial"/>
              </a:rPr>
              <a:t> porque en él acampaba el generalísimo D. Vicente Guerrero. En ese campamento depositó el general Berdejo el dinero que Iturbide y Guerrero le confiaron para los gastos de la guerra. Con el mismo nombre o el Santiago se conoce otro cerro cortado a plomo por todos lados y con solo dos veredas tortuosas para ascender, a unos 19 kilómetros de Zirándaro, Estado de Michoacán, (hoy Guerrero). Cerro entre la ribera del Mezcala (Balsas) y la cordillera que separa a este de la costa, en el Estado de Guerrero. En este cerro se fortificó Don Vicente Guerrero, después de retirarse de Zacatula, desalojado por las tropas de Armijo y de Marrón. Ese punto se convirtió en punto de apoyo para todas sus expediciones y estableció allí fundición de cañones, cuño de moneda y fábrica de municiones. En mayo de 1819 fue tomado por asalto por el teniente coronel D. José Antonio Echavarri, quien comenzó su carrera con la revolución en las tropas que Calleja levantó en San Luis, y a fuerza de valor y acciones distinguidas, había llegado a esta graduación en los Fieles de Potosí, estando reservado para hacer después uno de los principales papeles en la futuras revueltas del país. Guerrero, que no se halló en el Cerro de Barrabás cuando fue tomado, se vio precisado por la perdida de este punto, a dejar aquella parte de la Tierra Caliente, y pasando con pocos el Mexcala, se trasladó a buscar nuevos elementos de revolución en la provincia inmediata de Michoacán. (Lic. Manuel Orozco y Berra).”</a:t>
            </a:r>
            <a:r>
              <a:rPr b="0" lang="es-ES" sz="1800" spc="-1" strike="noStrike">
                <a:solidFill>
                  <a:srgbClr val="000000"/>
                </a:solidFill>
                <a:latin typeface="Arial"/>
              </a:rPr>
              <a:t> </a:t>
            </a:r>
            <a:r>
              <a:rPr b="0" lang="es-ES" sz="1000" spc="-1" strike="noStrike">
                <a:solidFill>
                  <a:srgbClr val="000000"/>
                </a:solidFill>
                <a:latin typeface="Arial"/>
              </a:rPr>
              <a:t>(Héctor F. López, 1942: 90).</a:t>
            </a: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75"/>
                                        </p:tgtEl>
                                        <p:attrNameLst>
                                          <p:attrName>style.visibility</p:attrName>
                                        </p:attrNameLst>
                                      </p:cBhvr>
                                      <p:to>
                                        <p:strVal val="visible"/>
                                      </p:to>
                                    </p:set>
                                    <p:animEffect filter="box(in)" transition="in">
                                      <p:cBhvr additive="repl">
                                        <p:cTn id="137" dur="500"/>
                                        <p:tgtEl>
                                          <p:spTgt spid="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5">
                                  <p:stCondLst>
                                    <p:cond delay="0"/>
                                  </p:stCondLst>
                                  <p:iterate type="lt">
                                    <p:tmAbs val="100"/>
                                  </p:iterate>
                                  <p:childTnLst>
                                    <p:set>
                                      <p:cBhvr>
                                        <p:cTn id="141" dur="1" fill="hold">
                                          <p:stCondLst>
                                            <p:cond delay="0"/>
                                          </p:stCondLst>
                                        </p:cTn>
                                        <p:tgtEl>
                                          <p:spTgt spid="76">
                                            <p:txEl>
                                              <p:pRg st="1" end="1"/>
                                            </p:txEl>
                                          </p:spTgt>
                                        </p:tgtEl>
                                        <p:attrNameLst>
                                          <p:attrName>style.visibility</p:attrName>
                                        </p:attrNameLst>
                                      </p:cBhvr>
                                      <p:to>
                                        <p:strVal val="visible"/>
                                      </p:to>
                                    </p:set>
                                    <p:animEffect filter="fade" transition="in">
                                      <p:cBhvr additive="repl">
                                        <p:cTn id="142" dur="1000"/>
                                        <p:tgtEl>
                                          <p:spTgt spid="76">
                                            <p:txEl>
                                              <p:pRg st="1" end="1"/>
                                            </p:txEl>
                                          </p:spTgt>
                                        </p:tgtEl>
                                      </p:cBhvr>
                                    </p:animEffect>
                                    <p:anim calcmode="lin" valueType="num">
                                      <p:cBhvr additive="repl">
                                        <p:cTn id="143" dur="1000" fill="hold"/>
                                        <p:tgtEl>
                                          <p:spTgt spid="7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44" dur="1000" fill="hold"/>
                                        <p:tgtEl>
                                          <p:spTgt spid="7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78" name="Picture 4" descr="PEX5+824"/>
          <p:cNvPicPr/>
          <p:nvPr/>
        </p:nvPicPr>
        <p:blipFill>
          <a:blip r:embed="rId1"/>
          <a:stretch/>
        </p:blipFill>
        <p:spPr>
          <a:xfrm>
            <a:off x="0" y="0"/>
            <a:ext cx="9144000" cy="6858000"/>
          </a:xfrm>
          <a:prstGeom prst="rect">
            <a:avLst/>
          </a:prstGeom>
          <a:ln w="0">
            <a:noFill/>
          </a:ln>
        </p:spPr>
      </p:pic>
      <p:sp>
        <p:nvSpPr>
          <p:cNvPr id="79" name="Rectangle 5"/>
          <p:cNvSpPr/>
          <p:nvPr/>
        </p:nvSpPr>
        <p:spPr>
          <a:xfrm>
            <a:off x="0" y="-25200"/>
            <a:ext cx="9144000" cy="669600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t>
            </a:r>
            <a:r>
              <a:rPr b="1" lang="es-ES" sz="1600" spc="-1" strike="noStrike" u="sng">
                <a:solidFill>
                  <a:srgbClr val="000000"/>
                </a:solidFill>
                <a:uFillTx/>
                <a:latin typeface="Arial"/>
              </a:rPr>
              <a:t>1821, 12 de octubre. RAMÓN HUARTE GOBIERNA MICHOACÁN.</a:t>
            </a:r>
            <a:r>
              <a:rPr b="1"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amón Huarte, cuñado de Iturbide, quedó como intendente interino, y a partir del 12 de octubre de 1821 se le confirió en propiedad el cargo.” (Enciclopedia de México</a:t>
            </a:r>
            <a:r>
              <a:rPr b="0" lang="es-ES" sz="1000" spc="-1" strike="noStrike">
                <a:solidFill>
                  <a:srgbClr val="000000"/>
                </a:solidFill>
                <a:latin typeface="Arial"/>
              </a:rPr>
              <a:t>,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u="sng">
                <a:solidFill>
                  <a:srgbClr val="000000"/>
                </a:solidFill>
                <a:uFillTx/>
                <a:latin typeface="Arial"/>
              </a:rPr>
              <a:t>1822. POBLACIÓN DE VALLADOLID.</a:t>
            </a:r>
            <a:r>
              <a:rPr b="1" lang="es-E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 y de 15 147 en 1822, contando, en este último año, la de todo el partido, constituido por la capital, tres pueblos, ocho haciendas y dos ranchos.” </a:t>
            </a:r>
            <a:r>
              <a:rPr b="0" lang="es-ES" sz="1000" spc="-1" strike="noStrike">
                <a:solidFill>
                  <a:srgbClr val="000000"/>
                </a:solidFill>
                <a:latin typeface="Arial"/>
              </a:rPr>
              <a:t>(Enciclopedia de México,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824. CENSO DE MÉX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población de México en este año era de 6, 500, 000 habitantes.” </a:t>
            </a:r>
            <a:r>
              <a:rPr b="0" lang="es-ES" sz="1000" spc="-1" strike="noStrike">
                <a:solidFill>
                  <a:srgbClr val="000000"/>
                </a:solidFill>
                <a:latin typeface="Arial"/>
              </a:rPr>
              <a:t>(Juana Vázquez Gómez, 1999; 115).</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824, 31 de enero. SE EXPIDE EL ACTA CONSTITUTIVA DE LA FEDE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Arial"/>
              </a:rPr>
              <a:t>“</a:t>
            </a:r>
            <a:r>
              <a:rPr b="0" lang="es-ES" sz="1600" spc="-1" strike="noStrike">
                <a:solidFill>
                  <a:srgbClr val="000000"/>
                </a:solidFill>
                <a:latin typeface="Arial"/>
              </a:rPr>
              <a:t>La entidad era una de las 25 provincias en las que se había dividido el territorio nacional, pero a partir de la expedición del Acta Constitutiva de la Federación (31 de enero de 1824) vino a ser uno de los 17 estados de la Federación.” </a:t>
            </a:r>
            <a:r>
              <a:rPr b="0" lang="es-ES" sz="1000" spc="-1" strike="noStrike">
                <a:solidFill>
                  <a:srgbClr val="000000"/>
                </a:solidFill>
                <a:latin typeface="Arial"/>
              </a:rPr>
              <a:t>(Enciclopedia de México, José Rogelio Álvarez, Edit. por la Enciclopedia Británica, 1993; 53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824. EL PUERTO DE MANZANILLO ES HABILITADO PARA EL COMERCIO DE ALTU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surgimiento de un sistema portuario en esta vasta región del Pacífico, que abarcaba los litorales de los actuales estados de Oaxaca, Guerrero, Michoacán, Colima y Nayarit, y el auge del comercio marítimo a mediados del siglo jugaron un importante papel catalizador de proyectos y concesiones de ferrocarril. Al lado del puerto colonial de Acapulco, hacia el norte, aparecieron los puertos de Manzanillo y San Blas, lo que puso fin al monopolio que desde 1570 había sustentado el primero de ellos en el comercio de intercambio con Sudamérica, Filipinas, China y Japón. En 1821 fue abierto al puerto de San Blas por las autoridades realistas como resultado del control que los insurgentes ejercían sobre el camino a Acapul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Después, ya como nación independiente, en 1824, fue habilitado el puerto de Manzanillo para el comercio de altura (Gresham Chapman, John. </a:t>
            </a:r>
            <a:r>
              <a:rPr b="1" i="1" lang="es-ES" sz="1600" spc="-1" strike="noStrike">
                <a:solidFill>
                  <a:srgbClr val="000000"/>
                </a:solidFill>
                <a:latin typeface="Arial"/>
              </a:rPr>
              <a:t>La construcción del ferrocarril mexicano 1837 - 1880, </a:t>
            </a:r>
            <a:r>
              <a:rPr b="0" lang="es-ES" sz="1600" spc="-1" strike="noStrike">
                <a:solidFill>
                  <a:srgbClr val="000000"/>
                </a:solidFill>
                <a:latin typeface="Arial"/>
              </a:rPr>
              <a:t>México, Sep-Setentas, 1975; Sergio Ortiz Hernán, Op. Cit. Tomo I, pp. 72 - 75).” </a:t>
            </a:r>
            <a:r>
              <a:rPr b="0" lang="es-ES" sz="1000" spc="-1" strike="noStrike">
                <a:solidFill>
                  <a:srgbClr val="000000"/>
                </a:solidFill>
                <a:latin typeface="Arial"/>
              </a:rPr>
              <a:t>(José Alfredo Uribe Salas y Eduardo Miranda Arrieta, 1995: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checker dir="horz"/>
    <p:sndAc>
      <p:stSnd>
        <p:snd r:embed="rId2" name="drumroll.wav"/>
      </p:stSnd>
    </p:sndAc>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5">
                                  <p:stCondLst>
                                    <p:cond delay="0"/>
                                  </p:stCondLst>
                                  <p:iterate type="lt">
                                    <p:tmAbs val="100"/>
                                  </p:iterate>
                                  <p:childTnLst>
                                    <p:set>
                                      <p:cBhvr>
                                        <p:cTn id="150" dur="1" fill="hold">
                                          <p:stCondLst>
                                            <p:cond delay="0"/>
                                          </p:stCondLst>
                                        </p:cTn>
                                        <p:tgtEl>
                                          <p:spTgt spid="79"/>
                                        </p:tgtEl>
                                        <p:attrNameLst>
                                          <p:attrName>style.visibility</p:attrName>
                                        </p:attrNameLst>
                                      </p:cBhvr>
                                      <p:to>
                                        <p:strVal val="visible"/>
                                      </p:to>
                                    </p:set>
                                    <p:animEffect filter="fade" transition="in">
                                      <p:cBhvr additive="repl">
                                        <p:cTn id="151" dur="1000"/>
                                        <p:tgtEl>
                                          <p:spTgt spid="79"/>
                                        </p:tgtEl>
                                      </p:cBhvr>
                                    </p:animEffect>
                                    <p:anim calcmode="lin" valueType="num">
                                      <p:cBhvr additive="repl">
                                        <p:cTn id="152" dur="1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53" dur="1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pic>
        <p:nvPicPr>
          <p:cNvPr id="81" name="Picture 4" descr="PEX5+824"/>
          <p:cNvPicPr/>
          <p:nvPr/>
        </p:nvPicPr>
        <p:blipFill>
          <a:blip r:embed="rId1"/>
          <a:stretch/>
        </p:blipFill>
        <p:spPr>
          <a:xfrm>
            <a:off x="0" y="0"/>
            <a:ext cx="9144000" cy="6858000"/>
          </a:xfrm>
          <a:prstGeom prst="rect">
            <a:avLst/>
          </a:prstGeom>
          <a:ln w="0">
            <a:noFill/>
          </a:ln>
        </p:spPr>
      </p:pic>
      <p:pic>
        <p:nvPicPr>
          <p:cNvPr id="82" name="Picture 6" descr="t623424a"/>
          <p:cNvPicPr/>
          <p:nvPr/>
        </p:nvPicPr>
        <p:blipFill>
          <a:blip r:embed="rId2">
            <a:lum bright="54000"/>
          </a:blip>
          <a:stretch/>
        </p:blipFill>
        <p:spPr>
          <a:xfrm>
            <a:off x="0" y="0"/>
            <a:ext cx="9144000" cy="6858000"/>
          </a:xfrm>
          <a:prstGeom prst="rect">
            <a:avLst/>
          </a:prstGeom>
          <a:ln w="0">
            <a:noFill/>
          </a:ln>
        </p:spPr>
      </p:pic>
      <p:sp>
        <p:nvSpPr>
          <p:cNvPr id="83" name="Rectangle 7"/>
          <p:cNvSpPr/>
          <p:nvPr/>
        </p:nvSpPr>
        <p:spPr>
          <a:xfrm>
            <a:off x="250920" y="497880"/>
            <a:ext cx="8569080" cy="5540040"/>
          </a:xfrm>
          <a:prstGeom prst="rect">
            <a:avLst/>
          </a:prstGeom>
          <a:no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1824. PRIMEROS DATOS RELATIV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L LITORAL MICHOACAN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mapa Beaumont de principios del siglo XVIII y el mapa Carranza a fines del propio siglo, no demostraban datos geográficos del litoral de la costa michoacana. No fue sino hasta la consumación de la independencia, en el año de 1824, cuando un estudioso y culto michoacano, el Sr. don Juan José Martínez de Lejarza en su </a:t>
            </a:r>
            <a:r>
              <a:rPr b="1" i="1" lang="es-ES" sz="1200" spc="-1" strike="noStrike">
                <a:solidFill>
                  <a:srgbClr val="000000"/>
                </a:solidFill>
                <a:latin typeface="Arial"/>
              </a:rPr>
              <a:t>Análisis Estadístico de la Provincia de Michoacán</a:t>
            </a:r>
            <a:r>
              <a:rPr b="1" lang="es-ES" sz="1200" spc="-1" strike="noStrike">
                <a:solidFill>
                  <a:srgbClr val="000000"/>
                </a:solidFill>
                <a:latin typeface="Arial"/>
              </a:rPr>
              <a:t>, nos deja consignados los primeros datos geográficos relativos a nuestro lito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Dice el citado libro, en su parte correspondiente: </a:t>
            </a:r>
            <a:r>
              <a:rPr b="1" i="1" lang="es-ES" sz="1200" spc="-1" strike="noStrike">
                <a:solidFill>
                  <a:srgbClr val="000000"/>
                </a:solidFill>
                <a:latin typeface="Arial"/>
              </a:rPr>
              <a:t>Empezando a recorrer de Occidente a Oriente (la costa) desde la boca del río Coahuayana que está a 18 grados, 28 minutos de latitud y 4 grados 30 minutos de longitud occidental del meridiano de México, se encuentra a cerca de dos leguas de distancia al sur, la ensenada o puerto de San Telmo, que hasta el día de hoy no ha tenido ningún uso y sólo han mantenido algunos soldados de vigía por la Comandancia de Guadalajara.  De ahí al punto en que desemboca el río de Maquilí, habrá tres o cuatro leguas más, y alternativamente bordan la costa sembrada de cocoteros y otros árboles, ya unas serranías peñascosas que bañan las aguas del mar, va la playa arenosa llena de conchas y mariscos entre marmajita azul muy fina. De aquel punto a la boca del río de Oztula, hay arrecifes en la playa en la distancia de cinco leguas que media y sierras que alternan con los arenales de la costa; cerca se hayan las salinas de Maquilí, rodeadas de palmares de coco. De ahí siguen las costas al sureste. A tres leguas se encuentra la laguna del zapote, de agua dulce, pero en aquella distancia está muy escarpada la orilla, y apenas hay un corto trecho de playa; después sigue la serranía hasta la de Tolotlán, en que hay arena, y éste espacio es como de siete leguas. Siguen dos leguas más de serranía hasta la playa y lago de Maruata, bordada de palmares que llega a bañar el mar, y se extiende en un espacio como de seis leguas, hasta el principio de la serranía que va para Cachán, que prosigue en la misma dirección por más de cuatro leguas. Finalmente, desde el fin de esta sierra hasta boca del río de Cachán, que hace el límite de provincia con la de México, se extienden seis leguas más de playa sembradas de algodonares, en que están las rancherías de Pomaro y Cachán, del otro lado del río están las de Guagua, de manera que contra el común entender, hay todavía un espacio de costa entre este punto y la boca del río de Zacatula o las Balsas, que en todos los mapas indica término de separación de las dos provincias. Por lo que expresa Lejarza, el límite entre la provincia de Michoacán y la de México (de la que se formó en el año de 1849 el estado de Guerrero) era el río de las Bals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000" spc="-1" strike="noStrike">
                <a:solidFill>
                  <a:srgbClr val="000000"/>
                </a:solidFill>
                <a:latin typeface="Arial"/>
              </a:rPr>
              <a:t>(Jesús Romero Flores, Datos históricos relacionados con la región de </a:t>
            </a:r>
            <a:r>
              <a:rPr b="1" i="1" lang="es-ES" sz="1000" spc="-1" strike="noStrike">
                <a:solidFill>
                  <a:srgbClr val="000000"/>
                </a:solidFill>
                <a:latin typeface="Arial"/>
              </a:rPr>
              <a:t>La Orilla</a:t>
            </a:r>
            <a:r>
              <a:rPr b="0" lang="es-ES" sz="1000" spc="-1" strike="noStrike">
                <a:solidFill>
                  <a:srgbClr val="000000"/>
                </a:solidFill>
                <a:latin typeface="Arial"/>
              </a:rPr>
              <a:t> para el libro del Lic. Gabino Vázquez, 1951: 18).</a:t>
            </a:r>
            <a:endParaRPr b="0" lang="en-US" sz="1000" spc="-1" strike="noStrike">
              <a:solidFill>
                <a:srgbClr val="000000"/>
              </a:solidFill>
              <a:latin typeface="Arial"/>
            </a:endParaRPr>
          </a:p>
        </p:txBody>
      </p:sp>
    </p:spTree>
  </p:cSld>
  <p:transition spd="slow">
    <p:checker dir="horz"/>
    <p:sndAc>
      <p:stSnd>
        <p:snd r:embed="rId3" name="drumroll.wav"/>
      </p:stSnd>
    </p:sndAc>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4">
                                  <p:stCondLst>
                                    <p:cond delay="0"/>
                                  </p:stCondLst>
                                  <p:childTnLst>
                                    <p:set>
                                      <p:cBhvr>
                                        <p:cTn id="159" dur="1" fill="hold">
                                          <p:stCondLst>
                                            <p:cond delay="0"/>
                                          </p:stCondLst>
                                        </p:cTn>
                                        <p:tgtEl>
                                          <p:spTgt spid="82"/>
                                        </p:tgtEl>
                                        <p:attrNameLst>
                                          <p:attrName>style.visibility</p:attrName>
                                        </p:attrNameLst>
                                      </p:cBhvr>
                                      <p:to>
                                        <p:strVal val="visible"/>
                                      </p:to>
                                    </p:set>
                                    <p:anim calcmode="lin" valueType="num" from="(-#ppt_w/2)" to="(#ppt_x)">
                                      <p:cBhvr additive="repl">
                                        <p:cTn id="160" dur="3000" fill="hold">
                                          <p:stCondLst>
                                            <p:cond delay="0"/>
                                          </p:stCondLst>
                                        </p:cTn>
                                        <p:tgtEl>
                                          <p:spTgt spid="82"/>
                                        </p:tgtEl>
                                        <p:attrNameLst>
                                          <p:attrName>ppt_x</p:attrName>
                                        </p:attrNameLst>
                                      </p:cBhvr>
                                    </p:anim>
                                    <p:anim calcmode="lin" valueType="num" from="0" to="-1">
                                      <p:cBhvr additive="repl">
                                        <p:cTn id="161" dur="1000" autoRev="1" fill="hold">
                                          <p:stCondLst>
                                            <p:cond delay="3000"/>
                                          </p:stCondLst>
                                        </p:cTn>
                                        <p:tgtEl>
                                          <p:spTgt spid="82"/>
                                        </p:tgtEl>
                                        <p:attrNameLst>
                                          <p:attrName>xshear</p:attrName>
                                        </p:attrNameLst>
                                      </p:cBhvr>
                                    </p:anim>
                                    <p:animScale>
                                      <p:cBhvr>
                                        <p:cTn id="162" dur="1000" autoRev="1" fill="hold">
                                          <p:stCondLst>
                                            <p:cond delay="3000"/>
                                          </p:stCondLst>
                                        </p:cTn>
                                        <p:tgtEl>
                                          <p:spTgt spid="82"/>
                                        </p:tgtEl>
                                      </p:cBhvr>
                                      <p:from x="100000" y="100000"/>
                                      <p:to x="80000" y="100000"/>
                                    </p:animScale>
                                    <p:anim calcmode="lin" valueType="num" by="(#ppt_h/3+#ppt_w*0.1)">
                                      <p:cBhvr additive="sum">
                                        <p:cTn id="163" dur="1000" autoRev="1" fill="hold">
                                          <p:stCondLst>
                                            <p:cond delay="3000"/>
                                          </p:stCondLst>
                                        </p:cTn>
                                        <p:tgtEl>
                                          <p:spTgt spid="82"/>
                                        </p:tgtEl>
                                        <p:attrNameLst>
                                          <p:attrName>ppt_x</p:attrName>
                                        </p:attrNameLst>
                                      </p:cBhvr>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5">
                                  <p:stCondLst>
                                    <p:cond delay="0"/>
                                  </p:stCondLst>
                                  <p:iterate type="lt">
                                    <p:tmAbs val="100"/>
                                  </p:iterate>
                                  <p:childTnLst>
                                    <p:set>
                                      <p:cBhvr>
                                        <p:cTn id="167" dur="1" fill="hold">
                                          <p:stCondLst>
                                            <p:cond delay="0"/>
                                          </p:stCondLst>
                                        </p:cTn>
                                        <p:tgtEl>
                                          <p:spTgt spid="83"/>
                                        </p:tgtEl>
                                        <p:attrNameLst>
                                          <p:attrName>style.visibility</p:attrName>
                                        </p:attrNameLst>
                                      </p:cBhvr>
                                      <p:to>
                                        <p:strVal val="visible"/>
                                      </p:to>
                                    </p:set>
                                    <p:animEffect filter="fade" transition="in">
                                      <p:cBhvr additive="repl">
                                        <p:cTn id="168" dur="1000"/>
                                        <p:tgtEl>
                                          <p:spTgt spid="83"/>
                                        </p:tgtEl>
                                      </p:cBhvr>
                                    </p:animEffect>
                                    <p:anim calcmode="lin" valueType="num">
                                      <p:cBhvr additive="repl">
                                        <p:cTn id="169" dur="1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170" dur="1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2:52:49Z</dcterms:created>
  <dc:creator>Admin</dc:creator>
  <dc:description/>
  <dc:language>en-US</dc:language>
  <cp:lastModifiedBy>ADAME</cp:lastModifiedBy>
  <dcterms:modified xsi:type="dcterms:W3CDTF">2013-06-09T03:17:14Z</dcterms:modified>
  <cp:revision>38</cp:revision>
  <dc:subject/>
  <dc:title>Diapositiva 1</dc:title>
</cp:coreProperties>
</file>